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10.gif" ContentType="image/gif"/>
  <Override PartName="/ppt/media/image9.wmf" ContentType="image/x-wmf"/>
  <Override PartName="/ppt/media/image11.wmf" ContentType="image/x-wmf"/>
  <Override PartName="/ppt/media/image6.wmf" ContentType="image/x-wmf"/>
  <Override PartName="/ppt/media/image7.jpeg" ContentType="image/jpeg"/>
  <Override PartName="/ppt/media/image5.wmf" ContentType="image/x-wmf"/>
  <Override PartName="/ppt/media/image3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72DE-717E-4459-A8C5-B911A39A8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7652-9EDB-4B95-B70B-43C6F93C653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BC63-BC73-4FAD-9E05-F37E8803E5E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CE9C-60A2-4049-B05D-47FA117BE5C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A9B4-8221-482E-8875-97ED3BE46DC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FB96-968D-4ADE-9909-F7DED1CC488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DD61-1CF3-41EE-9F2A-A90C316CE5B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A796-2821-460D-AA77-9F96968CCB4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2472-503C-44A4-A3FE-8685D59D462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15DD-222D-4454-9B30-2CC0B68D49E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133B-BFE4-4784-9D29-7F4647EBBBE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5D84-AC47-4DA8-99DB-1B9599FA949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19EC-3343-45F3-8B6F-6D5323037EA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7ACE-AA1A-42F5-883D-502FD9E8525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CEDC-142F-4B31-8454-476C06BD551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608E-54F5-42FA-A18C-92BE3424F9D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BC10-89A3-4B9D-82F4-1FCD1DD96AE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F604-32B8-4D2C-96FE-28BAF256AE7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0C32-A2DC-4BBB-B2BD-B53884FEE31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F7B6-3D88-434C-9002-5BAF1037451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D1F4-5097-47EE-B0F7-DF3B41ED81B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D848-A443-41EA-8D62-CB3916ECE85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1B08-3FB8-4D6E-A790-C54772276BB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D6BE-884E-4B20-BBC6-0D59DB3B16E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0F96-250E-4FE4-BB96-91D11030D2E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1F18-E4BF-40D8-BC8F-BF7286051EF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801F-D7D3-4B11-9952-E98C02796F6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BD75-FCB8-4C22-842D-7A73DD2B8A0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B75E-C051-4D01-9CD5-8BCBE8A25D9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D56F-9303-404A-8181-3ECE560DCB2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906B-569B-47F9-8F1F-8A8E7A13567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9298-5A6B-4D07-900D-787384E0C50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B0C7-D623-44A4-AA7C-DAACFC35208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8E34-22BB-44BF-97CA-14FB0200468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8B07-283E-4DA5-9A3C-EFCC3C67CB8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F54C-11A2-4214-BE61-989516DA437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302C-DCAD-4B67-882D-2C75FEC6934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BB62-F3E9-4D44-894F-4B66C5D2832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5377-DE81-4BAA-AF12-ADA677065C6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E927-19EB-4172-A18F-C9FBCA19BD2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5197-6F6A-441C-B091-DC8431282A1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25DA-76DE-42B2-8337-A52A09BFDD6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B728-02FD-4CC3-8D96-F82888AFAC6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1D7E-3CEE-4E67-A11E-EFAC2CEC932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243A-7A2C-4B4E-AA9A-051CE114F71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85D8-EF82-4568-8082-0090B9DCC3F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CE6E-EB2D-4CE6-9570-F5CB814346D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B55D-339A-4D4C-A6FA-1A71739A223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F64B-3D38-4B71-8312-F926BE1FC01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C95C-193B-439B-A366-67372EDB4BB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09FC-502B-4F9C-9C07-E73ADF723CA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C959-F9F8-447A-A174-FEF848168F6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88B5-A615-4DD9-BE3B-A3D4478F5D7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2E3D-CB58-43E6-B2D4-6213A87ABC5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8748-64A3-4050-9B15-74D2B50AE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BE124-FD5E-4A81-8C99-4D35ABC22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BF6A-E2D5-4628-A49F-1332F2300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9B41C-BE3E-4D4B-8224-1371055B9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4712E-D42E-4152-876B-FE2A42AA72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7DCDF-FCE2-4CBB-AE95-46ABC68A9C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47D14-AFC7-4857-85C9-D88D87C4EF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B0FF2-898C-4A96-BF9C-EA95E4F090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A170F-505E-4F5A-9D36-1E41AC2688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36269-C5B5-4A7D-B884-2BE02D2FDD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4AECC-50C0-49BF-8045-82AD876789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FE29-897F-44E4-81CE-FFFCB2C53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9899F-7077-4E78-A216-B022042BB0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F52CF-115A-4AE6-823B-30D6318CE9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EAEF2-A218-43C0-B79D-FC7FB476F8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F52B-8697-4118-B4A8-EC1F38B488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8CFD4-72B3-4586-B999-5211356462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CEEC-C17F-4AD6-BD14-3DCFCFCCA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92BA-B436-4774-8643-B7D352455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3C8B-6B6C-48FC-A6FD-BBCE83B97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A26A-7C80-4355-9563-DE89F736C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BFD7-20F9-4DF1-9258-46A416091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4815-C3FE-4134-A5D4-5BB760FAC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6A72-9F99-4D61-8241-9672C8FA1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3E7FBC70-F0A6-48FD-8E82-20DD877D003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304920" y="228600"/>
            <a:ext cx="8686800" cy="1600200"/>
            <a:chOff x="304920" y="228600"/>
            <a:chExt cx="8686800" cy="1600200"/>
          </a:xfrm>
        </p:grpSpPr>
        <p:sp>
          <p:nvSpPr>
            <p:cNvPr id="4" name="Line 8"/>
            <p:cNvSpPr/>
            <p:nvPr/>
          </p:nvSpPr>
          <p:spPr>
            <a:xfrm flipH="1">
              <a:off x="482760" y="182880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" name="Rectangle 9"/>
            <p:cNvSpPr/>
            <p:nvPr/>
          </p:nvSpPr>
          <p:spPr>
            <a:xfrm>
              <a:off x="8763120" y="228600"/>
              <a:ext cx="22860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304920" y="228600"/>
              <a:ext cx="8454960" cy="2286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7" name="Rectangle 11"/>
            <p:cNvSpPr/>
            <p:nvPr/>
          </p:nvSpPr>
          <p:spPr>
            <a:xfrm>
              <a:off x="304920" y="457200"/>
              <a:ext cx="8454960" cy="13968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8" name="Rectangle 12"/>
            <p:cNvSpPr/>
            <p:nvPr/>
          </p:nvSpPr>
          <p:spPr>
            <a:xfrm>
              <a:off x="8763120" y="459000"/>
              <a:ext cx="228600" cy="13644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9" name="Text Box 15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54" name="Text Box 16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607F523D-E48C-4489-9C82-A1AB5EB0404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8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FF1213E8-68F2-4950-BEB9-BC642DC5275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2" name="WordArt 2"/>
          <p:cNvSpPr txBox="1"/>
          <p:nvPr/>
        </p:nvSpPr>
        <p:spPr>
          <a:xfrm>
            <a:off x="2971800" y="129528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af5fa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2</a:t>
            </a:r>
            <a:endParaRPr b="1" lang="en-US" sz="4000" spc="1" strike="noStrike">
              <a:ln w="0">
                <a:noFill/>
              </a:ln>
              <a:solidFill>
                <a:srgbClr val="af5fa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80880" y="2590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33"/>
                </a:solidFill>
                <a:latin typeface="Times New Roman"/>
              </a:rPr>
              <a:t>Types of Medical Practice</a:t>
            </a:r>
            <a:endParaRPr b="0" lang="en-US" sz="4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Arial"/>
              </a:rPr>
              <a:t>PowerPoint® presentation to accompany: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Arial"/>
              </a:rPr>
              <a:t>Medical Assist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hird Edition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Booth, Whicker, Wyman, Pugh, Thompson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7B7B5014-263E-4816-A629-7D581AF5CC1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828800"/>
          <a:ext cx="8458200" cy="3825720"/>
        </p:xfrm>
        <a:graphic>
          <a:graphicData uri="http://schemas.openxmlformats.org/drawingml/2006/table">
            <a:tbl>
              <a:tblPr/>
              <a:tblGrid>
                <a:gridCol w="2405160"/>
                <a:gridCol w="605304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eph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, manages, and diagnoses diseases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f the kidne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eu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and diseas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f the nervous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bstetr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 pregnancy, labor and delivery,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ostpartu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nc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dentifies and treats patients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anc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B173A672-CD3C-4B7D-87C9-E55E49D944B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828800"/>
          <a:ext cx="8381880" cy="3859200"/>
        </p:xfrm>
        <a:graphic>
          <a:graphicData uri="http://schemas.openxmlformats.org/drawingml/2006/table">
            <a:tbl>
              <a:tblPr/>
              <a:tblGrid>
                <a:gridCol w="2998800"/>
                <a:gridCol w="538308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phthalm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orders of the ey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rthoped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orders of muscles and bon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torhinolaryngogol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ear, nose,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roat disorde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ath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 bodily changes produced b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 process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81AA8380-6854-4FFD-A0D6-B744D896C75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828800"/>
          <a:ext cx="8381880" cy="4191120"/>
        </p:xfrm>
        <a:graphic>
          <a:graphicData uri="http://schemas.openxmlformats.org/drawingml/2006/table">
            <a:tbl>
              <a:tblPr/>
              <a:tblGrid>
                <a:gridCol w="2538360"/>
                <a:gridCol w="5843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ediatr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childhood diseas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hysiatr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 disorder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with physical therap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odiatr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disorders of the foo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lastic Surge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reconstruction, correction,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mprovement of body struct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Radiologist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uclear Medicin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x-rays and radioactive substanc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o diagnose and treat diseas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7C116DE8-72FC-4252-B93F-786285441E1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828800"/>
          <a:ext cx="8305920" cy="3927600"/>
        </p:xfrm>
        <a:graphic>
          <a:graphicData uri="http://schemas.openxmlformats.org/drawingml/2006/table">
            <a:tbl>
              <a:tblPr/>
              <a:tblGrid>
                <a:gridCol w="3146400"/>
                <a:gridCol w="515952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Sports Medicin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bspecialty of medicine dealing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reatment and preventative care of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thlete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Surge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hands and instruments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agnose, correct, and treat injuries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s, and deformit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U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kidneys, bladder, and urinary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BF756BF7-86D3-4813-B74F-7E0564BBAF4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960" y="1980720"/>
            <a:ext cx="87627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ame the medical specialists who would be involved in the care of a </a:t>
            </a:r>
            <a:r>
              <a:rPr b="1" i="1" lang="en-US" sz="2400" spc="-1" strike="noStrike">
                <a:solidFill>
                  <a:srgbClr val="5f00e1"/>
                </a:solidFill>
                <a:latin typeface="Times New Roman"/>
              </a:rPr>
              <a:t>6-month-old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infant with </a:t>
            </a:r>
            <a:r>
              <a:rPr b="1" i="1" lang="en-US" sz="2400" spc="-1" strike="noStrike">
                <a:solidFill>
                  <a:srgbClr val="5f00e1"/>
                </a:solidFill>
                <a:latin typeface="Times New Roman"/>
              </a:rPr>
              <a:t>massive burns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over 90% of the body and indicate how each specialist will contribute to the care for this situatio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33520" y="3429000"/>
            <a:ext cx="8305560" cy="2558520"/>
          </a:xfrm>
          <a:prstGeom prst="rect">
            <a:avLst/>
          </a:prstGeom>
          <a:solidFill>
            <a:srgbClr val="fff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33"/>
                </a:solidFill>
                <a:uFillTx/>
                <a:latin typeface="Times New Roman"/>
              </a:rPr>
              <a:t>ANSWER: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The following specialists would be involved in the care of this patient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ediatrician because of the age of the infant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lastic surgeon to perform skin grafting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Dermatologist for skin, hair, and nail repair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Emergency medicine for treatment during medical crisis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6553080" y="4191120"/>
            <a:ext cx="2210040" cy="1523880"/>
          </a:xfrm>
          <a:custGeom>
            <a:avLst/>
            <a:gdLst>
              <a:gd name="textAreaLeft" fmla="*/ 682920 w 2210040"/>
              <a:gd name="textAreaRight" fmla="*/ 1527120 w 2210040"/>
              <a:gd name="textAreaTop" fmla="*/ 582120 h 1523880"/>
              <a:gd name="textAreaBottom" fmla="*/ 1164240 h 1523880"/>
            </a:gdLst>
            <a:ahLst/>
            <a:rect l="textAreaLeft" t="textAreaTop" r="textAreaRight" b="textAreaBottom"/>
            <a:pathLst>
              <a:path w="2209800" h="1524000">
                <a:moveTo>
                  <a:pt x="2" y="582115"/>
                </a:moveTo>
                <a:lnTo>
                  <a:pt x="844073" y="582119"/>
                </a:lnTo>
                <a:lnTo>
                  <a:pt x="1104900" y="0"/>
                </a:lnTo>
                <a:lnTo>
                  <a:pt x="1365727" y="582119"/>
                </a:lnTo>
                <a:lnTo>
                  <a:pt x="2209798" y="582115"/>
                </a:lnTo>
                <a:lnTo>
                  <a:pt x="1526927" y="941879"/>
                </a:lnTo>
                <a:lnTo>
                  <a:pt x="1787766" y="1523995"/>
                </a:lnTo>
                <a:lnTo>
                  <a:pt x="1104900" y="1164224"/>
                </a:lnTo>
                <a:lnTo>
                  <a:pt x="422034" y="1523995"/>
                </a:lnTo>
                <a:lnTo>
                  <a:pt x="682873" y="941879"/>
                </a:lnTo>
                <a:close/>
              </a:path>
            </a:pathLst>
          </a:cu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086600" y="4800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Correct!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1" name="Picture 10" descr=""/>
          <p:cNvPicPr/>
          <p:nvPr/>
        </p:nvPicPr>
        <p:blipFill>
          <a:blip r:embed="rId1"/>
          <a:stretch/>
        </p:blipFill>
        <p:spPr>
          <a:xfrm>
            <a:off x="7848720" y="8380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j0299125"/>
          <p:cNvPicPr/>
          <p:nvPr/>
        </p:nvPicPr>
        <p:blipFill>
          <a:blip r:embed="rId2"/>
          <a:stretch/>
        </p:blipFill>
        <p:spPr>
          <a:xfrm>
            <a:off x="7696080" y="609480"/>
            <a:ext cx="882720" cy="14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5649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6CD02FBC-837C-456F-9AA6-9AD7A467080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4" name="Picture 26" descr="j0238393"/>
          <p:cNvPicPr/>
          <p:nvPr/>
        </p:nvPicPr>
        <p:blipFill>
          <a:blip r:embed="rId1"/>
          <a:stretch/>
        </p:blipFill>
        <p:spPr>
          <a:xfrm>
            <a:off x="7586640" y="762120"/>
            <a:ext cx="1557360" cy="2286000"/>
          </a:xfrm>
          <a:prstGeom prst="rect">
            <a:avLst/>
          </a:prstGeom>
          <a:ln w="0">
            <a:noFill/>
          </a:ln>
        </p:spPr>
      </p:pic>
      <p:sp>
        <p:nvSpPr>
          <p:cNvPr id="175" name="Oval 28"/>
          <p:cNvSpPr/>
          <p:nvPr/>
        </p:nvSpPr>
        <p:spPr>
          <a:xfrm>
            <a:off x="2819520" y="2666880"/>
            <a:ext cx="3124080" cy="1143000"/>
          </a:xfrm>
          <a:prstGeom prst="ellipse">
            <a:avLst/>
          </a:prstGeom>
          <a:solidFill>
            <a:srgbClr val="fff0a0"/>
          </a:solidFill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Times New Roman"/>
              </a:rPr>
              <a:t>PATIEN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538200" y="4267080"/>
            <a:ext cx="326988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edical Assistan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842760" y="2057400"/>
            <a:ext cx="147168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oct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6025320" y="4191120"/>
            <a:ext cx="192276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pecialis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6558480" y="2209680"/>
            <a:ext cx="131292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Nurs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ealth-Care Te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Text Box 41"/>
          <p:cNvSpPr/>
          <p:nvPr/>
        </p:nvSpPr>
        <p:spPr>
          <a:xfrm>
            <a:off x="380880" y="5257800"/>
            <a:ext cx="8458200" cy="947160"/>
          </a:xfrm>
          <a:prstGeom prst="rect">
            <a:avLst/>
          </a:prstGeom>
          <a:solidFill>
            <a:srgbClr val="af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ing the duties of other health-care team members will help you be a more effective team member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D888ADFF-4978-45FA-A973-9B43B44EA84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828800"/>
          <a:ext cx="8381880" cy="4114800"/>
        </p:xfrm>
        <a:graphic>
          <a:graphicData uri="http://schemas.openxmlformats.org/drawingml/2006/table">
            <a:tbl>
              <a:tblPr/>
              <a:tblGrid>
                <a:gridCol w="3570120"/>
                <a:gridCol w="48117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cupuncturist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pain or discomfort by 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serting thin, hollow needles under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 skin to balance the opposing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forces of yin and ya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ased on Chinese belief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5" name="Picture 49" descr="j0409523"/>
          <p:cNvPicPr/>
          <p:nvPr/>
        </p:nvPicPr>
        <p:blipFill>
          <a:blip r:embed="rId1"/>
          <a:stretch/>
        </p:blipFill>
        <p:spPr>
          <a:xfrm>
            <a:off x="1295280" y="2971800"/>
            <a:ext cx="1940040" cy="291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9C67F602-4528-4CA2-ACED-BB1BB8C1BB9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" y="1828800"/>
          <a:ext cx="8305920" cy="4419720"/>
        </p:xfrm>
        <a:graphic>
          <a:graphicData uri="http://schemas.openxmlformats.org/drawingml/2006/table">
            <a:tbl>
              <a:tblPr/>
              <a:tblGrid>
                <a:gridCol w="3276720"/>
                <a:gridCol w="5029200"/>
              </a:tblGrid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6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hiropracto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disorders without drugs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rgery by making adjustments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align the vertebrae in the spin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s an independent practitioner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oencephalographic (EEG) Technologist /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lectroencephalography is the stud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recording of the brain’s electric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ctivit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EG technicians work in hospital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’ offices, and clinic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B929DE1F-9E40-4B16-B3BA-8175EFE70A4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1828800"/>
          <a:ext cx="8381880" cy="4000680"/>
        </p:xfrm>
        <a:graphic>
          <a:graphicData uri="http://schemas.openxmlformats.org/drawingml/2006/table">
            <a:tbl>
              <a:tblPr/>
              <a:tblGrid>
                <a:gridCol w="3336840"/>
                <a:gridCol w="50450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3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ocardiograph (ECG)</a:t>
                      </a:r>
                      <a:r>
                        <a:rPr b="1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CG technicians operat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lectrocardiograph machines tha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cord the heart’s electrical impuls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CG technicians work in hospital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0"/>
          <p:cNvSpPr/>
          <p:nvPr/>
        </p:nvSpPr>
        <p:spPr>
          <a:xfrm>
            <a:off x="593640" y="2303640"/>
            <a:ext cx="184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93" name="Picture 21" descr="chap02_ecg"/>
          <p:cNvPicPr/>
          <p:nvPr/>
        </p:nvPicPr>
        <p:blipFill>
          <a:blip r:embed="rId1"/>
          <a:stretch/>
        </p:blipFill>
        <p:spPr>
          <a:xfrm>
            <a:off x="685800" y="3505320"/>
            <a:ext cx="2666880" cy="198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890ADC60-D1D5-4790-BA7B-6CAA080F269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828800"/>
          <a:ext cx="8381880" cy="4280040"/>
        </p:xfrm>
        <a:graphic>
          <a:graphicData uri="http://schemas.openxmlformats.org/drawingml/2006/table">
            <a:tbl>
              <a:tblPr/>
              <a:tblGrid>
                <a:gridCol w="2560680"/>
                <a:gridCol w="5821200"/>
              </a:tblGrid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6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assage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motes muscle and full body relaxation;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creases circulation and lymph flow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ne of the oldest methods to promot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0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Administrative Assistant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administrative support to medical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ofessional, and technical personne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nscribing dictat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osing corresponden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clinics, etc.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7" name="Picture 41" descr="j0404255"/>
          <p:cNvPicPr/>
          <p:nvPr/>
        </p:nvPicPr>
        <p:blipFill>
          <a:blip r:embed="rId1"/>
          <a:stretch/>
        </p:blipFill>
        <p:spPr>
          <a:xfrm>
            <a:off x="1295280" y="2895480"/>
            <a:ext cx="901800" cy="106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4EF6E9D4-9BA6-400F-A811-95990606C67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57200" y="1981080"/>
            <a:ext cx="83818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1 Describe medical specialties and specialist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2 Explain the purpose of the American Board of Medical Specialtie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3 Describe the duties of several types of allied health professionals with whom medical assistants may work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4 Name professional associations that may help advance a medical assistant’s career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D1FA0A15-A9B8-4C7B-91A2-9B412C76EBE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828800"/>
          <a:ext cx="8381880" cy="4359240"/>
        </p:xfrm>
        <a:graphic>
          <a:graphicData uri="http://schemas.openxmlformats.org/drawingml/2006/table">
            <a:tbl>
              <a:tblPr/>
              <a:tblGrid>
                <a:gridCol w="2173320"/>
                <a:gridCol w="620856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Billing and Cod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xtraction and coding of medical information from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ient record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eparation of insurance claims to maximiz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imbursement and ensure ethical standards in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ofess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Records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rganizes, analyzes, and evaluates medical record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iles administrative and health statistics, cod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ymptoms, and inputs and retrieves computerize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th dat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gistered Records Administrator (RRA)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Accredited Records Technician (ART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WordArt 23"/>
          <p:cNvSpPr txBox="1"/>
          <p:nvPr/>
        </p:nvSpPr>
        <p:spPr>
          <a:xfrm>
            <a:off x="685800" y="3657600"/>
            <a:ext cx="380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804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PT</a:t>
            </a:r>
            <a:endParaRPr b="0" i="1" lang="en-US" sz="8800" spc="1" strike="noStrike">
              <a:ln w="6480">
                <a:solidFill>
                  <a:srgbClr val="000000"/>
                </a:solidFill>
                <a:miter/>
              </a:ln>
              <a:solidFill>
                <a:srgbClr val="804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WordArt 25"/>
          <p:cNvSpPr txBox="1"/>
          <p:nvPr/>
        </p:nvSpPr>
        <p:spPr>
          <a:xfrm>
            <a:off x="1752480" y="3657600"/>
            <a:ext cx="609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5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CD-9</a:t>
            </a:r>
            <a:endParaRPr b="0" i="1" lang="en-US" sz="8800" spc="1" strike="noStrike">
              <a:ln w="6480">
                <a:solidFill>
                  <a:srgbClr val="000000"/>
                </a:solidFill>
                <a:miter/>
              </a:ln>
              <a:solidFill>
                <a:srgbClr val="5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3" name="WordArt 26"/>
          <p:cNvSpPr txBox="1"/>
          <p:nvPr/>
        </p:nvSpPr>
        <p:spPr>
          <a:xfrm>
            <a:off x="990720" y="3352680"/>
            <a:ext cx="8380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0a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CPCS</a:t>
            </a:r>
            <a:endParaRPr b="0" i="1" lang="en-US" sz="8800" spc="1" strike="noStrike">
              <a:ln w="6480">
                <a:solidFill>
                  <a:srgbClr val="000000"/>
                </a:solidFill>
                <a:miter/>
              </a:ln>
              <a:solidFill>
                <a:srgbClr val="fff0a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DE724442-24D2-4C9B-B550-02592454E00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828800"/>
          <a:ext cx="8381880" cy="4156200"/>
        </p:xfrm>
        <a:graphic>
          <a:graphicData uri="http://schemas.openxmlformats.org/drawingml/2006/table">
            <a:tbl>
              <a:tblPr/>
              <a:tblGrid>
                <a:gridCol w="2173320"/>
                <a:gridCol w="6208560"/>
              </a:tblGrid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Office Administrator / Manag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nages the practice of a physician or a group practi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ordinates records and fil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versees office staff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also greet patients, make appointments,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erform general secretarial task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quires knowledge of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uter application software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dvanced document processing skills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ccounting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03B6AE76-E710-4581-9635-BE68A74018F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33520" y="1828800"/>
          <a:ext cx="8329320" cy="4176720"/>
        </p:xfrm>
        <a:graphic>
          <a:graphicData uri="http://schemas.openxmlformats.org/drawingml/2006/table">
            <a:tbl>
              <a:tblPr/>
              <a:tblGrid>
                <a:gridCol w="216000"/>
                <a:gridCol w="2274480"/>
                <a:gridCol w="583884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>
                      <a:noFill/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4080"/>
                          </a:solidFill>
                          <a:latin typeface="Times New Roman"/>
                        </a:rPr>
                        <a:t>Medical Technology – includes:</a:t>
                      </a:r>
                      <a:r>
                        <a:rPr b="1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0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linical Laboratory Technician (CLT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tests under supervision of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 or medical techn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- or 2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 labs, clinic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74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tests and procedures such as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xamining body fluids and tissu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4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 clinics, industry, hospital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search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494BE722-FB9A-4FFB-B679-779C96AC62A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828800"/>
          <a:ext cx="8381880" cy="442584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Transcription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nslates a physician’s dictation into comprehensiv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typed record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attorney offices, insurance companies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ospitals, physician offices, clinics, and laborator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ntal Health Technician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Psychiatric Aide or Counselor)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articipates in supervising group therapy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unseling session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with emotionally disturbed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mentally challenged patient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 psychiatric clinics, crisis center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shelters, hospital psychiatric units, and specialize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ursing home settin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744272EA-9654-416B-9B5D-87AB231AD90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828800"/>
          <a:ext cx="8458200" cy="4295880"/>
        </p:xfrm>
        <a:graphic>
          <a:graphicData uri="http://schemas.openxmlformats.org/drawingml/2006/table">
            <a:tbl>
              <a:tblPr/>
              <a:tblGrid>
                <a:gridCol w="2271600"/>
                <a:gridCol w="618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9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clear Medicine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either a 2-year or 4-year progra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 offices, or public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health institutio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utie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verseeing quality contro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reparing and administering radioactive dru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perating radiation detection instrum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ositioning pati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erforming imaging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6" name="Picture 51" descr="AG00564_"/>
          <p:cNvPicPr/>
          <p:nvPr/>
        </p:nvPicPr>
        <p:blipFill>
          <a:blip r:embed="rId1"/>
          <a:stretch/>
        </p:blipFill>
        <p:spPr>
          <a:xfrm>
            <a:off x="609480" y="4114800"/>
            <a:ext cx="1866960" cy="142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33122944-0A49-44C8-B269-B2BD3D5B0D5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828800"/>
          <a:ext cx="8381880" cy="4302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6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ccupational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elps patients attain maximum physical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ntal health through the use of educational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vocational, and rehabilitation activit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4-year degree plus 9- to 12-mon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ternship at an accredited hospita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Hospita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overnment agenc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Rehabilitation hospita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9826B4B5-0EB8-45AE-93D8-634DF2CAAC4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880" y="1828800"/>
          <a:ext cx="8534520" cy="3962520"/>
        </p:xfrm>
        <a:graphic>
          <a:graphicData uri="http://schemas.openxmlformats.org/drawingml/2006/table">
            <a:tbl>
              <a:tblPr/>
              <a:tblGrid>
                <a:gridCol w="2292480"/>
                <a:gridCol w="624204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2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armac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pensing of medications and health suppli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mployment in hospitals, clinic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eutical companies, or private or chai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i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hree levels of educational training for pharmacy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career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harmacist Technician (CPhT) -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2 year program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gistered Pharmacist (RPh) -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5 years of college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octor of Pharmacy (PharmD) - 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6 to 7 years of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llege with residenc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Picture 22" descr="j0404229"/>
          <p:cNvPicPr/>
          <p:nvPr/>
        </p:nvPicPr>
        <p:blipFill>
          <a:blip r:embed="rId1"/>
          <a:stretch/>
        </p:blipFill>
        <p:spPr>
          <a:xfrm>
            <a:off x="685800" y="3657600"/>
            <a:ext cx="1819440" cy="1689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33B6A669-8785-4126-A2DC-888F48D4777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1828800"/>
          <a:ext cx="8381880" cy="4302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lebotom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raws blood for diagnostic laboratory test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ceives advanced phlebotomy training tha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llows him/her to draw blood under difficul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ircumstance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st states require phlebotomists to b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ertified by the National Phlebotom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ssociation or registered by the American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ociety of Clinical Pathologis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Picture 19" descr="j0404169"/>
          <p:cNvPicPr/>
          <p:nvPr/>
        </p:nvPicPr>
        <p:blipFill>
          <a:blip r:embed="rId1"/>
          <a:stretch/>
        </p:blipFill>
        <p:spPr>
          <a:xfrm>
            <a:off x="609480" y="3581280"/>
            <a:ext cx="1816200" cy="142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C8E79E20-119E-44A9-BDB8-3C284806799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57200" y="1828800"/>
          <a:ext cx="8381880" cy="43434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al Therapist</a:t>
                      </a:r>
                      <a:r>
                        <a:rPr b="0" lang="en-US" sz="2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PT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bachelor’s degree in physical therap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must pass a state board examinati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work in hospitals, rehabilitation centers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utpatient clinics, private practice, or sport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dicine cent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mproves patient functioning by using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icity, heat, and cold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Ultrasound and massag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xercis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1" name="Picture 39" descr="j0156049"/>
          <p:cNvPicPr/>
          <p:nvPr/>
        </p:nvPicPr>
        <p:blipFill>
          <a:blip r:embed="rId1"/>
          <a:stretch/>
        </p:blipFill>
        <p:spPr>
          <a:xfrm>
            <a:off x="762120" y="3581280"/>
            <a:ext cx="1520640" cy="2486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93E31936-03A5-4994-A6B8-483043E55BD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828800"/>
          <a:ext cx="8381880" cy="4302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ian Assistant (PA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direct patient care under th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pervision of  a licensed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 requirements vary; many stat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quire certification and registration with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state medical boar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a variety of settings: privat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practice, nursing homes, hospitals, etc.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ome states allow PAs to write prescriptio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5" name="Picture 20" descr="j0396132"/>
          <p:cNvPicPr/>
          <p:nvPr/>
        </p:nvPicPr>
        <p:blipFill>
          <a:blip r:embed="rId1"/>
          <a:stretch/>
        </p:blipFill>
        <p:spPr>
          <a:xfrm>
            <a:off x="762120" y="3505320"/>
            <a:ext cx="1554120" cy="234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863B6CA7-CF7A-452B-BDD1-367A729591E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dical assistants are an integral part of the health-care tea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working knowledge of specialties and allied health professionals enables the MA to function better as a member of the health-care team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12" name="Picture 4" descr="MCj02309310000[1]"/>
          <p:cNvPicPr/>
          <p:nvPr/>
        </p:nvPicPr>
        <p:blipFill>
          <a:blip r:embed="rId1"/>
          <a:stretch/>
        </p:blipFill>
        <p:spPr>
          <a:xfrm>
            <a:off x="5773680" y="1905120"/>
            <a:ext cx="2776680" cy="3716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F9E26A3A-3C81-4E36-A226-741D981C4B8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57200" y="1828800"/>
          <a:ext cx="8381880" cy="435276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ographer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X-ray Technician)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a radiologist in taking x-ray film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be employed in hospitals, physicians’ offices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linics, government agencie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ographic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ed in x-ray theory and practical applications a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well as radioactive material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specialize in radiation therapy, radiography,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uclear medicin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clinics, medical laboratories, and 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dical pract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9" name="Picture 24" descr="j0198488"/>
          <p:cNvPicPr/>
          <p:nvPr/>
        </p:nvPicPr>
        <p:blipFill>
          <a:blip r:embed="rId1"/>
          <a:stretch/>
        </p:blipFill>
        <p:spPr>
          <a:xfrm>
            <a:off x="762120" y="4648320"/>
            <a:ext cx="1447560" cy="142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BA9E16C0-35EE-4FC9-9062-214DBBD5650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828800"/>
          <a:ext cx="8381880" cy="4302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gistered Dietit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lso called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trition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patients and family with nutrition plann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prepare and serve food to group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: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ommunity health agencie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Hospitals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linic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rivate practice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Teaching and consulting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Picture 29" descr="j0398111"/>
          <p:cNvPicPr/>
          <p:nvPr/>
        </p:nvPicPr>
        <p:blipFill>
          <a:blip r:embed="rId1"/>
          <a:stretch/>
        </p:blipFill>
        <p:spPr>
          <a:xfrm>
            <a:off x="685800" y="3886200"/>
            <a:ext cx="1698480" cy="183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FA5FC763-39E4-419D-BD4D-71BAA5495C4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1828800"/>
          <a:ext cx="8381880" cy="464184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8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spiratory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under the supervision of a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s’ offices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nursing homes, and commercial compan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valuates, treats, and cares for patients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spiratory problems such as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thm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mphysem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neumoni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ronchiti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093FB854-D384-465B-AB9C-26EAF56F54B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828800"/>
          <a:ext cx="8305920" cy="4267080"/>
        </p:xfrm>
        <a:graphic>
          <a:graphicData uri="http://schemas.openxmlformats.org/drawingml/2006/table">
            <a:tbl>
              <a:tblPr/>
              <a:tblGrid>
                <a:gridCol w="2133720"/>
                <a:gridCol w="1752480"/>
                <a:gridCol w="4419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ample Dutie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ursing Aide/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 week to 3 month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ed mak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Vital sig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athing patien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ractical/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Vocational Nurse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LPN, LV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 yea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Vital sig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tion administrati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ressing chang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registered nurse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physici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B1443AA3-445F-4D8E-8ACD-765C8736EE7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gistered Nurse (R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57200" y="1828800"/>
          <a:ext cx="8305920" cy="3886200"/>
        </p:xfrm>
        <a:graphic>
          <a:graphicData uri="http://schemas.openxmlformats.org/drawingml/2006/table">
            <a:tbl>
              <a:tblPr/>
              <a:tblGrid>
                <a:gridCol w="5003640"/>
                <a:gridCol w="33022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sociate Degree RN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AD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iploma R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accalaureate RN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BS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4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2E4E6462-C715-4561-829C-BF1320D7AD1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1828800"/>
          <a:ext cx="8305920" cy="4267080"/>
        </p:xfrm>
        <a:graphic>
          <a:graphicData uri="http://schemas.openxmlformats.org/drawingml/2006/table">
            <a:tbl>
              <a:tblPr/>
              <a:tblGrid>
                <a:gridCol w="2230560"/>
                <a:gridCol w="607536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gistered Nurse (RN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N designation once state boards are passe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sponsible for planning, providing,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pervising bedside care of patien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Hospitals, nursing homes, and physicians’ off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ublic health agencies and government agenc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ducational settin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C18A45D5-506C-4E57-A368-9346BF3A60E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1828800"/>
          <a:ext cx="8381880" cy="4302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rse Practitioner (NP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n RN that functions in an expanded rol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quires a minimum of a Master’s degre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4 to 12 months of formal training or an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pprenticeship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utie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hysical examina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Treating common illnesses and injur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Many states allow NPs to write prescrip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atient educat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846ECBA6-12AA-4BCF-9E02-4888C827DC2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Text Box 1031"/>
          <p:cNvSpPr/>
          <p:nvPr/>
        </p:nvSpPr>
        <p:spPr>
          <a:xfrm>
            <a:off x="441360" y="385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2" name="Text Box 1032"/>
          <p:cNvSpPr/>
          <p:nvPr/>
        </p:nvSpPr>
        <p:spPr>
          <a:xfrm>
            <a:off x="441360" y="1895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3" name="Text Box 1033"/>
          <p:cNvSpPr/>
          <p:nvPr/>
        </p:nvSpPr>
        <p:spPr>
          <a:xfrm>
            <a:off x="457200" y="19810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f you had to choose other health-care team members to plan the care for a 68-year-old patient recently diagnosed with a stroke, who has a history of seizure disorders, which would you choose, and why?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4" name="Text Box 1036"/>
          <p:cNvSpPr/>
          <p:nvPr/>
        </p:nvSpPr>
        <p:spPr>
          <a:xfrm>
            <a:off x="609480" y="3633840"/>
            <a:ext cx="8229600" cy="2716200"/>
          </a:xfrm>
          <a:prstGeom prst="rect">
            <a:avLst/>
          </a:prstGeom>
          <a:solidFill>
            <a:srgbClr val="fff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33"/>
                </a:solidFill>
                <a:uFillTx/>
                <a:latin typeface="Times New Roman"/>
              </a:rPr>
              <a:t>ANSWER:</a:t>
            </a: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 The health-care team members that might participate in this patient’s care are: 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Physical therapist for decreased mobility due to stroke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Pharmacist to review medications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Nutritionist for dietary evaluation and possible modifications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EEG technician to perform EEG for brain electrical activity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Nursing staff (RN, LPN, CNA)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Other health-care professionals will also be part of the team!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5" name="AutoShape 1037"/>
          <p:cNvSpPr/>
          <p:nvPr/>
        </p:nvSpPr>
        <p:spPr>
          <a:xfrm>
            <a:off x="6705720" y="4572000"/>
            <a:ext cx="1676160" cy="762120"/>
          </a:xfrm>
          <a:prstGeom prst="flowChartOnlineStorage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oo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Job!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66" name="Picture 1040" descr=""/>
          <p:cNvPicPr/>
          <p:nvPr/>
        </p:nvPicPr>
        <p:blipFill>
          <a:blip r:embed="rId1"/>
          <a:stretch/>
        </p:blipFill>
        <p:spPr>
          <a:xfrm>
            <a:off x="7543800" y="8380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42" descr="j0299125"/>
          <p:cNvPicPr/>
          <p:nvPr/>
        </p:nvPicPr>
        <p:blipFill>
          <a:blip r:embed="rId2"/>
          <a:stretch/>
        </p:blipFill>
        <p:spPr>
          <a:xfrm>
            <a:off x="7467480" y="609480"/>
            <a:ext cx="882720" cy="14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76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AB929462-541A-4C59-9358-34435274A11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for 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Require additional education or train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ny options available – check: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ocal and medical college librar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ate employment agenc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ealth career opportunities in local newspap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rectly with companies where you might seek employmen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F4435906-8B42-41C0-9A79-18A3B2834A9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7200" y="1828800"/>
          <a:ext cx="8381880" cy="439596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Anesthetist’s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anesthetic care under direct supervision of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anesthet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 and high-technology surgical center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in evaluating patient mental and physical statu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ertified Laboratory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procedures such as bacteriology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hemistry, hematology, parasitology, serology,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urinalysi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medical technologists or hospit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h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labs, clinics, physicians’ office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538E8EFC-4F2D-416A-B3B3-BCBD27C9762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tie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proximately 22 major medical specialties exi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ized medical care is driven by advances in diagnosing and treating various diseas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graphicFrame>
        <p:nvGraphicFramePr>
          <p:cNvPr id="116" name="Object 12"/>
          <p:cNvGraphicFramePr/>
          <p:nvPr/>
        </p:nvGraphicFramePr>
        <p:xfrm>
          <a:off x="5029200" y="4038480"/>
          <a:ext cx="3090960" cy="20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4038480"/>
                    <a:ext cx="309096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8" name="Group 44"/>
          <p:cNvGrpSpPr/>
          <p:nvPr/>
        </p:nvGrpSpPr>
        <p:grpSpPr>
          <a:xfrm>
            <a:off x="4267080" y="1828800"/>
            <a:ext cx="4572000" cy="3200400"/>
            <a:chOff x="4267080" y="1828800"/>
            <a:chExt cx="4572000" cy="3200400"/>
          </a:xfrm>
        </p:grpSpPr>
        <p:graphicFrame>
          <p:nvGraphicFramePr>
            <p:cNvPr id="119" name="Object 10"/>
            <p:cNvGraphicFramePr/>
            <p:nvPr/>
          </p:nvGraphicFramePr>
          <p:xfrm>
            <a:off x="5562720" y="1828800"/>
            <a:ext cx="1946160" cy="207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0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1828800"/>
                      <a:ext cx="1946160" cy="207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AutoShape 32"/>
            <p:cNvSpPr/>
            <p:nvPr/>
          </p:nvSpPr>
          <p:spPr>
            <a:xfrm>
              <a:off x="5410080" y="1981080"/>
              <a:ext cx="2210040" cy="914400"/>
            </a:xfrm>
            <a:prstGeom prst="flowChartAlternateProcess">
              <a:avLst/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Cardiology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2" name="Line 34"/>
            <p:cNvSpPr/>
            <p:nvPr/>
          </p:nvSpPr>
          <p:spPr>
            <a:xfrm>
              <a:off x="6553080" y="2895480"/>
              <a:ext cx="0" cy="53352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3" name="Line 35"/>
            <p:cNvSpPr/>
            <p:nvPr/>
          </p:nvSpPr>
          <p:spPr>
            <a:xfrm>
              <a:off x="5257800" y="3429000"/>
              <a:ext cx="2666880" cy="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4" name="Line 36"/>
            <p:cNvSpPr/>
            <p:nvPr/>
          </p:nvSpPr>
          <p:spPr>
            <a:xfrm>
              <a:off x="5257800" y="3429000"/>
              <a:ext cx="0" cy="60948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5" name="Line 37"/>
            <p:cNvSpPr/>
            <p:nvPr/>
          </p:nvSpPr>
          <p:spPr>
            <a:xfrm>
              <a:off x="7924680" y="3429000"/>
              <a:ext cx="0" cy="60948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6" name="AutoShape 38"/>
            <p:cNvSpPr/>
            <p:nvPr/>
          </p:nvSpPr>
          <p:spPr>
            <a:xfrm>
              <a:off x="4267080" y="4038480"/>
              <a:ext cx="1905120" cy="990720"/>
            </a:xfrm>
            <a:prstGeom prst="roundRect">
              <a:avLst>
                <a:gd name="adj" fmla="val 16667"/>
              </a:avLst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ediatrics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7" name="AutoShape 39"/>
            <p:cNvSpPr/>
            <p:nvPr/>
          </p:nvSpPr>
          <p:spPr>
            <a:xfrm>
              <a:off x="6858000" y="4038480"/>
              <a:ext cx="1981080" cy="990720"/>
            </a:xfrm>
            <a:prstGeom prst="roundRect">
              <a:avLst>
                <a:gd name="adj" fmla="val 16667"/>
              </a:avLst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Adult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128" name="Text Box 43"/>
          <p:cNvSpPr/>
          <p:nvPr/>
        </p:nvSpPr>
        <p:spPr>
          <a:xfrm>
            <a:off x="4338720" y="5334120"/>
            <a:ext cx="4444920" cy="7038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Note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: Cardiology = </a:t>
            </a:r>
            <a:r>
              <a:rPr b="1" i="1" lang="en-US" sz="2000" spc="-1" strike="noStrike">
                <a:solidFill>
                  <a:srgbClr val="000033"/>
                </a:solidFill>
                <a:latin typeface="Times New Roman"/>
              </a:rPr>
              <a:t>specialty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ediatrics and Adult = </a:t>
            </a:r>
            <a:r>
              <a:rPr b="1" i="1" lang="en-US" sz="2000" spc="-1" strike="noStrike">
                <a:solidFill>
                  <a:srgbClr val="000033"/>
                </a:solidFill>
                <a:latin typeface="Times New Roman"/>
              </a:rPr>
              <a:t>subspecialty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FE6BEC62-8A89-4F28-B1C8-1587A51158A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57200" y="1828800"/>
          <a:ext cx="8381880" cy="4248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Dental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an practice without formal education or train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both administrative and lab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private practice, clinics, schools, local health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gencies, and for insurance compan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1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mergency Medical Technician / Paramedic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ferred to as an EM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ed to triage patients and follow instructions from a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for an ambulance service or in fire department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ospital emergency room, or private industr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7" name="Picture 38" descr="j0196374"/>
          <p:cNvPicPr/>
          <p:nvPr/>
        </p:nvPicPr>
        <p:blipFill>
          <a:blip r:embed="rId1"/>
          <a:stretch/>
        </p:blipFill>
        <p:spPr>
          <a:xfrm>
            <a:off x="990720" y="2819520"/>
            <a:ext cx="934920" cy="98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DAE34C4B-AA81-40BB-8DDA-1FC0DE24189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57200" y="1828800"/>
          <a:ext cx="8305920" cy="4305240"/>
        </p:xfrm>
        <a:graphic>
          <a:graphicData uri="http://schemas.openxmlformats.org/drawingml/2006/table">
            <a:tbl>
              <a:tblPr/>
              <a:tblGrid>
                <a:gridCol w="2230560"/>
                <a:gridCol w="607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ccupational Therapist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occupational therap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aches fine motor skills, occupations, and the arts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ients with mental and physical disabilit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arns a 2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3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phthalmic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ophthalm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simple vision testing and other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hree ophthalmic career levels: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chnologist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chnician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,Assistant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1" name="Picture 38" descr="j0149494"/>
          <p:cNvPicPr/>
          <p:nvPr/>
        </p:nvPicPr>
        <p:blipFill>
          <a:blip r:embed="rId1"/>
          <a:stretch/>
        </p:blipFill>
        <p:spPr>
          <a:xfrm>
            <a:off x="838080" y="4724280"/>
            <a:ext cx="1219320" cy="111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F4672E9E-24CD-4AB0-8FB5-D17D730BF98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57200" y="1828800"/>
          <a:ext cx="8305920" cy="4352760"/>
        </p:xfrm>
        <a:graphic>
          <a:graphicData uri="http://schemas.openxmlformats.org/drawingml/2006/table">
            <a:tbl>
              <a:tblPr/>
              <a:tblGrid>
                <a:gridCol w="2538360"/>
                <a:gridCol w="5767560"/>
              </a:tblGrid>
              <a:tr h="76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athologist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a patholog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ome work with forensic and/or anatomic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h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oratory duties and some administrativ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8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ediatric Medical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the pediatrician with administrative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linical duti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private practice, hospitals, and clinic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5" name="Picture 48" descr="j0358995"/>
          <p:cNvPicPr/>
          <p:nvPr/>
        </p:nvPicPr>
        <p:blipFill>
          <a:blip r:embed="rId1"/>
          <a:stretch/>
        </p:blipFill>
        <p:spPr>
          <a:xfrm>
            <a:off x="1676520" y="4876920"/>
            <a:ext cx="974520" cy="106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1F106CCD-D826-41EB-A278-39E2BD845F6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57200" y="1828800"/>
          <a:ext cx="8381880" cy="4262400"/>
        </p:xfrm>
        <a:graphic>
          <a:graphicData uri="http://schemas.openxmlformats.org/drawingml/2006/table">
            <a:tbl>
              <a:tblPr/>
              <a:tblGrid>
                <a:gridCol w="2017800"/>
                <a:gridCol w="636408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armacy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routine tasks related to record keeping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eparing and dispensing medica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armaceutical firms, and wholesal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al Therapy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directly under the physical therap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tests and treatment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bserves and documents patient responses to therap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rehabilitation center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9" name="Picture 43" descr="pe02717_"/>
          <p:cNvPicPr/>
          <p:nvPr/>
        </p:nvPicPr>
        <p:blipFill>
          <a:blip r:embed="rId1"/>
          <a:stretch/>
        </p:blipFill>
        <p:spPr>
          <a:xfrm>
            <a:off x="838080" y="3200400"/>
            <a:ext cx="1332000" cy="90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6A1A36C5-26D6-4FDC-B1F3-DCA47DD585C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" y="1828800"/>
          <a:ext cx="8305920" cy="4417920"/>
        </p:xfrm>
        <a:graphic>
          <a:graphicData uri="http://schemas.openxmlformats.org/drawingml/2006/table">
            <a:tbl>
              <a:tblPr/>
              <a:tblGrid>
                <a:gridCol w="2230560"/>
                <a:gridCol w="607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ation Therapy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the radiolog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intains radiation treatment equipmen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a 2-or 4-year education program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labs, clinics, and physicians’ off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spiratory Therapy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under supervision of physician and respirator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rap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artificial ventilation and maintains respirator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quipmen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 office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CC0706A6-A263-4E06-9956-6D6F8C3274A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1828800"/>
          <a:ext cx="8381880" cy="433872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Speech / Language Path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valuates, diagnoses, and  counsels patients with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mmunication problems like stutter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ually has a Master’s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schools, hospitals, research settings,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ivate practi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0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Surgical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a 2-year or 4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patient services under direct supervision of a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rge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diagnostic and therapeutic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primarily in hospita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6" name="Picture 37" descr="j0296260"/>
          <p:cNvPicPr/>
          <p:nvPr/>
        </p:nvPicPr>
        <p:blipFill>
          <a:blip r:embed="rId1"/>
          <a:stretch/>
        </p:blipFill>
        <p:spPr>
          <a:xfrm>
            <a:off x="1143000" y="5105520"/>
            <a:ext cx="981000" cy="98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27DD92B5-77D0-42AA-953D-1F1CCF26586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volvement in issues and activities relevant to your profess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Opportunities for continuing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00" name="Picture 4" descr="j0301252"/>
          <p:cNvPicPr/>
          <p:nvPr/>
        </p:nvPicPr>
        <p:blipFill>
          <a:blip r:embed="rId1"/>
          <a:stretch/>
        </p:blipFill>
        <p:spPr>
          <a:xfrm>
            <a:off x="6019920" y="3505320"/>
            <a:ext cx="2516040" cy="215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6D15F3F3-F431-4B61-8FB2-217964CC1FC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705240" y="2133720"/>
            <a:ext cx="786636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Association of Medical Assistant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AMA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25440" y="2971800"/>
            <a:ext cx="843912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Association for Medical Transcrip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AMT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2535480" y="3886200"/>
            <a:ext cx="578448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College of Physician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CP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629640" y="4724280"/>
            <a:ext cx="571608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Hospit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HA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773360" y="5638680"/>
            <a:ext cx="571284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Medic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MA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C471B200-2FBF-4A4C-9649-D1A44EBC108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478080" y="2133720"/>
            <a:ext cx="587124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Medical Technologist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MT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1850040" y="3124080"/>
            <a:ext cx="683748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Pharmaceutic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PhA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399960" y="4114800"/>
            <a:ext cx="737712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Society of Clinical Pathologist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SCP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934560" y="5181480"/>
            <a:ext cx="784944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Society of Phlebotomy Technician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SPI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C951DBD2-2536-4363-A9F4-8363483D7BE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CAH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Non-profit organiz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Goal is to maintain and elevate the standards of health-care delivery by health-care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valuation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ccredi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ccreditation is significant factor in gaining reimbursement from Medicare and managed care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2331D144-3C2B-4559-8F01-3559FC40F79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ysician Education and Licens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1" name="Group 25"/>
          <p:cNvGrpSpPr/>
          <p:nvPr/>
        </p:nvGrpSpPr>
        <p:grpSpPr>
          <a:xfrm>
            <a:off x="2666880" y="1981080"/>
            <a:ext cx="3809880" cy="990360"/>
            <a:chOff x="2666880" y="1981080"/>
            <a:chExt cx="3809880" cy="990360"/>
          </a:xfrm>
        </p:grpSpPr>
        <p:sp>
          <p:nvSpPr>
            <p:cNvPr id="132" name="Rectangle 13"/>
            <p:cNvSpPr/>
            <p:nvPr/>
          </p:nvSpPr>
          <p:spPr>
            <a:xfrm>
              <a:off x="2666880" y="1981080"/>
              <a:ext cx="3809880" cy="68580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Bachelor’s Degree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4495680" y="2666880"/>
              <a:ext cx="0" cy="30456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4" name="Group 26"/>
          <p:cNvGrpSpPr/>
          <p:nvPr/>
        </p:nvGrpSpPr>
        <p:grpSpPr>
          <a:xfrm>
            <a:off x="1371600" y="2971800"/>
            <a:ext cx="6705720" cy="1219320"/>
            <a:chOff x="1371600" y="2971800"/>
            <a:chExt cx="6705720" cy="1219320"/>
          </a:xfrm>
        </p:grpSpPr>
        <p:sp>
          <p:nvSpPr>
            <p:cNvPr id="135" name="Rectangle 16"/>
            <p:cNvSpPr/>
            <p:nvPr/>
          </p:nvSpPr>
          <p:spPr>
            <a:xfrm>
              <a:off x="1371600" y="2971800"/>
              <a:ext cx="6705720" cy="83808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Graduate from  an Accredited Medical School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4496040" y="3809880"/>
              <a:ext cx="0" cy="381240"/>
            </a:xfrm>
            <a:prstGeom prst="line">
              <a:avLst/>
            </a:prstGeom>
            <a:ln w="1908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7" name="Group 27"/>
          <p:cNvGrpSpPr/>
          <p:nvPr/>
        </p:nvGrpSpPr>
        <p:grpSpPr>
          <a:xfrm>
            <a:off x="1828800" y="4191120"/>
            <a:ext cx="5715000" cy="1143000"/>
            <a:chOff x="1828800" y="4191120"/>
            <a:chExt cx="5715000" cy="1143000"/>
          </a:xfrm>
        </p:grpSpPr>
        <p:sp>
          <p:nvSpPr>
            <p:cNvPr id="138" name="Rectangle 19"/>
            <p:cNvSpPr/>
            <p:nvPr/>
          </p:nvSpPr>
          <p:spPr>
            <a:xfrm>
              <a:off x="1828800" y="4191120"/>
              <a:ext cx="5715000" cy="76212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ass the U.S. Medical Licensing Exam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9" name="Line 22"/>
            <p:cNvSpPr/>
            <p:nvPr/>
          </p:nvSpPr>
          <p:spPr>
            <a:xfrm>
              <a:off x="4496040" y="4953240"/>
              <a:ext cx="0" cy="380880"/>
            </a:xfrm>
            <a:prstGeom prst="line">
              <a:avLst/>
            </a:prstGeom>
            <a:ln w="1908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140" name="Rectangle 23"/>
          <p:cNvSpPr/>
          <p:nvPr/>
        </p:nvSpPr>
        <p:spPr>
          <a:xfrm>
            <a:off x="2133720" y="5334120"/>
            <a:ext cx="5181480" cy="838080"/>
          </a:xfrm>
          <a:prstGeom prst="rect">
            <a:avLst/>
          </a:prstGeom>
          <a:solidFill>
            <a:srgbClr val="fff0a0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lete 2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6 Years of Residenc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EA229E3B-0F17-4B6A-906D-40CF3BF5B16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ouncil of Ethical and Judicial Affair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EJA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evelops policy for the AMA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ddresses timely ethical issu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intains and updates 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 AMA Code of Ethic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rehensive ethics guide for physicia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20" name="Picture 5" descr="bs00678_"/>
          <p:cNvPicPr/>
          <p:nvPr/>
        </p:nvPicPr>
        <p:blipFill>
          <a:blip r:embed="rId1"/>
          <a:stretch/>
        </p:blipFill>
        <p:spPr>
          <a:xfrm>
            <a:off x="5791320" y="2590920"/>
            <a:ext cx="289548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D2FEF63F-2271-4BA9-A214-E00D9F19474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67820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457200" y="2092320"/>
            <a:ext cx="8305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ich of the professional organizations listed below are primarily for the role(s) of medical assistants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2387520" y="3276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2387520" y="3848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2387520" y="4419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7" name="Rectangle 11"/>
          <p:cNvSpPr/>
          <p:nvPr/>
        </p:nvSpPr>
        <p:spPr>
          <a:xfrm>
            <a:off x="2387520" y="4991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3000240" y="32767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MA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3000960" y="388620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AMA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3000600" y="44197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HA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2999520" y="49528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M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5791320" y="327672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SCP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3" name="Text Box 20"/>
          <p:cNvSpPr/>
          <p:nvPr/>
        </p:nvSpPr>
        <p:spPr>
          <a:xfrm>
            <a:off x="5794200" y="38098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AM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5793840" y="44197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CP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5791320" y="495288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hA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6" name="Rectangle 23"/>
          <p:cNvSpPr/>
          <p:nvPr/>
        </p:nvSpPr>
        <p:spPr>
          <a:xfrm>
            <a:off x="5181480" y="3276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5181480" y="3848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8" name="Rectangle 25"/>
          <p:cNvSpPr/>
          <p:nvPr/>
        </p:nvSpPr>
        <p:spPr>
          <a:xfrm>
            <a:off x="5181480" y="4419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9" name="Rectangle 26"/>
          <p:cNvSpPr/>
          <p:nvPr/>
        </p:nvSpPr>
        <p:spPr>
          <a:xfrm>
            <a:off x="5181480" y="4991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40" name="Picture 32" descr="j0299125"/>
          <p:cNvPicPr/>
          <p:nvPr/>
        </p:nvPicPr>
        <p:blipFill>
          <a:blip r:embed="rId1"/>
          <a:stretch/>
        </p:blipFill>
        <p:spPr>
          <a:xfrm>
            <a:off x="7467480" y="60948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33"/>
          <p:cNvSpPr/>
          <p:nvPr/>
        </p:nvSpPr>
        <p:spPr>
          <a:xfrm>
            <a:off x="7010280" y="4876920"/>
            <a:ext cx="1752840" cy="1371600"/>
          </a:xfrm>
          <a:prstGeom prst="irregularSeal1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7315200" y="51814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ight Answer!</a:t>
            </a:r>
            <a:endParaRPr b="0" lang="en-US" sz="16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43" name="Picture 37" descr=""/>
          <p:cNvPicPr/>
          <p:nvPr/>
        </p:nvPicPr>
        <p:blipFill>
          <a:blip r:embed="rId2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344" name="Group 39"/>
          <p:cNvGrpSpPr/>
          <p:nvPr/>
        </p:nvGrpSpPr>
        <p:grpSpPr>
          <a:xfrm>
            <a:off x="609480" y="3581280"/>
            <a:ext cx="4952880" cy="1754280"/>
            <a:chOff x="609480" y="3581280"/>
            <a:chExt cx="4952880" cy="1754280"/>
          </a:xfrm>
        </p:grpSpPr>
        <p:grpSp>
          <p:nvGrpSpPr>
            <p:cNvPr id="345" name="Group 27"/>
            <p:cNvGrpSpPr/>
            <p:nvPr/>
          </p:nvGrpSpPr>
          <p:grpSpPr>
            <a:xfrm>
              <a:off x="2514240" y="3672000"/>
              <a:ext cx="3048120" cy="1663560"/>
              <a:chOff x="2514240" y="3672000"/>
              <a:chExt cx="3048120" cy="1663560"/>
            </a:xfrm>
          </p:grpSpPr>
          <p:sp>
            <p:nvSpPr>
              <p:cNvPr id="346" name="Text Box 28"/>
              <p:cNvSpPr/>
              <p:nvPr/>
            </p:nvSpPr>
            <p:spPr>
              <a:xfrm>
                <a:off x="2514240" y="374796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Times New Roman"/>
                </a:endParaRPr>
              </a:p>
            </p:txBody>
          </p:sp>
          <p:sp>
            <p:nvSpPr>
              <p:cNvPr id="347" name="Text Box 29"/>
              <p:cNvSpPr/>
              <p:nvPr/>
            </p:nvSpPr>
            <p:spPr>
              <a:xfrm>
                <a:off x="2514240" y="481500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Times New Roman"/>
                </a:endParaRPr>
              </a:p>
            </p:txBody>
          </p:sp>
          <p:sp>
            <p:nvSpPr>
              <p:cNvPr id="348" name="Text Box 30"/>
              <p:cNvSpPr/>
              <p:nvPr/>
            </p:nvSpPr>
            <p:spPr>
              <a:xfrm>
                <a:off x="5277240" y="367200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Times New Roman"/>
                </a:endParaRPr>
              </a:p>
            </p:txBody>
          </p:sp>
        </p:grpSp>
        <p:sp>
          <p:nvSpPr>
            <p:cNvPr id="349" name="Text Box 38"/>
            <p:cNvSpPr/>
            <p:nvPr/>
          </p:nvSpPr>
          <p:spPr>
            <a:xfrm>
              <a:off x="609480" y="3581280"/>
              <a:ext cx="1447560" cy="398880"/>
            </a:xfrm>
            <a:prstGeom prst="rect">
              <a:avLst/>
            </a:prstGeom>
            <a:solidFill>
              <a:srgbClr val="fff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33"/>
                  </a:solidFill>
                  <a:uFillTx/>
                  <a:latin typeface="Times New Roman"/>
                </a:rPr>
                <a:t>ANSWER: </a:t>
              </a:r>
              <a:endParaRPr b="0" lang="en-US" sz="20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043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3BF06DD6-FC26-4C4B-8AC2-9B36D082505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areer options for medical assistan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ffices of specialists and subspecialis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pecialty career optio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rofessional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formation about issues and activiti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edical assisting fiel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ty or subspecialty of employ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nefits to memb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264F1569-41E8-419C-84F1-A4FBD6B4BAF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5" name="Picture 8" descr="bs00678_"/>
          <p:cNvPicPr/>
          <p:nvPr/>
        </p:nvPicPr>
        <p:blipFill>
          <a:blip r:embed="rId1"/>
          <a:stretch/>
        </p:blipFill>
        <p:spPr>
          <a:xfrm>
            <a:off x="990720" y="4191120"/>
            <a:ext cx="2743200" cy="1938240"/>
          </a:xfrm>
          <a:prstGeom prst="rect">
            <a:avLst/>
          </a:prstGeom>
          <a:ln w="0">
            <a:noFill/>
          </a:ln>
        </p:spPr>
      </p:pic>
      <p:sp>
        <p:nvSpPr>
          <p:cNvPr id="356" name="WordArt 9"/>
          <p:cNvSpPr txBox="1"/>
          <p:nvPr/>
        </p:nvSpPr>
        <p:spPr>
          <a:xfrm>
            <a:off x="2209680" y="1066680"/>
            <a:ext cx="43434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2</a:t>
            </a:r>
            <a:endParaRPr b="0" lang="en-US" sz="44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685800" y="2590920"/>
            <a:ext cx="7848720" cy="21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y go the extra mile. They give their hearts, and lead with great minds</a:t>
            </a: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33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—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haron Hudacek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From </a:t>
            </a:r>
            <a:r>
              <a:rPr b="0" i="1" lang="en-US" sz="1600" spc="-1" strike="noStrike">
                <a:solidFill>
                  <a:srgbClr val="000033"/>
                </a:solidFill>
                <a:latin typeface="Times New Roman"/>
              </a:rPr>
              <a:t>A Daybook for Nurses: Making a Difference Each Day</a:t>
            </a:r>
            <a:endParaRPr b="0" lang="en-US" sz="1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BDCBA8F8-CB1D-44F7-A95C-FE58602F5C0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828800"/>
          <a:ext cx="8381880" cy="4008600"/>
        </p:xfrm>
        <a:graphic>
          <a:graphicData uri="http://schemas.openxmlformats.org/drawingml/2006/table">
            <a:tbl>
              <a:tblPr/>
              <a:tblGrid>
                <a:gridCol w="2514600"/>
                <a:gridCol w="586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Family Practi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l doctors that treat all conditions and ag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group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lso called general practitioners or primary car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 by insurance compan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fers patients to specialists for specific diseas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quiring specialized car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ller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eople with hypersensitivity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bstances such as drugs, chemicals, and elements i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atur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A41EC948-BFDB-424F-85AC-C43C095EE77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828800"/>
          <a:ext cx="8381880" cy="3860640"/>
        </p:xfrm>
        <a:graphic>
          <a:graphicData uri="http://schemas.openxmlformats.org/drawingml/2006/table">
            <a:tbl>
              <a:tblPr/>
              <a:tblGrid>
                <a:gridCol w="2514600"/>
                <a:gridCol w="58672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nesthesi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dministers medications that alte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ensation and feelings during surger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ariatric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l and surgical treatment of obesit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Cardi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rt and blood vesse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ermat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 skin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air, and nai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B5F762D6-AFBD-4394-8983-547D8DEAE6C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828800"/>
          <a:ext cx="8305920" cy="4089240"/>
        </p:xfrm>
        <a:graphic>
          <a:graphicData uri="http://schemas.openxmlformats.org/drawingml/2006/table">
            <a:tbl>
              <a:tblPr/>
              <a:tblGrid>
                <a:gridCol w="2490840"/>
                <a:gridCol w="581508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octor of Osteopath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eyes and hands to identify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tructural problems and promote natur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mergency Medicine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 emergency room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medical cris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ccid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ndocri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of th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ndocrine system, which regulates man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body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3019CFA8-CCC9-4CFD-92FE-D7F5B09911C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828800"/>
          <a:ext cx="8381880" cy="3871800"/>
        </p:xfrm>
        <a:graphic>
          <a:graphicData uri="http://schemas.openxmlformats.org/drawingml/2006/table">
            <a:tbl>
              <a:tblPr/>
              <a:tblGrid>
                <a:gridCol w="2690640"/>
                <a:gridCol w="56912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astroente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related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 stomach, intestines, and other org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eront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roblem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s affecting older adul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ynec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 fema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productive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Intern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roblems related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ternal org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8:29:56Z</dcterms:created>
  <dc:creator>Kathryn A. Booth RN-BSN, MS, RMA, RPT</dc:creator>
  <dc:description/>
  <dc:language>en-US</dc:language>
  <cp:lastModifiedBy>Staff</cp:lastModifiedBy>
  <dcterms:modified xsi:type="dcterms:W3CDTF">2010-01-07T21:46:03Z</dcterms:modified>
  <cp:revision>144</cp:revision>
  <dc:subject>Medical Assisting 3e</dc:subject>
  <dc:title>Types of Medical Practice</dc:title>
</cp:coreProperties>
</file>