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C768-FE03-47D7-B61B-6684DD8C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FB6F3-06D2-4D22-B2F2-1CF8C4ECE8A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E882-0CBD-4A3D-88A7-BC0D3F3C792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5AF-90E9-4294-9E8D-09C0E56E155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D590-E377-46DB-9F73-7A0EA719E4A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5D91-EE7E-41C9-91E2-34D0B12FACA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F9AD-5DE2-4628-AB6F-77CA7EB1AD5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4665F-F6E0-4C13-8E64-5B251B186D7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25AF-FE96-4E34-8BBD-EE232677213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63A9-BD46-4552-9065-77A4DB7A00B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A06B-2181-4FA6-AF51-03132BF3AB1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15A-B8B5-4D43-9560-0ACB3EEF48D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B958-E257-41F5-AC53-10F12BB8476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0297D-7A59-43AD-B2EC-937A2F880C9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31AC-1B96-4C1C-8542-3C7C9D70DCA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60C9-4586-4CC1-904E-AAA35D5AA80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B8B12-A142-4E9F-B215-A6DBD651577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5134-684B-491F-9627-1551273B260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793F-158A-44AB-B094-B9CEC8AD318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5E74-AC4C-4B98-9971-9AF9EA9C4D8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33BDB-7F9E-418C-AA2C-C26089F11C2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F4DA-6C04-473D-95C6-396F550AC77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59C0-E35F-4814-A761-EF1C3B2E115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990D-B9B8-47A7-8619-65B9BD8D117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00C8-5BE9-48CB-8D51-91B120E289F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62BB-DB33-4CAA-ADF2-E4C4BA1EDA9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89D5-3418-41CA-8B59-30E28C96794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7272-00B6-401C-840D-29CF5DEDAFD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BA86C-F0DF-4598-888E-3D19302297D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6840-0800-4FA9-9852-4AEEEC9804D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101A-852D-4464-B579-EB8BBE45982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622D-4B66-4118-BDA4-44707509E62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DA0E-E830-4C58-ABA2-1A1611A1CC1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7DD74-53BA-444E-829C-E45678E5B8D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6A3E-AA32-48EA-AE5A-64727CDB9F2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3C57-59F4-4230-8980-17C21CDCDBD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B8B0-7B3E-43FE-940E-E2985D4EA03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783F-3526-46E0-BE84-3695A9D3F6C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635-8B3D-48B7-AE52-B4F85C1C7FD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D5B3-8992-49E2-9FDD-EF16F48C7C2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59945-51B8-4759-B418-951C78B2979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0B3B-F08F-4A89-AECB-17C50FFDEDB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3FB-743D-4BFA-9D7B-C5681D57FEB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0EA6-F874-4906-9003-F87A5E246D4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8917-CC89-4807-A63D-E391344347B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2189-E71F-4C52-BF29-DC7F2BC65AB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7443-5502-4657-91F5-EE399C21820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D2E29-0EF5-4FDF-B45A-51E3E8DCFBD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FD05-7560-4DE5-8C16-1BCF75601FD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8CF2-A55C-4C19-8D17-27AE8206A47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04CB-9954-4B7C-BAB3-ED6D3D2874D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85A0-A961-4FED-9355-D20548B5FC5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D7B-2DE8-4584-A9B3-1E7F7C0A71B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6F06-B447-4663-870B-9562F4C2C46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CE05-BC38-45CD-91E9-725F7A36C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8F59-5360-4E44-B944-5884BB849F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15B19-1078-4140-81EA-205290FAE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36E9-EDBB-4F0B-A02C-B5061A593C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C6CB3-438B-4DCB-A477-792D46BCD99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1F0B-04EB-4F73-915A-EF205CFF87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4DD8D-4A7A-4085-82EA-673B9D692B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91CA8-AE73-4D37-A7BF-18C5C0D16A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20B5-DE13-41C3-A265-EA68C6CAA9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8BA32-09A7-40FA-84DE-B2FF14E330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9EA35-BCB9-427B-B673-F52DA29EED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C13E3-D441-474C-9835-612BB47E22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020EE-2558-4136-8B0D-5AC077C450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3694-853F-427C-8484-B234ECB65EA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202A3-874D-435B-B3D4-1BA739EB69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D8C8E-B4A2-44D3-BC77-F30E74CA92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16411-118D-4F3F-975C-34E19E0C06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91847-7BB6-4342-BACD-B5FED172B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C662F-344F-432D-AB98-0885879A84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ED2CB-D53F-46FF-9402-4F93A305A5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7B1D-A6E6-4C85-B2BE-B18721D047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67F3-B0C2-4E89-A9CB-6D919181F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68CF-CA4F-46EC-A68D-C097439976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B1F3-995F-44B9-9260-4DCFF6FBA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</a:t>
            </a:r>
            <a:fld id="{0BE92836-4B51-40B3-83F4-A3DE1F57CAB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5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16C6564-068A-4BAC-A429-539EB47BFF6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8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EEA8AE4-A5B2-436A-9340-A4F857D1353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73426DE-698D-4AD1-950D-271F334A2E0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57200" y="1828800"/>
          <a:ext cx="8458200" cy="3825720"/>
        </p:xfrm>
        <a:graphic>
          <a:graphicData uri="http://schemas.openxmlformats.org/drawingml/2006/table">
            <a:tbl>
              <a:tblPr/>
              <a:tblGrid>
                <a:gridCol w="2405160"/>
                <a:gridCol w="605304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815D18E-733D-4D59-BACA-B22B7283DA7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828800"/>
          <a:ext cx="838188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308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gol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5E41CE1-5DCD-422E-8E78-97B7E1B31C9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880" cy="4191120"/>
        </p:xfrm>
        <a:graphic>
          <a:graphicData uri="http://schemas.openxmlformats.org/drawingml/2006/table">
            <a:tbl>
              <a:tblPr/>
              <a:tblGrid>
                <a:gridCol w="2538360"/>
                <a:gridCol w="58435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E2C3C0C-C938-48B5-B83E-44645EC6D59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392760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6905E3F-4895-47CE-8C02-0835457A22E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6553080" y="4191120"/>
            <a:ext cx="2210040" cy="1523880"/>
          </a:xfrm>
          <a:custGeom>
            <a:avLst/>
            <a:gdLst>
              <a:gd name="textAreaLeft" fmla="*/ 682920 w 2210040"/>
              <a:gd name="textAreaRight" fmla="*/ 1527120 w 2210040"/>
              <a:gd name="textAreaTop" fmla="*/ 582120 h 1523880"/>
              <a:gd name="textAreaBottom" fmla="*/ 1164240 h 1523880"/>
            </a:gdLst>
            <a:ahLst/>
            <a:rect l="textAreaLeft" t="textAreaTop" r="textAreaRight" b="textAreaBottom"/>
            <a:pathLst>
              <a:path w="2209800" h="1524000">
                <a:moveTo>
                  <a:pt x="2" y="582115"/>
                </a:moveTo>
                <a:lnTo>
                  <a:pt x="844073" y="582119"/>
                </a:lnTo>
                <a:lnTo>
                  <a:pt x="1104900" y="0"/>
                </a:lnTo>
                <a:lnTo>
                  <a:pt x="1365727" y="582119"/>
                </a:lnTo>
                <a:lnTo>
                  <a:pt x="2209798" y="582115"/>
                </a:lnTo>
                <a:lnTo>
                  <a:pt x="1526927" y="941879"/>
                </a:lnTo>
                <a:lnTo>
                  <a:pt x="1787766" y="1523995"/>
                </a:lnTo>
                <a:lnTo>
                  <a:pt x="1104900" y="1164224"/>
                </a:lnTo>
                <a:lnTo>
                  <a:pt x="422034" y="1523995"/>
                </a:lnTo>
                <a:lnTo>
                  <a:pt x="682873" y="941879"/>
                </a:lnTo>
                <a:close/>
              </a:path>
            </a:pathLst>
          </a:cu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1" name="Picture 10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j0299125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237AD68-401D-4937-ABB7-C18EFA03ADA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4" name="Picture 26" descr="j0238393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75" name="Oval 28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6" name="Text Box 31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7" name="Text Box 32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Text Box 33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Text Box 41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32A14B5-8AA3-485F-9186-3918327BE54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38188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7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Picture 49" descr="j0409523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B4E5B51-CE5E-4AFE-88EB-4B70298DD28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828800"/>
          <a:ext cx="8305920" cy="441972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4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25F7E6D-FEC0-4397-A220-19128647A91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57200" y="1828800"/>
          <a:ext cx="8381880" cy="4000680"/>
        </p:xfrm>
        <a:graphic>
          <a:graphicData uri="http://schemas.openxmlformats.org/drawingml/2006/table">
            <a:tbl>
              <a:tblPr/>
              <a:tblGrid>
                <a:gridCol w="3336840"/>
                <a:gridCol w="504504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Text Box 20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93" name="Picture 21" descr="chap02_ecg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A1783B3-5095-4955-9147-6C39505814F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828800"/>
          <a:ext cx="8381880" cy="4280040"/>
        </p:xfrm>
        <a:graphic>
          <a:graphicData uri="http://schemas.openxmlformats.org/drawingml/2006/table">
            <a:tbl>
              <a:tblPr/>
              <a:tblGrid>
                <a:gridCol w="2560680"/>
                <a:gridCol w="5821200"/>
              </a:tblGrid>
              <a:tr h="60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7" name="Picture 41" descr="j0404255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5DC5C2B-B7AD-43AF-AA1F-3B02017DF29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577800" indent="-577800"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8C7F56A-DDAE-4E8A-A641-2111EC73230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1828800"/>
          <a:ext cx="8381880" cy="435924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1" name="WordArt 23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2" name="WordArt 25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3" name="WordArt 26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8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3B16D32-9394-4227-9AFB-1D48649FF7B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457200" y="1828800"/>
          <a:ext cx="8381880" cy="4156200"/>
        </p:xfrm>
        <a:graphic>
          <a:graphicData uri="http://schemas.openxmlformats.org/drawingml/2006/table">
            <a:tbl>
              <a:tblPr/>
              <a:tblGrid>
                <a:gridCol w="217332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9F860CB-EDB4-4889-9491-8699F39B0AA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33520" y="1828800"/>
          <a:ext cx="8329320" cy="4176720"/>
        </p:xfrm>
        <a:graphic>
          <a:graphicData uri="http://schemas.openxmlformats.org/drawingml/2006/table">
            <a:tbl>
              <a:tblPr/>
              <a:tblGrid>
                <a:gridCol w="216000"/>
                <a:gridCol w="2274480"/>
                <a:gridCol w="583884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7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65F15974-C0D3-494D-8770-D3272C84E86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457200" y="1828800"/>
          <a:ext cx="8381880" cy="4425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0B082779-7643-41BA-86EA-E7C00C2650D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458200" cy="4295880"/>
        </p:xfrm>
        <a:graphic>
          <a:graphicData uri="http://schemas.openxmlformats.org/drawingml/2006/table">
            <a:tbl>
              <a:tblPr/>
              <a:tblGrid>
                <a:gridCol w="2271600"/>
                <a:gridCol w="618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6" name="Picture 51" descr="AG00564_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03CF531-DA73-479B-A581-1E9F33457D2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ECA453B-79F5-4ECC-8623-1B4D45BC0A5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3" name="Picture 22" descr="j0404229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164021A-9FED-4EF5-951F-FB52CB6C91B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7" name="Picture 19" descr="j0404169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C1E9F97-1E92-401E-AEFB-56527AC3F8A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457200" y="1828800"/>
          <a:ext cx="8381880" cy="43434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1" name="Picture 39" descr="j0156049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A4AC7A95-F050-485A-ABC1-3A265E0410A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5" name="Picture 20" descr="j0396132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DAAEDC1-B124-4594-A1DE-3EAF41D8E72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12" name="Picture 4" descr="MCj02309310000[1]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3A5649B-727D-49E7-97D4-E1C354A6FBA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880" cy="43527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Picture 24" descr="j0198488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1976F10D-4C21-4AE8-8192-EBB4963D2CA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29" descr="j0398111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3696366-E67F-4250-B974-F546C57E840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BB555B7C-CA1B-4823-A898-CBDB9821419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5BCDE22-DB69-4AD2-A4D2-1A8EC56ADDD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5B4BBDF-CDB9-42FF-8A4F-885F63D9ECB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7280F63-6D22-42FD-99DD-EE8F76F584D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57200" y="1828800"/>
          <a:ext cx="8381880" cy="4302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0F8155D-7A68-4FF9-81F4-E4671048730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Text Box 1031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Text Box 1032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3" name="Text Box 1033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4" name="Text Box 1036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AutoShape 1037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6" name="Picture 1040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42" descr="j0299125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0D41C8B-9000-489E-B648-54B61A7D104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8E9CABD-3B7D-4914-B22D-6364B34F9C8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28800"/>
          <a:ext cx="8381880" cy="439596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85D3E05D-E23F-4E19-B2E5-D2244470D89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16" name="Object 12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44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19" name="Object 10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0" name="Object 10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1" name="AutoShape 32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2" name="Line 34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3" name="Line 35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4" name="Line 36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5" name="Line 37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AutoShape 38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7" name="AutoShape 39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28" name="Text Box 43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45A30DF-4D50-42C9-9CE9-88B7A7522CB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828800"/>
          <a:ext cx="8381880" cy="424800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7" name="Picture 38" descr="j0196374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74BAE82-96E6-4D43-B0E5-545FF5911A6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1828800"/>
          <a:ext cx="8305920" cy="430524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,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1" name="Picture 38" descr="j0149494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33596DD-EFBC-49F8-A224-52C68065394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457200" y="1828800"/>
          <a:ext cx="8305920" cy="4352760"/>
        </p:xfrm>
        <a:graphic>
          <a:graphicData uri="http://schemas.openxmlformats.org/drawingml/2006/table">
            <a:tbl>
              <a:tblPr/>
              <a:tblGrid>
                <a:gridCol w="2538360"/>
                <a:gridCol w="5767560"/>
              </a:tblGrid>
              <a:tr h="76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5" name="Picture 48" descr="j0358995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EFE80C88-DE19-40F7-B72F-8284C9E9685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457200" y="1828800"/>
          <a:ext cx="8381880" cy="4262400"/>
        </p:xfrm>
        <a:graphic>
          <a:graphicData uri="http://schemas.openxmlformats.org/drawingml/2006/table">
            <a:tbl>
              <a:tblPr/>
              <a:tblGrid>
                <a:gridCol w="201780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89" name="Picture 43" descr="pe02717_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5EF64FA7-216A-4AD1-B5A1-B233580E40E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57200" y="1828800"/>
          <a:ext cx="8305920" cy="4417920"/>
        </p:xfrm>
        <a:graphic>
          <a:graphicData uri="http://schemas.openxmlformats.org/drawingml/2006/table">
            <a:tbl>
              <a:tblPr/>
              <a:tblGrid>
                <a:gridCol w="2230560"/>
                <a:gridCol w="6075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B97158A-7D5E-453D-906C-A1DB1D9BB73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57200" y="1828800"/>
          <a:ext cx="8381880" cy="433872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96" name="Picture 37" descr="j0296260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37C9BC58-C7A3-40DD-9B98-A58FF992D6F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0" name="Picture 4" descr="j0301252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304C127-AAAD-4021-BF3A-D6BB325628B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Text Box 6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6" name="Text Box 7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7" name="Text Box 8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2A8378B1-BBFE-40DC-8E90-649F10E176A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FB9FB7D7-9B8D-4E17-B9C5-8B6B2027462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D0DCF2F-6946-4C36-BC70-A46E506FBD8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31" name="Group 25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32" name="Rectangle 13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4" name="Group 26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35" name="Rectangle 16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7" name="Group 27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38" name="Rectangle 19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9" name="Line 22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40" name="Rectangle 23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C545B37E-A368-48C5-82B6-2FD656D131A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20" name="Picture 5" descr="bs00678_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D7ED4CCD-0FEE-4C46-9B90-1CFF4C697A1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Rectangle 10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Text Box 15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9" name="Text Box 16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Text Box 17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1" name="Text Box 18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Text Box 19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3" name="Text Box 20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8" name="Rectangle 25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9" name="Rectangle 26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0" name="Picture 32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41" name="AutoShape 33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43" name="Picture 37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344" name="Group 39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345" name="Group 27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346" name="Text Box 28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7" name="Text Box 29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  <p:sp>
            <p:nvSpPr>
              <p:cNvPr id="348" name="Text Box 30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Times New Roman"/>
                </a:endParaRPr>
              </a:p>
            </p:txBody>
          </p:sp>
        </p:grpSp>
        <p:sp>
          <p:nvSpPr>
            <p:cNvPr id="349" name="Text Box 38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BCF00FA-C48A-45E5-84FB-2E88CF34B3D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8BEC692-6448-491F-8762-EDAAF5196C2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5" name="Picture 8" descr="bs00678_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356" name="WordArt 9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721B1213-8B57-4D01-88ED-400B8C9BBAC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828800"/>
          <a:ext cx="8381880" cy="400860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4313E1DF-218B-4123-945A-1FAACA6EB6B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56232040-DE00-4B40-AFD7-228061019D6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2-</a:t>
            </a:r>
            <a:fld id="{9077F167-BB13-4FB4-AAA6-76310B48984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828800"/>
          <a:ext cx="8381880" cy="3871800"/>
        </p:xfrm>
        <a:graphic>
          <a:graphicData uri="http://schemas.openxmlformats.org/drawingml/2006/table">
            <a:tbl>
              <a:tblPr/>
              <a:tblGrid>
                <a:gridCol w="2690640"/>
                <a:gridCol w="569124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Staff</cp:lastModifiedBy>
  <dcterms:modified xsi:type="dcterms:W3CDTF">2010-01-07T21:46:03Z</dcterms:modified>
  <cp:revision>144</cp:revision>
  <dc:subject>Medical Assisting 3e</dc:subject>
  <dc:title>Types of Medical Practice</dc:title>
</cp:coreProperties>
</file>