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8747-5E5B-445F-8BDD-1696D84F7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5AA5-FFC5-48E3-96B6-2D037BFB4F7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D42A-3EAC-46F6-83F3-7C36BF69BCA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0997-15F5-4143-A4B7-C52B9A6F641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52AB-0C6A-4CD4-A19D-A58669296C7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9742-EEE3-43BB-AE30-B7A770D41DA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C843-5C87-4B29-B82A-128B37F3732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C0AA-CF6D-48C8-A4AD-FD2FC870C33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4424-A873-4279-859F-D076ED3B919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E8C4-ADD4-44AF-90F5-B88DBC5DF71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4439-2DF6-43D0-AEE8-ED5AD09E617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5A1A-4C0C-4324-9A3F-21FCED16C67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ED65-E3A7-47AF-A9B0-2F532ED2783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3B61-E04E-4D80-A5DC-F8FB45B29F2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D79E-3B2E-4C4C-BAA9-7D9FC6AAB7A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8408-013C-4AEA-806F-05292594D1C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1390-EC93-49DA-8AA1-6AFD171924D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325F-C093-48E3-9173-3FB289D13AA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39BE-6F43-4B91-B9E0-EE90367D03D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020E-601B-461C-9B71-40BAD42AD3A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7C6E-8E7E-4E6F-906E-1AEBD058D0F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2964-1655-47DF-8F4F-5AF0D3D6E46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E0E-6751-45E0-9299-39C8F6D6957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4BDF-A75E-4A87-8D98-0EC04C92A97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B256-8614-4A5D-9036-CBB78D8AD8A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4EFE-CB72-4B90-A29B-7ECD955992E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29A2-E09D-445B-99D1-E6740E1289E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0FAE-58D6-41AD-A4B8-A59E056D9FE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B773-5204-4ED9-8C8D-C8F9E602EF9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492A-8784-48F3-BF06-5B110788F52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9D2B-BDBE-4D7C-9C64-E9B047E3828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C658-D269-4175-B1C3-0B88B5A2F47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8B6E-7BC3-40CC-A0E1-974DCF03BCD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B2A0-D28A-47EE-A0F5-A3511264498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092B-B84A-41AE-B9E4-1F0A2CEE3CA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F8C7-02A6-483B-A35F-FE29D6635F8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65A2-AAA9-43C2-A404-D702880260B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293D-2990-49CC-AE82-BD1FF805921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0CE2-D271-47E2-BDC1-785445C9453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D84A-C629-4365-B64A-CB668AB0BDE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73D8-D135-419C-937C-F3945DD400D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F8DE-3561-4089-ADF6-7AAF031781E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30C9-7DBD-4F43-808D-E75A46B6D80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28BE-973B-498E-8502-978E4CF9CD9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099E-5B57-4A1F-AA56-10736366CFA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C101-C2C2-4159-AA5B-95E9B5F29CA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ED3A-6D29-4EE6-B63A-1929DFF84CE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004E-B41E-4217-9B0A-A1EBF9DF074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127F-239D-4224-A2F2-7ACAFF5EBB2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BAD4-723B-4588-9531-187E1B914D8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7C7C-515F-41D8-B6BF-05636255275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A82A-3B0D-4DFE-BBB1-74ED3889767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EFE0-7B87-43C7-8AA2-93D55446741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C6B5-D4AC-49EE-AB91-410FDEF8B1A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3B83-B3D8-4334-B2A4-A8D4F3D73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B16A-1335-4CEF-A9BF-0EB7C8B81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116A-8202-4986-B041-E383F9A58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1A6C-CC3D-4B7F-8E81-8D029752A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09C15-7AD6-4BE9-A31F-EA4D69CD22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F750-E8FF-4364-B73F-83436722DF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DC95-7675-442F-9F25-6636C2B550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26B5-EC5D-4655-8CE3-8A15D2ACA5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FCEA-4B5E-4BFC-985D-36DD451800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6823-4C08-4B72-9C37-8920C634F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E2F6-3A27-48C0-8DA0-32D805031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F9AD-EBE2-4991-B3B7-8C6A8C72A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30EE-BA85-4DBA-82CA-DF987F20F1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659D-37F4-4A1D-9070-B8F21A0B14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A4F2-CBCB-4997-AD16-F7CFF9ACC3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7C3D-2F98-4DB0-A19A-8FFEAF55FF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8347-4BBA-4252-BD79-4D01D5BD1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54F6-AD88-4D13-B91B-F2198D96A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64FC-9745-4383-A138-57C3046F2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6E70-5F37-4627-97BF-28C4808A5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6AC5-004E-40AE-A8FE-54D69C78B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DF70-2EA0-445D-8985-CEAEAD3BC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DE69-9E8A-4FCB-8574-22877C554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DB48-F932-498A-BE67-8908E5CEF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CF63BE11-440A-4830-8EF9-5827C13A4D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5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52B95240-CEEA-4F79-A2EF-21C1A6F405F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8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530C192-7AAA-4AAC-995C-B04A064A1C4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9B8D4CC-1969-452F-8845-8FE4BE8335E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828800"/>
          <a:ext cx="8458200" cy="3825720"/>
        </p:xfrm>
        <a:graphic>
          <a:graphicData uri="http://schemas.openxmlformats.org/drawingml/2006/table">
            <a:tbl>
              <a:tblPr/>
              <a:tblGrid>
                <a:gridCol w="2405160"/>
                <a:gridCol w="605304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E031006-26F4-4490-9C80-5AF027891C2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828800"/>
          <a:ext cx="838188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3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gol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B0B47BC-1265-4A7A-B566-17D7FF33FAE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880" cy="4191120"/>
        </p:xfrm>
        <a:graphic>
          <a:graphicData uri="http://schemas.openxmlformats.org/drawingml/2006/table">
            <a:tbl>
              <a:tblPr/>
              <a:tblGrid>
                <a:gridCol w="2538360"/>
                <a:gridCol w="584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112EDF7-79AF-4D4A-8652-CE921FC2AA4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392760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99CF991-DE19-4353-A4C3-F0B1C074778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6553080" y="4191120"/>
            <a:ext cx="2210040" cy="1523880"/>
          </a:xfrm>
          <a:custGeom>
            <a:avLst/>
            <a:gdLst>
              <a:gd name="textAreaLeft" fmla="*/ 682920 w 2210040"/>
              <a:gd name="textAreaRight" fmla="*/ 1527120 w 2210040"/>
              <a:gd name="textAreaTop" fmla="*/ 582120 h 1523880"/>
              <a:gd name="textAreaBottom" fmla="*/ 1164240 h 1523880"/>
            </a:gdLst>
            <a:ahLst/>
            <a:rect l="textAreaLeft" t="textAreaTop" r="textAreaRight" b="textAreaBottom"/>
            <a:pathLst>
              <a:path w="2209800" h="1524000">
                <a:moveTo>
                  <a:pt x="2" y="582115"/>
                </a:moveTo>
                <a:lnTo>
                  <a:pt x="844073" y="582119"/>
                </a:lnTo>
                <a:lnTo>
                  <a:pt x="1104900" y="0"/>
                </a:lnTo>
                <a:lnTo>
                  <a:pt x="1365727" y="582119"/>
                </a:lnTo>
                <a:lnTo>
                  <a:pt x="2209798" y="582115"/>
                </a:lnTo>
                <a:lnTo>
                  <a:pt x="1526927" y="941879"/>
                </a:lnTo>
                <a:lnTo>
                  <a:pt x="1787766" y="1523995"/>
                </a:lnTo>
                <a:lnTo>
                  <a:pt x="1104900" y="1164224"/>
                </a:lnTo>
                <a:lnTo>
                  <a:pt x="422034" y="1523995"/>
                </a:lnTo>
                <a:lnTo>
                  <a:pt x="682873" y="941879"/>
                </a:lnTo>
                <a:close/>
              </a:path>
            </a:pathLst>
          </a:cu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1" name="Picture 10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j0299125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38971FF-1353-40E7-AA2B-20F475918E5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4" name="Picture 26" descr="j0238393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75" name="Oval 28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Text Box 41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711A26E5-3BC7-4A03-A5DF-7B5DB3474A8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38188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Picture 49" descr="j0409523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F80B1DD-BF8F-4683-811C-2D800984A82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828800"/>
          <a:ext cx="8305920" cy="441972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9ED05B1-650E-438B-AF20-348AAE3AE09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828800"/>
          <a:ext cx="8381880" cy="4000680"/>
        </p:xfrm>
        <a:graphic>
          <a:graphicData uri="http://schemas.openxmlformats.org/drawingml/2006/table">
            <a:tbl>
              <a:tblPr/>
              <a:tblGrid>
                <a:gridCol w="3336840"/>
                <a:gridCol w="50450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0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93" name="Picture 21" descr="chap02_ecg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6BAEF89-E0F3-4765-96FB-4F46708B4D2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828800"/>
          <a:ext cx="8381880" cy="428004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7" name="Picture 41" descr="j0404255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989F1FC-FF27-4461-84AE-D81652720E7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8AC3AFB-EA07-43DC-91A5-052BADCC415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828800"/>
          <a:ext cx="8381880" cy="4359240"/>
        </p:xfrm>
        <a:graphic>
          <a:graphicData uri="http://schemas.openxmlformats.org/drawingml/2006/table">
            <a:tbl>
              <a:tblPr/>
              <a:tblGrid>
                <a:gridCol w="2173320"/>
                <a:gridCol w="620856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WordArt 23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WordArt 25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WordArt 26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1502CF67-3260-4322-B297-AA120F4FD4B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828800"/>
          <a:ext cx="8381880" cy="4156200"/>
        </p:xfrm>
        <a:graphic>
          <a:graphicData uri="http://schemas.openxmlformats.org/drawingml/2006/table">
            <a:tbl>
              <a:tblPr/>
              <a:tblGrid>
                <a:gridCol w="217332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5A7E9558-88C2-4E8A-87BE-14A6BDD4B8A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3520" y="1828800"/>
          <a:ext cx="8329320" cy="4176720"/>
        </p:xfrm>
        <a:graphic>
          <a:graphicData uri="http://schemas.openxmlformats.org/drawingml/2006/table">
            <a:tbl>
              <a:tblPr/>
              <a:tblGrid>
                <a:gridCol w="216000"/>
                <a:gridCol w="2274480"/>
                <a:gridCol w="583884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8BB47E6-56A0-4D94-BACB-F88952607BD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828800"/>
          <a:ext cx="8381880" cy="4425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12C81A4-11A7-48F6-BDCE-D2285FE99A2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458200" cy="4295880"/>
        </p:xfrm>
        <a:graphic>
          <a:graphicData uri="http://schemas.openxmlformats.org/drawingml/2006/table">
            <a:tbl>
              <a:tblPr/>
              <a:tblGrid>
                <a:gridCol w="2271600"/>
                <a:gridCol w="618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Picture 51" descr="AG00564_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2776B41-77E2-4328-9ECC-F160DA5277A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5BBE775-CCD1-488B-9960-BD016137746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2" descr="j0404229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4E29845-14F9-40BE-AE49-09A42D4068E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9" descr="j0404169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964153B-81FA-4FFF-AF7C-F32E13CB33C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828800"/>
          <a:ext cx="8381880" cy="43434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39" descr="j0156049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54D6468-408F-417A-AA74-441E1EF56F5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Picture 20" descr="j0396132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183CCBE-9E41-49C8-B30D-76C0485F7AE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12" name="Picture 4" descr="MCj02309310000[1]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A87B8F6-E504-48BF-8B72-1F0578B5499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880" cy="435276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Picture 24" descr="j0198488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A4247EF-8A7B-4838-A4E5-B2D4D863311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29" descr="j0398111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A257469-2F0D-42FB-A711-3F7A034DBFC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F12415D-4E23-4140-9A48-C91490E91AD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B8B7725-2E9F-48FA-9F84-C02AC251DD0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02835A2-D59F-4A51-90AF-D4E02A0553A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9BE5C7B-302F-44F2-B35B-B19EB1111FD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35136F2-3207-4F87-9B29-3F6C13D9BEE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Text Box 1031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Text Box 1032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3" name="Text Box 1033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4" name="Text Box 1036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AutoShape 1037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6" name="Picture 1040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42" descr="j0299125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96728B6-D39C-42DB-A02B-8ED125AD0DD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6EA021D-7068-4FC7-A43F-78F74158D29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28800"/>
          <a:ext cx="8381880" cy="439596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037BEE4-65EF-42CB-B624-793F8328351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16" name="Object 12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Group 44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19" name="Object 10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AutoShape 32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AutoShape 38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7" name="AutoShape 39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28" name="Text Box 43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7821301-ED45-4E2A-8A47-42E2515FBD2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828800"/>
          <a:ext cx="8381880" cy="4248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7" name="Picture 38" descr="j0196374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00D1B1F-F167-4286-BDD0-97EC50048C4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1828800"/>
          <a:ext cx="8305920" cy="430524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,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Picture 38" descr="j0149494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C7E5EA6-3637-41F8-ABCB-8622FA72BE6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828800"/>
          <a:ext cx="8305920" cy="4352760"/>
        </p:xfrm>
        <a:graphic>
          <a:graphicData uri="http://schemas.openxmlformats.org/drawingml/2006/table">
            <a:tbl>
              <a:tblPr/>
              <a:tblGrid>
                <a:gridCol w="2538360"/>
                <a:gridCol w="576756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8" descr="j0358995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A5D12AED-BFBC-4BC1-B6F2-E4262DF4AB2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828800"/>
          <a:ext cx="8381880" cy="4262400"/>
        </p:xfrm>
        <a:graphic>
          <a:graphicData uri="http://schemas.openxmlformats.org/drawingml/2006/table">
            <a:tbl>
              <a:tblPr/>
              <a:tblGrid>
                <a:gridCol w="201780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9" name="Picture 43" descr="pe02717_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EDBCF28-EB26-4DEC-BDB3-5CD5747F04C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828800"/>
          <a:ext cx="8305920" cy="441792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B001F9D-88D0-4935-9F24-A2A8A72D213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828800"/>
          <a:ext cx="8381880" cy="433872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Picture 37" descr="j0296260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3073B7B-482D-4F0C-B185-CA1CB45CDFA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0" name="Picture 4" descr="j0301252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A12741E-C3B8-4D95-8B83-BE0B2D43E50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78B4CA3-2ABC-476C-BEC8-79B36AC8EE1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1D56DB5C-D82A-4E7E-AA83-B221B009BD0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A40130A0-18F1-49B8-992A-20872F734A0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Group 25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32" name="Rectangle 13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35" name="Rectangle 16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38" name="Rectangle 19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40" name="Rectangle 23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0911831-6559-4DD6-AB58-7271765874E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20" name="Picture 5" descr="bs00678_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37D9A8E-517C-4A80-A5F3-80FAC748A3C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40" name="Picture 32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33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43" name="Picture 37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39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345" name="Group 27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346" name="Text Box 28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sp>
            <p:nvSpPr>
              <p:cNvPr id="347" name="Text Box 29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sp>
            <p:nvSpPr>
              <p:cNvPr id="348" name="Text Box 30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</p:grpSp>
        <p:sp>
          <p:nvSpPr>
            <p:cNvPr id="349" name="Text Box 38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60C8AC3-153D-4C65-A3C5-9735A0DCE34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789807D-FF2D-4D41-98EC-1046D7EC6C2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Picture 8" descr="bs00678_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356" name="WordArt 9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95BA55D-2E3B-4588-99C2-DC04305B6BD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828800"/>
          <a:ext cx="8381880" cy="400860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DAAE469-DD7F-407A-8FD4-1BDF2DB3B43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C053169-8A46-44D8-859F-5C6500F4CE5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5D805F8-02FD-476E-9604-F9E305B2F1E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828800"/>
          <a:ext cx="8381880" cy="3871800"/>
        </p:xfrm>
        <a:graphic>
          <a:graphicData uri="http://schemas.openxmlformats.org/drawingml/2006/table">
            <a:tbl>
              <a:tblPr/>
              <a:tblGrid>
                <a:gridCol w="2690640"/>
                <a:gridCol w="56912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Staff</cp:lastModifiedBy>
  <dcterms:modified xsi:type="dcterms:W3CDTF">2010-01-07T21:46:03Z</dcterms:modified>
  <cp:revision>144</cp:revision>
  <dc:subject>Medical Assisting 3e</dc:subject>
  <dc:title>Types of Medical Practice</dc:title>
</cp:coreProperties>
</file>