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10.gif" ContentType="image/gif"/>
  <Override PartName="/ppt/media/image9.wmf" ContentType="image/x-wmf"/>
  <Override PartName="/ppt/media/image11.wmf" ContentType="image/x-wmf"/>
  <Override PartName="/ppt/media/image6.wmf" ContentType="image/x-wmf"/>
  <Override PartName="/ppt/media/image7.jpeg" ContentType="image/jpeg"/>
  <Override PartName="/ppt/media/image5.wmf" ContentType="image/x-wmf"/>
  <Override PartName="/ppt/media/image3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A339-E3AF-4309-ABCB-71843B6CF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156C-0184-4D2F-975E-F2785CE79B13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05A31-620C-4F43-BEC9-879F55886C7F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6C4D-326D-47E5-A7BE-F7363431CB69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1190-A235-47E1-A16D-D7D48A52D2C0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5BF3-2244-44BC-BE04-DED9F6A1460C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07F7-64E7-4964-912B-A3FE2CB98637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14CB-5C99-4325-AE50-E9B7B6CC258C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0E15-145C-4E20-AF59-622678FDBB76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778C-6EAA-4043-BC1A-AB7C31769418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CBD0-C1D8-4BD9-B734-73FF6861320C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B764-0988-4659-9705-33C0A60AAA5B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F19F-F885-43A6-BFF9-EF6EFED25B34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7867-CCA5-48BC-8BE3-5276C3BB2D9F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8412-201C-456C-BB77-A32B6DF09F10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C9EE-B206-458F-851E-B477152BC13C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E1E0-CC22-4200-A32A-8F2C77CDC272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77245-8E9C-4CD4-8A80-645035E75F0B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8E72-A42F-493D-A153-6D36C6B3881C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671A-45C7-416A-88AD-61D47C2CE88A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C9EA-5796-42BC-9BF0-3694323D90F1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14D79-82D3-4D32-BF25-225D0B12FC87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734E3-9386-49E7-B9BB-AB21AED58B1E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9198-BA2C-4055-8EC3-525B8A7F3C89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09B19-A889-44A4-B7D3-ECB67366132B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FE7F-E6BF-465B-98F4-9E7EA1FA4472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3502-EC82-4D91-86D6-26D620878C91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38888-92DE-45C6-8FC5-60310B474AD8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7497-02CD-4284-9CE8-19DD087EF878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2F3D-383F-45D7-B16A-B4BF6F062A7A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A29F-802A-42EB-A9D8-E341D7D1B177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27AA6-9BC4-488E-B2D2-E4B64956615A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7119-A60D-4F90-B12F-54D9672A4271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04B3-FC00-4CFB-AFDF-8403822C57F2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3929-5EEA-4135-8539-EBFEF1086E22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254C-3CBE-4399-86CB-99D5FA3A249C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F805-1149-451A-A45F-60A59F03362E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9A99-FB95-4EA0-90F3-CDE40037EA2D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17D2-22BE-42D5-AC40-E7E314F32238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4F1F8-0467-443D-880D-0E26469A8032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1828B-3158-4FE6-B86B-5AC5DFDA9EA7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9AFB-204A-492E-83C3-6C0681A23A36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0F7F8-2924-47EA-B8F4-A95573ED98FE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3E24-AC69-459D-AA3F-9C8619D3C9AF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7244-7B39-4276-9876-654EB5F35CF4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AAA2-4C05-4A7D-8483-14362B0B5D4D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5C0C-3C11-4364-AA57-7CEE6AE66126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A725-7393-4DC4-ACD5-C42B73C91AC3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E34C-44C7-4D74-BEB4-350E3076DC6A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109CB-7FEC-4CFE-BF8C-E395ECBDAF7D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EA55-656E-44BC-8FBB-AFB8D2EEF540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B8E9-13EF-42EF-9555-401C224A0C50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292E-7186-4875-96ED-095870E9587E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8AF3-8FFC-4F55-89BC-5A18C7B722B9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DA5D6-364F-497E-A317-70E254CCBA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9B9AE-1937-4B25-8BB3-54DE202198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E9AA6-7B8A-401A-85B1-0502574F01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94243-137A-41D3-A7C9-9BB1781B81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D818E-B73C-47D5-B746-CC440B940E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64C58-1E00-4B24-93D0-2C4A375E21D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34CA9-EF31-46B3-A1E4-DBE3241185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14383-994F-45DC-90D2-1395F11F3D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21CDE-1DFD-405B-90E6-B08D5D94BA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F1959-A073-4C01-85A8-35CA3187208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7F5BB-BFFA-4F45-9D04-1A6D6B97FA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287E3-337A-4677-A72C-A5EDB21B07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BB098-DEEF-4175-B474-90A3718D83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A3D84-1445-4C7D-A102-F185174285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673D0-4E00-43B9-BEB0-C9FF3A730B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AD901-E102-4BC2-B47A-CA8CEACCAA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BFB80-CD19-421F-8C0C-E4CD873CC8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3617D-DB11-4A04-825E-2BDB231FEF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B2263-7DE6-48B6-AC46-F9DC45F776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434A5-FEDE-4F90-ADCE-88FD957526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0A942-408D-4335-B871-0D68AA4B63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4EC93-395B-464B-941F-00990D9276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106AF-4F9F-4347-B264-A197DE8904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642D0-A078-405B-A99A-AC2D26F219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f0a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8F18FA8F-F831-48C9-8F7F-84BACDC59D4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304920" y="228600"/>
            <a:ext cx="8686800" cy="1600200"/>
            <a:chOff x="304920" y="228600"/>
            <a:chExt cx="8686800" cy="1600200"/>
          </a:xfrm>
        </p:grpSpPr>
        <p:sp>
          <p:nvSpPr>
            <p:cNvPr id="4" name="Line 8"/>
            <p:cNvSpPr/>
            <p:nvPr/>
          </p:nvSpPr>
          <p:spPr>
            <a:xfrm flipH="1">
              <a:off x="482760" y="182880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5" name="Rectangle 9"/>
            <p:cNvSpPr/>
            <p:nvPr/>
          </p:nvSpPr>
          <p:spPr>
            <a:xfrm>
              <a:off x="8763120" y="228600"/>
              <a:ext cx="228600" cy="2286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304920" y="228600"/>
              <a:ext cx="8454960" cy="228600"/>
            </a:xfrm>
            <a:prstGeom prst="rect">
              <a:avLst/>
            </a:prstGeom>
            <a:solidFill>
              <a:srgbClr val="af5fa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7" name="Rectangle 11"/>
            <p:cNvSpPr/>
            <p:nvPr/>
          </p:nvSpPr>
          <p:spPr>
            <a:xfrm>
              <a:off x="304920" y="457200"/>
              <a:ext cx="8454960" cy="13968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8" name="Rectangle 12"/>
            <p:cNvSpPr/>
            <p:nvPr/>
          </p:nvSpPr>
          <p:spPr>
            <a:xfrm>
              <a:off x="8763120" y="459000"/>
              <a:ext cx="228600" cy="136440"/>
            </a:xfrm>
            <a:prstGeom prst="rect">
              <a:avLst/>
            </a:prstGeom>
            <a:solidFill>
              <a:srgbClr val="af5fa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9" name="Text Box 15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33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grpSp>
        <p:nvGrpSpPr>
          <p:cNvPr id="47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8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af5fa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af5fa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52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54" name="Text Box 16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33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f0a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06BC3122-FE02-4676-B0DE-BE4470A24AC1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8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98637111-69E3-47E2-AA1D-F1DA65991669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2" name="WordArt 2"/>
          <p:cNvSpPr txBox="1"/>
          <p:nvPr/>
        </p:nvSpPr>
        <p:spPr>
          <a:xfrm>
            <a:off x="2971800" y="1295280"/>
            <a:ext cx="3124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af5fa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hapter 2</a:t>
            </a:r>
            <a:endParaRPr b="1" lang="en-US" sz="4000" spc="1" strike="noStrike">
              <a:ln w="0">
                <a:noFill/>
              </a:ln>
              <a:solidFill>
                <a:srgbClr val="af5fa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752480" y="26668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80880" y="259092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33"/>
                </a:solidFill>
                <a:latin typeface="Times New Roman"/>
              </a:rPr>
              <a:t>Types of Medical Practice</a:t>
            </a:r>
            <a:endParaRPr b="0" lang="en-US" sz="4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Arial"/>
              </a:rPr>
              <a:t>PowerPoint® presentation to accompany: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3"/>
                </a:solidFill>
                <a:latin typeface="Arial"/>
              </a:rPr>
              <a:t>Medical Assisting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Third Edition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Arial"/>
              </a:rPr>
              <a:t>Booth, Whicker, Wyman, Pugh, Thompson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3BF9232C-8022-4242-8F5E-2C395E4C5875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1828800"/>
          <a:ext cx="8458200" cy="3825720"/>
        </p:xfrm>
        <a:graphic>
          <a:graphicData uri="http://schemas.openxmlformats.org/drawingml/2006/table">
            <a:tbl>
              <a:tblPr/>
              <a:tblGrid>
                <a:gridCol w="2405160"/>
                <a:gridCol w="605304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Nephr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tudies, manages, and diagnoses diseases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of the kidney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Neur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orders and diseases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of the nervous system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bstetr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tudies pregnancy, labor and delivery, and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ostpartum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nc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Identifies and treats patients with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ancer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AFEEB4D5-7DC0-4EF0-9228-5EBB2F3E1A64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1828800"/>
          <a:ext cx="8381880" cy="3859200"/>
        </p:xfrm>
        <a:graphic>
          <a:graphicData uri="http://schemas.openxmlformats.org/drawingml/2006/table">
            <a:tbl>
              <a:tblPr/>
              <a:tblGrid>
                <a:gridCol w="2998800"/>
                <a:gridCol w="538308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phthalm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and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sorders of the ey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rthoped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sorders of muscles and bon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torhinolaryngogol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ear, nose,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hroat disorder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ath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tudies bodily changes produced by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sease process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670A8D1F-1304-478C-A610-D1D9A31421B7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828800"/>
          <a:ext cx="8381880" cy="4191120"/>
        </p:xfrm>
        <a:graphic>
          <a:graphicData uri="http://schemas.openxmlformats.org/drawingml/2006/table">
            <a:tbl>
              <a:tblPr/>
              <a:tblGrid>
                <a:gridCol w="2538360"/>
                <a:gridCol w="5843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ediatr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childhood diseas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hysiatr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and disorder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with physical therap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odiatr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eats disorders of the foo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lastic Surgeo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reconstruction, correction, and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improvement of body structur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Radiologist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Nuclear Medicin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Uses x-rays and radioactive substance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o diagnose and treat disease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3D6B5290-54EA-485E-AF2A-635D8F4D4DB2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57200" y="1828800"/>
          <a:ext cx="8305920" cy="3927600"/>
        </p:xfrm>
        <a:graphic>
          <a:graphicData uri="http://schemas.openxmlformats.org/drawingml/2006/table">
            <a:tbl>
              <a:tblPr/>
              <a:tblGrid>
                <a:gridCol w="3146400"/>
                <a:gridCol w="5159520"/>
              </a:tblGrid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Sports Medicin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ubspecialty of medicine dealing with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reatment and preventative care of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thletes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Surgeo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Uses hands and instruments to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agnose, correct, and treat injuries,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seases, and deformiti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Ur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of th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kidneys, bladder, and urinary system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B2281871-5DE3-4089-BF03-4DF38EF78E4E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5960" y="1980720"/>
            <a:ext cx="876276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Name the medical specialists who would be involved in the care of a </a:t>
            </a:r>
            <a:r>
              <a:rPr b="1" i="1" lang="en-US" sz="2400" spc="-1" strike="noStrike">
                <a:solidFill>
                  <a:srgbClr val="5f00e1"/>
                </a:solidFill>
                <a:latin typeface="Times New Roman"/>
              </a:rPr>
              <a:t>6-month-old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infant with </a:t>
            </a:r>
            <a:r>
              <a:rPr b="1" i="1" lang="en-US" sz="2400" spc="-1" strike="noStrike">
                <a:solidFill>
                  <a:srgbClr val="5f00e1"/>
                </a:solidFill>
                <a:latin typeface="Times New Roman"/>
              </a:rPr>
              <a:t>massive burns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over 90% of the body and indicate how each specialist will contribute to the care for this situatio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533520" y="3429000"/>
            <a:ext cx="8305560" cy="2558520"/>
          </a:xfrm>
          <a:prstGeom prst="rect">
            <a:avLst/>
          </a:prstGeom>
          <a:solidFill>
            <a:srgbClr val="fff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33"/>
                </a:solidFill>
                <a:uFillTx/>
                <a:latin typeface="Times New Roman"/>
              </a:rPr>
              <a:t>ANSWER:</a:t>
            </a: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 The following specialists would be involved in the care of this patient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Pediatrician because of the age of the infant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Plastic surgeon to perform skin grafting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Dermatologist for skin, hair, and nail repair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Emergency medicine for treatment during medical crisis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6553080" y="4191120"/>
            <a:ext cx="2210040" cy="1523880"/>
          </a:xfrm>
          <a:custGeom>
            <a:avLst/>
            <a:gdLst>
              <a:gd name="textAreaLeft" fmla="*/ 682920 w 2210040"/>
              <a:gd name="textAreaRight" fmla="*/ 1527120 w 2210040"/>
              <a:gd name="textAreaTop" fmla="*/ 582120 h 1523880"/>
              <a:gd name="textAreaBottom" fmla="*/ 1164240 h 1523880"/>
            </a:gdLst>
            <a:ahLst/>
            <a:rect l="textAreaLeft" t="textAreaTop" r="textAreaRight" b="textAreaBottom"/>
            <a:pathLst>
              <a:path w="2209800" h="1524000">
                <a:moveTo>
                  <a:pt x="2" y="582115"/>
                </a:moveTo>
                <a:lnTo>
                  <a:pt x="844073" y="582119"/>
                </a:lnTo>
                <a:lnTo>
                  <a:pt x="1104900" y="0"/>
                </a:lnTo>
                <a:lnTo>
                  <a:pt x="1365727" y="582119"/>
                </a:lnTo>
                <a:lnTo>
                  <a:pt x="2209798" y="582115"/>
                </a:lnTo>
                <a:lnTo>
                  <a:pt x="1526927" y="941879"/>
                </a:lnTo>
                <a:lnTo>
                  <a:pt x="1787766" y="1523995"/>
                </a:lnTo>
                <a:lnTo>
                  <a:pt x="1104900" y="1164224"/>
                </a:lnTo>
                <a:lnTo>
                  <a:pt x="422034" y="1523995"/>
                </a:lnTo>
                <a:lnTo>
                  <a:pt x="682873" y="941879"/>
                </a:lnTo>
                <a:close/>
              </a:path>
            </a:pathLst>
          </a:custGeom>
          <a:solidFill>
            <a:srgbClr val="af5fa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7086600" y="4800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Correct!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71" name="Picture 10" descr=""/>
          <p:cNvPicPr/>
          <p:nvPr/>
        </p:nvPicPr>
        <p:blipFill>
          <a:blip r:embed="rId1"/>
          <a:stretch/>
        </p:blipFill>
        <p:spPr>
          <a:xfrm>
            <a:off x="7848720" y="8380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j0299125"/>
          <p:cNvPicPr/>
          <p:nvPr/>
        </p:nvPicPr>
        <p:blipFill>
          <a:blip r:embed="rId2"/>
          <a:stretch/>
        </p:blipFill>
        <p:spPr>
          <a:xfrm>
            <a:off x="7696080" y="609480"/>
            <a:ext cx="882720" cy="1447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5649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1E6301D0-0925-4E99-A297-351D5F66C3D5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74" name="Picture 26" descr="j0238393"/>
          <p:cNvPicPr/>
          <p:nvPr/>
        </p:nvPicPr>
        <p:blipFill>
          <a:blip r:embed="rId1"/>
          <a:stretch/>
        </p:blipFill>
        <p:spPr>
          <a:xfrm>
            <a:off x="7586640" y="762120"/>
            <a:ext cx="1557360" cy="2286000"/>
          </a:xfrm>
          <a:prstGeom prst="rect">
            <a:avLst/>
          </a:prstGeom>
          <a:ln w="0">
            <a:noFill/>
          </a:ln>
        </p:spPr>
      </p:pic>
      <p:sp>
        <p:nvSpPr>
          <p:cNvPr id="175" name="Oval 28"/>
          <p:cNvSpPr/>
          <p:nvPr/>
        </p:nvSpPr>
        <p:spPr>
          <a:xfrm>
            <a:off x="2819520" y="2666880"/>
            <a:ext cx="3124080" cy="1143000"/>
          </a:xfrm>
          <a:prstGeom prst="ellipse">
            <a:avLst/>
          </a:prstGeom>
          <a:solidFill>
            <a:srgbClr val="fff0a0"/>
          </a:solidFill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3"/>
                </a:solidFill>
                <a:latin typeface="Times New Roman"/>
              </a:rPr>
              <a:t>PATIEN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6" name="Text Box 31"/>
          <p:cNvSpPr/>
          <p:nvPr/>
        </p:nvSpPr>
        <p:spPr>
          <a:xfrm>
            <a:off x="538200" y="4267080"/>
            <a:ext cx="3269880" cy="581400"/>
          </a:xfrm>
          <a:prstGeom prst="rect">
            <a:avLst/>
          </a:prstGeom>
          <a:noFill/>
          <a:ln w="93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edical Assistant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7" name="Text Box 32"/>
          <p:cNvSpPr/>
          <p:nvPr/>
        </p:nvSpPr>
        <p:spPr>
          <a:xfrm>
            <a:off x="842760" y="2057400"/>
            <a:ext cx="1471680" cy="581400"/>
          </a:xfrm>
          <a:prstGeom prst="rect">
            <a:avLst/>
          </a:prstGeom>
          <a:noFill/>
          <a:ln w="93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octor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8" name="Text Box 33"/>
          <p:cNvSpPr/>
          <p:nvPr/>
        </p:nvSpPr>
        <p:spPr>
          <a:xfrm>
            <a:off x="6025320" y="4191120"/>
            <a:ext cx="1922760" cy="581400"/>
          </a:xfrm>
          <a:prstGeom prst="rect">
            <a:avLst/>
          </a:prstGeom>
          <a:noFill/>
          <a:ln w="93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pecialist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9" name="Text Box 34"/>
          <p:cNvSpPr/>
          <p:nvPr/>
        </p:nvSpPr>
        <p:spPr>
          <a:xfrm>
            <a:off x="6558480" y="2209680"/>
            <a:ext cx="1312920" cy="581400"/>
          </a:xfrm>
          <a:prstGeom prst="rect">
            <a:avLst/>
          </a:prstGeom>
          <a:noFill/>
          <a:ln w="93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Nurse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ealth-Care Tea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Text Box 41"/>
          <p:cNvSpPr/>
          <p:nvPr/>
        </p:nvSpPr>
        <p:spPr>
          <a:xfrm>
            <a:off x="380880" y="5257800"/>
            <a:ext cx="8458200" cy="947160"/>
          </a:xfrm>
          <a:prstGeom prst="rect">
            <a:avLst/>
          </a:prstGeom>
          <a:solidFill>
            <a:srgbClr val="af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ing the duties of other health-care team members will help you be a more effective team member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1307B36D-CEEC-455B-9D65-93E56ADA126F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1828800"/>
          <a:ext cx="8381880" cy="4114800"/>
        </p:xfrm>
        <a:graphic>
          <a:graphicData uri="http://schemas.openxmlformats.org/drawingml/2006/table">
            <a:tbl>
              <a:tblPr/>
              <a:tblGrid>
                <a:gridCol w="3570120"/>
                <a:gridCol w="48117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0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cupuncturist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eats pain or discomfort by 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inserting thin, hollow needles under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he skin to balance the opposing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forces of yin and ya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Based on Chinese beliefs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5" name="Picture 49" descr="j0409523"/>
          <p:cNvPicPr/>
          <p:nvPr/>
        </p:nvPicPr>
        <p:blipFill>
          <a:blip r:embed="rId1"/>
          <a:stretch/>
        </p:blipFill>
        <p:spPr>
          <a:xfrm>
            <a:off x="1295280" y="2971800"/>
            <a:ext cx="1940040" cy="2911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0B58DD26-992E-41A0-AB0E-1B2687AAAFBD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57200" y="1828800"/>
          <a:ext cx="8305920" cy="4419720"/>
        </p:xfrm>
        <a:graphic>
          <a:graphicData uri="http://schemas.openxmlformats.org/drawingml/2006/table">
            <a:tbl>
              <a:tblPr/>
              <a:tblGrid>
                <a:gridCol w="3276720"/>
                <a:gridCol w="5029200"/>
              </a:tblGrid>
              <a:tr h="54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60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Chiropractor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eats disorders without drugs o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urgery by making adjustments to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realign the vertebrae in the spin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Is an independent practitioner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2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lectroencephalographic (EEG) Technologist / Techn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lectroencephalography is the study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nd recording of the brain’s electrica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ctivit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EG technicians work in hospital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ysicians’ offices, and clinic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90D3A388-2763-4930-AB77-03735E687372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57200" y="1828800"/>
          <a:ext cx="8381880" cy="4000680"/>
        </p:xfrm>
        <a:graphic>
          <a:graphicData uri="http://schemas.openxmlformats.org/drawingml/2006/table">
            <a:tbl>
              <a:tblPr/>
              <a:tblGrid>
                <a:gridCol w="3336840"/>
                <a:gridCol w="504504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39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lectrocardiograph (ECG)</a:t>
                      </a:r>
                      <a:r>
                        <a:rPr b="1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Techn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CG technicians operat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electrocardiograph machines that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record the heart’s electrical impulses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CG technicians work in hospital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0"/>
          <p:cNvSpPr/>
          <p:nvPr/>
        </p:nvSpPr>
        <p:spPr>
          <a:xfrm>
            <a:off x="593640" y="2303640"/>
            <a:ext cx="184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93" name="Picture 21" descr="chap02_ecg"/>
          <p:cNvPicPr/>
          <p:nvPr/>
        </p:nvPicPr>
        <p:blipFill>
          <a:blip r:embed="rId1"/>
          <a:stretch/>
        </p:blipFill>
        <p:spPr>
          <a:xfrm>
            <a:off x="685800" y="3505320"/>
            <a:ext cx="2666880" cy="198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E354AE25-3E8B-4AF5-8C18-3BACC7E904B5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1828800"/>
          <a:ext cx="8381880" cy="4280040"/>
        </p:xfrm>
        <a:graphic>
          <a:graphicData uri="http://schemas.openxmlformats.org/drawingml/2006/table">
            <a:tbl>
              <a:tblPr/>
              <a:tblGrid>
                <a:gridCol w="2560680"/>
                <a:gridCol w="5821200"/>
              </a:tblGrid>
              <a:tr h="60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66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assage Therap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motes muscle and full body relaxation;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increases circulation and lymph flow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One of the oldest methods to promote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eali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00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Administrative Assistant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vides administrative support to medical,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rofessional, and technical personnel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nscribing dictation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osing correspondenc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clinics, etc.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7" name="Picture 41" descr="j0404255"/>
          <p:cNvPicPr/>
          <p:nvPr/>
        </p:nvPicPr>
        <p:blipFill>
          <a:blip r:embed="rId1"/>
          <a:stretch/>
        </p:blipFill>
        <p:spPr>
          <a:xfrm>
            <a:off x="1295280" y="2895480"/>
            <a:ext cx="901800" cy="1067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6972AAF8-A5BF-4787-B0E0-D95BEA660F08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457200" y="1981080"/>
            <a:ext cx="838188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2.1 Describe medical specialties and specialists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577800" indent="-577800">
              <a:lnSpc>
                <a:spcPct val="5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577800" indent="-577800"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2.2 Explain the purpose of the American Board of Medical Specialties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577800" indent="-577800">
              <a:lnSpc>
                <a:spcPct val="5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577800" indent="-577800"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2.3 Describe the duties of several types of allied health professionals with whom medical assistants may work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577800" indent="-577800">
              <a:lnSpc>
                <a:spcPct val="5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577800" indent="-577800"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2.4 Name professional associations that may help advance a medical assistant’s career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arning Outcom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4D086C9D-1185-4A07-B156-9223A09BF406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7200" y="1828800"/>
          <a:ext cx="8381880" cy="4359240"/>
        </p:xfrm>
        <a:graphic>
          <a:graphicData uri="http://schemas.openxmlformats.org/drawingml/2006/table">
            <a:tbl>
              <a:tblPr/>
              <a:tblGrid>
                <a:gridCol w="2173320"/>
                <a:gridCol w="6208560"/>
              </a:tblGrid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75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Billing and Codi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xtraction and coding of medical information from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atient record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eparation of insurance claims to maximiz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reimbursement and ensure ethical standards in th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rofession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Records Tech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Organizes, analyzes, and evaluates medical record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iles administrative and health statistics, cod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ymptoms, and inputs and retrieves computerize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ealth data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gistered Records Administrator (RRA)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nd Accredited Records Technician (ART)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WordArt 23"/>
          <p:cNvSpPr txBox="1"/>
          <p:nvPr/>
        </p:nvSpPr>
        <p:spPr>
          <a:xfrm>
            <a:off x="685800" y="3657600"/>
            <a:ext cx="380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804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PT</a:t>
            </a:r>
            <a:endParaRPr b="0" i="1" lang="en-US" sz="8800" spc="1" strike="noStrike">
              <a:ln w="6480">
                <a:solidFill>
                  <a:srgbClr val="000000"/>
                </a:solidFill>
                <a:miter/>
              </a:ln>
              <a:solidFill>
                <a:srgbClr val="804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2" name="WordArt 25"/>
          <p:cNvSpPr txBox="1"/>
          <p:nvPr/>
        </p:nvSpPr>
        <p:spPr>
          <a:xfrm>
            <a:off x="1752480" y="3657600"/>
            <a:ext cx="6098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5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CD-9</a:t>
            </a:r>
            <a:endParaRPr b="0" i="1" lang="en-US" sz="8800" spc="1" strike="noStrike">
              <a:ln w="6480">
                <a:solidFill>
                  <a:srgbClr val="000000"/>
                </a:solidFill>
                <a:miter/>
              </a:ln>
              <a:solidFill>
                <a:srgbClr val="5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3" name="WordArt 26"/>
          <p:cNvSpPr txBox="1"/>
          <p:nvPr/>
        </p:nvSpPr>
        <p:spPr>
          <a:xfrm>
            <a:off x="990720" y="3352680"/>
            <a:ext cx="83808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f0a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CPCS</a:t>
            </a:r>
            <a:endParaRPr b="0" i="1" lang="en-US" sz="8800" spc="1" strike="noStrike">
              <a:ln w="6480">
                <a:solidFill>
                  <a:srgbClr val="000000"/>
                </a:solidFill>
                <a:miter/>
              </a:ln>
              <a:solidFill>
                <a:srgbClr val="fff0a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F8FADB8B-4834-4CAA-9B7E-E3D348950299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57200" y="1828800"/>
          <a:ext cx="8381880" cy="4156200"/>
        </p:xfrm>
        <a:graphic>
          <a:graphicData uri="http://schemas.openxmlformats.org/drawingml/2006/table">
            <a:tbl>
              <a:tblPr/>
              <a:tblGrid>
                <a:gridCol w="2173320"/>
                <a:gridCol w="6208560"/>
              </a:tblGrid>
              <a:tr h="65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Office Administrator / Manager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nages the practice of a physician or a group practic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ordinates records and filing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Oversees office staff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y also greet patients, make appointments,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erform general secretarial task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quires knowledge of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uter application software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dvanced document processing skills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ccounting 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5B1DCEDB-96B2-46E8-95E2-6D3505D3C3EA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533520" y="1828800"/>
          <a:ext cx="8329320" cy="4176720"/>
        </p:xfrm>
        <a:graphic>
          <a:graphicData uri="http://schemas.openxmlformats.org/drawingml/2006/table">
            <a:tbl>
              <a:tblPr/>
              <a:tblGrid>
                <a:gridCol w="216000"/>
                <a:gridCol w="2274480"/>
                <a:gridCol w="583884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>
                      <a:noFill/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4080"/>
                          </a:solidFill>
                          <a:latin typeface="Times New Roman"/>
                        </a:rPr>
                        <a:t>Medical Technology – includes:</a:t>
                      </a:r>
                      <a:r>
                        <a:rPr b="1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0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Clinical Laboratory Technician (CLT)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lab tests under supervision of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ysicians or medical technologis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1- or 2-year degre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 labs, clinics,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745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Tech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lab tests and procedures such as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examining body fluids and tissu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Has a 4-year degre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 clinics, industry, hospital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research,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4A1BC841-BE71-486B-9330-3E40E24D4B1D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57200" y="1828800"/>
          <a:ext cx="8381880" cy="442584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4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Transcription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nslates a physician’s dictation into comprehensive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typed record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attorney offices, insurance companies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ospitals, physician offices, clinics, and laborator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ntal Health Technician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(Psychiatric Aide or Counselor)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articipates in supervising group therapy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ounseling session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with emotionally disturbed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mentally challenged patient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 settings include psychiatric clinics, crisis center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nd shelters, hospital psychiatric units, and specialized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nursing home setting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C7465EE4-44FF-4BD5-97D9-2D054D6DA920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57200" y="1828800"/>
          <a:ext cx="8458200" cy="4295880"/>
        </p:xfrm>
        <a:graphic>
          <a:graphicData uri="http://schemas.openxmlformats.org/drawingml/2006/table">
            <a:tbl>
              <a:tblPr/>
              <a:tblGrid>
                <a:gridCol w="2271600"/>
                <a:gridCol w="6186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91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Nuclear Medicine Tech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letes either a 2-year or 4-year program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physician offices, or public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health institutio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uties include: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verseeing quality control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reparing and administering radioactive drug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perating radiation detection instrumen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ositioning patien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erforming imaging procedur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6" name="Picture 51" descr="AG00564_"/>
          <p:cNvPicPr/>
          <p:nvPr/>
        </p:nvPicPr>
        <p:blipFill>
          <a:blip r:embed="rId1"/>
          <a:stretch/>
        </p:blipFill>
        <p:spPr>
          <a:xfrm>
            <a:off x="609480" y="4114800"/>
            <a:ext cx="1866960" cy="1428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FF388C6A-A64F-4D85-9511-93CE0D3DC79E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7200" y="1828800"/>
          <a:ext cx="8381880" cy="430200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6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Occupational Therap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Helps patients attain maximum physical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mental health through the use of educational,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vocational, and rehabilitation activiti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Has a 4-year degree plus 9- to 12-month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internship at an accredited hospital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 settings include: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Hospital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Government agenc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Rehabilitation hospital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37F17629-0A15-4DAC-86EC-4159C6C4A86D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80880" y="1828800"/>
          <a:ext cx="8534520" cy="3962520"/>
        </p:xfrm>
        <a:graphic>
          <a:graphicData uri="http://schemas.openxmlformats.org/drawingml/2006/table">
            <a:tbl>
              <a:tblPr/>
              <a:tblGrid>
                <a:gridCol w="2292480"/>
                <a:gridCol w="624204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2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armacy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pensing of medications and health supplie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mployment in hospitals, clinics, nursing home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armaceutical companies, or private or chain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armacie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hree levels of educational training for pharmacy</a:t>
                      </a:r>
                      <a:r>
                        <a:rPr b="1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career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harmacist Technician (CPhT) -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2 year program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</a:t>
                      </a:r>
                      <a:r>
                        <a:rPr b="1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gistered Pharmacist (RPh) -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5 years of college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octor of Pharmacy (PharmD) - </a:t>
                      </a:r>
                      <a:r>
                        <a:rPr b="1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6 to 7 years of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ollege with residenc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Picture 22" descr="j0404229"/>
          <p:cNvPicPr/>
          <p:nvPr/>
        </p:nvPicPr>
        <p:blipFill>
          <a:blip r:embed="rId1"/>
          <a:stretch/>
        </p:blipFill>
        <p:spPr>
          <a:xfrm>
            <a:off x="685800" y="3657600"/>
            <a:ext cx="1819440" cy="1689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A06E459F-8FC8-4021-B035-A710A499B293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57200" y="1828800"/>
          <a:ext cx="8381880" cy="430200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lebotom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raws blood for diagnostic laboratory testi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ceives advanced phlebotomy training that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llows him/her to draw blood under difficult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ircumstances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4" marL="18288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0a0"/>
                        </a:buClr>
                        <a:buSzPct val="50000"/>
                        <a:buFont typeface="Wingdings" charset="2"/>
                        <a:buChar char="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ost states require phlebotomists to be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ertified by the National Phlebotomy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ssociation or registered by the American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ociety of Clinical Pathologist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7" name="Picture 19" descr="j0404169"/>
          <p:cNvPicPr/>
          <p:nvPr/>
        </p:nvPicPr>
        <p:blipFill>
          <a:blip r:embed="rId1"/>
          <a:stretch/>
        </p:blipFill>
        <p:spPr>
          <a:xfrm>
            <a:off x="609480" y="3581280"/>
            <a:ext cx="1816200" cy="1425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C20019A6-CA2E-4A8C-836A-49EE28A2D303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457200" y="1828800"/>
          <a:ext cx="8381880" cy="434340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ysical Therapist</a:t>
                      </a:r>
                      <a:r>
                        <a:rPr b="0" lang="en-US" sz="2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(PT)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Has a bachelor’s degree in physical therapy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nd must pass a state board examinatio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y work in hospitals, rehabilitation centers,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outpatient clinics, private practice, or sports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medicine center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Improves patient functioning by using: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lectricity, heat, and cold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Ultrasound and massag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xercis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1" name="Picture 39" descr="j0156049"/>
          <p:cNvPicPr/>
          <p:nvPr/>
        </p:nvPicPr>
        <p:blipFill>
          <a:blip r:embed="rId1"/>
          <a:stretch/>
        </p:blipFill>
        <p:spPr>
          <a:xfrm>
            <a:off x="762120" y="3581280"/>
            <a:ext cx="1520640" cy="2486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53B89B51-F32E-4E55-90DA-CA9613B48774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1828800"/>
          <a:ext cx="8381880" cy="430200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ysician Assistant (PA)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vides direct patient care under the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upervision of  a licensed phys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ining requirements vary; many states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require certification and registration with th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state medical board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a variety of settings: privat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practice, nursing homes, hospitals, etc.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ome states allow PAs to write prescriptio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5" name="Picture 20" descr="j0396132"/>
          <p:cNvPicPr/>
          <p:nvPr/>
        </p:nvPicPr>
        <p:blipFill>
          <a:blip r:embed="rId1"/>
          <a:stretch/>
        </p:blipFill>
        <p:spPr>
          <a:xfrm>
            <a:off x="762120" y="3505320"/>
            <a:ext cx="1554120" cy="2341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968A6705-AAFA-436B-AA71-F131F66E1873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0292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edical assistants are an integral part of the health-care team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working knowledge of specialties and allied health professionals enables the MA to function better as a member of the health-care team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12" name="Picture 4" descr="MCj02309310000[1]"/>
          <p:cNvPicPr/>
          <p:nvPr/>
        </p:nvPicPr>
        <p:blipFill>
          <a:blip r:embed="rId1"/>
          <a:stretch/>
        </p:blipFill>
        <p:spPr>
          <a:xfrm>
            <a:off x="5773680" y="1905120"/>
            <a:ext cx="2776680" cy="3716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A12F260B-991E-407C-9075-C15387DC4CBA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57200" y="1828800"/>
          <a:ext cx="8381880" cy="435276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19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adiographer </a:t>
                      </a: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X-ray Technician)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a radiologist in taking x-ray film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y be employed in hospitals, physicians’ offices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linics, government agencies,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4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adiographic Tech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ined in x-ray theory and practical applications a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well as radioactive material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y specialize in radiation therapy, radiography, o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nuclear medicin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clinics, medical laboratories, and 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medical practic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9" name="Picture 24" descr="j0198488"/>
          <p:cNvPicPr/>
          <p:nvPr/>
        </p:nvPicPr>
        <p:blipFill>
          <a:blip r:embed="rId1"/>
          <a:stretch/>
        </p:blipFill>
        <p:spPr>
          <a:xfrm>
            <a:off x="762120" y="4648320"/>
            <a:ext cx="1447560" cy="1425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63B0EFA9-D8B1-4E66-BFAB-116BBFB276BD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57200" y="1828800"/>
          <a:ext cx="8381880" cy="430200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egistered Dietit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lso called </a:t>
                      </a: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nutrition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patients and family with nutrition planning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y prepare and serve food to group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 settings include: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Community health agencies 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Hospitals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Clinics 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rivate practices 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Teaching and consulting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3" name="Picture 29" descr="j0398111"/>
          <p:cNvPicPr/>
          <p:nvPr/>
        </p:nvPicPr>
        <p:blipFill>
          <a:blip r:embed="rId1"/>
          <a:stretch/>
        </p:blipFill>
        <p:spPr>
          <a:xfrm>
            <a:off x="685800" y="3886200"/>
            <a:ext cx="1698480" cy="1830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C769B467-91E0-4EA6-B69A-E1B9DB6DBBAA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57200" y="1828800"/>
          <a:ext cx="8381880" cy="464184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8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espiratory Therap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under the supervision of a phys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physicians’ offices,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nursing homes, and commercial compani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valuates, treats, and cares for patients with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respiratory problems such as: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sthma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Emphysema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neumonia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Bronchiti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6549FF42-DF1C-4E4D-8B00-8831E81964EE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ursing Care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457200" y="1828800"/>
          <a:ext cx="8305920" cy="4267080"/>
        </p:xfrm>
        <a:graphic>
          <a:graphicData uri="http://schemas.openxmlformats.org/drawingml/2006/table">
            <a:tbl>
              <a:tblPr/>
              <a:tblGrid>
                <a:gridCol w="2133720"/>
                <a:gridCol w="1752480"/>
                <a:gridCol w="44197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ining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ample Dutie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Nursing Aide/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1 week to 3 month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Bed maki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Vital sig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Bathing patient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2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ractical/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Vocational Nurse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(LPN, LVN)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1 year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Vital sig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edication administratio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ressing chang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registered nurses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physicia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253860CD-3F42-4CBE-B308-FA0E272DB517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gistered Nurse (RN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57200" y="1828800"/>
          <a:ext cx="8305920" cy="3886200"/>
        </p:xfrm>
        <a:graphic>
          <a:graphicData uri="http://schemas.openxmlformats.org/drawingml/2006/table">
            <a:tbl>
              <a:tblPr/>
              <a:tblGrid>
                <a:gridCol w="5003640"/>
                <a:gridCol w="330228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ining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ssociate Degree RN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(ADN)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2 year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Diploma R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3 year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Baccalaureate RN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(BSN)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4 year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B1FF6FF9-3A8D-4640-9C74-DA20AF76ED9C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ursing Care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57200" y="1828800"/>
          <a:ext cx="8305920" cy="4267080"/>
        </p:xfrm>
        <a:graphic>
          <a:graphicData uri="http://schemas.openxmlformats.org/drawingml/2006/table">
            <a:tbl>
              <a:tblPr/>
              <a:tblGrid>
                <a:gridCol w="2230560"/>
                <a:gridCol w="6075360"/>
              </a:tblGrid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egistered Nurse (RN)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N designation once state boards are passed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4" marL="18288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0a0"/>
                        </a:buClr>
                        <a:buSzPct val="50000"/>
                        <a:buFont typeface="Wingdings" charset="2"/>
                        <a:buChar char="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sponsible for planning, providing, and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upervising bedside care of patient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4" marL="18288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0a0"/>
                        </a:buClr>
                        <a:buSzPct val="50000"/>
                        <a:buFont typeface="Wingdings" charset="2"/>
                        <a:buChar char="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 settings includ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80408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Hospitals, nursing homes, and physicians’ offic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80408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ublic health agencies and government agenc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80408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ducational setting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F64854CD-9B15-488B-A86D-55F43D1CC811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ursing Careers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57200" y="1828800"/>
          <a:ext cx="8381880" cy="430200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Nurse Practitioner (NP)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n RN that functions in an expanded rol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quires a minimum of a Master’s degre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nd 4 to 12 months of formal training or an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pprenticeship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uties include: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hysical examina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Treating common illnesses and injur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Many states allow NPs to write prescrip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atient education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7BE904C4-D5EE-4E72-8D9A-256DE01A460F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Text Box 1031"/>
          <p:cNvSpPr/>
          <p:nvPr/>
        </p:nvSpPr>
        <p:spPr>
          <a:xfrm>
            <a:off x="441360" y="385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2" name="Text Box 1032"/>
          <p:cNvSpPr/>
          <p:nvPr/>
        </p:nvSpPr>
        <p:spPr>
          <a:xfrm>
            <a:off x="441360" y="18954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3" name="Text Box 1033"/>
          <p:cNvSpPr/>
          <p:nvPr/>
        </p:nvSpPr>
        <p:spPr>
          <a:xfrm>
            <a:off x="457200" y="198108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f you had to choose other health-care team members to plan the care for a 68-year-old patient recently diagnosed with a stroke, who has a history of seizure disorders, which would you choose, and why?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4" name="Text Box 1036"/>
          <p:cNvSpPr/>
          <p:nvPr/>
        </p:nvSpPr>
        <p:spPr>
          <a:xfrm>
            <a:off x="609480" y="3633840"/>
            <a:ext cx="8229600" cy="2716200"/>
          </a:xfrm>
          <a:prstGeom prst="rect">
            <a:avLst/>
          </a:prstGeom>
          <a:solidFill>
            <a:srgbClr val="fff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33"/>
                </a:solidFill>
                <a:uFillTx/>
                <a:latin typeface="Times New Roman"/>
              </a:rPr>
              <a:t>ANSWER:</a:t>
            </a: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 The health-care team members that might participate in this patient’s care are: 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Physical therapist for decreased mobility due to stroke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Pharmacist to review medications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Nutritionist for dietary evaluation and possible modifications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EEG technician to perform EEG for brain electrical activity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Nursing staff (RN, LPN, CNA)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Other health-care professionals will also be part of the team!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5" name="AutoShape 1037"/>
          <p:cNvSpPr/>
          <p:nvPr/>
        </p:nvSpPr>
        <p:spPr>
          <a:xfrm>
            <a:off x="6705720" y="4572000"/>
            <a:ext cx="1676160" cy="762120"/>
          </a:xfrm>
          <a:prstGeom prst="flowChartOnlineStorage">
            <a:avLst/>
          </a:prstGeom>
          <a:solidFill>
            <a:srgbClr val="af5fa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Good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Job!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66" name="Picture 1040" descr=""/>
          <p:cNvPicPr/>
          <p:nvPr/>
        </p:nvPicPr>
        <p:blipFill>
          <a:blip r:embed="rId1"/>
          <a:stretch/>
        </p:blipFill>
        <p:spPr>
          <a:xfrm>
            <a:off x="7543800" y="8380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42" descr="j0299125"/>
          <p:cNvPicPr/>
          <p:nvPr/>
        </p:nvPicPr>
        <p:blipFill>
          <a:blip r:embed="rId2"/>
          <a:stretch/>
        </p:blipFill>
        <p:spPr>
          <a:xfrm>
            <a:off x="7467480" y="609480"/>
            <a:ext cx="882720" cy="1447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576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C7CEEB3A-0062-4E28-90BB-8D4A24C14D52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for M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Require additional education or training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any options available – check: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ocal and medical college librar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ate employment agenc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Health career opportunities in local newspape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irectly with companies where you might seek employmen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2E27ABC8-6FA6-45D2-993A-7B1A45982E95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57200" y="1828800"/>
          <a:ext cx="8381880" cy="439596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4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Anesthetist’s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vides anesthetic care under direct supervision of th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anesthet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 and high-technology surgical center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in evaluating patient mental and physical statu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4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Certified Laboratory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lab procedures such as bacteriology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hemistry, hematology, parasitology, serology,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urinalysi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upervised by medical technologists or hospita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athologis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labs, clinics, physicians’ offices,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C47FD40F-152C-40CC-B853-C8FD59E2C2B8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tie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pproximately 22 major medical specialties exis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pecialized medical care is driven by advances in diagnosing and treating various diseas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graphicFrame>
        <p:nvGraphicFramePr>
          <p:cNvPr id="116" name="Object 12"/>
          <p:cNvGraphicFramePr/>
          <p:nvPr/>
        </p:nvGraphicFramePr>
        <p:xfrm>
          <a:off x="5029200" y="4038480"/>
          <a:ext cx="3090960" cy="20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4038480"/>
                    <a:ext cx="3090960" cy="20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8" name="Group 44"/>
          <p:cNvGrpSpPr/>
          <p:nvPr/>
        </p:nvGrpSpPr>
        <p:grpSpPr>
          <a:xfrm>
            <a:off x="4267080" y="1828800"/>
            <a:ext cx="4572000" cy="3200400"/>
            <a:chOff x="4267080" y="1828800"/>
            <a:chExt cx="4572000" cy="3200400"/>
          </a:xfrm>
        </p:grpSpPr>
        <p:graphicFrame>
          <p:nvGraphicFramePr>
            <p:cNvPr id="119" name="Object 10"/>
            <p:cNvGraphicFramePr/>
            <p:nvPr/>
          </p:nvGraphicFramePr>
          <p:xfrm>
            <a:off x="5562720" y="1828800"/>
            <a:ext cx="1946160" cy="207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0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62720" y="1828800"/>
                      <a:ext cx="1946160" cy="207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1" name="AutoShape 32"/>
            <p:cNvSpPr/>
            <p:nvPr/>
          </p:nvSpPr>
          <p:spPr>
            <a:xfrm>
              <a:off x="5410080" y="1981080"/>
              <a:ext cx="2210040" cy="914400"/>
            </a:xfrm>
            <a:prstGeom prst="flowChartAlternateProcess">
              <a:avLst/>
            </a:prstGeom>
            <a:solidFill>
              <a:srgbClr val="fff0a0"/>
            </a:solidFill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Cardiology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22" name="Line 34"/>
            <p:cNvSpPr/>
            <p:nvPr/>
          </p:nvSpPr>
          <p:spPr>
            <a:xfrm>
              <a:off x="6553080" y="2895480"/>
              <a:ext cx="0" cy="533520"/>
            </a:xfrm>
            <a:prstGeom prst="line">
              <a:avLst/>
            </a:prstGeom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23" name="Line 35"/>
            <p:cNvSpPr/>
            <p:nvPr/>
          </p:nvSpPr>
          <p:spPr>
            <a:xfrm>
              <a:off x="5257800" y="3429000"/>
              <a:ext cx="2666880" cy="0"/>
            </a:xfrm>
            <a:prstGeom prst="line">
              <a:avLst/>
            </a:prstGeom>
            <a:ln w="381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24" name="Line 36"/>
            <p:cNvSpPr/>
            <p:nvPr/>
          </p:nvSpPr>
          <p:spPr>
            <a:xfrm>
              <a:off x="5257800" y="3429000"/>
              <a:ext cx="0" cy="609480"/>
            </a:xfrm>
            <a:prstGeom prst="line">
              <a:avLst/>
            </a:prstGeom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25" name="Line 37"/>
            <p:cNvSpPr/>
            <p:nvPr/>
          </p:nvSpPr>
          <p:spPr>
            <a:xfrm>
              <a:off x="7924680" y="3429000"/>
              <a:ext cx="0" cy="609480"/>
            </a:xfrm>
            <a:prstGeom prst="line">
              <a:avLst/>
            </a:prstGeom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26" name="AutoShape 38"/>
            <p:cNvSpPr/>
            <p:nvPr/>
          </p:nvSpPr>
          <p:spPr>
            <a:xfrm>
              <a:off x="4267080" y="4038480"/>
              <a:ext cx="1905120" cy="990720"/>
            </a:xfrm>
            <a:prstGeom prst="roundRect">
              <a:avLst>
                <a:gd name="adj" fmla="val 16667"/>
              </a:avLst>
            </a:prstGeom>
            <a:solidFill>
              <a:srgbClr val="fff0a0"/>
            </a:solidFill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Pediatrics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27" name="AutoShape 39"/>
            <p:cNvSpPr/>
            <p:nvPr/>
          </p:nvSpPr>
          <p:spPr>
            <a:xfrm>
              <a:off x="6858000" y="4038480"/>
              <a:ext cx="1981080" cy="990720"/>
            </a:xfrm>
            <a:prstGeom prst="roundRect">
              <a:avLst>
                <a:gd name="adj" fmla="val 16667"/>
              </a:avLst>
            </a:prstGeom>
            <a:solidFill>
              <a:srgbClr val="fff0a0"/>
            </a:solidFill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Adult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128" name="Text Box 43"/>
          <p:cNvSpPr/>
          <p:nvPr/>
        </p:nvSpPr>
        <p:spPr>
          <a:xfrm>
            <a:off x="4338720" y="5334120"/>
            <a:ext cx="4444920" cy="7038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Times New Roman"/>
              </a:rPr>
              <a:t>Note</a:t>
            </a: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: Cardiology = </a:t>
            </a:r>
            <a:r>
              <a:rPr b="1" i="1" lang="en-US" sz="2000" spc="-1" strike="noStrike">
                <a:solidFill>
                  <a:srgbClr val="000033"/>
                </a:solidFill>
                <a:latin typeface="Times New Roman"/>
              </a:rPr>
              <a:t>specialty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Pediatrics and Adult = </a:t>
            </a:r>
            <a:r>
              <a:rPr b="1" i="1" lang="en-US" sz="2000" spc="-1" strike="noStrike">
                <a:solidFill>
                  <a:srgbClr val="000033"/>
                </a:solidFill>
                <a:latin typeface="Times New Roman"/>
              </a:rPr>
              <a:t>subspecialty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D76C30D3-B387-41B6-A67D-C1A9CC14FD43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457200" y="1828800"/>
          <a:ext cx="8381880" cy="424800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80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Dental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an practice without formal education or training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both administrative and lab func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private practice, clinics, schools, local health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gencies, and for insurance compan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11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mergency Medical Technician / Paramedic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ferred to as an EM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ined to triage patients and follow instructions from a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ysician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for an ambulance service or in fire department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ospital emergency room, or private industr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7" name="Picture 38" descr="j0196374"/>
          <p:cNvPicPr/>
          <p:nvPr/>
        </p:nvPicPr>
        <p:blipFill>
          <a:blip r:embed="rId1"/>
          <a:stretch/>
        </p:blipFill>
        <p:spPr>
          <a:xfrm>
            <a:off x="990720" y="2819520"/>
            <a:ext cx="934920" cy="981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88615D3B-C3B7-437D-85D9-78FD7995C390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457200" y="1828800"/>
          <a:ext cx="8305920" cy="4305240"/>
        </p:xfrm>
        <a:graphic>
          <a:graphicData uri="http://schemas.openxmlformats.org/drawingml/2006/table">
            <a:tbl>
              <a:tblPr/>
              <a:tblGrid>
                <a:gridCol w="2230560"/>
                <a:gridCol w="6075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Occupational Therapist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upervised by occupational therapis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eaches fine motor skills, occupations, and the arts to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atients with mental and physical disabilit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arns a 2-year degre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3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Ophthalmic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ophthalmologis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simple vision testing and other procedur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hree ophthalmic career levels: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echnologist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echnician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,Assistant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1" name="Picture 38" descr="j0149494"/>
          <p:cNvPicPr/>
          <p:nvPr/>
        </p:nvPicPr>
        <p:blipFill>
          <a:blip r:embed="rId1"/>
          <a:stretch/>
        </p:blipFill>
        <p:spPr>
          <a:xfrm>
            <a:off x="838080" y="4724280"/>
            <a:ext cx="1219320" cy="1117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40476451-96AC-4B4A-96C3-DA0FB0236335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457200" y="1828800"/>
          <a:ext cx="8305920" cy="4352760"/>
        </p:xfrm>
        <a:graphic>
          <a:graphicData uri="http://schemas.openxmlformats.org/drawingml/2006/table">
            <a:tbl>
              <a:tblPr/>
              <a:tblGrid>
                <a:gridCol w="2538360"/>
                <a:gridCol w="5767560"/>
              </a:tblGrid>
              <a:tr h="76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athologist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upervised by a patholog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ome work with forensic and/or anatomic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athologis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laboratory duties and some administrative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func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8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ediatric Medical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the pediatrician with administrative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linical dutie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private practice, hospitals, and clinic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5" name="Picture 48" descr="j0358995"/>
          <p:cNvPicPr/>
          <p:nvPr/>
        </p:nvPicPr>
        <p:blipFill>
          <a:blip r:embed="rId1"/>
          <a:stretch/>
        </p:blipFill>
        <p:spPr>
          <a:xfrm>
            <a:off x="1676520" y="4876920"/>
            <a:ext cx="974520" cy="1066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2F3ECC6B-0369-4D66-9EEA-37D57BD9D0DB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57200" y="1828800"/>
          <a:ext cx="8381880" cy="4262400"/>
        </p:xfrm>
        <a:graphic>
          <a:graphicData uri="http://schemas.openxmlformats.org/drawingml/2006/table">
            <a:tbl>
              <a:tblPr/>
              <a:tblGrid>
                <a:gridCol w="2017800"/>
                <a:gridCol w="636408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7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armacy Techn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routine tasks related to record keeping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reparing and dispensing medica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pharmaceutical firms, and wholesal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armac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9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ysical Therapy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directly under the physical therap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tests and treatment procedur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Observes and documents patient responses to therap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rehabilitation centers, nursing home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9" name="Picture 43" descr="pe02717_"/>
          <p:cNvPicPr/>
          <p:nvPr/>
        </p:nvPicPr>
        <p:blipFill>
          <a:blip r:embed="rId1"/>
          <a:stretch/>
        </p:blipFill>
        <p:spPr>
          <a:xfrm>
            <a:off x="838080" y="3200400"/>
            <a:ext cx="1332000" cy="909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E4DEFE4E-FD75-41DC-A8DD-0494CDA30099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457200" y="1828800"/>
          <a:ext cx="8305920" cy="4417920"/>
        </p:xfrm>
        <a:graphic>
          <a:graphicData uri="http://schemas.openxmlformats.org/drawingml/2006/table">
            <a:tbl>
              <a:tblPr/>
              <a:tblGrid>
                <a:gridCol w="2230560"/>
                <a:gridCol w="6075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adiation Therapy Tech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the radiolog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intains radiation treatment equipmen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letes a 2-or 4-year education program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labs, clinics, and physicians’ offic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4" marL="18288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0a0"/>
                        </a:buClr>
                        <a:buSzPct val="50000"/>
                        <a:buFont typeface="Wingdings" charset="2"/>
                        <a:buChar char="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05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espiratory Therapy Techn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under supervision of physician and respiratory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herap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artificial ventilation and maintains respiratory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equipmen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physician offices, nursing home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E5FA9DC5-E4E8-42D6-A3DD-6D2DC0DE70E3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57200" y="1828800"/>
          <a:ext cx="8381880" cy="433872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8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Speech / Language Path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valuates, diagnoses, and  counsels patients with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ommunication problems like stuttering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Usually has a Master’s Degre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schools, hospitals, research settings, o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rivate practic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90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Surgical Techn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letes a 2-year or 4-year degre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vides patient services under direct supervision of a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urgeon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diagnostic and therapeutic procedur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primarily in hospital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6" name="Picture 37" descr="j0296260"/>
          <p:cNvPicPr/>
          <p:nvPr/>
        </p:nvPicPr>
        <p:blipFill>
          <a:blip r:embed="rId1"/>
          <a:stretch/>
        </p:blipFill>
        <p:spPr>
          <a:xfrm>
            <a:off x="1143000" y="5105520"/>
            <a:ext cx="981000" cy="987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79330507-BDED-434B-8258-9E517068DAC7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fessional Associa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Involvement in issues and activities relevant to your profession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Opportunities for continuing</a:t>
            </a:r>
            <a:br>
              <a:rPr sz="3200"/>
            </a:b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education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300" name="Picture 4" descr="j0301252"/>
          <p:cNvPicPr/>
          <p:nvPr/>
        </p:nvPicPr>
        <p:blipFill>
          <a:blip r:embed="rId1"/>
          <a:stretch/>
        </p:blipFill>
        <p:spPr>
          <a:xfrm>
            <a:off x="6019920" y="3505320"/>
            <a:ext cx="2516040" cy="2151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022F00E5-7A6B-49C3-85EE-FA05A16E31D1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fessional Associations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705240" y="2133720"/>
            <a:ext cx="7866360" cy="520560"/>
          </a:xfrm>
          <a:prstGeom prst="rect">
            <a:avLst/>
          </a:prstGeom>
          <a:noFill/>
          <a:ln w="38160">
            <a:solidFill>
              <a:srgbClr val="5f0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Association of Medical Assistants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AMA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325440" y="2971800"/>
            <a:ext cx="8439120" cy="520560"/>
          </a:xfrm>
          <a:prstGeom prst="rect">
            <a:avLst/>
          </a:prstGeom>
          <a:noFill/>
          <a:ln w="38160">
            <a:solidFill>
              <a:srgbClr val="8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Association for Medical Transcription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AMT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2535480" y="3886200"/>
            <a:ext cx="5784480" cy="520560"/>
          </a:xfrm>
          <a:prstGeom prst="rect">
            <a:avLst/>
          </a:prstGeom>
          <a:noFill/>
          <a:ln w="38160">
            <a:solidFill>
              <a:srgbClr val="5f0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College of Physicians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CP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629640" y="4724280"/>
            <a:ext cx="5716080" cy="520560"/>
          </a:xfrm>
          <a:prstGeom prst="rect">
            <a:avLst/>
          </a:prstGeom>
          <a:noFill/>
          <a:ln w="38160">
            <a:solidFill>
              <a:srgbClr val="8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Hospital Association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HA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1773360" y="5638680"/>
            <a:ext cx="5712840" cy="520560"/>
          </a:xfrm>
          <a:prstGeom prst="rect">
            <a:avLst/>
          </a:prstGeom>
          <a:noFill/>
          <a:ln w="38160">
            <a:solidFill>
              <a:srgbClr val="5f0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Medical Association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MA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9DC362E9-0F17-40C0-9257-149D1D6482DA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fessional Associations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478080" y="2133720"/>
            <a:ext cx="5871240" cy="520560"/>
          </a:xfrm>
          <a:prstGeom prst="rect">
            <a:avLst/>
          </a:prstGeom>
          <a:noFill/>
          <a:ln w="38160">
            <a:solidFill>
              <a:srgbClr val="5f0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Medical Technologist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MT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1850040" y="3124080"/>
            <a:ext cx="6837480" cy="520560"/>
          </a:xfrm>
          <a:prstGeom prst="rect">
            <a:avLst/>
          </a:prstGeom>
          <a:noFill/>
          <a:ln w="38160">
            <a:solidFill>
              <a:srgbClr val="8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Pharmaceutical Association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PhA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399960" y="4114800"/>
            <a:ext cx="7377120" cy="520560"/>
          </a:xfrm>
          <a:prstGeom prst="rect">
            <a:avLst/>
          </a:prstGeom>
          <a:noFill/>
          <a:ln w="38160">
            <a:solidFill>
              <a:srgbClr val="5f0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Society of Clinical Pathologists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SCP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934560" y="5181480"/>
            <a:ext cx="7849440" cy="520560"/>
          </a:xfrm>
          <a:prstGeom prst="rect">
            <a:avLst/>
          </a:prstGeom>
          <a:noFill/>
          <a:ln w="38160">
            <a:solidFill>
              <a:srgbClr val="8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Society of Phlebotomy Technicians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SPI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614751EC-FA14-4102-97A7-1523264AE165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JCAH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Non-profit organization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Goal is to maintain and elevate the standards of health-care delivery by health-care organization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valuation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ccredit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Accreditation is significant factor in gaining reimbursement from Medicare and managed care organization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717DCA95-2F69-4D82-B99B-F236212CB99A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hysician Education and Licensu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1" name="Group 25"/>
          <p:cNvGrpSpPr/>
          <p:nvPr/>
        </p:nvGrpSpPr>
        <p:grpSpPr>
          <a:xfrm>
            <a:off x="2666880" y="1981080"/>
            <a:ext cx="3809880" cy="990360"/>
            <a:chOff x="2666880" y="1981080"/>
            <a:chExt cx="3809880" cy="990360"/>
          </a:xfrm>
        </p:grpSpPr>
        <p:sp>
          <p:nvSpPr>
            <p:cNvPr id="132" name="Rectangle 13"/>
            <p:cNvSpPr/>
            <p:nvPr/>
          </p:nvSpPr>
          <p:spPr>
            <a:xfrm>
              <a:off x="2666880" y="1981080"/>
              <a:ext cx="3809880" cy="685800"/>
            </a:xfrm>
            <a:prstGeom prst="rect">
              <a:avLst/>
            </a:prstGeom>
            <a:solidFill>
              <a:srgbClr val="fff0a0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Bachelor’s Degree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>
              <a:off x="4495680" y="2666880"/>
              <a:ext cx="0" cy="304560"/>
            </a:xfrm>
            <a:prstGeom prst="line">
              <a:avLst/>
            </a:prstGeom>
            <a:ln w="936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134" name="Group 26"/>
          <p:cNvGrpSpPr/>
          <p:nvPr/>
        </p:nvGrpSpPr>
        <p:grpSpPr>
          <a:xfrm>
            <a:off x="1371600" y="2971800"/>
            <a:ext cx="6705720" cy="1219320"/>
            <a:chOff x="1371600" y="2971800"/>
            <a:chExt cx="6705720" cy="1219320"/>
          </a:xfrm>
        </p:grpSpPr>
        <p:sp>
          <p:nvSpPr>
            <p:cNvPr id="135" name="Rectangle 16"/>
            <p:cNvSpPr/>
            <p:nvPr/>
          </p:nvSpPr>
          <p:spPr>
            <a:xfrm>
              <a:off x="1371600" y="2971800"/>
              <a:ext cx="6705720" cy="838080"/>
            </a:xfrm>
            <a:prstGeom prst="rect">
              <a:avLst/>
            </a:prstGeom>
            <a:solidFill>
              <a:srgbClr val="fff0a0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Graduate from  an Accredited Medical School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>
              <a:off x="4496040" y="3809880"/>
              <a:ext cx="0" cy="381240"/>
            </a:xfrm>
            <a:prstGeom prst="line">
              <a:avLst/>
            </a:prstGeom>
            <a:ln w="1908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137" name="Group 27"/>
          <p:cNvGrpSpPr/>
          <p:nvPr/>
        </p:nvGrpSpPr>
        <p:grpSpPr>
          <a:xfrm>
            <a:off x="1828800" y="4191120"/>
            <a:ext cx="5715000" cy="1143000"/>
            <a:chOff x="1828800" y="4191120"/>
            <a:chExt cx="5715000" cy="1143000"/>
          </a:xfrm>
        </p:grpSpPr>
        <p:sp>
          <p:nvSpPr>
            <p:cNvPr id="138" name="Rectangle 19"/>
            <p:cNvSpPr/>
            <p:nvPr/>
          </p:nvSpPr>
          <p:spPr>
            <a:xfrm>
              <a:off x="1828800" y="4191120"/>
              <a:ext cx="5715000" cy="762120"/>
            </a:xfrm>
            <a:prstGeom prst="rect">
              <a:avLst/>
            </a:prstGeom>
            <a:solidFill>
              <a:srgbClr val="fff0a0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Pass the U.S. Medical Licensing Exam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39" name="Line 22"/>
            <p:cNvSpPr/>
            <p:nvPr/>
          </p:nvSpPr>
          <p:spPr>
            <a:xfrm>
              <a:off x="4496040" y="4953240"/>
              <a:ext cx="0" cy="380880"/>
            </a:xfrm>
            <a:prstGeom prst="line">
              <a:avLst/>
            </a:prstGeom>
            <a:ln w="1908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140" name="Rectangle 23"/>
          <p:cNvSpPr/>
          <p:nvPr/>
        </p:nvSpPr>
        <p:spPr>
          <a:xfrm>
            <a:off x="2133720" y="5334120"/>
            <a:ext cx="5181480" cy="838080"/>
          </a:xfrm>
          <a:prstGeom prst="rect">
            <a:avLst/>
          </a:prstGeom>
          <a:solidFill>
            <a:srgbClr val="fff0a0"/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mplete 2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6 Years of Residenc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C7447BAB-A49D-4EC2-8F22-595D4FD7B654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Council of Ethical and Judicial Affairs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EJA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534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evelops policy for the AMA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Addresses timely ethical issue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aintains and updates </a:t>
            </a:r>
            <a:br>
              <a:rPr sz="3200"/>
            </a:b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e AMA Code of Ethic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mprehensive ethics guide for physician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320" name="Picture 5" descr="bs00678_"/>
          <p:cNvPicPr/>
          <p:nvPr/>
        </p:nvPicPr>
        <p:blipFill>
          <a:blip r:embed="rId1"/>
          <a:stretch/>
        </p:blipFill>
        <p:spPr>
          <a:xfrm>
            <a:off x="5791320" y="2590920"/>
            <a:ext cx="2895480" cy="228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FEB1A5FE-867A-4298-844B-15C5ABAB9732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678204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457200" y="2092320"/>
            <a:ext cx="83059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ich of the professional organizations listed below are primarily for the role(s) of medical assistants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2387520" y="3276720"/>
            <a:ext cx="457200" cy="38088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5" name="Rectangle 9"/>
          <p:cNvSpPr/>
          <p:nvPr/>
        </p:nvSpPr>
        <p:spPr>
          <a:xfrm>
            <a:off x="2387520" y="3848040"/>
            <a:ext cx="457200" cy="38124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6" name="Rectangle 10"/>
          <p:cNvSpPr/>
          <p:nvPr/>
        </p:nvSpPr>
        <p:spPr>
          <a:xfrm>
            <a:off x="2387520" y="4419720"/>
            <a:ext cx="457200" cy="38088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7" name="Rectangle 11"/>
          <p:cNvSpPr/>
          <p:nvPr/>
        </p:nvSpPr>
        <p:spPr>
          <a:xfrm>
            <a:off x="2387520" y="4991040"/>
            <a:ext cx="457200" cy="38124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8" name="Text Box 15"/>
          <p:cNvSpPr/>
          <p:nvPr/>
        </p:nvSpPr>
        <p:spPr>
          <a:xfrm>
            <a:off x="3000240" y="32767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MA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9" name="Text Box 16"/>
          <p:cNvSpPr/>
          <p:nvPr/>
        </p:nvSpPr>
        <p:spPr>
          <a:xfrm>
            <a:off x="3000960" y="388620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AMA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0" name="Text Box 17"/>
          <p:cNvSpPr/>
          <p:nvPr/>
        </p:nvSpPr>
        <p:spPr>
          <a:xfrm>
            <a:off x="3000600" y="441972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HA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1" name="Text Box 18"/>
          <p:cNvSpPr/>
          <p:nvPr/>
        </p:nvSpPr>
        <p:spPr>
          <a:xfrm>
            <a:off x="2999520" y="49528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M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2" name="Text Box 19"/>
          <p:cNvSpPr/>
          <p:nvPr/>
        </p:nvSpPr>
        <p:spPr>
          <a:xfrm>
            <a:off x="5791320" y="3276720"/>
            <a:ext cx="9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SCP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3" name="Text Box 20"/>
          <p:cNvSpPr/>
          <p:nvPr/>
        </p:nvSpPr>
        <p:spPr>
          <a:xfrm>
            <a:off x="5794200" y="380988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AM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4" name="Text Box 21"/>
          <p:cNvSpPr/>
          <p:nvPr/>
        </p:nvSpPr>
        <p:spPr>
          <a:xfrm>
            <a:off x="5793840" y="441972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CP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5791320" y="4952880"/>
            <a:ext cx="9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PhA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6" name="Rectangle 23"/>
          <p:cNvSpPr/>
          <p:nvPr/>
        </p:nvSpPr>
        <p:spPr>
          <a:xfrm>
            <a:off x="5181480" y="3276720"/>
            <a:ext cx="457200" cy="38088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7" name="Rectangle 24"/>
          <p:cNvSpPr/>
          <p:nvPr/>
        </p:nvSpPr>
        <p:spPr>
          <a:xfrm>
            <a:off x="5181480" y="3848040"/>
            <a:ext cx="457200" cy="38124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8" name="Rectangle 25"/>
          <p:cNvSpPr/>
          <p:nvPr/>
        </p:nvSpPr>
        <p:spPr>
          <a:xfrm>
            <a:off x="5181480" y="4419720"/>
            <a:ext cx="457200" cy="38088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9" name="Rectangle 26"/>
          <p:cNvSpPr/>
          <p:nvPr/>
        </p:nvSpPr>
        <p:spPr>
          <a:xfrm>
            <a:off x="5181480" y="4991040"/>
            <a:ext cx="457200" cy="38124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340" name="Picture 32" descr="j0299125"/>
          <p:cNvPicPr/>
          <p:nvPr/>
        </p:nvPicPr>
        <p:blipFill>
          <a:blip r:embed="rId1"/>
          <a:stretch/>
        </p:blipFill>
        <p:spPr>
          <a:xfrm>
            <a:off x="7467480" y="609480"/>
            <a:ext cx="882720" cy="1447920"/>
          </a:xfrm>
          <a:prstGeom prst="rect">
            <a:avLst/>
          </a:prstGeom>
          <a:ln w="0">
            <a:noFill/>
          </a:ln>
        </p:spPr>
      </p:pic>
      <p:sp>
        <p:nvSpPr>
          <p:cNvPr id="341" name="AutoShape 33"/>
          <p:cNvSpPr/>
          <p:nvPr/>
        </p:nvSpPr>
        <p:spPr>
          <a:xfrm>
            <a:off x="7010280" y="4876920"/>
            <a:ext cx="1752840" cy="1371600"/>
          </a:xfrm>
          <a:prstGeom prst="irregularSeal1">
            <a:avLst/>
          </a:prstGeom>
          <a:solidFill>
            <a:srgbClr val="af5fa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42" name="Text Box 34"/>
          <p:cNvSpPr/>
          <p:nvPr/>
        </p:nvSpPr>
        <p:spPr>
          <a:xfrm>
            <a:off x="7315200" y="518148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Right Answer!</a:t>
            </a:r>
            <a:endParaRPr b="0" lang="en-US" sz="16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343" name="Picture 37" descr=""/>
          <p:cNvPicPr/>
          <p:nvPr/>
        </p:nvPicPr>
        <p:blipFill>
          <a:blip r:embed="rId2"/>
          <a:stretch/>
        </p:blipFill>
        <p:spPr>
          <a:xfrm>
            <a:off x="8381880" y="601992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344" name="Group 39"/>
          <p:cNvGrpSpPr/>
          <p:nvPr/>
        </p:nvGrpSpPr>
        <p:grpSpPr>
          <a:xfrm>
            <a:off x="609480" y="3581280"/>
            <a:ext cx="4952880" cy="1754280"/>
            <a:chOff x="609480" y="3581280"/>
            <a:chExt cx="4952880" cy="1754280"/>
          </a:xfrm>
        </p:grpSpPr>
        <p:grpSp>
          <p:nvGrpSpPr>
            <p:cNvPr id="345" name="Group 27"/>
            <p:cNvGrpSpPr/>
            <p:nvPr/>
          </p:nvGrpSpPr>
          <p:grpSpPr>
            <a:xfrm>
              <a:off x="2514240" y="3672000"/>
              <a:ext cx="3048120" cy="1663560"/>
              <a:chOff x="2514240" y="3672000"/>
              <a:chExt cx="3048120" cy="1663560"/>
            </a:xfrm>
          </p:grpSpPr>
          <p:sp>
            <p:nvSpPr>
              <p:cNvPr id="346" name="Text Box 28"/>
              <p:cNvSpPr/>
              <p:nvPr/>
            </p:nvSpPr>
            <p:spPr>
              <a:xfrm>
                <a:off x="2514240" y="3747960"/>
                <a:ext cx="285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33"/>
                  </a:solidFill>
                  <a:latin typeface="Times New Roman"/>
                </a:endParaRPr>
              </a:p>
            </p:txBody>
          </p:sp>
          <p:sp>
            <p:nvSpPr>
              <p:cNvPr id="347" name="Text Box 29"/>
              <p:cNvSpPr/>
              <p:nvPr/>
            </p:nvSpPr>
            <p:spPr>
              <a:xfrm>
                <a:off x="2514240" y="4815000"/>
                <a:ext cx="285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33"/>
                  </a:solidFill>
                  <a:latin typeface="Times New Roman"/>
                </a:endParaRPr>
              </a:p>
            </p:txBody>
          </p:sp>
          <p:sp>
            <p:nvSpPr>
              <p:cNvPr id="348" name="Text Box 30"/>
              <p:cNvSpPr/>
              <p:nvPr/>
            </p:nvSpPr>
            <p:spPr>
              <a:xfrm>
                <a:off x="5277240" y="3672000"/>
                <a:ext cx="285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33"/>
                  </a:solidFill>
                  <a:latin typeface="Times New Roman"/>
                </a:endParaRPr>
              </a:p>
            </p:txBody>
          </p:sp>
        </p:grpSp>
        <p:sp>
          <p:nvSpPr>
            <p:cNvPr id="349" name="Text Box 38"/>
            <p:cNvSpPr/>
            <p:nvPr/>
          </p:nvSpPr>
          <p:spPr>
            <a:xfrm>
              <a:off x="609480" y="3581280"/>
              <a:ext cx="1447560" cy="398880"/>
            </a:xfrm>
            <a:prstGeom prst="rect">
              <a:avLst/>
            </a:prstGeom>
            <a:solidFill>
              <a:srgbClr val="fff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33"/>
                  </a:solidFill>
                  <a:uFillTx/>
                  <a:latin typeface="Times New Roman"/>
                </a:rPr>
                <a:t>ANSWER: </a:t>
              </a:r>
              <a:endParaRPr b="0" lang="en-US" sz="20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1043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8C5AA3DD-191D-4ED9-B42F-7BF911BF3979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areer options for medical assistant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Offices of specialists and subspecialist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pecialty career option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Professional organization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formation about issues and activitie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edical assisting fiel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pecialty or subspecialty of employer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enefits to membe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8089528D-04E5-428D-A2BE-28A5DD745CCA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5" name="Picture 8" descr="bs00678_"/>
          <p:cNvPicPr/>
          <p:nvPr/>
        </p:nvPicPr>
        <p:blipFill>
          <a:blip r:embed="rId1"/>
          <a:stretch/>
        </p:blipFill>
        <p:spPr>
          <a:xfrm>
            <a:off x="990720" y="4191120"/>
            <a:ext cx="2743200" cy="1938240"/>
          </a:xfrm>
          <a:prstGeom prst="rect">
            <a:avLst/>
          </a:prstGeom>
          <a:ln w="0">
            <a:noFill/>
          </a:ln>
        </p:spPr>
      </p:pic>
      <p:sp>
        <p:nvSpPr>
          <p:cNvPr id="356" name="WordArt 9"/>
          <p:cNvSpPr txBox="1"/>
          <p:nvPr/>
        </p:nvSpPr>
        <p:spPr>
          <a:xfrm>
            <a:off x="2209680" y="1066680"/>
            <a:ext cx="4343400" cy="7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804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nd of Chapter 2</a:t>
            </a:r>
            <a:endParaRPr b="0" lang="en-US" sz="4400" spc="1" strike="noStrike">
              <a:ln w="0">
                <a:noFill/>
              </a:ln>
              <a:solidFill>
                <a:srgbClr val="804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685800" y="2590920"/>
            <a:ext cx="7848720" cy="21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ey go the extra mile. They give their hearts, and lead with great minds</a:t>
            </a:r>
            <a:r>
              <a:rPr b="0" lang="en-US" sz="4000" spc="-1" strike="noStrike">
                <a:solidFill>
                  <a:srgbClr val="000033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33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—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haron Hudacek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From </a:t>
            </a:r>
            <a:r>
              <a:rPr b="0" i="1" lang="en-US" sz="1600" spc="-1" strike="noStrike">
                <a:solidFill>
                  <a:srgbClr val="000033"/>
                </a:solidFill>
                <a:latin typeface="Times New Roman"/>
              </a:rPr>
              <a:t>A Daybook for Nurses: Making a Difference Each Day</a:t>
            </a:r>
            <a:endParaRPr b="0" lang="en-US" sz="16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1C95B43E-9C68-4CD9-A05C-DBD4D108A194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1828800"/>
          <a:ext cx="8381880" cy="4008600"/>
        </p:xfrm>
        <a:graphic>
          <a:graphicData uri="http://schemas.openxmlformats.org/drawingml/2006/table">
            <a:tbl>
              <a:tblPr/>
              <a:tblGrid>
                <a:gridCol w="2514600"/>
                <a:gridCol w="586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24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Family Practic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edical doctors that treat all conditions and ag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group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lso called general practitioners or primary car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ysicians by insurance compan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fers patients to specialists for specific disease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requiring specialized car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06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ller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people with hypersensitivity to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ubstances such as drugs, chemicals, and elements in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natur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C4EC9A91-2B67-47D7-B367-C08FA3A124DB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1828800"/>
          <a:ext cx="8381880" cy="3860640"/>
        </p:xfrm>
        <a:graphic>
          <a:graphicData uri="http://schemas.openxmlformats.org/drawingml/2006/table">
            <a:tbl>
              <a:tblPr/>
              <a:tblGrid>
                <a:gridCol w="2514600"/>
                <a:gridCol w="58672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nesthesi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dministers medications that alte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ensation and feelings during surger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Bariatric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edical and surgical treatment of obesit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Cardi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of th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eart and blood vessel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Dermat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of the skin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air, and nail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85361FD5-E8D7-400D-83D0-27A0299C1637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1828800"/>
          <a:ext cx="8305920" cy="4089240"/>
        </p:xfrm>
        <a:graphic>
          <a:graphicData uri="http://schemas.openxmlformats.org/drawingml/2006/table">
            <a:tbl>
              <a:tblPr/>
              <a:tblGrid>
                <a:gridCol w="2490840"/>
                <a:gridCol w="581508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Doctor of Osteopathy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Uses eyes and hands to identify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tructural problems and promote natura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ealing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Emergency Medicine Phys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 emergency room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medical crises and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cciden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Endocri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orders of the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endocrine system, which regulates many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body func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08136243-5321-401C-AE8E-04DA664DE44B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828800"/>
          <a:ext cx="8381880" cy="3871800"/>
        </p:xfrm>
        <a:graphic>
          <a:graphicData uri="http://schemas.openxmlformats.org/drawingml/2006/table">
            <a:tbl>
              <a:tblPr/>
              <a:tblGrid>
                <a:gridCol w="2690640"/>
                <a:gridCol w="569124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Gastroenter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orders related to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he stomach, intestines, and other orga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Geront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problems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seases affecting older adult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Gynec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of the femal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reproductive system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Intern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problems related to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internal orga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18:29:56Z</dcterms:created>
  <dc:creator>Kathryn A. Booth RN-BSN, MS, RMA, RPT</dc:creator>
  <dc:description/>
  <dc:language>en-US</dc:language>
  <cp:lastModifiedBy>Staff</cp:lastModifiedBy>
  <dcterms:modified xsi:type="dcterms:W3CDTF">2010-01-07T21:46:03Z</dcterms:modified>
  <cp:revision>144</cp:revision>
  <dc:subject>Medical Assisting 3e</dc:subject>
  <dc:title>Types of Medical Practice</dc:title>
</cp:coreProperties>
</file>