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202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7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749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7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749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81F81-8DF6-44EC-9662-BD0819F6A43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FCB5A-61D0-4537-84C0-B078CDFEEF9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2DCAC-BEA4-4162-AD81-4731C50A435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9CB88-38B7-40D7-8600-0915F95414D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385B3-A109-4A50-8EFB-3B98A6612F9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39029-9859-4E93-B0AF-BF0E3FACE68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94829-23AE-4096-B768-60A3544941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202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8AA7A-6408-4399-8115-ABF8FD66D64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16B24-7F5C-4670-8E64-DAB17B4D6BF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1E3D0-F15D-4A48-B7B0-4BDEE7B421A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202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2B4CC-6F7A-411B-8EC7-6745A6DDADB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847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4749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847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4749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CCF3C-2277-4140-9FEE-2428F610ED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202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62940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 2009 The McGraw-Hill Companies, Inc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9-</a:t>
            </a:r>
            <a:fld id="{ED9BDA29-2053-4E80-AAA6-BD69F40A6DDD}" type="slidenum">
              <a:rPr b="1" lang="en-US" sz="1200" spc="-1" strike="noStrike">
                <a:solidFill>
                  <a:srgbClr val="1c1c1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ldNum" idx="1"/>
          </p:nvPr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Times New Roman"/>
              </a:rPr>
              <a:t>9-</a:t>
            </a:r>
            <a:fld id="{FA763929-F023-4F9E-8D08-90B8C4736AF1}" type="slidenum">
              <a:rPr b="1" lang="en-US" sz="12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662940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 2009 The McGraw-Hill Companies, Inc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file:///tmp/home/.config/libreoffice/4/user/gallery/whoosh.wav" TargetMode="External"/><Relationship Id="rId3" Type="http://schemas.microsoft.com/office/2007/relationships/media" Target="file:///tmp/home/.config/libreoffice/4/user/gallery/whoosh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file:///tmp/home/.config/libreoffice/4/user/gallery/j0214098.wav" TargetMode="External"/><Relationship Id="rId3" Type="http://schemas.microsoft.com/office/2007/relationships/media" Target="file:///tmp/home/.config/libreoffice/4/user/gallery/j0214098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file:///tmp/home/.config/libreoffice/4/user/gallery/SN00255A.wav" TargetMode="External"/><Relationship Id="rId3" Type="http://schemas.microsoft.com/office/2007/relationships/media" Target="file:///tmp/home/.config/libreoffice/4/user/gallery/SN00255A.wav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j0074689.wav" TargetMode="External"/><Relationship Id="rId2" Type="http://schemas.microsoft.com/office/2007/relationships/media" Target="file:///tmp/home/.config/libreoffice/4/user/gallery/j0074689.wav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j0074690.wav" TargetMode="External"/><Relationship Id="rId2" Type="http://schemas.microsoft.com/office/2007/relationships/media" Target="file:///tmp/home/.config/libreoffice/4/user/gallery/j0074690.wav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SN00524A.wav" TargetMode="External"/><Relationship Id="rId2" Type="http://schemas.microsoft.com/office/2007/relationships/media" Target="file:///tmp/home/.config/libreoffice/4/user/gallery/SN00524A.wav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3048120" y="1066680"/>
            <a:ext cx="31240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3333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hapter 9</a:t>
            </a:r>
            <a:endParaRPr b="1" lang="en-US" sz="4000" spc="1" strike="noStrike">
              <a:ln w="0">
                <a:noFill/>
              </a:ln>
              <a:solidFill>
                <a:srgbClr val="3333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266688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2362320"/>
            <a:ext cx="830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66"/>
                </a:solidFill>
                <a:latin typeface="Times New Roman"/>
              </a:rPr>
              <a:t>Maintaining Patient Recor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62120" y="373356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Point® presentation to accompan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edical Assis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E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oth, Whicker, Wyman, Pugh, Thomp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5669F-4621-46D0-99D5-99F835CF7F3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238880" y="685800"/>
            <a:ext cx="792360" cy="12985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33520" y="2286000"/>
            <a:ext cx="83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purpose of documentation in a patient’s medical recor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429000"/>
            <a:ext cx="7467480" cy="11912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Documentation in the medical record provides evidence of appropriate care. If a procedure is not documented, it is considered not d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952880" y="5257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0066"/>
                    </a:gs>
                    <a:gs pos="100000">
                      <a:srgbClr val="3333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Good Job!</a:t>
            </a:r>
            <a:endParaRPr b="0" i="1" lang="en-US" sz="1800" spc="1" strike="noStrike">
              <a:ln w="0">
                <a:noFill/>
              </a:ln>
              <a:gradFill rotWithShape="0">
                <a:gsLst>
                  <a:gs pos="0">
                    <a:srgbClr val="660066"/>
                  </a:gs>
                  <a:gs pos="100000">
                    <a:srgbClr val="3333cc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3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848720" y="541008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" dur="4745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33"/>
                </p:tgtEl>
              </p:cMediaNode>
            </p:audio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Patient Charts:</a:t>
            </a: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Standard Chart Information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5" name="Document"/>
          <p:cNvSpPr/>
          <p:nvPr/>
        </p:nvSpPr>
        <p:spPr>
          <a:xfrm rot="10800000">
            <a:off x="1676160" y="1981080"/>
            <a:ext cx="5127480" cy="4572000"/>
          </a:xfrm>
          <a:prstGeom prst="pi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76520" y="2057400"/>
            <a:ext cx="4948200" cy="44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Patient Registration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tient demographic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, D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surance / financial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mergency conta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5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0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3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6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9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4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9" dur="5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761760" y="1904760"/>
            <a:ext cx="7848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st medical his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4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llnesses, surgeries, allergies, and current med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4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mily medical hi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4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cial history (diet, exercise, smoking, use of drugs and alcoho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4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cupational hi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4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 patient complaint recorded in patient’s own w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Patient Charts:</a:t>
            </a:r>
            <a:br>
              <a:rPr sz="4000"/>
            </a:b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Standard Chart Information (cont.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142640" y="1905120"/>
            <a:ext cx="4800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ysical examination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s of laboratory and other t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rds from other physicians or hospit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 a copy of the patient consent authorizing release of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Patient Charts:</a:t>
            </a: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Standard Chart Information (cont.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638680" y="2362320"/>
            <a:ext cx="2944800" cy="20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295280" y="1905120"/>
            <a:ext cx="7315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tor’s diagnosis and treatment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atment options and final treatment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ctions to pat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cation prescrib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nts or impre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ive reports, follow-up visits, and telephone ca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are part of the continuous patient reco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 calls made to and from the pat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Patient Charts:</a:t>
            </a:r>
            <a:br>
              <a:rPr sz="4000"/>
            </a:b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Standard Chart Information (cont.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914400" y="190512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ed consent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ify that the patient understands procedures, outcomes, and o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ient may withdraw consent at any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spital discharge summary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summarizing the patient’s hospit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ctions for follow-up c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ian sign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71600" y="60948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Patient Charts:</a:t>
            </a: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Standard Chart Information 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8" dur="10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1" dur="10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4" dur="10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7" dur="10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990720" y="1945800"/>
            <a:ext cx="7619760" cy="43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spondence with or about the pat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written correspondence regarding the pati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rd date item was received on the actual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received by f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est an original copy; if not available, make a photocopy of the f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ing and initi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sure to date and place your initials on everything you place in the ch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44600" y="58428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Patient Charts:</a:t>
            </a: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Standard Chart Information 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7238880" y="685800"/>
            <a:ext cx="792360" cy="12985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533520" y="23623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section of the patient record contains information about smoking, alcohol use, and occup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3505320"/>
            <a:ext cx="7925040" cy="825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Information about smoking, alcohol use, and occupation is part of the patient’s past medical his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943600" y="4952880"/>
            <a:ext cx="2743200" cy="74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Times New Roman"/>
              </a:rPr>
              <a:t>Correct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8001000" y="5943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3000"/>
                            </p:stCondLst>
                            <p:childTnLst>
                              <p:par>
                                <p:cTn id="3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9" dur="2268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Initiating and Maintaining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Patient Record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81280" y="2666880"/>
            <a:ext cx="2057400" cy="160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iti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4920" y="2108160"/>
            <a:ext cx="2666520" cy="825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ing med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tory 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4191120"/>
            <a:ext cx="2057400" cy="11912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ing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ient stat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2108160"/>
            <a:ext cx="2212920" cy="825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ing tes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4114800"/>
            <a:ext cx="2362320" cy="11912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ination, preparation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vital sig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600200" y="5486400"/>
            <a:ext cx="62406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aintain patient privacy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uring interview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6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1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8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9" dur="1000" autoRev="1" fill="hold"/>
                                        <p:tgtEl>
                                          <p:spTgt spid="1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46040" y="207972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llow-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cribe notes the doctor dic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 results of laboratory tests and examin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rd all telephone communication with the cli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rd all medical or discharge instructions given to the cl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Initiating and Maintaining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Patient Records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5720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1981080"/>
            <a:ext cx="7924680" cy="37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6360" indent="-576360"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.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ain the purpose of compiling patient medical rec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2449"/>
              </a:spcBef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.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 the contents of patient record for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2449"/>
              </a:spcBef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.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 how to create and maintain a patient reco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2449"/>
              </a:spcBef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.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and describe common approaches to documenting information in medical record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3640" y="512280"/>
            <a:ext cx="716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Learning Outcomes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19320" y="2127240"/>
            <a:ext cx="7772400" cy="17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ddition to transcribing notes the doctor dictates and posting lab results, what are two other follow-up tasks the medical assistant might be required to perform as part of follow-up to a patient appoin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7238880" y="685800"/>
            <a:ext cx="792360" cy="12985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533520" y="4437000"/>
            <a:ext cx="5118120" cy="19227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The medical assistant may have to record telephone calls with the patient, as well as medical or discharge instructions given to the pati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Document"/>
          <p:cNvSpPr/>
          <p:nvPr/>
        </p:nvSpPr>
        <p:spPr>
          <a:xfrm rot="10800000">
            <a:off x="5913360" y="5181480"/>
            <a:ext cx="2438640" cy="1447920"/>
          </a:xfrm>
          <a:prstGeom prst="pi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994360" y="541008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c1c1c"/>
                </a:solidFill>
                <a:latin typeface="Times New Roman"/>
              </a:rPr>
              <a:t>Right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458200" y="5486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3250"/>
                            </p:stCondLst>
                            <p:childTnLst>
                              <p:par>
                                <p:cTn id="3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5" dur="9888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69"/>
                </p:tgtEl>
              </p:cMediaNode>
            </p:audio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5578560" y="1457280"/>
            <a:ext cx="950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The Six Cs of Charting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81080" y="2133720"/>
            <a:ext cx="411480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ent’s word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ity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mpletenes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cisenes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ronological orde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fidentialit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00600" y="21798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not interpret patient’s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80880" y="1981080"/>
            <a:ext cx="190512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</a:t>
            </a:r>
            <a:endParaRPr b="0" lang="en-US" sz="1800" spc="1" strike="noStrike">
              <a:ln w="0">
                <a:noFill/>
              </a:ln>
              <a:solidFill>
                <a:srgbClr val="66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529080" y="2889360"/>
            <a:ext cx="55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cise descriptions / medical termi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680000" y="357336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 out forms complete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343400" y="423216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the point / approved abbrev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715000" y="49165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gal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746600" y="56008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llow HIPAA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7238880" y="685800"/>
            <a:ext cx="792360" cy="12985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45820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533520" y="22860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re the six Cs of chart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" y="3276720"/>
            <a:ext cx="8077320" cy="2128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The six C’s of charting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lient’s word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cisenes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larit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hronological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mpletenes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791320" y="5105520"/>
            <a:ext cx="2514600" cy="131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Great!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26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3500"/>
                            </p:stCondLst>
                            <p:childTnLst>
                              <p:par>
                                <p:cTn id="4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5" dur="11838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82"/>
                </p:tgtEl>
              </p:cMediaNode>
            </p:audio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23640" y="304920"/>
            <a:ext cx="7310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Types of Medical Records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57200" y="2081160"/>
          <a:ext cx="8305920" cy="4408560"/>
        </p:xfrm>
        <a:graphic>
          <a:graphicData uri="http://schemas.openxmlformats.org/drawingml/2006/table">
            <a:tbl>
              <a:tblPr/>
              <a:tblGrid>
                <a:gridCol w="4152960"/>
                <a:gridCol w="4152960"/>
              </a:tblGrid>
              <a:tr h="104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ource-Oriented Medical Rec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blem-Oriented Medical Rec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</a:tr>
              <a:tr h="3359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1160" indent="-281160">
                        <a:lnSpc>
                          <a:spcPct val="110000"/>
                        </a:lnSpc>
                        <a:spcBef>
                          <a:spcPts val="55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230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ventional approa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1160" indent="-281160">
                        <a:lnSpc>
                          <a:spcPct val="110000"/>
                        </a:lnSpc>
                        <a:spcBef>
                          <a:spcPts val="55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230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ormation is arranged  according to who supplied </a:t>
                      </a:r>
                      <a:br>
                        <a:rPr sz="2200"/>
                      </a:b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dat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1160" indent="-281160">
                        <a:lnSpc>
                          <a:spcPct val="110000"/>
                        </a:lnSpc>
                        <a:spcBef>
                          <a:spcPts val="55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230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blems and treatments are on the same for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1160" indent="-281160">
                        <a:lnSpc>
                          <a:spcPct val="110000"/>
                        </a:lnSpc>
                        <a:spcBef>
                          <a:spcPts val="55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230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fficult to track progress of specific even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1160" indent="-28116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c1c1c"/>
                          </a:solidFill>
                          <a:latin typeface="Times New Roman"/>
                        </a:rPr>
                        <a:t>POM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records make it easier to track specific illnes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1160" indent="-28116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ormation includ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71600" indent="-14400"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660066"/>
                        </a:buClr>
                        <a:buSzPct val="5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bas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71600" indent="-14400"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660066"/>
                        </a:buClr>
                        <a:buSzPct val="5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blem li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71600" indent="-14400"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660066"/>
                        </a:buClr>
                        <a:buSzPct val="5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ducational, diagnostic, and</a:t>
                      </a:r>
                      <a:br>
                        <a:rPr sz="2200"/>
                      </a:b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treatment pla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71600" indent="-14400"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660066"/>
                        </a:buClr>
                        <a:buSzPct val="5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gress not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95280" y="59328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Medical Records:</a:t>
            </a: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br>
              <a:rPr sz="4400"/>
            </a:b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SOAP Documentation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1945800"/>
            <a:ext cx="8229600" cy="43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derly series of steps for dealing with any medical c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s the follow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ient symp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agn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ggested trea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715000" y="2666880"/>
            <a:ext cx="2514600" cy="286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6480">
                  <a:solidFill>
                    <a:srgbClr val="660066"/>
                  </a:solidFill>
                  <a:miter/>
                </a:ln>
                <a:gradFill rotWithShape="0">
                  <a:gsLst>
                    <a:gs pos="0">
                      <a:srgbClr val="ffcf01"/>
                    </a:gs>
                    <a:gs pos="100000">
                      <a:srgbClr val="660066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SOAP</a:t>
            </a:r>
            <a:endParaRPr b="1" lang="en-US" sz="1800" spc="1" strike="noStrike">
              <a:ln w="6480">
                <a:solidFill>
                  <a:srgbClr val="660066"/>
                </a:solidFill>
                <a:miter/>
              </a:ln>
              <a:gradFill rotWithShape="0">
                <a:gsLst>
                  <a:gs pos="0">
                    <a:srgbClr val="ffcf01"/>
                  </a:gs>
                  <a:gs pos="100000">
                    <a:srgbClr val="660066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57200" y="533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219320" y="5337000"/>
            <a:ext cx="3733200" cy="1296720"/>
            <a:chOff x="1219320" y="5337000"/>
            <a:chExt cx="3733200" cy="1296720"/>
          </a:xfrm>
        </p:grpSpPr>
        <p:sp>
          <p:nvSpPr>
            <p:cNvPr id="193" name=""/>
            <p:cNvSpPr/>
            <p:nvPr/>
          </p:nvSpPr>
          <p:spPr>
            <a:xfrm flipV="1">
              <a:off x="1219320" y="5337000"/>
              <a:ext cx="0" cy="1295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219320" y="5337000"/>
              <a:ext cx="2043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 txBox="1"/>
            <p:nvPr/>
          </p:nvSpPr>
          <p:spPr>
            <a:xfrm>
              <a:off x="1857600" y="5478120"/>
              <a:ext cx="68112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f01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f01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540160" y="6113160"/>
              <a:ext cx="241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ubjective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00400" y="4314960"/>
            <a:ext cx="3236760" cy="1265400"/>
            <a:chOff x="3200400" y="4314960"/>
            <a:chExt cx="3236760" cy="1265400"/>
          </a:xfrm>
        </p:grpSpPr>
        <p:sp>
          <p:nvSpPr>
            <p:cNvPr id="198" name=""/>
            <p:cNvSpPr/>
            <p:nvPr/>
          </p:nvSpPr>
          <p:spPr>
            <a:xfrm flipV="1">
              <a:off x="3241800" y="4314960"/>
              <a:ext cx="1440" cy="1015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200400" y="4314960"/>
              <a:ext cx="2175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 txBox="1"/>
            <p:nvPr/>
          </p:nvSpPr>
          <p:spPr>
            <a:xfrm>
              <a:off x="3546720" y="4518000"/>
              <a:ext cx="838080" cy="1015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f01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O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f01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310280" y="5059800"/>
              <a:ext cx="21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jective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5334120" y="3400200"/>
            <a:ext cx="2666880" cy="1482840"/>
            <a:chOff x="5334120" y="3400200"/>
            <a:chExt cx="2666880" cy="1482840"/>
          </a:xfrm>
        </p:grpSpPr>
        <p:sp>
          <p:nvSpPr>
            <p:cNvPr id="203" name=""/>
            <p:cNvSpPr/>
            <p:nvPr/>
          </p:nvSpPr>
          <p:spPr>
            <a:xfrm flipV="1">
              <a:off x="5334120" y="3400200"/>
              <a:ext cx="720" cy="914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334120" y="3400560"/>
              <a:ext cx="144432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 txBox="1"/>
            <p:nvPr/>
          </p:nvSpPr>
          <p:spPr>
            <a:xfrm>
              <a:off x="5388120" y="3620880"/>
              <a:ext cx="789120" cy="1103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f01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f01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084000" y="4362480"/>
              <a:ext cx="1917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sessment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6781680" y="2562120"/>
            <a:ext cx="1447920" cy="1265400"/>
            <a:chOff x="6781680" y="2562120"/>
            <a:chExt cx="1447920" cy="1265400"/>
          </a:xfrm>
        </p:grpSpPr>
        <p:sp>
          <p:nvSpPr>
            <p:cNvPr id="208" name=""/>
            <p:cNvSpPr/>
            <p:nvPr/>
          </p:nvSpPr>
          <p:spPr>
            <a:xfrm flipV="1">
              <a:off x="6781680" y="2562120"/>
              <a:ext cx="0" cy="820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781680" y="2562120"/>
              <a:ext cx="144792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7046280" y="2638440"/>
              <a:ext cx="1027800" cy="1189080"/>
              <a:chOff x="7046280" y="2638440"/>
              <a:chExt cx="1027800" cy="1189080"/>
            </a:xfrm>
          </p:grpSpPr>
          <p:sp>
            <p:nvSpPr>
              <p:cNvPr id="211" name=""/>
              <p:cNvSpPr txBox="1"/>
              <p:nvPr/>
            </p:nvSpPr>
            <p:spPr>
              <a:xfrm>
                <a:off x="7046280" y="2638440"/>
                <a:ext cx="691560" cy="10033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cf01"/>
                    </a:solidFill>
                    <a:effectLst>
                      <a:outerShdw dist="40186" dir="1096358" blurRad="0" rotWithShape="0">
                        <a:srgbClr val="b2b2b2">
                          <a:alpha val="80000"/>
                        </a:srgbClr>
                      </a:outerShdw>
                    </a:effectLst>
                    <a:latin typeface="Times New Roman"/>
                  </a:rPr>
                  <a:t>P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f01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417800" y="3306960"/>
                <a:ext cx="656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lan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3" name=""/>
          <p:cNvSpPr/>
          <p:nvPr/>
        </p:nvSpPr>
        <p:spPr>
          <a:xfrm>
            <a:off x="1219320" y="4238640"/>
            <a:ext cx="1828800" cy="100872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formation the patient tells y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219320" y="3400560"/>
            <a:ext cx="3962160" cy="70380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What the physician observes during the exa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219320" y="2562120"/>
            <a:ext cx="5410080" cy="70380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e impression of the patient’s problem that leads to diagn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219320" y="1952640"/>
            <a:ext cx="7010280" cy="39888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e treatment plan to correct the illness or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SOAP Documentation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19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001000" y="57913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380880" y="205740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type of documentation provides an orderly series of steps for dealing with any medical case, and what are the components of this type of document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0880" y="3429000"/>
            <a:ext cx="8305920" cy="1937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SOAP documentation provides an orderly series of steps for dealing with any medical case.  The component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 – Subjective dat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-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 – Objective dat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 -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4"/>
          <a:stretch/>
        </p:blipFill>
        <p:spPr>
          <a:xfrm>
            <a:off x="7010280" y="685800"/>
            <a:ext cx="882720" cy="14479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4648320" y="548640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0066"/>
                </a:solidFill>
                <a:latin typeface="comic"/>
              </a:rPr>
              <a:t>GOOD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0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000"/>
                            </p:stCondLst>
                            <p:childTnLst>
                              <p:par>
                                <p:cTn id="48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700"/>
                            </p:stCondLst>
                            <p:childTnLst>
                              <p:par>
                                <p:cTn id="4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8" dur="4716" fill="hold"/>
                                        <p:tgtEl>
                                          <p:spTgt spid="2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219"/>
                </p:tgtEl>
              </p:cMediaNode>
            </p:audio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50720" y="3045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8077320" y="609480"/>
            <a:ext cx="742680" cy="12193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457200" y="2057400"/>
            <a:ext cx="8458200" cy="38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bel the following items as either (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“subjective” or  (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“objectiv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__ headache                  ____ pulse 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__ vomited x 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____ nau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__ skin col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____ respirations 16, labo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__ chest pa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____ poor appet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457200" y="2743200"/>
            <a:ext cx="8153280" cy="3141720"/>
            <a:chOff x="457200" y="2743200"/>
            <a:chExt cx="8153280" cy="3141720"/>
          </a:xfrm>
        </p:grpSpPr>
        <p:sp>
          <p:nvSpPr>
            <p:cNvPr id="228" name=""/>
            <p:cNvSpPr/>
            <p:nvPr/>
          </p:nvSpPr>
          <p:spPr>
            <a:xfrm>
              <a:off x="533520" y="304812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191120" y="3048120"/>
              <a:ext cx="76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267080" y="373392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33520" y="51814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267080" y="518148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191120" y="4495680"/>
              <a:ext cx="76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57200" y="449568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57200" y="373392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477120" y="2743200"/>
              <a:ext cx="2133360" cy="4597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ANSWER: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2286000" y="0"/>
            <a:ext cx="5486400" cy="1143000"/>
            <a:chOff x="2286000" y="0"/>
            <a:chExt cx="5486400" cy="1143000"/>
          </a:xfrm>
        </p:grpSpPr>
        <p:sp>
          <p:nvSpPr>
            <p:cNvPr id="238" name=""/>
            <p:cNvSpPr/>
            <p:nvPr/>
          </p:nvSpPr>
          <p:spPr>
            <a:xfrm>
              <a:off x="2286000" y="0"/>
              <a:ext cx="5486400" cy="1143000"/>
            </a:xfrm>
            <a:custGeom>
              <a:avLst/>
              <a:gdLst>
                <a:gd name="textAreaLeft" fmla="*/ 857160 w 5486400"/>
                <a:gd name="textAreaRight" fmla="*/ 4800600 w 5486400"/>
                <a:gd name="textAreaTop" fmla="*/ 285840 h 1143000"/>
                <a:gd name="textAreaBottom" fmla="*/ 85752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 txBox="1"/>
            <p:nvPr/>
          </p:nvSpPr>
          <p:spPr>
            <a:xfrm>
              <a:off x="3581280" y="304920"/>
              <a:ext cx="25146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Good Job!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8494560" y="56023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9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0" dur="23269" fill="hold"/>
                                        <p:tgtEl>
                                          <p:spTgt spid="2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224000" y="22824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Appearance, Timeliness, and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Accuracy of Record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45800"/>
            <a:ext cx="8229600" cy="43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atness and legi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 good-quality 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ue ink is preferred (differentiates original from cop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light critical items such as aller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dwriting must be leg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corrections proper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31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Appearance, Timeliness, and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Accuracy of Records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5638680" cy="43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l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rd all findings as soon as they are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late entries, record bo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ginal date and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rd date and time of telephone calls and information discu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rieve file quickly in event of an emerg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32880" y="3848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6629400" y="2971800"/>
            <a:ext cx="201780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07800" y="27432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Learning Outcomes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160" y="2200320"/>
            <a:ext cx="84582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79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.5 Discuss the need for neatness, timeliness, accuracy, and professional tone in patient reco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520" indent="0">
              <a:lnSpc>
                <a:spcPct val="90000"/>
              </a:lnSpc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.6 Discuss tips for performing accurate transcrip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520" indent="0">
              <a:lnSpc>
                <a:spcPct val="90000"/>
              </a:lnSpc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.7 Explain how to correct a medical reco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520" indent="0">
              <a:lnSpc>
                <a:spcPct val="90000"/>
              </a:lnSpc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.8 Explain how to update a medical reco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520" indent="0">
              <a:lnSpc>
                <a:spcPct val="90000"/>
              </a:lnSpc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.9 Identify when and how a medical record may be relea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457200" y="2286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r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 information carefu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ver guess or assu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ble-check accuracy findings and instru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sure most recent information is recor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57200" y="2409840"/>
            <a:ext cx="290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08840" y="33148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219320" y="609480"/>
            <a:ext cx="7696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Appearance, Timeliness, and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Accuracy of Records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380880" y="1980720"/>
            <a:ext cx="8229600" cy="43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fessional attitude and t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rd patient comments in his or her own w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not record your personal or subjective comments, judgments, opinions, or specu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990720" y="4876920"/>
            <a:ext cx="7010280" cy="11912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may call attention to problems or observations by attaching a note to the chart, but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ke such comments part of medical rec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200240" y="584280"/>
            <a:ext cx="761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Appearance, Timeliness, and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Accuracy of Records</a:t>
            </a: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533160" y="1980720"/>
            <a:ext cx="7010280" cy="43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er record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uracy is also important with electronic rec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accessed by more than on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 at a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used in telecon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ful for tickler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urity conce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ct patient confidenti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6248520" y="2895480"/>
            <a:ext cx="2286000" cy="20988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1200240" y="584280"/>
            <a:ext cx="761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Appearance, Timeliness, and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Accuracy of Records</a:t>
            </a: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5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5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58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001000" y="6019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7315200" y="762120"/>
            <a:ext cx="884160" cy="145260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533520" y="22096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important to remember when you are documenting in the medical recor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3505320"/>
            <a:ext cx="7925040" cy="11912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It is important that medical records be neat and legible, timely, accurate, and maintain a professional t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5257800" y="5029200"/>
            <a:ext cx="311796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660066"/>
                    </a:gs>
                    <a:gs pos="100000">
                      <a:srgbClr val="ffcf01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Very Good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660066"/>
                  </a:gs>
                  <a:gs pos="100000">
                    <a:srgbClr val="ffcf01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5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1000"/>
                            </p:stCondLst>
                            <p:childTnLst>
                              <p:par>
                                <p:cTn id="637" nodeType="afterEffect" fill="hold" presetClass="entr" presetID="1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3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3500"/>
                            </p:stCondLst>
                            <p:childTnLst>
                              <p:par>
                                <p:cTn id="6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2" dur="9888" fill="hold"/>
                                        <p:tgtEl>
                                          <p:spTgt spid="2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258"/>
                </p:tgtEl>
              </p:cMediaNode>
            </p:audio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23640" y="5932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Medical Transcription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42640" y="1945800"/>
            <a:ext cx="7467480" cy="43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Transcrip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ans transforming spoken words into written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ctated information is part of the medical record and must be kept confident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e and initial each transcription p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ve for ultimate accuracy and completeness of transcribed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9" dur="5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4" dur="5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9" dur="500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1142640" y="1945800"/>
            <a:ext cx="8001000" cy="43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cribing direct dic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a writing pad and pen that will not sm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incomplete sentences and phrases to keep up with physician’s 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4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abbrevi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k for clarification immediately if something is uncl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the dictation back to verify accu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er notes into patient record, date, and ini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24000" y="274680"/>
            <a:ext cx="741996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Medical Transcription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2819520" y="2819520"/>
            <a:ext cx="2666880" cy="2666880"/>
          </a:xfrm>
          <a:prstGeom prst="ellipse">
            <a:avLst/>
          </a:prstGeom>
          <a:solidFill>
            <a:srgbClr val="ffcf01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crip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58280" y="2209680"/>
            <a:ext cx="244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ence 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790240" y="2209680"/>
            <a:ext cx="286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rminology 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41360" y="4791240"/>
            <a:ext cx="199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reta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945400" y="4800600"/>
            <a:ext cx="275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l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224000" y="274680"/>
            <a:ext cx="741996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Medical Transcription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0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4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7467480" y="762120"/>
            <a:ext cx="696960" cy="11430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533520" y="220968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aking direct dictation, when should you clarify information if you do not understand someth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3581280"/>
            <a:ext cx="7848360" cy="825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You should immediately clarify information that you do not understand when taking direct dic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5486400" y="5257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66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xcellent!</a:t>
            </a:r>
            <a:endParaRPr b="0" lang="en-US" sz="1800" spc="1" strike="noStrike">
              <a:ln w="9360">
                <a:solidFill>
                  <a:srgbClr val="660066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8153280" y="571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000"/>
                            </p:stCondLst>
                            <p:childTnLst>
                              <p:par>
                                <p:cTn id="743" nodeType="after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45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4000"/>
                            </p:stCondLst>
                            <p:childTnLst>
                              <p:par>
                                <p:cTn id="7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8" dur="5760" fill="hold"/>
                                        <p:tgtEl>
                                          <p:spTgt spid="2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55320" y="38088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orrecting and Updating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Patient Record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80880" y="1945800"/>
            <a:ext cx="8229600" cy="43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dical records are created in</a:t>
            </a:r>
            <a:r>
              <a:rPr b="0" i="1" lang="en-US" sz="32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1c1c1c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due  course</a:t>
            </a:r>
            <a:r>
              <a:rPr b="1" i="1" lang="en-US" sz="3200" spc="-1" strike="noStrike">
                <a:solidFill>
                  <a:srgbClr val="1c1c1c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gal term meaning information is to be entered at the time of occur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corrected or added after patient’s visit is regarded as </a:t>
            </a:r>
            <a:r>
              <a:rPr b="1" i="1" lang="en-US" sz="2800" spc="-1" strike="noStrike">
                <a:solidFill>
                  <a:srgbClr val="1c1c1c"/>
                </a:solidFill>
                <a:latin typeface="Times New Roman"/>
              </a:rPr>
              <a:t>“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convenient</a:t>
            </a:r>
            <a:r>
              <a:rPr b="1" i="1" lang="en-US" sz="2800" spc="-1" strike="noStrike">
                <a:solidFill>
                  <a:srgbClr val="1c1c1c"/>
                </a:solidFill>
                <a:latin typeface="Times New Roman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care with correc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more difficult to explain a chart that has been altered after something was documen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500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500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orrecting Patient Record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5613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mistakes happen, correct them immediat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 a line through the original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must remain leg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correct information abov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below original line or in mar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 why correction was m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, time, and initial cor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a witness, if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6095880" y="3124080"/>
            <a:ext cx="25606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Lucida Handwriting"/>
              </a:rPr>
              <a:t>ero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Lucida Handwriting"/>
              <a:ea typeface="Lucida Handwriting"/>
            </a:endParaRPr>
          </a:p>
        </p:txBody>
      </p:sp>
      <p:sp>
        <p:nvSpPr>
          <p:cNvPr id="284" name=""/>
          <p:cNvSpPr/>
          <p:nvPr/>
        </p:nvSpPr>
        <p:spPr>
          <a:xfrm>
            <a:off x="5867280" y="3352680"/>
            <a:ext cx="2819520" cy="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358128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Lucida Handwriting"/>
              </a:rPr>
              <a:t>m/d/yyyy 00:00pm </a:t>
            </a:r>
            <a:br>
              <a:rPr sz="1400"/>
            </a:br>
            <a:r>
              <a:rPr b="1" lang="en-US" sz="1400" spc="-1" strike="noStrike">
                <a:solidFill>
                  <a:srgbClr val="000099"/>
                </a:solidFill>
                <a:latin typeface="Lucida Handwriting"/>
              </a:rPr>
              <a:t>misspelled JH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6095880" y="4191120"/>
            <a:ext cx="2438640" cy="49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Lucida Handwriting"/>
              </a:rPr>
              <a:t>erro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Lucida Handwriting"/>
              <a:ea typeface="Lucida Handwriting"/>
            </a:endParaRPr>
          </a:p>
        </p:txBody>
      </p:sp>
      <p:sp>
        <p:nvSpPr>
          <p:cNvPr id="287" name=""/>
          <p:cNvSpPr/>
          <p:nvPr/>
        </p:nvSpPr>
        <p:spPr>
          <a:xfrm>
            <a:off x="7848720" y="3809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/ch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7" dur="5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500"/>
                            </p:stCondLst>
                            <p:childTnLst>
                              <p:par>
                                <p:cTn id="77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8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4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9" dur="500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500"/>
                            </p:stCondLst>
                            <p:childTnLst>
                              <p:par>
                                <p:cTn id="79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9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8" dur="500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1" dur="500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500"/>
                            </p:stCondLst>
                            <p:childTnLst>
                              <p:par>
                                <p:cTn id="8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0" dur="500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500"/>
                            </p:stCondLst>
                            <p:childTnLst>
                              <p:par>
                                <p:cTn id="8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l records document the evaluation and treatment of pat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itical to patient c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tioned to describe various aspects of patient information and c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gal doc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l assistant has a major role in documenting in and maintaining patient rec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Updating Patient Record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446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itions to record should not appear decep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 why late entry is m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e and initial added i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have a third party witness ad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Document"/>
          <p:cNvSpPr/>
          <p:nvPr/>
        </p:nvSpPr>
        <p:spPr>
          <a:xfrm rot="10800000">
            <a:off x="5562360" y="2057040"/>
            <a:ext cx="3276360" cy="4267080"/>
          </a:xfrm>
          <a:prstGeom prst="pie">
            <a:avLst/>
          </a:prstGeom>
          <a:solidFill>
            <a:srgbClr val="ffeda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638680" y="4876920"/>
            <a:ext cx="304812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Handwriting"/>
              </a:rPr>
              <a:t>Addition made to record because patient called back with additional inform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Handwriting"/>
              </a:rPr>
              <a:t>Mm/dd/yyyy – JH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620120" y="58672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Handwriting"/>
              </a:rPr>
              <a:t>/ ch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2" dur="5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94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229600" y="6019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685800" y="205740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appropriate way to correct an error in a patient’s medical recor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3048120"/>
            <a:ext cx="8229600" cy="30200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To correct an error in a patient’s medical recor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1680" indent="-28728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raw a line through the original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1680" indent="-28728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t must remain legi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1680" indent="-28728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sert correct information above or below original line or in mar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1680" indent="-28728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ocument why correction was m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1680" indent="-28728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ate, time, and initial cor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657600" y="380880"/>
            <a:ext cx="3352680" cy="78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0066"/>
                    </a:gs>
                    <a:gs pos="100000">
                      <a:srgbClr val="9900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uper Job!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660066"/>
                  </a:gs>
                  <a:gs pos="100000">
                    <a:srgbClr val="9900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4"/>
          <a:stretch/>
        </p:blipFill>
        <p:spPr>
          <a:xfrm>
            <a:off x="7315200" y="304920"/>
            <a:ext cx="8366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4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500"/>
                            </p:stCondLst>
                            <p:childTnLst>
                              <p:par>
                                <p:cTn id="84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2500"/>
                            </p:stCondLst>
                            <p:childTnLst>
                              <p:par>
                                <p:cTn id="8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3" dur="726" fill="hold"/>
                                        <p:tgtEl>
                                          <p:spTgt spid="2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294"/>
                </p:tgtEl>
              </p:cMediaNode>
            </p:audio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533160"/>
            <a:ext cx="7278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Release of Record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rds are property of physici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in confidential patient health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have patient’s written consent to rel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ptions: cases of contagious disease or court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Document"/>
          <p:cNvSpPr/>
          <p:nvPr/>
        </p:nvSpPr>
        <p:spPr>
          <a:xfrm>
            <a:off x="5562720" y="1981080"/>
            <a:ext cx="3276360" cy="4267440"/>
          </a:xfrm>
          <a:prstGeom prst="pie">
            <a:avLst/>
          </a:prstGeom>
          <a:solidFill>
            <a:srgbClr val="ffeda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638680" y="205740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ease of Inform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HMO Insuranc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562720" y="4191120"/>
            <a:ext cx="3352680" cy="12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authorize Dr. J. Jones to release my healthcare information to the above-named insurance company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99"/>
                </a:solidFill>
                <a:uFillTx/>
                <a:latin typeface="Lucida Handwriting"/>
              </a:rPr>
              <a:t>Christopher Hansen</a:t>
            </a:r>
            <a:r>
              <a:rPr b="0" lang="en-US" sz="1200" spc="-1" strike="noStrike">
                <a:solidFill>
                  <a:srgbClr val="000099"/>
                </a:solidFill>
                <a:latin typeface="Lucida Handwriting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   </a:t>
            </a:r>
            <a:r>
              <a:rPr b="0" lang="en-US" sz="1200" spc="-1" strike="noStrike" u="sng">
                <a:solidFill>
                  <a:srgbClr val="000099"/>
                </a:solidFill>
                <a:uFillTx/>
                <a:latin typeface="Lucida Handwriting"/>
              </a:rPr>
              <a:t>mm/dd/yyy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ient Signatu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60" dur="10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65" dur="1000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70" dur="1000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Release of Records</a:t>
            </a: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dures for releasing rec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tain a signed and newly dated release form authorizing the transfer of information, and plac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n the patient’s rec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photocopies of original mater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py and send only documents covered in the release authoriz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 to confirm receipt of mater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77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80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85" dur="5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1219320" y="198108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al c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o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gal guardian of children (may be one or both paren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xt of k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gally authorized represen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unsure, ask supervi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176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-year-ol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dered adults in most st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have written consent to release their reco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4724280" y="4419720"/>
            <a:ext cx="3581640" cy="2286000"/>
            <a:chOff x="4724280" y="4419720"/>
            <a:chExt cx="3581640" cy="2286000"/>
          </a:xfrm>
        </p:grpSpPr>
        <p:sp>
          <p:nvSpPr>
            <p:cNvPr id="309" name=""/>
            <p:cNvSpPr/>
            <p:nvPr/>
          </p:nvSpPr>
          <p:spPr>
            <a:xfrm>
              <a:off x="4724280" y="4419720"/>
              <a:ext cx="3581640" cy="2286000"/>
            </a:xfrm>
            <a:prstGeom prst="horizontalScroll">
              <a:avLst>
                <a:gd name="adj" fmla="val 12500"/>
              </a:avLst>
            </a:prstGeom>
            <a:solidFill>
              <a:srgbClr val="990099"/>
            </a:solidFill>
            <a:ln w="1908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029200" y="4800600"/>
              <a:ext cx="3276720" cy="1435320"/>
            </a:xfrm>
            <a:prstGeom prst="rect">
              <a:avLst/>
            </a:pr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ff"/>
                  </a:solidFill>
                  <a:uFillTx/>
                  <a:latin typeface="Harlow Solid Italic"/>
                </a:rPr>
                <a:t>Legal and ethical principle</a:t>
              </a:r>
              <a:r>
                <a:rPr b="0" lang="en-US" sz="2400" spc="-1" strike="noStrike">
                  <a:solidFill>
                    <a:srgbClr val="ffffff"/>
                  </a:solidFill>
                  <a:latin typeface="Harlow Solid Italic"/>
                </a:rPr>
                <a:t>:</a:t>
              </a:r>
              <a:br>
                <a:rPr sz="2400"/>
              </a:br>
              <a:r>
                <a:rPr b="0" lang="en-US" sz="2000" spc="-1" strike="noStrike">
                  <a:solidFill>
                    <a:srgbClr val="ffffff"/>
                  </a:solidFill>
                  <a:latin typeface="Harlow Solid Italic"/>
                </a:rPr>
                <a:t>Protect patient’s right to privacy at all time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PlaceHolder 3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Release of Records</a:t>
            </a: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6" dur="indefinite" restart="never" nodeType="tmRoot">
          <p:childTnLst>
            <p:seq>
              <p:cTn id="887" dur="indefinite" nodeType="mainSeq">
                <p:childTnLst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65040" y="2057400"/>
            <a:ext cx="8321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edical assistant receives a fax transmittal authorizing transfer of medical record information for a client to another physician’s office. What would you do in this situ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7772400" y="5715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2"/>
          <a:stretch/>
        </p:blipFill>
        <p:spPr>
          <a:xfrm>
            <a:off x="7924680" y="457200"/>
            <a:ext cx="696960" cy="114300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380880" y="3929040"/>
            <a:ext cx="8305920" cy="155700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It is difficult to know the actual originator of a fax transmittal and to verify the signature. The safest solution would be not to release any information based on a fax request and release of information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952880" y="556272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AdLib BT"/>
              </a:rPr>
              <a:t>Nice Job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1000"/>
                            </p:stCondLst>
                            <p:childTnLst>
                              <p:par>
                                <p:cTn id="913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1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3850"/>
                            </p:stCondLst>
                            <p:childTnLst>
                              <p:par>
                                <p:cTn id="9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8" dur="5760" fill="hold"/>
                                        <p:tgtEl>
                                          <p:spTgt spid="3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l assistants must properly prepare and maintain patient rec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several methods for documentation, but regardless of method, records must be complete, legible, current, accurate, and profess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erly maintain, correct, update, and release patient medical rec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1676520" y="990720"/>
            <a:ext cx="5790960" cy="79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End of Chapter 9</a:t>
            </a:r>
            <a:endParaRPr b="0" lang="en-US" sz="1800" spc="1" strike="noStrike">
              <a:ln w="0">
                <a:noFill/>
              </a:ln>
              <a:solidFill>
                <a:srgbClr val="66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3048120" y="2133720"/>
            <a:ext cx="3352680" cy="22827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1295280" y="4572000"/>
            <a:ext cx="6934320" cy="16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ation is the power of the day; without it, nothing is accomplish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~ Sophia Pal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 Daybook for Nurses: Making a Difference Each D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fill="hold">
                      <p:stCondLst>
                        <p:cond delay="0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58920" y="62028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Importance of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atient Records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980720"/>
            <a:ext cx="7053120" cy="40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atient’s </a:t>
            </a:r>
            <a:r>
              <a:rPr b="1" lang="en-US" sz="2800" spc="-1" strike="noStrike">
                <a:solidFill>
                  <a:srgbClr val="1c1c1c"/>
                </a:solidFill>
                <a:latin typeface="Times New Roman"/>
              </a:rPr>
              <a:t>ch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and present medical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cation tool for  health-care te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lan to provide for continui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c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ation for billing and c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ient education and re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gal document admissible in cou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467480" y="1828800"/>
            <a:ext cx="127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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93640" y="30862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1440" y="21420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Importance of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atient Records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381880" cy="430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included in patient rec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and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urance coverage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 responsibl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pay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cup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cal his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419720" y="195264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compla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lth-care nee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cal treatment pl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se to c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 and radiology 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20120" y="1219320"/>
            <a:ext cx="1271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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5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8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1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" dur="5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9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2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5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8" dur="5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1" dur="500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Patient Records:</a:t>
            </a: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Legal Guideline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of of event or procedu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docu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pro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e is considered not d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gal docu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document complete information about patient c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 if patient is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noncomp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1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10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10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42720" y="27432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Patient Records: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Standards for Record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, accurate, and well-documented records are evidence of appropriate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omplete, inaccurate, altered, or illegible records may imply poor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one who documents in the patient record has a responsibility to the patient and employing physici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42720" y="27432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Patient Records</a:t>
            </a: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62680" y="2971800"/>
            <a:ext cx="1622520" cy="947160"/>
          </a:xfrm>
          <a:prstGeom prst="rect">
            <a:avLst/>
          </a:prstGeom>
          <a:noFill/>
          <a:ln w="5724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i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583680" y="2819520"/>
            <a:ext cx="1639080" cy="947160"/>
          </a:xfrm>
          <a:prstGeom prst="rect">
            <a:avLst/>
          </a:prstGeom>
          <a:noFill/>
          <a:ln w="5724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lity of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535560" y="4038480"/>
            <a:ext cx="1480680" cy="520560"/>
          </a:xfrm>
          <a:prstGeom prst="rect">
            <a:avLst/>
          </a:prstGeom>
          <a:noFill/>
          <a:ln w="5724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66880" y="2133720"/>
            <a:ext cx="3525840" cy="1295280"/>
          </a:xfrm>
          <a:prstGeom prst="flowChartTerminator">
            <a:avLst/>
          </a:prstGeom>
          <a:solidFill>
            <a:srgbClr val="ffcf01"/>
          </a:solidFill>
          <a:ln w="5724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itional Uses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ient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31640" y="4191120"/>
            <a:ext cx="23464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lth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atmen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443640" y="3968640"/>
            <a:ext cx="25909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CAHO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lth-c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nalysis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olicy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4876920"/>
            <a:ext cx="24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of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6T02:20:26Z</dcterms:created>
  <dc:creator>Kathryn A. Booth RN-BSN, MS, RMA, RPT</dc:creator>
  <dc:description/>
  <dc:language>en-US</dc:language>
  <cp:lastModifiedBy>Kathryn Booth</cp:lastModifiedBy>
  <dcterms:modified xsi:type="dcterms:W3CDTF">2008-03-29T13:07:21Z</dcterms:modified>
  <cp:revision>61</cp:revision>
  <dc:subject>Medical Assisting 3e</dc:subject>
  <dc:title>Maintaining Patient Records</dc:title>
</cp:coreProperties>
</file>