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10EB-80C4-4D9A-8AB5-DBC110C262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C235-40CD-4108-821C-51E7EA172D5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53D59-813D-4E9E-9759-128234A1E4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A9BAA-1538-4F8B-818B-CD1F051340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87EB1-5ACC-47A6-B463-DF49A21CC77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01B97-1214-49D2-BABB-32DAAA3C55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DC70-51EB-42A4-9F08-FD30D2F83B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5DA93-4AA1-420E-97E8-8287E0FCA8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5AB2-CE3A-4A32-8420-CCD0AB6AFA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520B8-BEDE-4162-B71D-7CBB3EA1EC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5824-B70E-4DC8-97F4-982FC6496E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1D32-DF90-4C84-8FC1-AA670768D0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9-</a:t>
            </a:r>
            <a:fld id="{05C1BF5C-6C7C-41A1-B11D-3B8BC44D07E8}" type="slidenum">
              <a:rPr b="1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1"/>
          </p:nvPr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9-</a:t>
            </a:r>
            <a:fld id="{8D43B093-FE77-4070-9CDA-2EDC344FC4D1}" type="slidenum"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SN00255A.wav" TargetMode="External"/><Relationship Id="rId3" Type="http://schemas.microsoft.com/office/2007/relationships/media" Target="file:///tmp/home/.config/libreoffice/4/user/gallery/SN00255A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074689.wav" TargetMode="External"/><Relationship Id="rId2" Type="http://schemas.microsoft.com/office/2007/relationships/media" Target="file:///tmp/home/.config/libreoffice/4/user/gallery/j0074689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074690.wav" TargetMode="External"/><Relationship Id="rId2" Type="http://schemas.microsoft.com/office/2007/relationships/media" Target="file:///tmp/home/.config/libreoffice/4/user/gallery/j0074690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N00524A.wav" TargetMode="External"/><Relationship Id="rId2" Type="http://schemas.microsoft.com/office/2007/relationships/media" Target="file:///tmp/home/.config/libreoffice/4/user/gallery/SN00524A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048120" y="10666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9</a:t>
            </a:r>
            <a:endParaRPr b="1" lang="en-US" sz="40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3623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imes New Roman"/>
              </a:rPr>
              <a:t>Maintaining Patient Rec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Point® presentation to accompan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cal Assi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h, Whicker, Wyman, Pugh, Tho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BC38E-0EB8-4D90-98E5-56FFF8B8EBC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2286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urpose of documentation in a patient’s medical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429000"/>
            <a:ext cx="746748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ocumentation in the medical record provides evidence of appropriate care. If a procedure is not documented, it is considered not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52880" y="5257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 Job!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660066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541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4745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Document"/>
          <p:cNvSpPr/>
          <p:nvPr/>
        </p:nvSpPr>
        <p:spPr>
          <a:xfrm rot="10800000">
            <a:off x="1676160" y="1981080"/>
            <a:ext cx="5127480" cy="457200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2057400"/>
            <a:ext cx="494820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tient Registrat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ient demograph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, D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urance / financi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cont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 medical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nesses, surgeries, allergies, and current med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medical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history (diet, exercise, smoking, use of drugs and alcoh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al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patient complaint recorded in patient’s own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4800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examination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of laboratory and other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s from other physicians or hos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a copy of the patient consent authorizing release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294480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tor’s diagnosis and treatment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 options and final treatme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to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tion pre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or im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ve reports, follow-up visits, and telephon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part of the continuous patient rec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calls made to and from the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ed consent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 that the patient understands procedures, outcomes, and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may withdraw consent at an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pital discharge summary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summarizing the patient’s hospit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for follow-up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ian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094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90720" y="1945800"/>
            <a:ext cx="761976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ence with or about the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written correspondence regarding the pat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date item was received on the actu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received by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an original copy; if not available, make a photocopy of the f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ing and initi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sure to date and place your initials on everything you place in the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5842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3520" y="2362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ection of the patient record contains information about smoking, alcohol use, and occup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505320"/>
            <a:ext cx="79250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formation about smoking, alcohol use, and occupation is part of the patient’s past medical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943600" y="4952880"/>
            <a:ext cx="274320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Times New Roman"/>
              </a:rPr>
              <a:t>Correc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0010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2268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itiating and Maintain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2666880"/>
            <a:ext cx="2057400" cy="160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4920" y="2108160"/>
            <a:ext cx="2666520" cy="825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ing med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4191120"/>
            <a:ext cx="205740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108160"/>
            <a:ext cx="2212920" cy="825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ing 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4114800"/>
            <a:ext cx="236232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, preparatio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vital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00200" y="5486400"/>
            <a:ext cx="624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ntain patient privac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uring intervie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10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46040" y="20797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be notes the doctor dic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results of laboratory tests and exami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all telephone communication with the cl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all medical or discharge instructions given to the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itiating and Maintain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81080"/>
            <a:ext cx="79246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purpose of compiling patient medical rec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contents of patient record fo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to create and maintain a patient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and describe common approaches to documenting information in medical rec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3640" y="51228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127240"/>
            <a:ext cx="777240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transcribing notes the doctor dictates and posting lab results, what are two other follow-up tasks the medical assistant might be required to perform as part of follow-up to a patient appoin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4437000"/>
            <a:ext cx="5118120" cy="1922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medical assistant may have to record telephone calls with the patient, as well as medical or discharge instructions given to the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ocument"/>
          <p:cNvSpPr/>
          <p:nvPr/>
        </p:nvSpPr>
        <p:spPr>
          <a:xfrm rot="10800000">
            <a:off x="5913360" y="5181480"/>
            <a:ext cx="2438640" cy="1447920"/>
          </a:xfrm>
          <a:prstGeom prst="pi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94360" y="54100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c1c1c"/>
                </a:solidFill>
                <a:latin typeface="Times New Roman"/>
              </a:rPr>
              <a:t>Righ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25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9888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9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578560" y="1457280"/>
            <a:ext cx="95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Six Cs of Chart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2133720"/>
            <a:ext cx="4114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ent’s word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it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letene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isene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ronological ord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dentialit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2179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interpret patient’s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880" y="1981080"/>
            <a:ext cx="19051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29080" y="288936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 descriptions / medical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0000" y="357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out forms complet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42321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point / approved abbr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491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46600" y="56008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HIPAA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33520" y="2286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six Cs of char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3276720"/>
            <a:ext cx="8077320" cy="2128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six C’s of charting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’s wor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isen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ar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ronological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eten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91320" y="5105520"/>
            <a:ext cx="251460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reat!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50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1838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2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3640" y="304920"/>
            <a:ext cx="7310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Medical Record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2081160"/>
          <a:ext cx="8305920" cy="440856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urce-Oriented Medical Rec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-Oriented Medical Rec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ventional approa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is arranged  according to who supplied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da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s and treatments are on the same for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icult to track progress of specific ev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POM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ecords make it easier to track specific illn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inclu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 l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al, diagnostic, and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treatment pla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 no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59328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Record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OAP Document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ly series of steps for dealing with any medical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s the foll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5000" y="2666880"/>
            <a:ext cx="2514600" cy="28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ffcf01"/>
                    </a:gs>
                    <a:gs pos="100000">
                      <a:srgbClr val="6600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SOAP</a:t>
            </a:r>
            <a:endParaRPr b="1" lang="en-US" sz="1800" spc="1" strike="noStrike">
              <a:ln w="648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ffcf01"/>
                  </a:gs>
                  <a:gs pos="100000">
                    <a:srgbClr val="6600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19320" y="5337000"/>
            <a:ext cx="3733200" cy="1296720"/>
            <a:chOff x="1219320" y="5337000"/>
            <a:chExt cx="3733200" cy="1296720"/>
          </a:xfrm>
        </p:grpSpPr>
        <p:sp>
          <p:nvSpPr>
            <p:cNvPr id="193" name=""/>
            <p:cNvSpPr/>
            <p:nvPr/>
          </p:nvSpPr>
          <p:spPr>
            <a:xfrm flipV="1">
              <a:off x="1219320" y="533700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19320" y="5337000"/>
              <a:ext cx="2043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1857600" y="5478120"/>
              <a:ext cx="6811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0160" y="6113160"/>
              <a:ext cx="241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bjective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00400" y="4314960"/>
            <a:ext cx="3236760" cy="1265400"/>
            <a:chOff x="3200400" y="4314960"/>
            <a:chExt cx="3236760" cy="1265400"/>
          </a:xfrm>
        </p:grpSpPr>
        <p:sp>
          <p:nvSpPr>
            <p:cNvPr id="198" name=""/>
            <p:cNvSpPr/>
            <p:nvPr/>
          </p:nvSpPr>
          <p:spPr>
            <a:xfrm flipV="1">
              <a:off x="3241800" y="4314960"/>
              <a:ext cx="1440" cy="1015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0400" y="4314960"/>
              <a:ext cx="217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546720" y="4518000"/>
              <a:ext cx="838080" cy="101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10280" y="505980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jective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334120" y="3400200"/>
            <a:ext cx="2666880" cy="1482840"/>
            <a:chOff x="5334120" y="3400200"/>
            <a:chExt cx="2666880" cy="1482840"/>
          </a:xfrm>
        </p:grpSpPr>
        <p:sp>
          <p:nvSpPr>
            <p:cNvPr id="203" name=""/>
            <p:cNvSpPr/>
            <p:nvPr/>
          </p:nvSpPr>
          <p:spPr>
            <a:xfrm flipV="1">
              <a:off x="5334120" y="3400200"/>
              <a:ext cx="720" cy="91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34120" y="3400560"/>
              <a:ext cx="14443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388120" y="3620880"/>
              <a:ext cx="789120" cy="110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84000" y="4362480"/>
              <a:ext cx="191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sess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781680" y="2562120"/>
            <a:ext cx="1447920" cy="1265400"/>
            <a:chOff x="6781680" y="2562120"/>
            <a:chExt cx="1447920" cy="1265400"/>
          </a:xfrm>
        </p:grpSpPr>
        <p:sp>
          <p:nvSpPr>
            <p:cNvPr id="208" name=""/>
            <p:cNvSpPr/>
            <p:nvPr/>
          </p:nvSpPr>
          <p:spPr>
            <a:xfrm flipV="1">
              <a:off x="6781680" y="2562120"/>
              <a:ext cx="0" cy="82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2562120"/>
              <a:ext cx="144792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7046280" y="2638440"/>
              <a:ext cx="1027800" cy="1189080"/>
              <a:chOff x="7046280" y="2638440"/>
              <a:chExt cx="1027800" cy="1189080"/>
            </a:xfrm>
          </p:grpSpPr>
          <p:sp>
            <p:nvSpPr>
              <p:cNvPr id="211" name=""/>
              <p:cNvSpPr txBox="1"/>
              <p:nvPr/>
            </p:nvSpPr>
            <p:spPr>
              <a:xfrm>
                <a:off x="7046280" y="2638440"/>
                <a:ext cx="691560" cy="1003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f01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17800" y="3306960"/>
                <a:ext cx="65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1219320" y="4238640"/>
            <a:ext cx="1828800" cy="10087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ormation the patient tells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3400560"/>
            <a:ext cx="3962160" cy="703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at the physician observes during the 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2562120"/>
            <a:ext cx="5410080" cy="703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impression of the patient’s problem that leads to diag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1952640"/>
            <a:ext cx="7010280" cy="3988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treatment plan to correct the illness o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OAP Documenta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1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80880" y="20574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 of documentation provides an orderly series of steps for dealing with any medical case, and what are the components of this type of docum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3429000"/>
            <a:ext cx="8305920" cy="1937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AP documentation provides an orderly series of steps for dealing with any medical case.  The compon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– Subjective dat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-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– Objective d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 -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7010280" y="68580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648320" y="5486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comic"/>
              </a:rPr>
              <a:t>GOO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700"/>
                            </p:stCondLst>
                            <p:childTnLst>
                              <p:par>
                                <p:cTn id="4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8" dur="4716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9"/>
                </p:tgtEl>
              </p:cMediaNode>
            </p:audio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077320" y="609480"/>
            <a:ext cx="74268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57200" y="2057400"/>
            <a:ext cx="845820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 the following items as either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“subjective” or 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“objectiv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headache                  ____ pulse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vomited x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skin col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respirations 16, lab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chest p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poor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7200" y="2743200"/>
            <a:ext cx="8153280" cy="3141720"/>
            <a:chOff x="457200" y="2743200"/>
            <a:chExt cx="8153280" cy="3141720"/>
          </a:xfrm>
        </p:grpSpPr>
        <p:sp>
          <p:nvSpPr>
            <p:cNvPr id="228" name=""/>
            <p:cNvSpPr/>
            <p:nvPr/>
          </p:nvSpPr>
          <p:spPr>
            <a:xfrm>
              <a:off x="533520" y="30481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91120" y="30481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7080" y="373392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3520" y="5181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67080" y="5181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91120" y="44956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44956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37339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77120" y="2743200"/>
              <a:ext cx="2133360" cy="4597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NSWER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286000" y="0"/>
            <a:ext cx="5486400" cy="1143000"/>
            <a:chOff x="2286000" y="0"/>
            <a:chExt cx="5486400" cy="1143000"/>
          </a:xfrm>
        </p:grpSpPr>
        <p:sp>
          <p:nvSpPr>
            <p:cNvPr id="238" name=""/>
            <p:cNvSpPr/>
            <p:nvPr/>
          </p:nvSpPr>
          <p:spPr>
            <a:xfrm>
              <a:off x="2286000" y="0"/>
              <a:ext cx="5486400" cy="1143000"/>
            </a:xfrm>
            <a:custGeom>
              <a:avLst/>
              <a:gdLst>
                <a:gd name="textAreaLeft" fmla="*/ 857160 w 5486400"/>
                <a:gd name="textAreaRight" fmla="*/ 4800600 w 5486400"/>
                <a:gd name="textAreaTop" fmla="*/ 285840 h 1143000"/>
                <a:gd name="textAreaBottom" fmla="*/ 8575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3581280" y="304920"/>
              <a:ext cx="2514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ood Job!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8494560" y="5602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23269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240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tness and le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good-quality 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ink is preferred (differentiates original from cop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critical items such as aller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writing must be leg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orrections prop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31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56386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l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all findings as soon as they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late entries, record bo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date and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date and time of telephone calls and information discu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 file quickly in event of an eme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32880" y="384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629400" y="2971800"/>
            <a:ext cx="20178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780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200320"/>
            <a:ext cx="84582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9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5 Discuss the need for neatness, timeliness, accuracy, and professional tone in patient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6 Discuss tips for performing accurate transcri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7 Explain how to correct a medical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8 Explain how to update a medical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9 Identify when and how a medical record may be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nformation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guess or as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check accuracy findings and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sure most recent information is reco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240984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08840" y="3314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6094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ional attitude and 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patient comments in his or her own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record your personal or subjective comments, judgments, opinions, or spe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4876920"/>
            <a:ext cx="701028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ay call attention to problems or observations by attaching a note to the chart, bu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ch comments part of medical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00240" y="5842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70102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rec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is also important with electronic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ccessed by more than o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in tele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for tickler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 patient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286000" cy="209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200240" y="5842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5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010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7315200" y="762120"/>
            <a:ext cx="884160" cy="1452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3520" y="2209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mportant to remember when you are documenting in the medical reco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3505320"/>
            <a:ext cx="792504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important that medical records be neat and legible, timely, accurate, and maintain a professional t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257800" y="5029200"/>
            <a:ext cx="31179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ffcf0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Very Good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660066"/>
                  </a:gs>
                  <a:gs pos="100000">
                    <a:srgbClr val="ffcf0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500"/>
                            </p:stCondLst>
                            <p:childTnLst>
                              <p:par>
                                <p:cTn id="6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9888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58"/>
                </p:tgtEl>
              </p:cMediaNode>
            </p:audio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3640" y="593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2640" y="1945800"/>
            <a:ext cx="74674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ranscri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ransforming spoken words into written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ated information is part of the medical record and must be kept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and initial each transcription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ve for ultimate accuracy and completeness of transcrib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142640" y="1945800"/>
            <a:ext cx="80010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bing direct dic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writing pad and pen that will not sm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complete sentences and phrases to keep up with physician’s 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bbrevi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for clarification immediately if something is un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he dictation back to verify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notes into patient record, date, and 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24000" y="274680"/>
            <a:ext cx="7419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2819520"/>
            <a:ext cx="2666880" cy="2666880"/>
          </a:xfrm>
          <a:prstGeom prst="ellipse">
            <a:avLst/>
          </a:prstGeom>
          <a:solidFill>
            <a:srgbClr val="ffcf0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8280" y="2209680"/>
            <a:ext cx="24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90240" y="2209680"/>
            <a:ext cx="28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1360" y="4791240"/>
            <a:ext cx="199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5400" y="4800600"/>
            <a:ext cx="27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24000" y="274680"/>
            <a:ext cx="7419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33520" y="2209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aking direct dictation, when should you clarify information if you do not understand some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3581280"/>
            <a:ext cx="784836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You should immediately clarify information that you do not understand when taking direct dic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486400" y="5257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xcellent!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1532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8" dur="5760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532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rrecting and Updat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records are created in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ue  course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term meaning information is to be entered at the time of occur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corrected or added after patient’s visit is regarded as 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onvenient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re with corr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more difficult to explain a chart that has been altered after something was docu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rrecting 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61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mistakes happen, correct them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line through the origi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must remain le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correct information abo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below original line or in 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why correction was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, time, and initial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 witness, if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5880" y="3124080"/>
            <a:ext cx="2560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Lucida Handwriting"/>
              </a:rPr>
              <a:t>er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3352680"/>
            <a:ext cx="28195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35812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Lucida Handwriting"/>
              </a:rPr>
              <a:t>m/d/yyyy 00:00pm 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Lucida Handwriting"/>
              </a:rPr>
              <a:t>misspelled J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5880" y="4191120"/>
            <a:ext cx="243864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Lucida Handwriting"/>
              </a:rPr>
              <a:t>err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  <p:sp>
        <p:nvSpPr>
          <p:cNvPr id="287" name=""/>
          <p:cNvSpPr/>
          <p:nvPr/>
        </p:nvSpPr>
        <p:spPr>
          <a:xfrm>
            <a:off x="7848720" y="3809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/c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7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8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1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records document the evaluation and treatment of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to patient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ed to describe various aspects of patient information and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 has a major role in documenting in and maintaining patien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Updating 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s to record should not appear decep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why late entry is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and initial added i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have a third party witness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Document"/>
          <p:cNvSpPr/>
          <p:nvPr/>
        </p:nvSpPr>
        <p:spPr>
          <a:xfrm rot="10800000">
            <a:off x="5562360" y="2057040"/>
            <a:ext cx="3276360" cy="4267080"/>
          </a:xfrm>
          <a:prstGeom prst="pie">
            <a:avLst/>
          </a:prstGeom>
          <a:solidFill>
            <a:srgbClr val="ffeda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876920"/>
            <a:ext cx="3048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Addition made to record because patient called back with additional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Mm/dd/yyyy – J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201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/ ch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2296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85800" y="20574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appropriate way to correct an error in a patient’s medical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3048120"/>
            <a:ext cx="8229600" cy="3020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orrect an error in a patient’s medical recor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aw a line through the origi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must remain leg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ert correct information above or below original line or in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cument why correction wa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e, time, and initial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657600" y="380880"/>
            <a:ext cx="335268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uper Job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66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7315200" y="304920"/>
            <a:ext cx="836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8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3" dur="726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94"/>
                </p:tgtEl>
              </p:cMediaNode>
            </p:audio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533160"/>
            <a:ext cx="72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s are property of physici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 confidential patient healt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patient’s written consent to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s: cases of contagious disease or cour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Document"/>
          <p:cNvSpPr/>
          <p:nvPr/>
        </p:nvSpPr>
        <p:spPr>
          <a:xfrm>
            <a:off x="5562720" y="1981080"/>
            <a:ext cx="3276360" cy="4267440"/>
          </a:xfrm>
          <a:prstGeom prst="pie">
            <a:avLst/>
          </a:prstGeom>
          <a:solidFill>
            <a:srgbClr val="ffeda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2057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of In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MO Insuranc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4191120"/>
            <a:ext cx="33526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uthorize Dr. J. Jones to release my healthcare information to the above-named insurance compan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99"/>
                </a:solidFill>
                <a:uFillTx/>
                <a:latin typeface="Lucida Handwriting"/>
              </a:rPr>
              <a:t>Christopher Hansen</a:t>
            </a:r>
            <a:r>
              <a:rPr b="0" lang="en-US" sz="1200" spc="-1" strike="noStrike">
                <a:solidFill>
                  <a:srgbClr val="000099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</a:t>
            </a:r>
            <a:r>
              <a:rPr b="0" lang="en-US" sz="1200" spc="-1" strike="noStrike" u="sng">
                <a:solidFill>
                  <a:srgbClr val="000099"/>
                </a:solidFill>
                <a:uFillTx/>
                <a:latin typeface="Lucida Handwriting"/>
              </a:rPr>
              <a:t>mm/dd/yyy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 Signa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0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0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for releasin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a signed and newly dated release form authorizing the transfer of information, and pla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the patient’s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photocopies of original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and send only documents covered in the release author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o confirm receipt of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7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0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5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219320" y="198108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l guardian of children (may be one or both par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of k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lly authorized represen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unsure, ask super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76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-year-o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d adults in most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have written consent to release their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724280" y="4419720"/>
            <a:ext cx="3581640" cy="2286000"/>
            <a:chOff x="4724280" y="4419720"/>
            <a:chExt cx="3581640" cy="2286000"/>
          </a:xfrm>
        </p:grpSpPr>
        <p:sp>
          <p:nvSpPr>
            <p:cNvPr id="309" name=""/>
            <p:cNvSpPr/>
            <p:nvPr/>
          </p:nvSpPr>
          <p:spPr>
            <a:xfrm>
              <a:off x="4724280" y="4419720"/>
              <a:ext cx="3581640" cy="2286000"/>
            </a:xfrm>
            <a:prstGeom prst="horizontalScroll">
              <a:avLst>
                <a:gd name="adj" fmla="val 12500"/>
              </a:avLst>
            </a:prstGeom>
            <a:solidFill>
              <a:srgbClr val="990099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29200" y="4800600"/>
              <a:ext cx="3276720" cy="143532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Harlow Solid Italic"/>
                </a:rPr>
                <a:t>Legal and ethical principle</a:t>
              </a:r>
              <a:r>
                <a:rPr b="0" lang="en-US" sz="2400" spc="-1" strike="noStrike">
                  <a:solidFill>
                    <a:srgbClr val="ffffff"/>
                  </a:solidFill>
                  <a:latin typeface="Harlow Solid Italic"/>
                </a:rPr>
                <a:t>:</a:t>
              </a:r>
              <a:br>
                <a:rPr sz="2400"/>
              </a:br>
              <a:r>
                <a:rPr b="0" lang="en-US" sz="2000" spc="-1" strike="noStrike">
                  <a:solidFill>
                    <a:srgbClr val="ffffff"/>
                  </a:solidFill>
                  <a:latin typeface="Harlow Solid Italic"/>
                </a:rPr>
                <a:t>Protect patient’s right to privacy at all tim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3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040" y="2057400"/>
            <a:ext cx="832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dical assistant receives a fax transmittal authorizing transfer of medical record information for a client to another physician’s office. What would you do in this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7724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924680" y="4572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80880" y="3929040"/>
            <a:ext cx="8305920" cy="1557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difficult to know the actual originator of a fax transmittal and to verify the signature. The safest solution would be not to release any information based on a fax request and release of information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55627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AdLib BT"/>
              </a:rPr>
              <a:t>Nice Job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3850"/>
                            </p:stCondLst>
                            <p:childTnLst>
                              <p:par>
                                <p:cTn id="9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5760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s must properly prepare and maintain patien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methods for documentation, but regardless of method, records must be complete, legible, current, accurate, and profes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maintain, correct, update, and release patient medical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676520" y="990720"/>
            <a:ext cx="579096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9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3352680" cy="22827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295280" y="4572000"/>
            <a:ext cx="69343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is the power of the day; without it, nothing is accompli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Sophia Pal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 Daybook for Nurses: Making a Difference Each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920" y="620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05312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tient’s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and present medic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tool for  health-care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n to provide for continu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for billing and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education and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document admissible in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1828800"/>
            <a:ext cx="12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3640" y="3086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tient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included in patient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and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coverage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responsi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720" y="1952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compl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-care 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treatment p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to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 and radiology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1219320"/>
            <a:ext cx="127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Legal Guidelin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of event or proced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is considered not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document complete information about patient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if patient i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oncomp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4272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: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s for Record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, accurate, and well-documented records are evidence of appropriate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plete, inaccurate, altered, or illegible records may imply poor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one who documents in the patient record has a responsibility to the patient and employing physic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272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680" y="2971800"/>
            <a:ext cx="1622520" cy="9471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3680" y="2819520"/>
            <a:ext cx="1639080" cy="9471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35560" y="4038480"/>
            <a:ext cx="1480680" cy="5205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133720"/>
            <a:ext cx="3525840" cy="1295280"/>
          </a:xfrm>
          <a:prstGeom prst="flowChartTerminator">
            <a:avLst/>
          </a:prstGeom>
          <a:solidFill>
            <a:srgbClr val="ffcf01"/>
          </a:solidFill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Use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1640" y="4191120"/>
            <a:ext cx="2346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3968640"/>
            <a:ext cx="2590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CAHO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-c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alysi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olicy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4876920"/>
            <a:ext cx="24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2:20:26Z</dcterms:created>
  <dc:creator>Kathryn A. Booth RN-BSN, MS, RMA, RPT</dc:creator>
  <dc:description/>
  <dc:language>en-US</dc:language>
  <cp:lastModifiedBy>Kathryn Booth</cp:lastModifiedBy>
  <dcterms:modified xsi:type="dcterms:W3CDTF">2008-03-29T13:07:21Z</dcterms:modified>
  <cp:revision>61</cp:revision>
  <dc:subject>Medical Assisting 3e</dc:subject>
  <dc:title>Maintaining Patient Records</dc:title>
</cp:coreProperties>
</file>