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9287-81D2-4A2B-A5E6-570E0CD39A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9587-B38C-4ACC-9314-BD7C3B7861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5484-A436-4F2B-8EC3-D54F9ADF0C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A5DD-01E7-457F-AB29-5C2B6C432E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11A6-656D-406D-BE71-73FF1F83FA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0B03-9E4D-4AA1-B0FD-8D4BE0695D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6697-147D-475A-B5BF-F9828B8977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086D-F4BD-46BB-8005-ED52D933AF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AA6B-DE45-425B-A554-96F4A2F868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0109-0288-420B-BB8B-3E9B781596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DB62-B5B8-4D1E-95E4-031E57C814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FD01-A8B0-49E9-80D3-3A667B03D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9-</a:t>
            </a:r>
            <a:fld id="{D140B17A-6857-4E6D-89CC-B60C759A5299}" type="slidenum">
              <a:rPr b="1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9-</a:t>
            </a:r>
            <a:fld id="{0649FEFA-D2BA-4998-BFAB-019CE4F99F71}" type="slidenum"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SN00255A.wav" TargetMode="External"/><Relationship Id="rId3" Type="http://schemas.microsoft.com/office/2007/relationships/media" Target="file:///tmp/home/.config/libreoffice/4/user/gallery/SN00255A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89.wav" TargetMode="External"/><Relationship Id="rId2" Type="http://schemas.microsoft.com/office/2007/relationships/media" Target="file:///tmp/home/.config/libreoffice/4/user/gallery/j0074689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90.wav" TargetMode="External"/><Relationship Id="rId2" Type="http://schemas.microsoft.com/office/2007/relationships/media" Target="file:///tmp/home/.config/libreoffice/4/user/gallery/j0074690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N00524A.wav" TargetMode="External"/><Relationship Id="rId2" Type="http://schemas.microsoft.com/office/2007/relationships/media" Target="file:///tmp/home/.config/libreoffice/4/user/gallery/SN00524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48120" y="10666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9</a:t>
            </a:r>
            <a:endParaRPr b="1" lang="en-US" sz="40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Maintaining Patient Rec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9DA5-DDAE-4BE7-951B-1CB46A587BD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2286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urpose of documentation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429000"/>
            <a:ext cx="746748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ocumentation in the medical record provides evidence of appropriate care. If a procedure is not documented, it is considered not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5288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Job!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41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4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Document"/>
          <p:cNvSpPr/>
          <p:nvPr/>
        </p:nvSpPr>
        <p:spPr>
          <a:xfrm rot="10800000">
            <a:off x="1676160" y="1981080"/>
            <a:ext cx="5127480" cy="457200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057400"/>
            <a:ext cx="494820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tient Registr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ent demograph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, 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rance / financ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medical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nesses, surgeries, allergies, and current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medic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history (diet, exercise, smoking, use of drugs and alcoh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atient complaint recorded in patient’s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4800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examinati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laboratory and othe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from other physicians or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a copy of the patient consent authorizing releas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94480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or’s diagnosis and treat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options and final treatme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or im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ve reports, follow-up visits, and telephon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part of the continuous patient rec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calls made to and from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ed consent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that the patient understands procedures, outcomes, and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may withdraw consent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pital discharge summary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ummarizing the patient’s hospit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for follow-up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ian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094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90720" y="1945800"/>
            <a:ext cx="761976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nce with or about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written correspondence regarding the 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item was received on the actu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ceived by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an original copy; if not available, make a photocopy of the f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ing and initi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date and place your initials on everything you place in the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584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2362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ection of the patient record contains information about smoking, alcohol use, and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505320"/>
            <a:ext cx="79250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formation about smoking, alcohol use, and occupation is part of the patient’s past medical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43600" y="4952880"/>
            <a:ext cx="274320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Times New Roman"/>
              </a:rPr>
              <a:t>Correc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26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2666880"/>
            <a:ext cx="2057400" cy="160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920" y="2108160"/>
            <a:ext cx="26665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ing 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4191120"/>
            <a:ext cx="205740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108160"/>
            <a:ext cx="22129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114800"/>
            <a:ext cx="236232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, prepar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5486400"/>
            <a:ext cx="624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tain patient privac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uring intervi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0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46040" y="2079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e notes the doctor dic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results of laboratory tests and exami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telephone communication with the 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medical or discharge instructions given to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79246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urpose of compiling patient medical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tents of patient record f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to create and maintain a patient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describe common approaches to documenting information in medical rec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3640" y="5122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127240"/>
            <a:ext cx="77724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transcribing notes the doctor dictates and posting lab results, what are two other follow-up tasks the medical assistant might be required to perform as part of follow-up to a patient appoin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4437000"/>
            <a:ext cx="511812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medical assistant may have to record telephone calls with the patient, as well as medical or discharge instructions given to the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cument"/>
          <p:cNvSpPr/>
          <p:nvPr/>
        </p:nvSpPr>
        <p:spPr>
          <a:xfrm rot="10800000">
            <a:off x="5913360" y="5181480"/>
            <a:ext cx="2438640" cy="1447920"/>
          </a:xfrm>
          <a:prstGeom prst="pi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94360" y="5410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c1c1c"/>
                </a:solidFill>
                <a:latin typeface="Times New Roman"/>
              </a:rPr>
              <a:t>Righ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25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988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578560" y="1457280"/>
            <a:ext cx="9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Six Cs of Chart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133720"/>
            <a:ext cx="4114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ent’s wor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it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let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is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onological or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dentia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2179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interpret patient’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981080"/>
            <a:ext cx="1905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29080" y="288936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descriptions / medical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0000" y="35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out forms complet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2321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oint / approved abbr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491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46600" y="5600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HIPAA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33520" y="2286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ix Cs of cha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276720"/>
            <a:ext cx="8077320" cy="2128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ix C’s of charting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’s wor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is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ron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t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91320" y="5105520"/>
            <a:ext cx="251460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eat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1838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2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3640" y="304920"/>
            <a:ext cx="7310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Medical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2081160"/>
          <a:ext cx="8305920" cy="4408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rce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ntional appro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s arranged  according to who supplied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 and treatments are on the same fo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cult to track progress of specific ev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POM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s make it easier to track specific ill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nclu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l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al, diagnostic, and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treatment pl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 no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5932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ly series of steps for dealing with any medical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the 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5000" y="2666880"/>
            <a:ext cx="2514600" cy="28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ffcf01"/>
                    </a:gs>
                    <a:gs pos="100000">
                      <a:srgbClr val="6600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SOAP</a:t>
            </a:r>
            <a:endParaRPr b="1" lang="en-US" sz="1800" spc="1" strike="noStrike">
              <a:ln w="64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ffcf01"/>
                  </a:gs>
                  <a:gs pos="100000">
                    <a:srgbClr val="6600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19320" y="5337000"/>
            <a:ext cx="3733200" cy="1296720"/>
            <a:chOff x="1219320" y="5337000"/>
            <a:chExt cx="3733200" cy="1296720"/>
          </a:xfrm>
        </p:grpSpPr>
        <p:sp>
          <p:nvSpPr>
            <p:cNvPr id="193" name=""/>
            <p:cNvSpPr/>
            <p:nvPr/>
          </p:nvSpPr>
          <p:spPr>
            <a:xfrm flipV="1">
              <a:off x="1219320" y="53370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19320" y="5337000"/>
              <a:ext cx="204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857600" y="5478120"/>
              <a:ext cx="6811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0160" y="6113160"/>
              <a:ext cx="241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00400" y="4314960"/>
            <a:ext cx="3236760" cy="1265400"/>
            <a:chOff x="3200400" y="4314960"/>
            <a:chExt cx="3236760" cy="1265400"/>
          </a:xfrm>
        </p:grpSpPr>
        <p:sp>
          <p:nvSpPr>
            <p:cNvPr id="198" name=""/>
            <p:cNvSpPr/>
            <p:nvPr/>
          </p:nvSpPr>
          <p:spPr>
            <a:xfrm flipV="1">
              <a:off x="3241800" y="4314960"/>
              <a:ext cx="1440" cy="1015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400" y="4314960"/>
              <a:ext cx="217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546720" y="4518000"/>
              <a:ext cx="838080" cy="101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10280" y="505980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34120" y="3400200"/>
            <a:ext cx="2666880" cy="1482840"/>
            <a:chOff x="5334120" y="3400200"/>
            <a:chExt cx="2666880" cy="1482840"/>
          </a:xfrm>
        </p:grpSpPr>
        <p:sp>
          <p:nvSpPr>
            <p:cNvPr id="203" name=""/>
            <p:cNvSpPr/>
            <p:nvPr/>
          </p:nvSpPr>
          <p:spPr>
            <a:xfrm flipV="1">
              <a:off x="5334120" y="3400200"/>
              <a:ext cx="72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4120" y="3400560"/>
              <a:ext cx="14443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388120" y="3620880"/>
              <a:ext cx="789120" cy="110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4000" y="4362480"/>
              <a:ext cx="191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sess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81680" y="2562120"/>
            <a:ext cx="1447920" cy="1265400"/>
            <a:chOff x="6781680" y="2562120"/>
            <a:chExt cx="1447920" cy="1265400"/>
          </a:xfrm>
        </p:grpSpPr>
        <p:sp>
          <p:nvSpPr>
            <p:cNvPr id="208" name=""/>
            <p:cNvSpPr/>
            <p:nvPr/>
          </p:nvSpPr>
          <p:spPr>
            <a:xfrm flipV="1">
              <a:off x="6781680" y="2562120"/>
              <a:ext cx="0" cy="82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2562120"/>
              <a:ext cx="144792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7046280" y="2638440"/>
              <a:ext cx="1027800" cy="1189080"/>
              <a:chOff x="7046280" y="2638440"/>
              <a:chExt cx="1027800" cy="118908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7046280" y="2638440"/>
                <a:ext cx="691560" cy="1003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17800" y="3306960"/>
                <a:ext cx="65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1219320" y="4238640"/>
            <a:ext cx="1828800" cy="1008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ormation the patient tells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3400560"/>
            <a:ext cx="396216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the physician observes during the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562120"/>
            <a:ext cx="541008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impression of the patient’s problem that leads to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1952640"/>
            <a:ext cx="7010280" cy="3988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treatment plan to correct the illness o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1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0880" y="20574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documentation provides an orderly series of steps for dealing with any medical case, and what are the components of this type of docu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429000"/>
            <a:ext cx="8305920" cy="1937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AP documentation provides an orderly series of steps for dealing with any medical case.  The compon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– Subjective da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-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– Objective d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 -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010280" y="68580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648320" y="5486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comic"/>
              </a:rPr>
              <a:t>GOO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00"/>
                            </p:stCondLst>
                            <p:childTnLst>
                              <p:par>
                                <p:cTn id="4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4716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9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2057400"/>
            <a:ext cx="845820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the following items as either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subjective” or 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objectiv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headache                  ____ pulse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vomited x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skin 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respirations 16, la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chest 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poor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2743200"/>
            <a:ext cx="8153280" cy="3141720"/>
            <a:chOff x="457200" y="2743200"/>
            <a:chExt cx="8153280" cy="3141720"/>
          </a:xfrm>
        </p:grpSpPr>
        <p:sp>
          <p:nvSpPr>
            <p:cNvPr id="228" name=""/>
            <p:cNvSpPr/>
            <p:nvPr/>
          </p:nvSpPr>
          <p:spPr>
            <a:xfrm>
              <a:off x="533520" y="3048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3048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7080" y="37339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520" y="5181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67080" y="5181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91120" y="4495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44956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3733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77120" y="2743200"/>
              <a:ext cx="2133360" cy="459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286000" y="0"/>
            <a:ext cx="5486400" cy="1143000"/>
            <a:chOff x="2286000" y="0"/>
            <a:chExt cx="5486400" cy="1143000"/>
          </a:xfrm>
        </p:grpSpPr>
        <p:sp>
          <p:nvSpPr>
            <p:cNvPr id="238" name=""/>
            <p:cNvSpPr/>
            <p:nvPr/>
          </p:nvSpPr>
          <p:spPr>
            <a:xfrm>
              <a:off x="2286000" y="0"/>
              <a:ext cx="5486400" cy="1143000"/>
            </a:xfrm>
            <a:custGeom>
              <a:avLst/>
              <a:gdLst>
                <a:gd name="textAreaLeft" fmla="*/ 857160 w 5486400"/>
                <a:gd name="textAreaRight" fmla="*/ 4800600 w 5486400"/>
                <a:gd name="textAreaTop" fmla="*/ 285840 h 1143000"/>
                <a:gd name="textAreaBottom" fmla="*/ 8575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3581280" y="304920"/>
              <a:ext cx="2514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ood Job!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8494560" y="5602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3269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240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ness and le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ood-quality 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nk is preferred (differentiates original from cop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critical items such as aller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 must be leg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rrections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56386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all findings as soon as they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ate entries, record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date and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and time of telephone calls and information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file quickly in event of an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32880" y="384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629400" y="2971800"/>
            <a:ext cx="2017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780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200320"/>
            <a:ext cx="84582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9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5 Discuss the need for neatness, timeliness, accuracy, and professional tone in patient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6 Discuss tips for performing accurate tran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7 Explain how to correct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8 Explain how to update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9 Identify when and how a medical record may b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nformation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guess or 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check accuracy findings and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ure most recent information is rec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40984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08840" y="3314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6094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attitude and 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patient comments in his or her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cord your personal or subjective comments, judgments, opinions, or spe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4876920"/>
            <a:ext cx="701028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call attention to problems or observations by attaching a note to the chart, bu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ch comments part of medical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7010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rec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is also important with electronic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ccessed by more than o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in tele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tickler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patient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86000" cy="209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7315200" y="762120"/>
            <a:ext cx="884160" cy="145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2209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mportant to remember when you are documenting in the medical rec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505320"/>
            <a:ext cx="792504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important that medical records be neat and legible, timely, accurate, and maintain a professional 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257800" y="5029200"/>
            <a:ext cx="3117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ffcf0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ery Good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100000">
                    <a:srgbClr val="ffcf0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50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9888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8"/>
                </p:tgtEl>
              </p:cMediaNode>
            </p:audio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3640" y="593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2640" y="1945800"/>
            <a:ext cx="74674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ranscri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ransforming spoken words into writte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ated information is part of the medical record and must be kept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each transcription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ve for ultimate accuracy and completeness of transcrib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42640" y="1945800"/>
            <a:ext cx="80010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ing direct dic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writing pad and pen that will not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complete sentences and phrases to keep up with physician’s 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bbrev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for clarification immediately if something is un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dictation back to verify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notes into patient record, date, and 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2819520"/>
            <a:ext cx="2666880" cy="2666880"/>
          </a:xfrm>
          <a:prstGeom prst="ellipse">
            <a:avLst/>
          </a:prstGeom>
          <a:solidFill>
            <a:srgbClr val="ffcf0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8280" y="2209680"/>
            <a:ext cx="24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0240" y="2209680"/>
            <a:ext cx="28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360" y="479124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5400" y="4800600"/>
            <a:ext cx="27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33520" y="2209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aking direct dictation, when should you clarify information if you do not understand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3581280"/>
            <a:ext cx="784836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ou should immediately clarify information that you do not understand when taking direct dic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48640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cellent!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153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8" dur="576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532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and Updat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records are created in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ue  course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term meaning information is to be entered at the time of oc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corrected or added after patient’s visit is regarded as 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onvenient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re with cor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more difficult to explain a chart that has been altered after something was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61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istakes happen, correct them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remain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correct information abo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below original line or in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witness,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5880" y="3124080"/>
            <a:ext cx="2560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352680"/>
            <a:ext cx="28195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5812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/d/yyyy 00:00pm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isspelled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5880" y="4191120"/>
            <a:ext cx="24386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3809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/c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cords document the evaluation and treatment o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to patient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ed to describe various aspects of patient information and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has a major role in documenting in and maintaining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Upda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s to record should not appear dece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why late entry is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added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a third party witness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Document"/>
          <p:cNvSpPr/>
          <p:nvPr/>
        </p:nvSpPr>
        <p:spPr>
          <a:xfrm rot="10800000">
            <a:off x="5562360" y="2057040"/>
            <a:ext cx="3276360" cy="426708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876920"/>
            <a:ext cx="3048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Addition made to record because patient called back with additional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Mm/dd/yyyy –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/ ch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2057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appropriate way to correct an error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3048120"/>
            <a:ext cx="822960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rrect an error in a patient’s medical recor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must remain leg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ert correct information above or below original line or in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657600" y="380880"/>
            <a:ext cx="335268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uper Job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315200" y="30492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726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94"/>
                </p:tgtEl>
              </p:cMediaNode>
            </p:audio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2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are property of physic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confidential patient healt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patient’s written consent to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: cases of contagious disease or cour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cument"/>
          <p:cNvSpPr/>
          <p:nvPr/>
        </p:nvSpPr>
        <p:spPr>
          <a:xfrm>
            <a:off x="5562720" y="1981080"/>
            <a:ext cx="3276360" cy="426744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057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of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MO Insuranc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4191120"/>
            <a:ext cx="33526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uthorize Dr. J. Jones to release my healthcare information to the above-named insurance compan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Christopher Hansen</a:t>
            </a:r>
            <a:r>
              <a:rPr b="0" lang="en-US" sz="1200" spc="-1" strike="noStrike">
                <a:solidFill>
                  <a:srgbClr val="000099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mm/dd/yyy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Signa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0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0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for releasin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a signed and newly dated release form authorizing the transfer of information, and pla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the patient’s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photocopies of original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and send only documents covered in the release author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o confirm receipt of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 guardian of children (may be one or both pa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of k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ly authorized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nsure, ask 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76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-year-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adults in most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have written consent to release their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724280" y="4419720"/>
            <a:ext cx="3581640" cy="2286000"/>
            <a:chOff x="4724280" y="4419720"/>
            <a:chExt cx="3581640" cy="2286000"/>
          </a:xfrm>
        </p:grpSpPr>
        <p:sp>
          <p:nvSpPr>
            <p:cNvPr id="309" name=""/>
            <p:cNvSpPr/>
            <p:nvPr/>
          </p:nvSpPr>
          <p:spPr>
            <a:xfrm>
              <a:off x="4724280" y="4419720"/>
              <a:ext cx="3581640" cy="2286000"/>
            </a:xfrm>
            <a:prstGeom prst="horizontalScroll">
              <a:avLst>
                <a:gd name="adj" fmla="val 12500"/>
              </a:avLst>
            </a:prstGeom>
            <a:solidFill>
              <a:srgbClr val="990099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9200" y="4800600"/>
              <a:ext cx="3276720" cy="14353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Harlow Solid Italic"/>
                </a:rPr>
                <a:t>Legal and ethical principle</a:t>
              </a:r>
              <a:r>
                <a:rPr b="0" lang="en-US" sz="2400" spc="-1" strike="noStrike">
                  <a:solidFill>
                    <a:srgbClr val="ffffff"/>
                  </a:solidFill>
                  <a:latin typeface="Harlow Solid Italic"/>
                </a:rPr>
                <a:t>:</a:t>
              </a:r>
              <a:br>
                <a:rPr sz="2400"/>
              </a:br>
              <a:r>
                <a:rPr b="0" lang="en-US" sz="2000" spc="-1" strike="noStrike">
                  <a:solidFill>
                    <a:srgbClr val="ffffff"/>
                  </a:solidFill>
                  <a:latin typeface="Harlow Solid Italic"/>
                </a:rPr>
                <a:t>Protect patient’s right to privacy at all ti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2057400"/>
            <a:ext cx="832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dical assistant receives a fax transmittal authorizing transfer of medical record information for a client to another physician’s office. What would you do in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80880" y="3929040"/>
            <a:ext cx="8305920" cy="1557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difficult to know the actual originator of a fax transmittal and to verify the signature. The safest solution would be not to release any information based on a fax request and release of informatio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5562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dLib BT"/>
              </a:rPr>
              <a:t>Nice Job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850"/>
                            </p:stCondLst>
                            <p:childTnLst>
                              <p:par>
                                <p:cTn id="9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s must properly prepare and maintain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methods for documentation, but regardless of method, records must be complete, legible, current, accurate, and profes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maintain, correct, update, and release patient medical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990720"/>
            <a:ext cx="579096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9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3352680" cy="2282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295280" y="4572000"/>
            <a:ext cx="69343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is the power of the day; without it, nothing is accompl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Sophia Pal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 Daybook for Nurses: Making a Difference Each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620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05312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ient’s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and present med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tool for  health-care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n to provide for continu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for billing and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education and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 admissible in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1828800"/>
            <a:ext cx="12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3640" y="308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ncluded in patien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nd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coverag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responsi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720" y="1952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mpl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treatment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and radiology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219320"/>
            <a:ext cx="12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Legal Guidelin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of event or proced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is considered no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ocument complete information about patient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if patient i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ncomp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s for Record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, accurate, and well-documented records are evidence of appropriate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, inaccurate, altered, or illegible records may imply poo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who documents in the patient record has a responsibility to the patient and employing physic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680" y="2971800"/>
            <a:ext cx="162252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3680" y="2819520"/>
            <a:ext cx="163908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35560" y="4038480"/>
            <a:ext cx="1480680" cy="5205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133720"/>
            <a:ext cx="3525840" cy="1295280"/>
          </a:xfrm>
          <a:prstGeom prst="flowChartTerminator">
            <a:avLst/>
          </a:prstGeom>
          <a:solidFill>
            <a:srgbClr val="ffcf01"/>
          </a:solidFill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Us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4191120"/>
            <a:ext cx="2346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3968640"/>
            <a:ext cx="2590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AHO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alysi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olicy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487692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2:20:26Z</dcterms:created>
  <dc:creator>Kathryn A. Booth RN-BSN, MS, RMA, RPT</dc:creator>
  <dc:description/>
  <dc:language>en-US</dc:language>
  <cp:lastModifiedBy>Kathryn Booth</cp:lastModifiedBy>
  <dcterms:modified xsi:type="dcterms:W3CDTF">2008-03-29T13:07:21Z</dcterms:modified>
  <cp:revision>61</cp:revision>
  <dc:subject>Medical Assisting 3e</dc:subject>
  <dc:title>Maintaining Patient Records</dc:title>
</cp:coreProperties>
</file>