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jpeg" ContentType="image/jpeg"/>
  <Override PartName="/ppt/media/image1.png" ContentType="image/png"/>
  <Override PartName="/ppt/media/image2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chimes.wav" ContentType="audio/x-wav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11AD-1F5E-46BA-9B0D-C69F815F8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3773-3B71-4ACB-8EF2-028665622E8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ABE3-975C-4D6F-ADD4-DB3BEDC1FA1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385D-8137-41CD-8FAE-E2A9880F032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72F0-1777-4C52-8128-3832F364B23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0C2D-2C4F-4F2F-8F85-8C49473859A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CB77-91E7-4268-BD98-98ED246E5A0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7DEE-ABEF-4D56-80F1-4BEB9159735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DD70-CF48-4C49-BDED-11B9E00D61A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FF6B-E385-428B-92F1-21B2133C43A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16D8-1E0E-4363-921C-8EB470BC7ED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4E22-F5F5-415D-A4C2-7B4B7CA40CE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35B9-2BDF-4535-9432-73846EFFC3B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610A-A9B9-4B20-AA6A-26DF1DD7C74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2290-ABFD-4097-95E2-66DA1736E11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5920-ACEC-4957-B438-7B955A3CBB5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9AEA-A46B-4A08-9E8C-EE584A9E02B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1CF5-1B9D-4657-8B68-3189840A716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0F2A-45C3-469C-B3F3-505583C5344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BB23-02A6-4706-8E52-368061DB0E0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BD8C-D5DB-44F7-A41B-E8ECBAA9F04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04CC-096C-4E59-BCAE-AD6E3BC3262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6422-3CC3-483F-8404-2E054932A06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3FBE-EB3E-4249-B336-56A14270430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3E49-EECA-44A8-AA68-66B18B33B69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079B-F4B5-4B28-85EF-02C0FE789E7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F240-8AFF-4705-9DB6-BCA1F42F675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BED4-5D3E-4F11-AF8A-A48FF278A86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E97E-725B-4ADD-810F-7EFD9C40BB7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0B88-44D7-4351-B09E-EC7C569620B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79CB-CE64-4EE7-ADE2-9EAE93E0472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DF7C-C132-4929-8931-5C3CE3A234C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34AC-62C4-4CF2-B235-BFDEFF9D1F3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38A4-8EA2-49AA-9F0D-72813A4B33D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AA66-7F5F-4B17-96F3-2CD0F400F07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5B1E-5650-444A-B167-93FC8FAB3DC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EA3-1E45-40B1-848E-C815103D4F8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760A-B47F-48C4-9F0D-90F9C18FC38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2DA1-7A20-4A7A-B144-D027974D65B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5541-7C27-4C15-8C09-F3242DD1E39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1923-B5EB-4A11-A131-63A007D7FA4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ABC2-FD34-44ED-8A19-507F56EEA42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7B74-4EEA-44B3-A20A-BED2535F5D7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11AE-D8AE-4A31-AD6B-B039535A97C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6D1B-C7C8-43C3-A128-7482CF80ABC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97EF-DB91-4CDC-B1A9-06F5976EA88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9203-CF68-4D38-B0E9-365234A369B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AD00-2EDA-4F58-B071-D3EFFF0E5E4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CCF4-5DC0-4A31-A60F-2AAE81C4CF4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8F9F-008A-4B72-A868-7BEE7C0DD04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1278-FA14-4254-8843-F3320AC006B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1DB6-748F-4AFF-8FA9-E4567DAA14A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4763-8818-4569-AED5-34046E28572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C7CC-B070-4263-B5A6-D2AA603D72A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48D2-71BB-423F-B6F7-0972013E11F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D3D3-A8B8-42E6-9FB0-DC135A379B5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7B73-EE58-4EB1-83A0-B5A5DB218FC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650A-F97C-4B00-886F-CF04A42DCAC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1ECE-4217-473A-85CD-15E59736E80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DFEF-DB98-411E-B34C-6EA2E0931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9754-FA37-4704-A9D0-CC9D71DF9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0D9B-784B-4E87-81C9-08B419305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6AE5-10E6-46C4-AE85-D037AB2D9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F8BC-AAF1-41BA-8D5F-42FE8684FE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42355-8637-4199-84BF-C7888FFB15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C16D-D318-4CDF-88B9-962F1BA5B9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BEB9-2440-462E-A41E-3B1B8AAF27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A42A-B380-4542-9D3A-922659A37C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5F28-F93D-4E5A-BD92-0FB14DFDD8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B8C9-A147-4254-B386-8FAE81FF16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C4B9-49D3-454A-9728-952EBA88C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08FC-E5B6-4AF4-96A4-89DC2DC61E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1BB2-2ADA-4D7D-A42C-D03558A7B5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363B-FC38-4D1E-8C66-0AE9F2BC3B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B011-FB02-46B4-A09A-87DD03EEAF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CEF8-9A64-4A75-92EE-0E7A172ABD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A267-0BEF-4CF3-946B-D91AC2E95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C82F-D5D6-4B95-8496-B36CBBEC6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AC20-F3EE-4A52-BB62-510A72CC0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C3F3-9E13-47C1-AF7B-0F74BB2E3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1816-8AA4-4D4B-B92D-3EBC0EE2F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3C31-C9B3-442B-BAEF-770A12F3D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D12C-8F9E-4A4B-BECB-1FC2774E9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9B0D29B7-4F04-407A-B1E3-B3BCC1E7DFD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Line 8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" name="Text Box 13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54" name="Text Box 16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CE092E7-3CFE-46A1-A3C0-F5B66B743EA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E7E9732-6307-4F47-A9AA-3CBA442A3A1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2" name="WordArt 2"/>
          <p:cNvSpPr txBox="1"/>
          <p:nvPr/>
        </p:nvSpPr>
        <p:spPr>
          <a:xfrm>
            <a:off x="2895480" y="1219320"/>
            <a:ext cx="3124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7</a:t>
            </a:r>
            <a:endParaRPr b="1" lang="en-US" sz="40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2666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33"/>
                </a:solidFill>
                <a:latin typeface="Times New Roman"/>
              </a:rPr>
              <a:t>Managing Correspondence and Mail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BE85800-EF8D-4A94-9AA3-B83FC6A2385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abels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nted, computerized address labels can save a large amount of tim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ices and stateme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invoic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statement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uter-generated invoices and statemen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uperbil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ata mail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CCDD86C-F271-449A-B045-8AEB09266FF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895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three things do written materials of a medical office convey or demonstrat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33520" y="3124080"/>
            <a:ext cx="7772400" cy="155700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ritten materials convey the ability of the medical office staff to communicate and to conduct business, as well as demonstrate a professional image that reflects on the entire office staff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Picture 14" descr="j0299125"/>
          <p:cNvPicPr/>
          <p:nvPr/>
        </p:nvPicPr>
        <p:blipFill>
          <a:blip r:embed="rId1"/>
          <a:stretch/>
        </p:blipFill>
        <p:spPr>
          <a:xfrm>
            <a:off x="7435800" y="60948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5"/>
          <p:cNvSpPr txBox="1"/>
          <p:nvPr/>
        </p:nvSpPr>
        <p:spPr>
          <a:xfrm>
            <a:off x="6172200" y="5257800"/>
            <a:ext cx="22096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ight!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2" name="Picture 16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1838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21777DB-D7DF-449C-96AE-A59D5DE9AF4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 of communic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urpose - to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explain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clarify,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provide inform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Referral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Scheduling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atient report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atient education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nsurance/billing information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Cover or form lette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1F91A75-57E4-4261-A23C-B5242AFAB13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8088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65040" y="2657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rgin - 1 inch is standar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telin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onth, day, and yea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gins 3 lines below letterhead on line 15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side address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cludes information needed for correct delivery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77FD84B-D272-4994-81F2-644E92D1D7C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ttention lin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d when letter is sent to specific person in a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alut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ritten greeting such as “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Dear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y use business title or department if name is not know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wo lines below inside addres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79B1912-1F75-4140-A890-DCCB1F9A381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bject lin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d to bring attention to subject (optional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wo lines below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Body 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gins two lines below salutation or subject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ext is single-spaced and double-spaced between paragraph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BE6D9B0-184B-4956-89F6-10E4A0A34CD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omplimentary closing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d two lines below bod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ncerely” is commonly us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gnature block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s writer’s name on first line and business title on second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ree to four lines below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0DDD35B-3046-4D81-B159-4DF82064AA8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dentifica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tter writer’s initials followed by a colon or slash mark and the typist’s initials (KB/SF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wo lines below the signature block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741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Nota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y be abbreviated as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l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, or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py notation (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) appears after the enclosure notation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cludes information such as number of enclosures and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tter recipi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239C3CF-F44A-435F-A513-7B69E857636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2590920" y="1981080"/>
            <a:ext cx="4038480" cy="19051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nctuation Styles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cxnSp>
        <p:nvCxnSpPr>
          <p:cNvPr id="186" name="AutoShape 7"/>
          <p:cNvCxnSpPr>
            <a:stCxn id="185" idx="3"/>
            <a:endCxn id="187" idx="0"/>
          </p:cNvCxnSpPr>
          <p:nvPr/>
        </p:nvCxnSpPr>
        <p:spPr>
          <a:xfrm>
            <a:off x="6629040" y="2933280"/>
            <a:ext cx="724680" cy="1105560"/>
          </a:xfrm>
          <a:prstGeom prst="bentConnector2">
            <a:avLst/>
          </a:prstGeom>
          <a:ln w="9360">
            <a:solidFill>
              <a:srgbClr val="000033"/>
            </a:solidFill>
            <a:miter/>
          </a:ln>
        </p:spPr>
      </p:cxnSp>
      <p:cxnSp>
        <p:nvCxnSpPr>
          <p:cNvPr id="188" name="AutoShape 8"/>
          <p:cNvCxnSpPr>
            <a:stCxn id="185" idx="1"/>
          </p:cNvCxnSpPr>
          <p:nvPr/>
        </p:nvCxnSpPr>
        <p:spPr>
          <a:xfrm flipV="1" rot="10800000">
            <a:off x="1828080" y="2932560"/>
            <a:ext cx="762840" cy="1296360"/>
          </a:xfrm>
          <a:prstGeom prst="bentConnector2">
            <a:avLst/>
          </a:prstGeom>
          <a:ln w="9360">
            <a:solidFill>
              <a:srgbClr val="000033"/>
            </a:solidFill>
            <a:miter/>
          </a:ln>
        </p:spPr>
      </p:cxnSp>
      <p:sp>
        <p:nvSpPr>
          <p:cNvPr id="189" name="AutoShape 9"/>
          <p:cNvSpPr/>
          <p:nvPr/>
        </p:nvSpPr>
        <p:spPr>
          <a:xfrm>
            <a:off x="762120" y="4038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6248520" y="4038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621BE53-7C36-4529-A25B-423115AB5A2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 Sty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Open punctuation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uses no punctuation after these items in a letter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Attention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the atten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signature block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enclosure and copy nota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56D8886-CD3A-4BCB-BAE4-9072F8373CB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1981080"/>
            <a:ext cx="792468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1 List the supplies necessary for creating and mailing professional-looking correspondence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2 Identify the types of correspondence used in medical office communication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3 Describe the parts of a letter and the different letter and punctuation styl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4 Compose a business lett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56FE0BF-7E09-4CD6-AF7C-CECB6049D16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Mixed Punctuation</a:t>
            </a: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cludes the following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Attention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the atten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4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the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5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mma after the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5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or period after the enclosure no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4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the copy no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 Style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8077320" y="3657600"/>
            <a:ext cx="38088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WordArt 9"/>
          <p:cNvSpPr txBox="1"/>
          <p:nvPr/>
        </p:nvSpPr>
        <p:spPr>
          <a:xfrm>
            <a:off x="8077320" y="2438280"/>
            <a:ext cx="3045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WordArt 10"/>
          <p:cNvSpPr txBox="1"/>
          <p:nvPr/>
        </p:nvSpPr>
        <p:spPr>
          <a:xfrm>
            <a:off x="8077320" y="4952880"/>
            <a:ext cx="3045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CDC7AE4-4B6F-494A-A6E7-BEA9053109C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tter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ne-inch margins on the left and right for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 ½-inch paper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 should be centered on the p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ngle-space body of letter and double-space between paragraph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hort sentences with no more than 20 words on an aver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9E288F5-7B92-414A-B490-F46B36632BC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tter Format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Have at least two sentences per paragraph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ivide paragraphs longer than 10 lines into two paragraph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r multi-page letters, use letterhead for first page onl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95C74B5-24FD-445D-82A7-31E87474E22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1752480"/>
          <a:ext cx="8458200" cy="3936960"/>
        </p:xfrm>
        <a:graphic>
          <a:graphicData uri="http://schemas.openxmlformats.org/drawingml/2006/table">
            <a:tbl>
              <a:tblPr/>
              <a:tblGrid>
                <a:gridCol w="2129040"/>
                <a:gridCol w="632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etter Sty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ll-Block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ines are typed flush lef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No indented paragrap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commonly used in medical off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ed-Block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ateline, complimentary closing, signature block and notations are aligned at the center of page or to the righ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ditional, balanced appearan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F5D392B-DA36-4DEF-9D57-F59619BE8FA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1752480"/>
          <a:ext cx="8305920" cy="3956040"/>
        </p:xfrm>
        <a:graphic>
          <a:graphicData uri="http://schemas.openxmlformats.org/drawingml/2006/table">
            <a:tbl>
              <a:tblPr/>
              <a:tblGrid>
                <a:gridCol w="2362320"/>
                <a:gridCol w="594360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etter Sty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ed-Block with Indented Paragrap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agraphs are indented ½ inch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implifi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cation of full-block sty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modern letter sty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No salutation, courtesy title, or clos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subject line in all capital lett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oo informal for medical off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28A8A16-6E16-4393-AE62-E8CDA1F6E6B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80880" y="189540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should the medical assistant do if a mailing is to be sent to an organization to request x-ray films, but no specific name or title is given to address it to? Which of the following would you us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442960" y="3809880"/>
            <a:ext cx="630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To Whom It May Concer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Attention: To Whom It May Concer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Dear Sir/Mad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Dear Radiology Depart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7" name="Group 25"/>
          <p:cNvGrpSpPr/>
          <p:nvPr/>
        </p:nvGrpSpPr>
        <p:grpSpPr>
          <a:xfrm>
            <a:off x="304920" y="4114800"/>
            <a:ext cx="2590560" cy="1447920"/>
            <a:chOff x="304920" y="4114800"/>
            <a:chExt cx="2590560" cy="1447920"/>
          </a:xfrm>
        </p:grpSpPr>
        <p:sp>
          <p:nvSpPr>
            <p:cNvPr id="218" name="Text Box 13"/>
            <p:cNvSpPr/>
            <p:nvPr/>
          </p:nvSpPr>
          <p:spPr>
            <a:xfrm>
              <a:off x="304920" y="4114800"/>
              <a:ext cx="1400040" cy="398880"/>
            </a:xfrm>
            <a:prstGeom prst="rect">
              <a:avLst/>
            </a:prstGeom>
            <a:solidFill>
              <a:srgbClr val="8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SWER:</a:t>
              </a:r>
              <a:endParaRPr b="0" lang="en-US" sz="20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362320" y="5181480"/>
              <a:ext cx="533160" cy="3812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220" name="WordArt 22"/>
          <p:cNvSpPr txBox="1"/>
          <p:nvPr/>
        </p:nvSpPr>
        <p:spPr>
          <a:xfrm>
            <a:off x="6172200" y="5334120"/>
            <a:ext cx="1666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Correct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4" descr="j0299125"/>
          <p:cNvPicPr/>
          <p:nvPr/>
        </p:nvPicPr>
        <p:blipFill>
          <a:blip r:embed="rId2"/>
          <a:stretch/>
        </p:blipFill>
        <p:spPr>
          <a:xfrm>
            <a:off x="7435800" y="609480"/>
            <a:ext cx="69696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2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226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85D4606-865A-4C39-B8A1-26C18B4532F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ive Wri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dentify your reading audienc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ne of letter (formal or relaxed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Know the purpose of the lett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clear and conci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n’t use unnecessary word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ssage should be easily understoo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 active voice when possibl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ssive voice is best when relaying negative new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973B144-F0F6-49BD-90C9-751E9DFA2E9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ive Writing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polite and courteou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lling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curacy of dates and monetary figur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leaving “widows and orphans” (dangling words and phrases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5966D44-A3CD-45E6-82C6-C3588FF93C7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1" name="Picture 8" descr="j0299125"/>
          <p:cNvPicPr/>
          <p:nvPr/>
        </p:nvPicPr>
        <p:blipFill>
          <a:blip r:embed="rId1"/>
          <a:stretch/>
        </p:blipFill>
        <p:spPr>
          <a:xfrm>
            <a:off x="7350120" y="60948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380880" y="19051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l professional correspondence must be written in a way that conveys information clearly.  What do you need to know when preparing to write any form of office communication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380880" y="3808440"/>
            <a:ext cx="8382240" cy="9471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 must know who you are writing to, i.e., a physician, patient, vendor, or fellow staff member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4" name="AutoShape 13"/>
          <p:cNvSpPr/>
          <p:nvPr/>
        </p:nvSpPr>
        <p:spPr>
          <a:xfrm rot="10800000">
            <a:off x="6400800" y="4952520"/>
            <a:ext cx="2362320" cy="1600200"/>
          </a:xfrm>
          <a:prstGeom prst="verticalScroll">
            <a:avLst>
              <a:gd name="adj" fmla="val 12500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781680" y="5105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od Job!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36" name="Picture 15" descr=""/>
          <p:cNvPicPr/>
          <p:nvPr/>
        </p:nvPicPr>
        <p:blipFill>
          <a:blip r:embed="rId2"/>
          <a:stretch/>
        </p:blipFill>
        <p:spPr>
          <a:xfrm>
            <a:off x="86104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471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FAE6A5A-4216-40CE-9690-AFD6CB5B8ED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Edi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fo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actual accurac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ogical flow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ncisenes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lar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ne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Proofread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for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rammatical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rmat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ave another person proofread if possib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049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and Proof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09480" y="5410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skip editing and proofreading steps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847F785-06E2-4F1D-A046-08A38E1A2CA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" y="1981080"/>
            <a:ext cx="83059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5 Explain the tasks involved in editing and proofreading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6 Describe the process of handling incoming and outgoing mail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7 Compare and contrast the services provided by the U.S. Postal Service and other delivery servic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7727BF5-AFC6-401C-AA35-2D5AC3EFCD3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380880" y="1828800"/>
            <a:ext cx="8305920" cy="1066680"/>
          </a:xfrm>
          <a:prstGeom prst="bevel">
            <a:avLst>
              <a:gd name="adj" fmla="val 12500"/>
            </a:avLst>
          </a:prstGeom>
          <a:solidFill>
            <a:srgbClr val="80408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ls for Editing And Proofread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963240" y="3200400"/>
            <a:ext cx="17017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c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276360" y="4191120"/>
            <a:ext cx="28753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dic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380880" y="3429000"/>
            <a:ext cx="2438640" cy="13737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Physician’s Desk Reference (PDR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6553080" y="3429000"/>
            <a:ext cx="2210040" cy="13737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glish grammar a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age manua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437200" y="5257800"/>
            <a:ext cx="45547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ord processing spell check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and Proofreading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738D8FB-C886-40C7-890E-5299C75930D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iting ensures that documents ar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urat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ear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ree of grammatical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gically organiz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ritten in appropriate 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4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9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9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EC7BD7E-42B1-42C9-9699-74515F0E685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anguage usag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 basic grammar ru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k: “Is this the best way to convey what I want to say?”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priate to rea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57" name="Picture 8" descr="MPj03877960000[1]"/>
          <p:cNvPicPr/>
          <p:nvPr/>
        </p:nvPicPr>
        <p:blipFill>
          <a:blip r:embed="rId1"/>
          <a:stretch/>
        </p:blipFill>
        <p:spPr>
          <a:xfrm>
            <a:off x="5362560" y="21510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C60F1E6-38A4-440F-BC3F-7D013B78B4B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ontent - logical flow of though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purpo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cuss one topic at a tim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ange paragraphs when changing topic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ist events in chronological ord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ick to subjec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lect words careful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oofread what you writ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4CDCAD8-EDAD-43C8-9EFD-B5674BBF032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ofread and put asid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Have coworker proofread docum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ree types of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t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chanical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E34325A-04E9-4636-8B1A-1E1E042D376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rmatting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sitioning parts of a lett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denting, line length, line spac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 following office 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ta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istyping monetary figu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 double-checking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gures or having someone else check th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6705720" y="3886200"/>
            <a:ext cx="1828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$$$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5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8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3D87524-CB8C-4B52-99F1-1EAF0DD7641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chanical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lling, punctuation, spacing between words, division of work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ing basic spelling, punctuation, and word division ru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ing for transposed characters or word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voiding dividing words at the end of a lin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69EBD41-5792-4FD2-A68C-01A8D29ACB5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28600" y="1828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letter must be sent to current employees that have exceeded their number of absences according to office policy. Which of the following would be most appropriat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70800" y="3352680"/>
            <a:ext cx="8418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The attendance policy of this office requires that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You have violated the attendance policy of this 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Are you aware that you have missed “X” days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57200" y="494028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04920" y="4572000"/>
            <a:ext cx="8458200" cy="155700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is correspondence must communicate the facts in a soft manner while getting the point across. The first response begins with identifying the “fact” or policy followed by the individual’s performance and is less subjective or punitive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77" name="Picture 13" descr="j0299125"/>
          <p:cNvPicPr/>
          <p:nvPr/>
        </p:nvPicPr>
        <p:blipFill>
          <a:blip r:embed="rId1"/>
          <a:stretch/>
        </p:blipFill>
        <p:spPr>
          <a:xfrm>
            <a:off x="304920" y="38088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78" name="Oval 14"/>
          <p:cNvSpPr/>
          <p:nvPr/>
        </p:nvSpPr>
        <p:spPr>
          <a:xfrm>
            <a:off x="380880" y="34290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1066680" y="457200"/>
            <a:ext cx="2133720" cy="838080"/>
          </a:xfrm>
          <a:prstGeom prst="wedgeRoundRectCallout">
            <a:avLst>
              <a:gd name="adj1" fmla="val -43518"/>
              <a:gd name="adj2" fmla="val 70074"/>
              <a:gd name="adj3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ice Work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0" name="Picture 16" descr=""/>
          <p:cNvPicPr/>
          <p:nvPr/>
        </p:nvPicPr>
        <p:blipFill>
          <a:blip r:embed="rId2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9" dur="226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F7F1C35-944E-49FF-99CB-AC8722D7364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paring Outgoing M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gning lett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sign for the doctor, place your initials after the doctor’s signatur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aring the envelop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 USPS guidelines for addressing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nvelop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dress placemen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dress forma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4" name="Picture 4" descr="MCj0397066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236680" cy="22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DE5E44C-7D3A-4A15-8B5D-41566260714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paring Outgo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lding and inserting the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e of envelope determines the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ay a letter should be fold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Small envelope – fold letter in half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Business-size envelope – fold in thirds </a:t>
            </a:r>
            <a:br>
              <a:rPr sz="2200"/>
            </a:b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(fold bottom up then top down)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indow envelope – accordion fold so address appears in the window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sure letters are signed and all enclosures are included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sure address on letter matches envelope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8" name="Picture 4" descr="MCj04315360000[1]"/>
          <p:cNvPicPr/>
          <p:nvPr/>
        </p:nvPicPr>
        <p:blipFill>
          <a:blip r:embed="rId1"/>
          <a:stretch/>
        </p:blipFill>
        <p:spPr>
          <a:xfrm>
            <a:off x="6477120" y="1752480"/>
            <a:ext cx="2171520" cy="213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7E61282-748E-47C0-82E4-3E1E7F0341E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ritten materials demonstrate ability to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nduct busines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image is conveyed in written correspondenc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ritten documents = legal record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52320" y="22860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33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F966FA8-D1E7-4ED4-AC00-9D540AB0A6C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Picture 4" descr="j0299125"/>
          <p:cNvPicPr/>
          <p:nvPr/>
        </p:nvPicPr>
        <p:blipFill>
          <a:blip r:embed="rId1"/>
          <a:stretch/>
        </p:blipFill>
        <p:spPr>
          <a:xfrm>
            <a:off x="7620120" y="6858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609480" y="3216240"/>
            <a:ext cx="7848720" cy="82548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en preparing envelopes for mailing office correspondence, you should use USPS guidelines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33520" y="1981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ow should you prepare envelopes for mailing office correspondenc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6172200" y="49528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5f00ff"/>
              </a:buClr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Stamp of</a:t>
            </a:r>
            <a:br>
              <a:rPr sz="2800"/>
            </a:b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     Approval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2"/>
          <a:stretch/>
        </p:blipFill>
        <p:spPr>
          <a:xfrm>
            <a:off x="83818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500"/>
                            </p:stCondLst>
                            <p:childTnLst>
                              <p:par>
                                <p:cTn id="8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3" dur="4716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562BA7C-23C7-4E46-9FF3-3E228C378B5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etterhead, blank stationery, envelop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ailable from USPS, private delivery companies, and office supply sto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r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abel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ckag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99" name="Picture 4" descr="MCj01495690000[1]"/>
          <p:cNvPicPr/>
          <p:nvPr/>
        </p:nvPicPr>
        <p:blipFill>
          <a:blip r:embed="rId1"/>
          <a:stretch/>
        </p:blipFill>
        <p:spPr>
          <a:xfrm>
            <a:off x="5715000" y="2971800"/>
            <a:ext cx="26924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9160433-15DD-4161-BCE4-62D132950DF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irmai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Letters and packages must be </a:t>
            </a:r>
            <a:br>
              <a:rPr sz="2700"/>
            </a:b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labeled “AIRMAIL” on all sides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Available for mail to foreign countries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velopes for Overnight Delivery Servic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USPS and other companies require the use of their own mailing materials for next day delivery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3" name="Picture 5" descr="MMj02970310000[1]"/>
          <p:cNvPicPr/>
          <p:nvPr/>
        </p:nvPicPr>
        <p:blipFill>
          <a:blip r:embed="rId1"/>
          <a:stretch/>
        </p:blipFill>
        <p:spPr>
          <a:xfrm>
            <a:off x="6477120" y="1981080"/>
            <a:ext cx="224784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68AB352-29A7-40AC-A2E1-BDACFB056A2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stal rates, scales, and met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Rates and regulations change periodically, so keep current rates on-hand at the medical office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7" name="Picture 4" descr="j0356853"/>
          <p:cNvPicPr/>
          <p:nvPr/>
        </p:nvPicPr>
        <p:blipFill>
          <a:blip r:embed="rId1"/>
          <a:stretch/>
        </p:blipFill>
        <p:spPr>
          <a:xfrm>
            <a:off x="5638680" y="2666880"/>
            <a:ext cx="2363760" cy="182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28C322C-ACF0-4DFF-BCB9-CF3E8E9B2E9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Picture 4" descr="j0299125"/>
          <p:cNvPicPr/>
          <p:nvPr/>
        </p:nvPicPr>
        <p:blipFill>
          <a:blip r:embed="rId1"/>
          <a:stretch/>
        </p:blipFill>
        <p:spPr>
          <a:xfrm>
            <a:off x="7467480" y="609480"/>
            <a:ext cx="79056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533520" y="22096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addition to letterhead, blank stationary, and envelopes, what other mailing supplies might be needed for a medical offic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85800" y="3733920"/>
            <a:ext cx="7467480" cy="13737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medical office may need forms, labels, and packaging supplies for items needing special attention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13" name="Group 104"/>
          <p:cNvGrpSpPr/>
          <p:nvPr/>
        </p:nvGrpSpPr>
        <p:grpSpPr>
          <a:xfrm>
            <a:off x="5867280" y="4952880"/>
            <a:ext cx="2362320" cy="1447920"/>
            <a:chOff x="5867280" y="4952880"/>
            <a:chExt cx="2362320" cy="1447920"/>
          </a:xfrm>
        </p:grpSpPr>
        <p:sp>
          <p:nvSpPr>
            <p:cNvPr id="314" name="AutoShape 105"/>
            <p:cNvSpPr/>
            <p:nvPr/>
          </p:nvSpPr>
          <p:spPr>
            <a:xfrm>
              <a:off x="5867280" y="4952880"/>
              <a:ext cx="2362320" cy="1447920"/>
            </a:xfrm>
            <a:prstGeom prst="cube">
              <a:avLst>
                <a:gd name="adj" fmla="val 25000"/>
              </a:avLst>
            </a:prstGeom>
            <a:solidFill>
              <a:srgbClr val="5f00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5" name="Text Box 106"/>
            <p:cNvSpPr/>
            <p:nvPr/>
          </p:nvSpPr>
          <p:spPr>
            <a:xfrm>
              <a:off x="6019560" y="54100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Good Answer!</a:t>
              </a:r>
              <a:endParaRPr b="0" lang="en-US" sz="24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6" name="Line 107"/>
            <p:cNvSpPr/>
            <p:nvPr/>
          </p:nvSpPr>
          <p:spPr>
            <a:xfrm>
              <a:off x="6019560" y="5105160"/>
              <a:ext cx="2057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7" name="Line 108"/>
            <p:cNvSpPr/>
            <p:nvPr/>
          </p:nvSpPr>
          <p:spPr>
            <a:xfrm>
              <a:off x="8076960" y="5105160"/>
              <a:ext cx="0" cy="1143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8" name="Rectangle 109"/>
            <p:cNvSpPr/>
            <p:nvPr/>
          </p:nvSpPr>
          <p:spPr>
            <a:xfrm>
              <a:off x="647676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9" name="Rectangle 110"/>
            <p:cNvSpPr/>
            <p:nvPr/>
          </p:nvSpPr>
          <p:spPr>
            <a:xfrm>
              <a:off x="6248160" y="4952880"/>
              <a:ext cx="381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20" name="Rectangle 111"/>
            <p:cNvSpPr/>
            <p:nvPr/>
          </p:nvSpPr>
          <p:spPr>
            <a:xfrm>
              <a:off x="7696080" y="495288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pic>
        <p:nvPicPr>
          <p:cNvPr id="321" name="Picture 112" descr=""/>
          <p:cNvPicPr/>
          <p:nvPr/>
        </p:nvPicPr>
        <p:blipFill>
          <a:blip r:embed="rId2"/>
          <a:stretch/>
        </p:blipFill>
        <p:spPr>
          <a:xfrm>
            <a:off x="8534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5" dur="726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04D34A3-DAC8-4CE2-903E-E5A0D561A92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228600" y="4648320"/>
            <a:ext cx="3978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5f00ff"/>
              </a:buClr>
              <a:buFont typeface="Wingdings" charset="2"/>
              <a:buChar char="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PS – Regular Mail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rst-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ust weigh no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ore than 11 oz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st is based on     weigh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l is forwarded at      no extra co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urth-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so called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parcel pos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  and is used for items weighing between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1 lb.     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70 lb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ates are based on weight and distanc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1267564-9C91-45FB-93BE-7C72F56D6C0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PS – Regular Mail Servic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ority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ful for heavier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ems requiring faster deliver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offers a flat rate for any items that can fit into the priority envelop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guarantees delivery within 2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3 day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xpre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quickest servic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ivery service available every da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ates vary with weigh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ems automatically insured against loss or damag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 flat rate also availabl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6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9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7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0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3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9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2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2F2E739-BD45-450B-A8AE-00BD36F975B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 delive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iveries made before regular mail delivery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imited hours and distance limits availabil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ertifi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ffers a guarantee that the item has been receiv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quires signature of recipien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34" name="Picture 13" descr="MCj02375120000[1]"/>
          <p:cNvPicPr/>
          <p:nvPr/>
        </p:nvPicPr>
        <p:blipFill>
          <a:blip r:embed="rId1"/>
          <a:stretch/>
        </p:blipFill>
        <p:spPr>
          <a:xfrm>
            <a:off x="5562720" y="2438280"/>
            <a:ext cx="317016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FACEAAF-C9AE-4AE1-B3CA-89159AACAD8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turn receipt request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ffers proof of who receiv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item and when they received i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gister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d to send valuable, important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vidence provided of mailing and delivery to sen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irst-class and priority mail can be register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38" name="Picture 6" descr="MCj02808200000[1]"/>
          <p:cNvPicPr/>
          <p:nvPr/>
        </p:nvPicPr>
        <p:blipFill>
          <a:blip r:embed="rId1"/>
          <a:stretch/>
        </p:blipFill>
        <p:spPr>
          <a:xfrm>
            <a:off x="6172200" y="2057400"/>
            <a:ext cx="2295360" cy="1693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5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8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1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C808581-CB70-4D01-9E94-632A65C798A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202248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ternational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offers surfac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d airmail services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most foreign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untr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ternational mail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lasses are similar to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mestic mail clas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8320" y="202248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racing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rvice used if a piece of certified or registered mail does not reach its destination on tim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original receipt must be presented to locate the ite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19C7E0B-4848-4D6F-BBD8-450F7DF3A18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rrespondence and Professional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earning to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4080"/>
                </a:solidFill>
                <a:latin typeface="Wingdings"/>
                <a:ea typeface="Wingdings"/>
              </a:rPr>
              <a:t></a:t>
            </a:r>
            <a:r>
              <a:rPr b="0" lang="en-US" sz="6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Create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    </a:t>
            </a:r>
            <a:r>
              <a:rPr b="0" lang="en-US" sz="6600" spc="-1" strike="noStrike">
                <a:solidFill>
                  <a:srgbClr val="804080"/>
                </a:solidFill>
                <a:latin typeface="Wingdings"/>
                <a:ea typeface="Wingdings"/>
              </a:rPr>
              <a:t>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Receiv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Se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spondence properly ensures positive, effective communication between your office and other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38080" y="20574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33"/>
                </a:solidFill>
                <a:latin typeface="Wingdings"/>
                <a:ea typeface="Wingdings"/>
              </a:rPr>
              <a:t></a:t>
            </a:r>
            <a:endParaRPr b="0" lang="en-US" sz="6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22" name="Picture 13" descr="MCj04316000000[1]"/>
          <p:cNvPicPr/>
          <p:nvPr/>
        </p:nvPicPr>
        <p:blipFill>
          <a:blip r:embed="rId1"/>
          <a:stretch/>
        </p:blipFill>
        <p:spPr>
          <a:xfrm>
            <a:off x="3276720" y="2438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3C7BF27-2057-440F-A725-FB7196B01AD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1828800"/>
          <a:ext cx="8229600" cy="4419720"/>
        </p:xfrm>
        <a:graphic>
          <a:graphicData uri="http://schemas.openxmlformats.org/drawingml/2006/table">
            <a:tbl>
              <a:tblPr/>
              <a:tblGrid>
                <a:gridCol w="3504960"/>
                <a:gridCol w="4724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livery Servic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5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5f00ff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nited Parcel Service (UPS)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overnight letter and express servic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ckages insur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press Delivery Servic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ederal Expres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H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ssengers or Carrier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ocal area same-day deliver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ther Delivery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DBD37A8-510C-455C-8916-795448E9780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47" name="Group 18"/>
          <p:cNvGrpSpPr/>
          <p:nvPr/>
        </p:nvGrpSpPr>
        <p:grpSpPr>
          <a:xfrm>
            <a:off x="455040" y="2895480"/>
            <a:ext cx="6783840" cy="520560"/>
            <a:chOff x="455040" y="2895480"/>
            <a:chExt cx="6783840" cy="520560"/>
          </a:xfrm>
        </p:grpSpPr>
        <p:sp>
          <p:nvSpPr>
            <p:cNvPr id="348" name="Text Box 5"/>
            <p:cNvSpPr/>
            <p:nvPr/>
          </p:nvSpPr>
          <p:spPr>
            <a:xfrm>
              <a:off x="455040" y="2895480"/>
              <a:ext cx="4528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onfidential laboratory result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49" name="Line 8"/>
            <p:cNvSpPr/>
            <p:nvPr/>
          </p:nvSpPr>
          <p:spPr>
            <a:xfrm>
              <a:off x="5257800" y="3124080"/>
              <a:ext cx="198108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50" name="Group 19"/>
          <p:cNvGrpSpPr/>
          <p:nvPr/>
        </p:nvGrpSpPr>
        <p:grpSpPr>
          <a:xfrm>
            <a:off x="440640" y="3571920"/>
            <a:ext cx="6798240" cy="520560"/>
            <a:chOff x="440640" y="3571920"/>
            <a:chExt cx="6798240" cy="520560"/>
          </a:xfrm>
        </p:grpSpPr>
        <p:sp>
          <p:nvSpPr>
            <p:cNvPr id="351" name="Text Box 6"/>
            <p:cNvSpPr/>
            <p:nvPr/>
          </p:nvSpPr>
          <p:spPr>
            <a:xfrm>
              <a:off x="440640" y="3571920"/>
              <a:ext cx="52527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Signed and dated contract material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52" name="Line 9"/>
            <p:cNvSpPr/>
            <p:nvPr/>
          </p:nvSpPr>
          <p:spPr>
            <a:xfrm>
              <a:off x="5715000" y="3809880"/>
              <a:ext cx="152388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53" name="Group 20"/>
          <p:cNvGrpSpPr/>
          <p:nvPr/>
        </p:nvGrpSpPr>
        <p:grpSpPr>
          <a:xfrm>
            <a:off x="438480" y="4181400"/>
            <a:ext cx="6800400" cy="520560"/>
            <a:chOff x="438480" y="4181400"/>
            <a:chExt cx="6800400" cy="520560"/>
          </a:xfrm>
        </p:grpSpPr>
        <p:sp>
          <p:nvSpPr>
            <p:cNvPr id="354" name="Text Box 7"/>
            <p:cNvSpPr/>
            <p:nvPr/>
          </p:nvSpPr>
          <p:spPr>
            <a:xfrm>
              <a:off x="438480" y="4181400"/>
              <a:ext cx="5513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tient invoice and billing statement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>
              <a:off x="6095880" y="4419720"/>
              <a:ext cx="114300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356" name="Text Box 12"/>
          <p:cNvSpPr/>
          <p:nvPr/>
        </p:nvSpPr>
        <p:spPr>
          <a:xfrm>
            <a:off x="380880" y="17524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type of mail would you use to send each of the following: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7394040" y="3429000"/>
            <a:ext cx="114696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7530120" y="4029120"/>
            <a:ext cx="43668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859120" y="4800600"/>
            <a:ext cx="357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. First 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. Priority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. Certifi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. Register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5638680" y="2286000"/>
            <a:ext cx="152424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NSWER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7317720" y="2819520"/>
            <a:ext cx="114696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3" name="Text Box 31"/>
          <p:cNvSpPr/>
          <p:nvPr/>
        </p:nvSpPr>
        <p:spPr>
          <a:xfrm>
            <a:off x="693432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Right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64" name="Group 38"/>
          <p:cNvGrpSpPr/>
          <p:nvPr/>
        </p:nvGrpSpPr>
        <p:grpSpPr>
          <a:xfrm>
            <a:off x="6248520" y="5181480"/>
            <a:ext cx="2514600" cy="1295640"/>
            <a:chOff x="6248520" y="5181480"/>
            <a:chExt cx="2514600" cy="1295640"/>
          </a:xfrm>
        </p:grpSpPr>
        <p:sp>
          <p:nvSpPr>
            <p:cNvPr id="365" name="Rectangle 34"/>
            <p:cNvSpPr/>
            <p:nvPr/>
          </p:nvSpPr>
          <p:spPr>
            <a:xfrm>
              <a:off x="6248520" y="5181480"/>
              <a:ext cx="2514600" cy="12956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66" name="Text Box 36"/>
            <p:cNvSpPr/>
            <p:nvPr/>
          </p:nvSpPr>
          <p:spPr>
            <a:xfrm>
              <a:off x="6324840" y="5257800"/>
              <a:ext cx="685800" cy="32436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33"/>
                  </a:solidFill>
                  <a:latin typeface="Times New Roman"/>
                </a:rPr>
                <a:t>111 One Drive</a:t>
              </a:r>
              <a:endParaRPr b="0" lang="en-US" sz="600" spc="-1" strike="noStrike">
                <a:solidFill>
                  <a:srgbClr val="000033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33"/>
                  </a:solidFill>
                  <a:latin typeface="Times New Roman"/>
                </a:rPr>
                <a:t>Any,  ST 11111</a:t>
              </a:r>
              <a:endParaRPr b="0" lang="en-US" sz="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67" name="AutoShape 37"/>
            <p:cNvSpPr/>
            <p:nvPr/>
          </p:nvSpPr>
          <p:spPr>
            <a:xfrm>
              <a:off x="8305920" y="5257800"/>
              <a:ext cx="228600" cy="30492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304920"/>
                <a:gd name="textAreaBottom" fmla="*/ 29376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f00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pic>
        <p:nvPicPr>
          <p:cNvPr id="368" name="j0074691.wav" descr=""/>
          <p:cNvPicPr/>
          <p:nvPr/>
        </p:nvPicPr>
        <p:blipFill>
          <a:blip r:embed="rId1"/>
          <a:stretch/>
        </p:blipFill>
        <p:spPr>
          <a:xfrm>
            <a:off x="8610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0" descr="j0299125"/>
          <p:cNvPicPr/>
          <p:nvPr/>
        </p:nvPicPr>
        <p:blipFill>
          <a:blip r:embed="rId2"/>
          <a:stretch/>
        </p:blipFill>
        <p:spPr>
          <a:xfrm>
            <a:off x="7467480" y="457200"/>
            <a:ext cx="79056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23269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C384B8E-A58B-47E7-B40D-2B91B0C4425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7889040" y="30492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33"/>
                </a:solidFill>
                <a:latin typeface="Wingdings"/>
                <a:ea typeface="Wingdings"/>
              </a:rPr>
              <a:t></a:t>
            </a:r>
            <a:endParaRPr b="0" lang="en-US" sz="8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2" name="Line 5"/>
          <p:cNvSpPr/>
          <p:nvPr/>
        </p:nvSpPr>
        <p:spPr>
          <a:xfrm flipV="1">
            <a:off x="685800" y="5790960"/>
            <a:ext cx="0" cy="106668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685800" y="5791320"/>
            <a:ext cx="175248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4" name="Line 8"/>
          <p:cNvSpPr/>
          <p:nvPr/>
        </p:nvSpPr>
        <p:spPr>
          <a:xfrm flipV="1">
            <a:off x="2438280" y="5028840"/>
            <a:ext cx="0" cy="76212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438280" y="502920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6" name="Line 10"/>
          <p:cNvSpPr/>
          <p:nvPr/>
        </p:nvSpPr>
        <p:spPr>
          <a:xfrm flipV="1">
            <a:off x="4038480" y="4191120"/>
            <a:ext cx="0" cy="83808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4038480" y="419112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8" name="Line 12"/>
          <p:cNvSpPr/>
          <p:nvPr/>
        </p:nvSpPr>
        <p:spPr>
          <a:xfrm flipV="1">
            <a:off x="5638680" y="3276720"/>
            <a:ext cx="0" cy="91440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5638680" y="327672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 flipV="1">
            <a:off x="7238880" y="2362320"/>
            <a:ext cx="0" cy="91440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7238880" y="2362320"/>
            <a:ext cx="167652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2" name="WordArt 16"/>
          <p:cNvSpPr txBox="1"/>
          <p:nvPr/>
        </p:nvSpPr>
        <p:spPr>
          <a:xfrm>
            <a:off x="533520" y="2133720"/>
            <a:ext cx="3733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33"/>
                  </a:solidFill>
                  <a:miter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s</a:t>
            </a:r>
            <a:endParaRPr b="0" lang="en-US" sz="2800" spc="1" strike="noStrike">
              <a:ln w="9360">
                <a:solidFill>
                  <a:srgbClr val="000033"/>
                </a:solidFill>
                <a:miter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83" name="Group 35"/>
          <p:cNvGrpSpPr/>
          <p:nvPr/>
        </p:nvGrpSpPr>
        <p:grpSpPr>
          <a:xfrm>
            <a:off x="914400" y="5095800"/>
            <a:ext cx="838080" cy="1292040"/>
            <a:chOff x="914400" y="5095800"/>
            <a:chExt cx="838080" cy="1292040"/>
          </a:xfrm>
        </p:grpSpPr>
        <p:sp>
          <p:nvSpPr>
            <p:cNvPr id="384" name="Text Box 17"/>
            <p:cNvSpPr/>
            <p:nvPr/>
          </p:nvSpPr>
          <p:spPr>
            <a:xfrm>
              <a:off x="914400" y="5867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Sort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85" name="Text Box 22"/>
            <p:cNvSpPr/>
            <p:nvPr/>
          </p:nvSpPr>
          <p:spPr>
            <a:xfrm>
              <a:off x="1204560" y="509580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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86" name="Group 36"/>
          <p:cNvGrpSpPr/>
          <p:nvPr/>
        </p:nvGrpSpPr>
        <p:grpSpPr>
          <a:xfrm>
            <a:off x="2624760" y="4334040"/>
            <a:ext cx="1030680" cy="1206360"/>
            <a:chOff x="2624760" y="4334040"/>
            <a:chExt cx="1030680" cy="1206360"/>
          </a:xfrm>
        </p:grpSpPr>
        <p:sp>
          <p:nvSpPr>
            <p:cNvPr id="387" name="Text Box 18"/>
            <p:cNvSpPr/>
            <p:nvPr/>
          </p:nvSpPr>
          <p:spPr>
            <a:xfrm>
              <a:off x="2624760" y="501984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Open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3157560" y="43340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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99760" y="3495600"/>
            <a:ext cx="1284120" cy="1216080"/>
            <a:chOff x="4199760" y="3495600"/>
            <a:chExt cx="1284120" cy="1216080"/>
          </a:xfrm>
        </p:grpSpPr>
        <p:sp>
          <p:nvSpPr>
            <p:cNvPr id="390" name="Text Box 19"/>
            <p:cNvSpPr/>
            <p:nvPr/>
          </p:nvSpPr>
          <p:spPr>
            <a:xfrm>
              <a:off x="4199760" y="4191120"/>
              <a:ext cx="12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Record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1" name="Text Box 24"/>
            <p:cNvSpPr/>
            <p:nvPr/>
          </p:nvSpPr>
          <p:spPr>
            <a:xfrm>
              <a:off x="4792680" y="349560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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92" name="Group 38"/>
          <p:cNvGrpSpPr/>
          <p:nvPr/>
        </p:nvGrpSpPr>
        <p:grpSpPr>
          <a:xfrm>
            <a:off x="5652000" y="2657520"/>
            <a:ext cx="1584360" cy="1139760"/>
            <a:chOff x="5652000" y="2657520"/>
            <a:chExt cx="1584360" cy="1139760"/>
          </a:xfrm>
        </p:grpSpPr>
        <p:sp>
          <p:nvSpPr>
            <p:cNvPr id="393" name="Text Box 20"/>
            <p:cNvSpPr/>
            <p:nvPr/>
          </p:nvSpPr>
          <p:spPr>
            <a:xfrm>
              <a:off x="5652000" y="32767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Annotat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6245640" y="26575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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7267680" y="1743120"/>
            <a:ext cx="1721520" cy="1215720"/>
            <a:chOff x="7267680" y="1743120"/>
            <a:chExt cx="1721520" cy="1215720"/>
          </a:xfrm>
        </p:grpSpPr>
        <p:sp>
          <p:nvSpPr>
            <p:cNvPr id="396" name="Text Box 21"/>
            <p:cNvSpPr/>
            <p:nvPr/>
          </p:nvSpPr>
          <p:spPr>
            <a:xfrm>
              <a:off x="7267680" y="2438280"/>
              <a:ext cx="172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Distribut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7" name="Text Box 26"/>
            <p:cNvSpPr/>
            <p:nvPr/>
          </p:nvSpPr>
          <p:spPr>
            <a:xfrm>
              <a:off x="7937640" y="17431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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398" name="Line 27"/>
          <p:cNvSpPr/>
          <p:nvPr/>
        </p:nvSpPr>
        <p:spPr>
          <a:xfrm>
            <a:off x="2438280" y="5791320"/>
            <a:ext cx="0" cy="10666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>
            <a:off x="4038480" y="5029200"/>
            <a:ext cx="0" cy="182880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0" name="Line 29"/>
          <p:cNvSpPr/>
          <p:nvPr/>
        </p:nvSpPr>
        <p:spPr>
          <a:xfrm>
            <a:off x="5638680" y="4191120"/>
            <a:ext cx="0" cy="26668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1" name="Line 30"/>
          <p:cNvSpPr/>
          <p:nvPr/>
        </p:nvSpPr>
        <p:spPr>
          <a:xfrm>
            <a:off x="7238880" y="3276720"/>
            <a:ext cx="0" cy="35812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2" name="Line 31"/>
          <p:cNvSpPr/>
          <p:nvPr/>
        </p:nvSpPr>
        <p:spPr>
          <a:xfrm>
            <a:off x="8915400" y="2362320"/>
            <a:ext cx="0" cy="44956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3" name="Text Box 32"/>
          <p:cNvSpPr/>
          <p:nvPr/>
        </p:nvSpPr>
        <p:spPr>
          <a:xfrm>
            <a:off x="7624080" y="68580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33"/>
                </a:solidFill>
                <a:latin typeface="Wingdings"/>
                <a:ea typeface="Wingdings"/>
              </a:rPr>
              <a:t></a:t>
            </a:r>
            <a:endParaRPr b="0" lang="en-US" sz="8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B3C01D7-2AC8-4AEB-975F-CD6BEDA4CBD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486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Sorting and Open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l is often sorted according to its prior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Urgent, registered mail, etc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Personal or confidential mai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First class, airmail, and Priority Mai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Package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Advertisements and catalogue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33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sort mail in a cluttered are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08" name="Picture 22" descr="j0365770"/>
          <p:cNvPicPr/>
          <p:nvPr/>
        </p:nvPicPr>
        <p:blipFill>
          <a:blip r:embed="rId1"/>
          <a:stretch/>
        </p:blipFill>
        <p:spPr>
          <a:xfrm>
            <a:off x="6059520" y="2209680"/>
            <a:ext cx="2281320" cy="24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400F77D-B56F-4BB5-AFDF-3B04D3C5E14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76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cording – daily mail log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Mail received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Follow-up correspondenc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nnota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Outline key points 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rite reminders, comments, or suggestion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tribu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Deliver items to mail recipie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12" name="Picture 25" descr="j0411662"/>
          <p:cNvPicPr/>
          <p:nvPr/>
        </p:nvPicPr>
        <p:blipFill>
          <a:blip r:embed="rId1"/>
          <a:stretch/>
        </p:blipFill>
        <p:spPr>
          <a:xfrm>
            <a:off x="5867280" y="1905120"/>
            <a:ext cx="2978280" cy="430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7123C7F-EFD6-4103-A663-85B33954A0A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14" name="Picture 14" descr="HM00343_"/>
          <p:cNvPicPr/>
          <p:nvPr/>
        </p:nvPicPr>
        <p:blipFill>
          <a:blip r:embed="rId1"/>
          <a:stretch/>
        </p:blipFill>
        <p:spPr>
          <a:xfrm>
            <a:off x="3886200" y="502920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</a:t>
            </a:r>
            <a:r>
              <a:rPr b="0" lang="en-US" sz="4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r>
              <a:rPr b="1" lang="en-US" sz="4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Handling Drug and Product Sampl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380880" y="2209680"/>
            <a:ext cx="434340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lace only nonprescription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oducts in patient areas according to office policy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ort and store other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escription items in locked cabine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stroy out-dat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amp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4648320" y="2209680"/>
            <a:ext cx="449568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DO NO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ive patients sample without the physician approva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ail to document in patient record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hen samples are given per th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hysician reque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scard medication samples in trash can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99A917C-C710-4A14-8A32-4EDC29D6003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04920" y="1981080"/>
            <a:ext cx="85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are the steps for processing incoming mail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33520" y="2743200"/>
            <a:ext cx="7772400" cy="228852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steps for processing incoming mail ar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r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rd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ota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ribu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5638680" y="5562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00ff"/>
                </a:solidFill>
                <a:latin typeface="Times New Roman"/>
              </a:rPr>
              <a:t>CORRECT!</a:t>
            </a:r>
            <a:endParaRPr b="0" lang="en-US" sz="4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24" name="Picture 12" descr=""/>
          <p:cNvPicPr/>
          <p:nvPr/>
        </p:nvPicPr>
        <p:blipFill>
          <a:blip r:embed="rId1"/>
          <a:stretch/>
        </p:blipFill>
        <p:spPr>
          <a:xfrm>
            <a:off x="84582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3350"/>
                            </p:stCondLst>
                            <p:childTnLst>
                              <p:par>
                                <p:cTn id="1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9" dur="5760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4BD4CEB-CDD5-4F77-B322-96CAA402C7D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roper and efficient management of correspondence and mail is essential to promoting a positive, professional office image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t is important to choose appropriate supplies and letter styles, as well as to edit and proofread correspondence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familiar with types of mail and delivery services to choose the most appropriate service for mailing needs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Handle incoming mail responsibly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10B3E1B-251A-4F1F-A3B2-B39DE7417A5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9" name="WordArt 4"/>
          <p:cNvSpPr txBox="1"/>
          <p:nvPr/>
        </p:nvSpPr>
        <p:spPr>
          <a:xfrm>
            <a:off x="1981080" y="914400"/>
            <a:ext cx="5257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33"/>
                  </a:solidFill>
                  <a:miter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7</a:t>
            </a:r>
            <a:endParaRPr b="0" lang="en-US" sz="2800" spc="1" strike="noStrike">
              <a:ln w="9360">
                <a:solidFill>
                  <a:srgbClr val="000033"/>
                </a:solidFill>
                <a:miter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31" name="Group 55"/>
          <p:cNvGrpSpPr/>
          <p:nvPr/>
        </p:nvGrpSpPr>
        <p:grpSpPr>
          <a:xfrm>
            <a:off x="533520" y="2590920"/>
            <a:ext cx="3276000" cy="2742840"/>
            <a:chOff x="533520" y="2590920"/>
            <a:chExt cx="3276000" cy="2742840"/>
          </a:xfrm>
        </p:grpSpPr>
        <p:sp>
          <p:nvSpPr>
            <p:cNvPr id="432" name="Freeform 8"/>
            <p:cNvSpPr/>
            <p:nvPr/>
          </p:nvSpPr>
          <p:spPr>
            <a:xfrm>
              <a:off x="2235240" y="4809960"/>
              <a:ext cx="436320" cy="163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3" name="Freeform 9"/>
            <p:cNvSpPr/>
            <p:nvPr/>
          </p:nvSpPr>
          <p:spPr>
            <a:xfrm>
              <a:off x="1922040" y="4825800"/>
              <a:ext cx="40032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4" name="Freeform 10"/>
            <p:cNvSpPr/>
            <p:nvPr/>
          </p:nvSpPr>
          <p:spPr>
            <a:xfrm>
              <a:off x="1571040" y="4861440"/>
              <a:ext cx="412200" cy="23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5" name="Freeform 11"/>
            <p:cNvSpPr/>
            <p:nvPr/>
          </p:nvSpPr>
          <p:spPr>
            <a:xfrm>
              <a:off x="1183320" y="4941720"/>
              <a:ext cx="462240" cy="2278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981720" y="4505400"/>
              <a:ext cx="363240" cy="519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856800" y="4106160"/>
              <a:ext cx="31464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8" name="Freeform 14"/>
            <p:cNvSpPr/>
            <p:nvPr/>
          </p:nvSpPr>
          <p:spPr>
            <a:xfrm>
              <a:off x="682200" y="3729600"/>
              <a:ext cx="331920" cy="415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9" name="Freeform 15"/>
            <p:cNvSpPr/>
            <p:nvPr/>
          </p:nvSpPr>
          <p:spPr>
            <a:xfrm>
              <a:off x="826920" y="3676320"/>
              <a:ext cx="294840" cy="20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0" name="Freeform 16"/>
            <p:cNvSpPr/>
            <p:nvPr/>
          </p:nvSpPr>
          <p:spPr>
            <a:xfrm>
              <a:off x="2610360" y="4740480"/>
              <a:ext cx="48348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1" name="Freeform 17"/>
            <p:cNvSpPr/>
            <p:nvPr/>
          </p:nvSpPr>
          <p:spPr>
            <a:xfrm>
              <a:off x="2940840" y="4401720"/>
              <a:ext cx="287640" cy="56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2" name="Freeform 18"/>
            <p:cNvSpPr/>
            <p:nvPr/>
          </p:nvSpPr>
          <p:spPr>
            <a:xfrm>
              <a:off x="2847960" y="4050720"/>
              <a:ext cx="263160" cy="459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924120" y="3856320"/>
              <a:ext cx="2098440" cy="113364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951480" y="2608920"/>
              <a:ext cx="2679120" cy="21204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5" name="Freeform 21"/>
            <p:cNvSpPr/>
            <p:nvPr/>
          </p:nvSpPr>
          <p:spPr>
            <a:xfrm>
              <a:off x="3662280" y="3696120"/>
              <a:ext cx="147240" cy="21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6" name="Freeform 22"/>
            <p:cNvSpPr/>
            <p:nvPr/>
          </p:nvSpPr>
          <p:spPr>
            <a:xfrm>
              <a:off x="3397680" y="3920400"/>
              <a:ext cx="32904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7" name="Freeform 23"/>
            <p:cNvSpPr/>
            <p:nvPr/>
          </p:nvSpPr>
          <p:spPr>
            <a:xfrm>
              <a:off x="2345400" y="2590920"/>
              <a:ext cx="1309680" cy="148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8" name="Freeform 24"/>
            <p:cNvSpPr/>
            <p:nvPr/>
          </p:nvSpPr>
          <p:spPr>
            <a:xfrm>
              <a:off x="1697040" y="2667600"/>
              <a:ext cx="1690200" cy="195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9" name="Freeform 25"/>
            <p:cNvSpPr/>
            <p:nvPr/>
          </p:nvSpPr>
          <p:spPr>
            <a:xfrm>
              <a:off x="2551680" y="4006080"/>
              <a:ext cx="51516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2180880" y="4048920"/>
              <a:ext cx="1068840" cy="9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1" name="Freeform 27"/>
            <p:cNvSpPr/>
            <p:nvPr/>
          </p:nvSpPr>
          <p:spPr>
            <a:xfrm>
              <a:off x="2790360" y="5066640"/>
              <a:ext cx="48492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2" name="Freeform 28"/>
            <p:cNvSpPr/>
            <p:nvPr/>
          </p:nvSpPr>
          <p:spPr>
            <a:xfrm>
              <a:off x="2129400" y="4121640"/>
              <a:ext cx="917280" cy="85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3" name="Freeform 29"/>
            <p:cNvSpPr/>
            <p:nvPr/>
          </p:nvSpPr>
          <p:spPr>
            <a:xfrm>
              <a:off x="891360" y="2756880"/>
              <a:ext cx="1702800" cy="202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4" name="Freeform 30"/>
            <p:cNvSpPr/>
            <p:nvPr/>
          </p:nvSpPr>
          <p:spPr>
            <a:xfrm>
              <a:off x="2342520" y="4393080"/>
              <a:ext cx="39636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5" name="Freeform 31"/>
            <p:cNvSpPr/>
            <p:nvPr/>
          </p:nvSpPr>
          <p:spPr>
            <a:xfrm>
              <a:off x="2169720" y="4555080"/>
              <a:ext cx="60372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6" name="Freeform 32"/>
            <p:cNvSpPr/>
            <p:nvPr/>
          </p:nvSpPr>
          <p:spPr>
            <a:xfrm>
              <a:off x="1200240" y="2975760"/>
              <a:ext cx="46080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7" name="Freeform 33"/>
            <p:cNvSpPr/>
            <p:nvPr/>
          </p:nvSpPr>
          <p:spPr>
            <a:xfrm>
              <a:off x="987120" y="4381920"/>
              <a:ext cx="772560" cy="83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8" name="Freeform 34"/>
            <p:cNvSpPr/>
            <p:nvPr/>
          </p:nvSpPr>
          <p:spPr>
            <a:xfrm>
              <a:off x="1740240" y="4801320"/>
              <a:ext cx="466200" cy="30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9" name="Freeform 35"/>
            <p:cNvSpPr/>
            <p:nvPr/>
          </p:nvSpPr>
          <p:spPr>
            <a:xfrm>
              <a:off x="968760" y="3228840"/>
              <a:ext cx="2660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0" name="Freeform 36"/>
            <p:cNvSpPr/>
            <p:nvPr/>
          </p:nvSpPr>
          <p:spPr>
            <a:xfrm>
              <a:off x="1242000" y="4253760"/>
              <a:ext cx="290160" cy="51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1" name="Freeform 37"/>
            <p:cNvSpPr/>
            <p:nvPr/>
          </p:nvSpPr>
          <p:spPr>
            <a:xfrm>
              <a:off x="1366560" y="5216400"/>
              <a:ext cx="22860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2" name="Freeform 38"/>
            <p:cNvSpPr/>
            <p:nvPr/>
          </p:nvSpPr>
          <p:spPr>
            <a:xfrm>
              <a:off x="1283400" y="5234040"/>
              <a:ext cx="14436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3" name="Freeform 39"/>
            <p:cNvSpPr/>
            <p:nvPr/>
          </p:nvSpPr>
          <p:spPr>
            <a:xfrm>
              <a:off x="627840" y="3651480"/>
              <a:ext cx="511200" cy="10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4" name="Freeform 40"/>
            <p:cNvSpPr/>
            <p:nvPr/>
          </p:nvSpPr>
          <p:spPr>
            <a:xfrm>
              <a:off x="533520" y="3781440"/>
              <a:ext cx="370440" cy="71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5" name="Freeform 41"/>
            <p:cNvSpPr/>
            <p:nvPr/>
          </p:nvSpPr>
          <p:spPr>
            <a:xfrm>
              <a:off x="1450800" y="2858400"/>
              <a:ext cx="1209240" cy="87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6" name="Freeform 42"/>
            <p:cNvSpPr/>
            <p:nvPr/>
          </p:nvSpPr>
          <p:spPr>
            <a:xfrm>
              <a:off x="1748520" y="3711960"/>
              <a:ext cx="1295280" cy="88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7" name="Freeform 43"/>
            <p:cNvSpPr/>
            <p:nvPr/>
          </p:nvSpPr>
          <p:spPr>
            <a:xfrm>
              <a:off x="2690640" y="2849400"/>
              <a:ext cx="552240" cy="73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8" name="Freeform 44"/>
            <p:cNvSpPr/>
            <p:nvPr/>
          </p:nvSpPr>
          <p:spPr>
            <a:xfrm>
              <a:off x="1242000" y="3753000"/>
              <a:ext cx="547920" cy="79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9" name="Freeform 45"/>
            <p:cNvSpPr/>
            <p:nvPr/>
          </p:nvSpPr>
          <p:spPr>
            <a:xfrm>
              <a:off x="978840" y="3916800"/>
              <a:ext cx="629640" cy="9982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0" name="Freeform 46"/>
            <p:cNvSpPr/>
            <p:nvPr/>
          </p:nvSpPr>
          <p:spPr>
            <a:xfrm>
              <a:off x="1558440" y="4193280"/>
              <a:ext cx="1402200" cy="6645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1" name="Freeform 47"/>
            <p:cNvSpPr/>
            <p:nvPr/>
          </p:nvSpPr>
          <p:spPr>
            <a:xfrm>
              <a:off x="2412720" y="4268160"/>
              <a:ext cx="547920" cy="370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2" name="Freeform 48"/>
            <p:cNvSpPr/>
            <p:nvPr/>
          </p:nvSpPr>
          <p:spPr>
            <a:xfrm>
              <a:off x="1022760" y="3945600"/>
              <a:ext cx="428040" cy="9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3" name="Freeform 49"/>
            <p:cNvSpPr/>
            <p:nvPr/>
          </p:nvSpPr>
          <p:spPr>
            <a:xfrm>
              <a:off x="1757520" y="4594320"/>
              <a:ext cx="36612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4" name="Freeform 50"/>
            <p:cNvSpPr/>
            <p:nvPr/>
          </p:nvSpPr>
          <p:spPr>
            <a:xfrm>
              <a:off x="2751840" y="4268160"/>
              <a:ext cx="180360" cy="41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5" name="Freeform 51"/>
            <p:cNvSpPr/>
            <p:nvPr/>
          </p:nvSpPr>
          <p:spPr>
            <a:xfrm>
              <a:off x="1289160" y="4997160"/>
              <a:ext cx="258840" cy="10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6" name="Freeform 52"/>
            <p:cNvSpPr/>
            <p:nvPr/>
          </p:nvSpPr>
          <p:spPr>
            <a:xfrm>
              <a:off x="2412720" y="4845600"/>
              <a:ext cx="1760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7" name="Freeform 53"/>
            <p:cNvSpPr/>
            <p:nvPr/>
          </p:nvSpPr>
          <p:spPr>
            <a:xfrm>
              <a:off x="2909160" y="4121640"/>
              <a:ext cx="118440" cy="31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8" name="Freeform 54"/>
            <p:cNvSpPr/>
            <p:nvPr/>
          </p:nvSpPr>
          <p:spPr>
            <a:xfrm>
              <a:off x="785160" y="3788640"/>
              <a:ext cx="157680" cy="28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479" name="Text Box 56"/>
          <p:cNvSpPr/>
          <p:nvPr/>
        </p:nvSpPr>
        <p:spPr>
          <a:xfrm>
            <a:off x="4038480" y="2209680"/>
            <a:ext cx="4572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f a fellow wants to be a nobody in the business world, let him neglect sending the mailman to somebody on his behalf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Abraham Lincoln</a:t>
            </a:r>
            <a:br>
              <a:rPr sz="2400"/>
            </a:b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C386912-CD36-4DE7-BA58-CC64C936FB8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124" name="Group 27"/>
          <p:cNvGrpSpPr/>
          <p:nvPr/>
        </p:nvGrpSpPr>
        <p:grpSpPr>
          <a:xfrm>
            <a:off x="565200" y="1905120"/>
            <a:ext cx="3625920" cy="1371600"/>
            <a:chOff x="565200" y="1905120"/>
            <a:chExt cx="3625920" cy="1371600"/>
          </a:xfrm>
        </p:grpSpPr>
        <p:sp>
          <p:nvSpPr>
            <p:cNvPr id="125" name="Text Box 7"/>
            <p:cNvSpPr/>
            <p:nvPr/>
          </p:nvSpPr>
          <p:spPr>
            <a:xfrm>
              <a:off x="565200" y="1905120"/>
              <a:ext cx="362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33"/>
                  </a:solidFill>
                  <a:latin typeface="Times New Roman"/>
                </a:rPr>
                <a:t>Letterhead paper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1905120" y="2438280"/>
              <a:ext cx="1218960" cy="83844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27" name="Group 28"/>
          <p:cNvGrpSpPr/>
          <p:nvPr/>
        </p:nvGrpSpPr>
        <p:grpSpPr>
          <a:xfrm>
            <a:off x="6019920" y="1905120"/>
            <a:ext cx="2622600" cy="1523880"/>
            <a:chOff x="6019920" y="1905120"/>
            <a:chExt cx="2622600" cy="1523880"/>
          </a:xfrm>
        </p:grpSpPr>
        <p:sp>
          <p:nvSpPr>
            <p:cNvPr id="128" name="Text Box 8"/>
            <p:cNvSpPr/>
            <p:nvPr/>
          </p:nvSpPr>
          <p:spPr>
            <a:xfrm>
              <a:off x="6248520" y="1905120"/>
              <a:ext cx="239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33"/>
                  </a:solidFill>
                  <a:latin typeface="Times New Roman"/>
                </a:rPr>
                <a:t>Envelopes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9" name="Line 14"/>
            <p:cNvSpPr/>
            <p:nvPr/>
          </p:nvSpPr>
          <p:spPr>
            <a:xfrm flipV="1">
              <a:off x="6019920" y="2438280"/>
              <a:ext cx="990360" cy="99072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672120" y="4572000"/>
            <a:ext cx="2451600" cy="1372680"/>
            <a:chOff x="672120" y="4572000"/>
            <a:chExt cx="2451600" cy="1372680"/>
          </a:xfrm>
        </p:grpSpPr>
        <p:sp>
          <p:nvSpPr>
            <p:cNvPr id="131" name="Text Box 9"/>
            <p:cNvSpPr/>
            <p:nvPr/>
          </p:nvSpPr>
          <p:spPr>
            <a:xfrm>
              <a:off x="672120" y="5302080"/>
              <a:ext cx="13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Label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H="1">
              <a:off x="1523880" y="4572000"/>
              <a:ext cx="1599840" cy="91440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5943600" y="4572000"/>
            <a:ext cx="2417040" cy="1372680"/>
            <a:chOff x="5943600" y="4572000"/>
            <a:chExt cx="2417040" cy="1372680"/>
          </a:xfrm>
        </p:grpSpPr>
        <p:sp>
          <p:nvSpPr>
            <p:cNvPr id="134" name="Text Box 10"/>
            <p:cNvSpPr/>
            <p:nvPr/>
          </p:nvSpPr>
          <p:spPr>
            <a:xfrm>
              <a:off x="6631560" y="5302080"/>
              <a:ext cx="17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Invoice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5943600" y="4572000"/>
              <a:ext cx="1676520" cy="91440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3431880" y="5334120"/>
            <a:ext cx="2184840" cy="1099800"/>
            <a:chOff x="3431880" y="5334120"/>
            <a:chExt cx="2184840" cy="1099800"/>
          </a:xfrm>
        </p:grpSpPr>
        <p:sp>
          <p:nvSpPr>
            <p:cNvPr id="137" name="Text Box 11"/>
            <p:cNvSpPr/>
            <p:nvPr/>
          </p:nvSpPr>
          <p:spPr>
            <a:xfrm>
              <a:off x="3431880" y="579132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Statement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4495680" y="5334120"/>
              <a:ext cx="0" cy="60948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743200" y="2666880"/>
            <a:ext cx="3657600" cy="2667240"/>
          </a:xfrm>
          <a:prstGeom prst="ellipse">
            <a:avLst/>
          </a:prstGeom>
          <a:solidFill>
            <a:srgbClr val="fff0a0"/>
          </a:solidFill>
          <a:ln w="0">
            <a:noFill/>
          </a:ln>
          <a:effectLst>
            <a:outerShdw dist="153753" dir="2700000" blurRad="0" rotWithShape="0">
              <a:srgbClr val="999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Supplies</a:t>
            </a:r>
            <a:endParaRPr b="0" lang="en-US" sz="4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EBB9E10-957A-4A4D-BA84-794135D03CE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hea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l business sta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octor’s or office’s name,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ddress, phone number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nted at the top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spondence with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ti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lleagu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Ven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95880" y="2209680"/>
            <a:ext cx="2667240" cy="3110760"/>
          </a:xfrm>
          <a:prstGeom prst="rect">
            <a:avLst/>
          </a:prstGeom>
          <a:noFill/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Medical Practice, Inc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 One Dr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Any, St. 1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-111-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8BE38E2-9CD5-41D8-A5BE-8B17CB48386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hea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tton fiber bond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ore expensive than other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es of paper (sulfite bond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atermark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z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andard or letter size – 8½ x 11 inch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gal siz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8½ x 14 inch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0880" y="533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095880" y="2209680"/>
            <a:ext cx="2667240" cy="2832840"/>
          </a:xfrm>
          <a:prstGeom prst="rect">
            <a:avLst/>
          </a:prstGeom>
          <a:noFill/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Medical Practice, Inc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 One Dr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Any, St. 1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-111-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6400800" y="3276720"/>
            <a:ext cx="202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0c0c0">
                    <a:alpha val="23000"/>
                  </a:srgbClr>
                </a:solidFill>
                <a:latin typeface="Times New Roman"/>
              </a:rPr>
              <a:t>Watermark</a:t>
            </a:r>
            <a:endParaRPr b="0" lang="en-US" sz="2800" spc="1" strike="noStrike">
              <a:ln w="0">
                <a:noFill/>
              </a:ln>
              <a:solidFill>
                <a:srgbClr val="c0c0c0">
                  <a:alpha val="23000"/>
                </a:srgbClr>
              </a:soli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FDBA6AA-9A06-4DEB-B68A-C96844DBD09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nvelop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hould match letterhea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es of envelop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rrespondence or business  – No. 10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voices or statements – No. 6 to No. 10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-return envelop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an Kraft or clasp envelopes – large bulky docum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dded envelopes – send items that may be damaged during mail handl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0880" y="533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01:47:17Z</dcterms:created>
  <dc:creator>Kathryn A. Booth RN-BSN, MS, RMA, RPT</dc:creator>
  <dc:description/>
  <dc:language>en-US</dc:language>
  <cp:lastModifiedBy>Kathryn A. Booth</cp:lastModifiedBy>
  <dcterms:modified xsi:type="dcterms:W3CDTF">2008-03-31T02:26:31Z</dcterms:modified>
  <cp:revision>81</cp:revision>
  <dc:subject>Medical Assisting 3e</dc:subject>
  <dc:title>Managing Correspondence and Mail</dc:title>
</cp:coreProperties>
</file>