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13.jpeg" ContentType="image/jpeg"/>
  <Override PartName="/ppt/media/image1.png" ContentType="image/png"/>
  <Override PartName="/ppt/media/image2.wmf" ContentType="image/x-wmf"/>
  <Override PartName="/ppt/media/image8.gif" ContentType="image/gif"/>
  <Override PartName="/ppt/media/image5.wmf" ContentType="image/x-wmf"/>
  <Override PartName="/ppt/media/image4.jpeg" ContentType="image/jpeg"/>
  <Override PartName="/ppt/media/image10.wmf" ContentType="image/x-wmf"/>
  <Override PartName="/ppt/media/image6.png" ContentType="image/png"/>
  <Override PartName="/ppt/media/image14.wmf" ContentType="image/x-wmf"/>
  <Override PartName="/ppt/media/image9.wmf" ContentType="image/x-wmf"/>
  <Override PartName="/ppt/media/image7.wmf" ContentType="image/x-wmf"/>
  <Override PartName="/ppt/media/chimes.wav" ContentType="audio/x-wav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2A9AE-A8A1-41B9-96F6-73BC3E1CA9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B312D-5E5B-4030-9E29-EA3C5ED27C63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3229C-1378-4689-BDBC-16DCED4697C4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65915-2FD3-4308-94D4-91F682BE25C2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D891D-3EA0-431C-8B07-915195A0F773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AB352-3F99-47D2-BB2D-48148450B504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C3466-CAA3-4C83-BB59-8EE2E21B6044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D4503-44C9-4A50-93A3-4D45C9F5F47B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D2EF5-8A5F-432B-A469-E1493AB9B29F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8FEB9-0247-45E3-8E7F-B8254421DF9C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F8EA4-6752-41A1-85B6-05CAE4F43DDB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D12AD-3A0E-41AD-9CA4-C186EFFB7ADB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1699C-F003-4B6F-AC64-B166C1064534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6EC88-C92C-4B42-A1AF-D2BDBDA56802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854AE-17EC-4CB2-8789-E16A4B4A476C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BB5BF-640D-415F-BB37-CD63F1E0F68A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B96DF-7D78-406F-89A0-8086C14249EA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7EF63-DC34-4927-B9DE-716897D41D60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97A57-CA96-4796-AA7C-665B11EE4580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6D965-99EB-4063-A6DF-FB6A2B64E94F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DC9BE-4C06-4FF2-800F-238C1FB8567C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40722-EE01-434D-9468-C94C09705576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9462B-6331-4B0F-BF54-FD5BD4847362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DAE7E-9D6D-4693-9489-FB1B9ADE8AFC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6883C-90C9-44F5-B780-E28CDA231388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A1652-FFED-46AE-9019-3E4F91F48FE4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4AB54-1EB3-4146-B85D-37C33D2856F7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E798E-821D-4451-AA77-7434830E4BB0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0AA21-8BA5-419B-8E64-EC8481DB1DE9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9CD2F-66B1-451C-94B3-5D8B6F6F04BF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080E2-16C0-4852-A911-000BFDAA8C1F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3E2DF-5BAF-4E3C-9D93-712535E59664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C041A-B32E-4198-9285-80B3E3F288C9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1E627-5DD3-44EC-87E1-EC4650BE933E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B85E6-95C4-4571-A419-4FF0033C0FB3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86182-E6C2-4AE4-A112-4C58E0F77F05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5CCDF-1178-4BBD-84DE-16D4608D8FF8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D0C93-8FC2-485D-94CD-E539E2DCEC5D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CB288-2048-4D4E-A350-E56C2671642A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325E1-F81F-49C4-A51F-F6703F2DF397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E083D-8523-46FC-ACF8-050C030D2585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6F165-19EC-4942-87FA-AA6D597CD902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84156-926A-4E26-8C12-AFF7E7E9E0E6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A0002-11EC-48EE-BA14-8769FA6292C8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32217-EE49-4373-94F2-396A92156602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EAA4A-8957-42E2-B266-1F0520DEC87D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12808-E9F7-4B83-A610-FDA6F6A02F9D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125A5-8E7B-4891-A895-A529B38F444D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E0EE0-B6D1-4F56-AC72-985876C8D9E2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FB021-FC0D-4B62-B916-F601F170C1E2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1BE26-18C5-4189-BB18-E9032CA8E5CC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CC39F-D663-43D2-82E3-317930AF3899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E8F48-8368-458E-A949-2C31D22B7B08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181A4-0DBE-4CBF-AA8A-BA5EB30113C8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5CDC6-D480-433A-9604-89AAC5E9CEE0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E2F9D-54A4-49EE-935C-80C2F3493182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73523-3FB5-487A-A933-C8F5B4CF2B09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6C720-B8D9-43A4-ACF6-33A1406A19C6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DA2C7-F935-430F-9995-BE01587FF73A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58335-BCB3-488B-BAA2-33B8DFB873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62DCC-B5AA-40B6-B676-B9BFD745ED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C280D-7CAC-4D57-988F-26F828E794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3E4BF-FAB9-4871-9106-2F32B69CB0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9EF24-AE37-46CE-966C-C4E2EFD4BE6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4B1D9-E3A3-424B-AE3E-6351D248428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357C7-5397-4360-98C8-59A170E6AE4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E5078-7672-494F-9AC9-7FEA069286F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30050-73FD-45C8-BF2E-1584CAE3F50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0D98B-7C99-4BBC-94D9-82E14501BB9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FCD6E-12D4-43C1-935F-7CEB1CF3B78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B237B-DFCA-4D9C-A46F-09C370FEDF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C2C9E-8728-409D-9852-7B081D3379D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02751-C908-4537-BDAE-BE21F045B8A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2325F-BB71-4E53-8EBA-DA2B3D7E844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A395B-1C1A-45D3-ACC9-6215C5BC10A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C4A05-911F-49EC-AEE1-247A24400F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920A3-0A2B-4F3E-AE89-C835583E87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BD6AD-8E89-4DF7-BD4B-3C688299FB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CC48B-FE9A-46DC-B8DD-A732EE8298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5D780-0AFD-404F-8EB3-3189354EC8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A8212-BFB4-4B6C-AF61-B84494AEE1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AE3E9-40E7-4978-8B5B-CECBCD6E71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8655C-43C6-400C-80AA-6FB9718E13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fff0a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4D588431-BD72-46B1-9F2A-59A66846C48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Group 7"/>
          <p:cNvGrpSpPr/>
          <p:nvPr/>
        </p:nvGrpSpPr>
        <p:grpSpPr>
          <a:xfrm>
            <a:off x="304920" y="228600"/>
            <a:ext cx="8686800" cy="1600200"/>
            <a:chOff x="304920" y="228600"/>
            <a:chExt cx="8686800" cy="1600200"/>
          </a:xfrm>
        </p:grpSpPr>
        <p:sp>
          <p:nvSpPr>
            <p:cNvPr id="4" name="Line 8"/>
            <p:cNvSpPr/>
            <p:nvPr/>
          </p:nvSpPr>
          <p:spPr>
            <a:xfrm flipH="1">
              <a:off x="482760" y="1828800"/>
              <a:ext cx="830592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5" name="Rectangle 9"/>
            <p:cNvSpPr/>
            <p:nvPr/>
          </p:nvSpPr>
          <p:spPr>
            <a:xfrm>
              <a:off x="8763120" y="228600"/>
              <a:ext cx="228600" cy="228600"/>
            </a:xfrm>
            <a:prstGeom prst="rect">
              <a:avLst/>
            </a:prstGeom>
            <a:solidFill>
              <a:srgbClr val="5f00ff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6" name="Rectangle 10"/>
            <p:cNvSpPr/>
            <p:nvPr/>
          </p:nvSpPr>
          <p:spPr>
            <a:xfrm>
              <a:off x="304920" y="228600"/>
              <a:ext cx="8454960" cy="228600"/>
            </a:xfrm>
            <a:prstGeom prst="rect">
              <a:avLst/>
            </a:prstGeom>
            <a:solidFill>
              <a:srgbClr val="804080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7" name="Rectangle 11"/>
            <p:cNvSpPr/>
            <p:nvPr/>
          </p:nvSpPr>
          <p:spPr>
            <a:xfrm>
              <a:off x="304920" y="457200"/>
              <a:ext cx="8454960" cy="139680"/>
            </a:xfrm>
            <a:prstGeom prst="rect">
              <a:avLst/>
            </a:prstGeom>
            <a:solidFill>
              <a:srgbClr val="5f00ff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8" name="Rectangle 12"/>
            <p:cNvSpPr/>
            <p:nvPr/>
          </p:nvSpPr>
          <p:spPr>
            <a:xfrm>
              <a:off x="8763120" y="459000"/>
              <a:ext cx="228600" cy="136440"/>
            </a:xfrm>
            <a:prstGeom prst="rect">
              <a:avLst/>
            </a:prstGeom>
            <a:solidFill>
              <a:srgbClr val="804080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sp>
        <p:nvSpPr>
          <p:cNvPr id="9" name="Text Box 13"/>
          <p:cNvSpPr/>
          <p:nvPr/>
        </p:nvSpPr>
        <p:spPr>
          <a:xfrm>
            <a:off x="0" y="662940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33"/>
                </a:solidFill>
                <a:latin typeface="Book Antiqua"/>
              </a:rPr>
              <a:t>© 2009 The McGraw-Hill Companies, Inc. All rights reserved</a:t>
            </a: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5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grpSp>
        <p:nvGrpSpPr>
          <p:cNvPr id="47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8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5f00ff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804080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5f00ff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804080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52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53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sp>
        <p:nvSpPr>
          <p:cNvPr id="54" name="Text Box 16"/>
          <p:cNvSpPr/>
          <p:nvPr/>
        </p:nvSpPr>
        <p:spPr>
          <a:xfrm>
            <a:off x="0" y="662940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33"/>
                </a:solidFill>
                <a:latin typeface="Book Antiqua"/>
              </a:rPr>
              <a:t>© 2009 The McGraw-Hill Companies, Inc. All rights reserved</a:t>
            </a: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fff0a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2"/>
          </p:nvPr>
        </p:nvSpPr>
        <p:spPr>
          <a:xfrm>
            <a:off x="7009920" y="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3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6832D0FD-31DF-44D1-A36A-A7266431BB04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7010280" y="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A861BB8A-03E3-41E4-964E-20B7A724D9F6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2" name="WordArt 2"/>
          <p:cNvSpPr txBox="1"/>
          <p:nvPr/>
        </p:nvSpPr>
        <p:spPr>
          <a:xfrm>
            <a:off x="2895480" y="1219320"/>
            <a:ext cx="312444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804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hapter 7</a:t>
            </a:r>
            <a:endParaRPr b="1" lang="en-US" sz="4000" spc="1" strike="noStrike">
              <a:ln w="0">
                <a:noFill/>
              </a:ln>
              <a:solidFill>
                <a:srgbClr val="804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752480" y="266688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80880" y="26668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33"/>
                </a:solidFill>
                <a:latin typeface="Times New Roman"/>
              </a:rPr>
              <a:t>Managing Correspondence and Mail</a:t>
            </a:r>
            <a:endParaRPr b="0" lang="en-US" sz="36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762120" y="373356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Arial"/>
              </a:rPr>
              <a:t>PowerPoint® presentation to accompany:</a:t>
            </a:r>
            <a:endParaRPr b="0" lang="en-US" sz="10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3"/>
                </a:solidFill>
                <a:latin typeface="Arial"/>
              </a:rPr>
              <a:t>Medical Assisting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Third Edition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Arial"/>
              </a:rPr>
              <a:t>Booth, Whicker, Wyman, Pugh, Thompson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3F0B58AA-AD33-4981-AA65-8D573E2BCFC6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Labels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Printed, computerized address labels can save a large amount of tim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Invoices and statement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Preprinted invoices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Preprinted statements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omputer-generated invoices and statement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uperbill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Data mailer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380880" y="5331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hoosing Correspondence Supplies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1ABBA454-879C-418A-8959-B8EDD5B68506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457200" y="189540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What three things do written materials of a medical office convey or demonstrate?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533520" y="3124080"/>
            <a:ext cx="7772400" cy="1557000"/>
          </a:xfrm>
          <a:prstGeom prst="rect">
            <a:avLst/>
          </a:prstGeom>
          <a:solidFill>
            <a:srgbClr val="804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Written materials convey the ability of the medical office staff to communicate and to conduct business, as well as demonstrate a professional image that reflects on the entire office staff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0" name="Picture 14" descr="j0299125"/>
          <p:cNvPicPr/>
          <p:nvPr/>
        </p:nvPicPr>
        <p:blipFill>
          <a:blip r:embed="rId1"/>
          <a:stretch/>
        </p:blipFill>
        <p:spPr>
          <a:xfrm>
            <a:off x="7435800" y="609480"/>
            <a:ext cx="696960" cy="1143000"/>
          </a:xfrm>
          <a:prstGeom prst="rect">
            <a:avLst/>
          </a:prstGeom>
          <a:ln w="0">
            <a:noFill/>
          </a:ln>
        </p:spPr>
      </p:pic>
      <p:sp>
        <p:nvSpPr>
          <p:cNvPr id="161" name="WordArt 15"/>
          <p:cNvSpPr txBox="1"/>
          <p:nvPr/>
        </p:nvSpPr>
        <p:spPr>
          <a:xfrm>
            <a:off x="6172200" y="5257800"/>
            <a:ext cx="220968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Right!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62" name="Picture 16" descr=""/>
          <p:cNvPicPr/>
          <p:nvPr/>
        </p:nvPicPr>
        <p:blipFill>
          <a:blip r:embed="rId2"/>
          <a:stretch/>
        </p:blipFill>
        <p:spPr>
          <a:xfrm>
            <a:off x="84582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3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9" dur="11838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FF9D1F2A-0D86-444A-9DE2-642B1F51A119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ritten Correspondenc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6868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Form of communicatio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Purpose - to </a:t>
            </a:r>
            <a:r>
              <a:rPr b="1" lang="en-US" sz="2800" spc="-1" strike="noStrike">
                <a:solidFill>
                  <a:srgbClr val="000033"/>
                </a:solidFill>
                <a:latin typeface="Times New Roman"/>
              </a:rPr>
              <a:t>explain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33"/>
                </a:solidFill>
                <a:latin typeface="Times New Roman"/>
              </a:rPr>
              <a:t>clarify,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or </a:t>
            </a:r>
            <a:r>
              <a:rPr b="1" lang="en-US" sz="2800" spc="-1" strike="noStrike">
                <a:solidFill>
                  <a:srgbClr val="000033"/>
                </a:solidFill>
                <a:latin typeface="Times New Roman"/>
              </a:rPr>
              <a:t>provide informatio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Types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33"/>
                </a:solidFill>
                <a:latin typeface="Times New Roman"/>
              </a:rPr>
              <a:t>Referrals</a:t>
            </a: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33"/>
                </a:solidFill>
                <a:latin typeface="Times New Roman"/>
              </a:rPr>
              <a:t>Scheduling</a:t>
            </a: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33"/>
                </a:solidFill>
                <a:latin typeface="Times New Roman"/>
              </a:rPr>
              <a:t>Patient reports</a:t>
            </a: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33"/>
                </a:solidFill>
                <a:latin typeface="Times New Roman"/>
              </a:rPr>
              <a:t>Patient education</a:t>
            </a: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33"/>
                </a:solidFill>
                <a:latin typeface="Times New Roman"/>
              </a:rPr>
              <a:t>Insurance/billing information</a:t>
            </a: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33"/>
                </a:solidFill>
                <a:latin typeface="Times New Roman"/>
              </a:rPr>
              <a:t>Cover or form letters</a:t>
            </a: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4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44AC9413-06F8-42C2-9AF1-92A368E16E36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38088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365040" y="2657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arts of a Business Lette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05920" cy="46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Margin - 1 inch is standard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Dateline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Month, day, and year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Begins 3 lines below letterhead on line 15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Inside address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Includes information needed for correct delivery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16777974-4D1D-428E-87FE-984318544B22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arts of a Business Letter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Attention line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Used when letter is sent to specific person in a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ompan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alutation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Written greeting such as “</a:t>
            </a:r>
            <a:r>
              <a:rPr b="1" i="1" lang="en-US" sz="2800" spc="-1" strike="noStrike">
                <a:solidFill>
                  <a:srgbClr val="000033"/>
                </a:solidFill>
                <a:latin typeface="Times New Roman"/>
              </a:rPr>
              <a:t>Dear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May use business title or department if name is not know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Two lines below inside addres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4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BEED171C-5239-412E-9859-1003F58CC583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arts of a Business Letter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1532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ubject line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Used to bring attention to subject (optional)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Two lines below salutatio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Body 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Begins two lines below salutation or subject lin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Text is single-spaced and double-spaced between paragraph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BBCCBE68-C239-42A8-A993-3B37F8A69D30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arts of a Business Letter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omplimentary closing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Placed two lines below bod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incerely” is commonly used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gnature block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Places writer’s name on first line and business title on second lin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Three to four lines below complimentary closing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370F6F68-50F4-4AA0-8E7F-A0C657ED3B14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arts of a Business Letter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Identification lin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898560" indent="-43164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Letter writer’s initials followed by a colon or slash mark and the typist’s initials (KB/SF)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898560" indent="-43164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Two lines below the signature block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4" marL="227412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  <a:p>
            <a:pPr marL="464760" indent="-46476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Notation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898560" indent="-43164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May be abbreviated as </a:t>
            </a:r>
            <a:r>
              <a:rPr b="1" i="1" lang="en-US" sz="2400" spc="-1" strike="noStrike">
                <a:solidFill>
                  <a:srgbClr val="000033"/>
                </a:solidFill>
                <a:latin typeface="Times New Roman"/>
              </a:rPr>
              <a:t>Encl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33"/>
                </a:solidFill>
                <a:latin typeface="Times New Roman"/>
              </a:rPr>
              <a:t>Enc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, or </a:t>
            </a:r>
            <a:r>
              <a:rPr b="1" i="1" lang="en-US" sz="2400" spc="-1" strike="noStrike">
                <a:solidFill>
                  <a:srgbClr val="000033"/>
                </a:solidFill>
                <a:latin typeface="Times New Roman"/>
              </a:rPr>
              <a:t>Enc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898560" indent="-43164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Copy notation (</a:t>
            </a:r>
            <a:r>
              <a:rPr b="1" i="1" lang="en-US" sz="2400" spc="-1" strike="noStrike">
                <a:solidFill>
                  <a:srgbClr val="000033"/>
                </a:solidFill>
                <a:latin typeface="Times New Roman"/>
              </a:rPr>
              <a:t>cc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) appears after the enclosure notation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898560" indent="-43164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Includes information such as number of enclosures and 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letter recipient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57E54A48-F0A4-425A-91C5-7660DDFABFA6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22860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85" name="AutoShape 5"/>
          <p:cNvSpPr/>
          <p:nvPr/>
        </p:nvSpPr>
        <p:spPr>
          <a:xfrm>
            <a:off x="2590920" y="1981080"/>
            <a:ext cx="4038480" cy="1905120"/>
          </a:xfrm>
          <a:prstGeom prst="roundRect">
            <a:avLst>
              <a:gd name="adj" fmla="val 16667"/>
            </a:avLst>
          </a:prstGeom>
          <a:solidFill>
            <a:srgbClr val="5f00ff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unctuation Styles</a:t>
            </a:r>
            <a:endParaRPr b="0" lang="en-US" sz="3600" spc="-1" strike="noStrike">
              <a:solidFill>
                <a:srgbClr val="000033"/>
              </a:solidFill>
              <a:latin typeface="Times New Roman"/>
            </a:endParaRPr>
          </a:p>
        </p:txBody>
      </p:sp>
      <p:cxnSp>
        <p:nvCxnSpPr>
          <p:cNvPr id="186" name="AutoShape 7"/>
          <p:cNvCxnSpPr>
            <a:stCxn id="185" idx="3"/>
            <a:endCxn id="187" idx="0"/>
          </p:cNvCxnSpPr>
          <p:nvPr/>
        </p:nvCxnSpPr>
        <p:spPr>
          <a:xfrm>
            <a:off x="6629040" y="2933280"/>
            <a:ext cx="724680" cy="1105560"/>
          </a:xfrm>
          <a:prstGeom prst="bentConnector2">
            <a:avLst/>
          </a:prstGeom>
          <a:ln w="9360">
            <a:solidFill>
              <a:srgbClr val="000033"/>
            </a:solidFill>
            <a:miter/>
          </a:ln>
        </p:spPr>
      </p:cxnSp>
      <p:cxnSp>
        <p:nvCxnSpPr>
          <p:cNvPr id="188" name="AutoShape 8"/>
          <p:cNvCxnSpPr>
            <a:stCxn id="185" idx="1"/>
          </p:cNvCxnSpPr>
          <p:nvPr/>
        </p:nvCxnSpPr>
        <p:spPr>
          <a:xfrm flipV="1" rot="10800000">
            <a:off x="1828080" y="2932560"/>
            <a:ext cx="762840" cy="1296360"/>
          </a:xfrm>
          <a:prstGeom prst="bentConnector2">
            <a:avLst/>
          </a:prstGeom>
          <a:ln w="9360">
            <a:solidFill>
              <a:srgbClr val="000033"/>
            </a:solidFill>
            <a:miter/>
          </a:ln>
        </p:spPr>
      </p:cxnSp>
      <p:sp>
        <p:nvSpPr>
          <p:cNvPr id="189" name="AutoShape 9"/>
          <p:cNvSpPr/>
          <p:nvPr/>
        </p:nvSpPr>
        <p:spPr>
          <a:xfrm>
            <a:off x="762120" y="4038480"/>
            <a:ext cx="2209680" cy="1219320"/>
          </a:xfrm>
          <a:prstGeom prst="roundRect">
            <a:avLst>
              <a:gd name="adj" fmla="val 16667"/>
            </a:avLst>
          </a:prstGeom>
          <a:solidFill>
            <a:srgbClr val="5f00ff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pen</a:t>
            </a:r>
            <a:endParaRPr b="0" lang="en-US" sz="36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87" name="AutoShape 11"/>
          <p:cNvSpPr/>
          <p:nvPr/>
        </p:nvSpPr>
        <p:spPr>
          <a:xfrm>
            <a:off x="6248520" y="4038480"/>
            <a:ext cx="2209680" cy="1219320"/>
          </a:xfrm>
          <a:prstGeom prst="roundRect">
            <a:avLst>
              <a:gd name="adj" fmla="val 16667"/>
            </a:avLst>
          </a:prstGeom>
          <a:solidFill>
            <a:srgbClr val="5f00ff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ixed</a:t>
            </a:r>
            <a:endParaRPr b="0" lang="en-US" sz="36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ritten Correspondence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D3C53B20-BC77-4FA2-8428-1D2E0BA165F7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unctuation Styl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4080"/>
                </a:solidFill>
                <a:latin typeface="Times New Roman"/>
              </a:rPr>
              <a:t>Open punctuation</a:t>
            </a: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 uses no punctuation after these items in a letter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The word </a:t>
            </a:r>
            <a:r>
              <a:rPr b="0" i="1" lang="en-US" sz="2800" spc="-1" strike="noStrike">
                <a:solidFill>
                  <a:srgbClr val="000033"/>
                </a:solidFill>
                <a:latin typeface="Times New Roman"/>
              </a:rPr>
              <a:t>Attention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in the attention lin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The salutatio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The complimentary closing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The signature block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The enclosure and copy notation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314A1FB3-577C-4F6B-81A3-80C89CEC4F49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457200" y="762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457200" y="1981080"/>
            <a:ext cx="7924680" cy="37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38360" indent="-738360">
              <a:tabLst>
                <a:tab algn="l" pos="0"/>
                <a:tab algn="l" pos="73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7.1 List the supplies necessary for creating and mailing professional-looking correspondence.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738360" indent="-738360">
              <a:spcBef>
                <a:spcPts val="1749"/>
              </a:spcBef>
              <a:tabLst>
                <a:tab algn="l" pos="0"/>
                <a:tab algn="l" pos="73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7.2 Identify the types of correspondence used in medical office communications.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738360" indent="-738360">
              <a:spcBef>
                <a:spcPts val="1749"/>
              </a:spcBef>
              <a:tabLst>
                <a:tab algn="l" pos="0"/>
                <a:tab algn="l" pos="73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7.3 Describe the parts of a letter and the different letter and punctuation styles.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738360" indent="-73836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73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7.4 Compose a business letter.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earning Outcom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20657797-3E2B-49A0-976C-E165947CB473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4080"/>
                </a:solidFill>
                <a:latin typeface="Times New Roman"/>
              </a:rPr>
              <a:t>Mixed Punctuation</a:t>
            </a:r>
            <a:r>
              <a:rPr b="1" lang="en-US" sz="32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includes the following: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 colon after </a:t>
            </a:r>
            <a:r>
              <a:rPr b="0" i="1" lang="en-US" sz="2800" spc="-1" strike="noStrike">
                <a:solidFill>
                  <a:srgbClr val="000033"/>
                </a:solidFill>
                <a:latin typeface="Times New Roman"/>
              </a:rPr>
              <a:t>Attention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in the attention lin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244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 colon after the salutatio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35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 comma after the complimentary closing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35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 colon or period after the enclosure notatio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244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 colon after the copy notatio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unctuation Styles 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WordArt 8"/>
          <p:cNvSpPr txBox="1"/>
          <p:nvPr/>
        </p:nvSpPr>
        <p:spPr>
          <a:xfrm>
            <a:off x="8077320" y="3657600"/>
            <a:ext cx="380880" cy="87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,</a:t>
            </a:r>
            <a:endParaRPr b="1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8" name="WordArt 9"/>
          <p:cNvSpPr txBox="1"/>
          <p:nvPr/>
        </p:nvSpPr>
        <p:spPr>
          <a:xfrm>
            <a:off x="8077320" y="2438280"/>
            <a:ext cx="304560" cy="94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:</a:t>
            </a:r>
            <a:endParaRPr b="1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9" name="WordArt 10"/>
          <p:cNvSpPr txBox="1"/>
          <p:nvPr/>
        </p:nvSpPr>
        <p:spPr>
          <a:xfrm>
            <a:off x="8077320" y="4952880"/>
            <a:ext cx="304560" cy="94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:</a:t>
            </a:r>
            <a:endParaRPr b="1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random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9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6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44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3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0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7" dur="5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46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DEF8EEAC-1E53-43DD-9C11-0696BEC7EBD5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etter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One-inch margins on the left and right for </a:t>
            </a:r>
            <a:br>
              <a:rPr sz="3200"/>
            </a:b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8 ½-inch paper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Letter should be centered on the page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ngle-space body of letter and double-space between paragraph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hort sentences with no more than 20 words on an average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FDD02B50-0D65-4066-9AF1-C46D13C126E4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etter Format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Have at least two sentences per paragraph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Divide paragraphs longer than 10 lines into two paragraph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r multi-page letters, use letterhead for first page only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0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5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0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683047BE-7FFE-4C6B-A10D-8B77FE185429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380880" y="533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380880" y="1752480"/>
          <a:ext cx="8458200" cy="3936960"/>
        </p:xfrm>
        <a:graphic>
          <a:graphicData uri="http://schemas.openxmlformats.org/drawingml/2006/table">
            <a:tbl>
              <a:tblPr/>
              <a:tblGrid>
                <a:gridCol w="2129040"/>
                <a:gridCol w="6329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Letter Styl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escrip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7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ll-Block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Lines are typed flush lef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marL="228600" indent="-228600"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No indented paragraph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marL="228600" indent="-228600"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ost commonly used in medical office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marL="228600" indent="-228600"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6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odified-Block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1160" indent="-281160"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ateline, complimentary closing, signature block and notations are aligned at the center of page or to the righ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marL="281160" indent="-281160"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raditional, balanced appearance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ritten Correspondence</a:t>
            </a: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3260A14F-3525-4511-992E-05488AC1C6C4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ritten Correspondence</a:t>
            </a: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380880" y="1752480"/>
          <a:ext cx="8305920" cy="3956040"/>
        </p:xfrm>
        <a:graphic>
          <a:graphicData uri="http://schemas.openxmlformats.org/drawingml/2006/table">
            <a:tbl>
              <a:tblPr/>
              <a:tblGrid>
                <a:gridCol w="2362320"/>
                <a:gridCol w="5943600"/>
              </a:tblGrid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Letter Styl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escrip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odified-Block with Indented Paragraph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aragraphs are indented ½ inch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22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implified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1160" indent="-281160"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odification of full-block style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marL="281160" indent="-281160"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ost modern letter style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marL="281160" indent="-281160"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No salutation, courtesy title, or closing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marL="281160" indent="-281160"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Has a subject line in all capital letter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marL="281160" indent="-281160"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oo informal for medical office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40E1864D-98ED-4DD9-8153-8E9AC2C4A36D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380880" y="1895400"/>
            <a:ext cx="8534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What should the medical assistant do if a mailing is to be sent to an organization to request x-ray films, but no specific name or title is given to address it to? Which of the following would you use?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2442960" y="3809880"/>
            <a:ext cx="6309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33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33"/>
                </a:solidFill>
                <a:latin typeface="Times New Roman"/>
              </a:rPr>
              <a:t>To Whom It May Concer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343080" indent="-343080">
              <a:buClr>
                <a:srgbClr val="000033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33"/>
                </a:solidFill>
                <a:latin typeface="Times New Roman"/>
              </a:rPr>
              <a:t>Attention: To Whom It May Concer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343080" indent="-343080">
              <a:buClr>
                <a:srgbClr val="000033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33"/>
                </a:solidFill>
                <a:latin typeface="Times New Roman"/>
              </a:rPr>
              <a:t>Dear Sir/Madam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343080" indent="-343080">
              <a:buClr>
                <a:srgbClr val="000033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33"/>
                </a:solidFill>
                <a:latin typeface="Times New Roman"/>
              </a:rPr>
              <a:t>Dear Radiology Departmen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17" name="Group 25"/>
          <p:cNvGrpSpPr/>
          <p:nvPr/>
        </p:nvGrpSpPr>
        <p:grpSpPr>
          <a:xfrm>
            <a:off x="304920" y="4114800"/>
            <a:ext cx="2590560" cy="1447920"/>
            <a:chOff x="304920" y="4114800"/>
            <a:chExt cx="2590560" cy="1447920"/>
          </a:xfrm>
        </p:grpSpPr>
        <p:sp>
          <p:nvSpPr>
            <p:cNvPr id="218" name="Text Box 13"/>
            <p:cNvSpPr/>
            <p:nvPr/>
          </p:nvSpPr>
          <p:spPr>
            <a:xfrm>
              <a:off x="304920" y="4114800"/>
              <a:ext cx="1400040" cy="398880"/>
            </a:xfrm>
            <a:prstGeom prst="rect">
              <a:avLst/>
            </a:prstGeom>
            <a:solidFill>
              <a:srgbClr val="804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ANSWER:</a:t>
              </a:r>
              <a:endParaRPr b="0" lang="en-US" sz="20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362320" y="5181480"/>
              <a:ext cx="533160" cy="38124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sp>
        <p:nvSpPr>
          <p:cNvPr id="220" name="WordArt 22"/>
          <p:cNvSpPr txBox="1"/>
          <p:nvPr/>
        </p:nvSpPr>
        <p:spPr>
          <a:xfrm>
            <a:off x="6172200" y="5334120"/>
            <a:ext cx="166680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Correct!</a:t>
            </a:r>
            <a:endParaRPr b="1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21" name="Picture 23" descr=""/>
          <p:cNvPicPr/>
          <p:nvPr/>
        </p:nvPicPr>
        <p:blipFill>
          <a:blip r:embed="rId1"/>
          <a:stretch/>
        </p:blipFill>
        <p:spPr>
          <a:xfrm>
            <a:off x="8077320" y="6019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4" descr="j0299125"/>
          <p:cNvPicPr/>
          <p:nvPr/>
        </p:nvPicPr>
        <p:blipFill>
          <a:blip r:embed="rId2"/>
          <a:stretch/>
        </p:blipFill>
        <p:spPr>
          <a:xfrm>
            <a:off x="7435800" y="609480"/>
            <a:ext cx="696960" cy="1143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2" dur="2000" fill="hold"/>
                                        <p:tgtEl>
                                          <p:spTgt spid="2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4" dur="2268" fill="hold"/>
                                        <p:tgtEl>
                                          <p:spTgt spid="2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36B1CA6C-955E-4396-B092-7AA8CC8E9DE7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ffective Writ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Identify your reading audience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889560" indent="-427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Tone of letter (formal or relaxed)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4" marL="2251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  <a:p>
            <a:pPr marL="460080" indent="-46008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Know the purpose of the letter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4" marL="2251080" indent="0">
              <a:lnSpc>
                <a:spcPct val="4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  <a:p>
            <a:pPr marL="460080" indent="-46008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Be clear and concis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889560" indent="-427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Don’t use unnecessary word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889560" indent="-427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Message should be easily understood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4" marL="2251080" indent="0">
              <a:lnSpc>
                <a:spcPct val="3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  <a:p>
            <a:pPr marL="460080" indent="-46008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Use active voice when possible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889560" indent="-427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Passive voice is best when relaying negative new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05952F28-589D-4B68-B6A2-C78036A4E228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ffective Writing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Be polite and courteou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heck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Spelling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ccuracy of dates and monetary figur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Grammar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void leaving “widows and orphans” (dangling words and phrases)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4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B773410B-C368-4DDF-AA44-B7D0918549ED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31" name="Picture 8" descr="j0299125"/>
          <p:cNvPicPr/>
          <p:nvPr/>
        </p:nvPicPr>
        <p:blipFill>
          <a:blip r:embed="rId1"/>
          <a:stretch/>
        </p:blipFill>
        <p:spPr>
          <a:xfrm>
            <a:off x="7350120" y="609480"/>
            <a:ext cx="836640" cy="137160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11"/>
          <p:cNvSpPr/>
          <p:nvPr/>
        </p:nvSpPr>
        <p:spPr>
          <a:xfrm>
            <a:off x="380880" y="1905120"/>
            <a:ext cx="822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ll professional correspondence must be written in a way that conveys information clearly.  What do you need to know when preparing to write any form of office communication?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33" name="Text Box 12"/>
          <p:cNvSpPr/>
          <p:nvPr/>
        </p:nvSpPr>
        <p:spPr>
          <a:xfrm>
            <a:off x="380880" y="3808440"/>
            <a:ext cx="8382240" cy="947160"/>
          </a:xfrm>
          <a:prstGeom prst="rect">
            <a:avLst/>
          </a:prstGeom>
          <a:solidFill>
            <a:srgbClr val="804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You must know who you are writing to, i.e., a physician, patient, vendor, or fellow staff member.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34" name="AutoShape 13"/>
          <p:cNvSpPr/>
          <p:nvPr/>
        </p:nvSpPr>
        <p:spPr>
          <a:xfrm rot="10800000">
            <a:off x="6400800" y="4952520"/>
            <a:ext cx="2362320" cy="1600200"/>
          </a:xfrm>
          <a:prstGeom prst="verticalScroll">
            <a:avLst>
              <a:gd name="adj" fmla="val 12500"/>
            </a:avLst>
          </a:prstGeom>
          <a:solidFill>
            <a:srgbClr val="5f00ff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35" name="Text Box 14"/>
          <p:cNvSpPr/>
          <p:nvPr/>
        </p:nvSpPr>
        <p:spPr>
          <a:xfrm>
            <a:off x="6781680" y="5105520"/>
            <a:ext cx="160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Good Job!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236" name="Picture 15" descr=""/>
          <p:cNvPicPr/>
          <p:nvPr/>
        </p:nvPicPr>
        <p:blipFill>
          <a:blip r:embed="rId2"/>
          <a:stretch/>
        </p:blipFill>
        <p:spPr>
          <a:xfrm>
            <a:off x="8610480" y="5791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500"/>
                            </p:stCondLst>
                            <p:childTnLst>
                              <p:par>
                                <p:cTn id="56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3000"/>
                            </p:stCondLst>
                            <p:childTnLst>
                              <p:par>
                                <p:cTn id="5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6" dur="4716" fill="hold"/>
                                        <p:tgtEl>
                                          <p:spTgt spid="2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4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34D9A0A4-D82E-4C7B-9CE8-CB614DFBBECF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4080"/>
                </a:solidFill>
                <a:latin typeface="Times New Roman"/>
              </a:rPr>
              <a:t>Editing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heck for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Factual accuracy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Logical flow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Concisenes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Clarity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Tone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648320" y="1828800"/>
            <a:ext cx="4495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4080"/>
                </a:solidFill>
                <a:latin typeface="Times New Roman"/>
              </a:rPr>
              <a:t>Proofreading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heck for error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Grammatical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Spelling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Format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Have another person proofread if possibl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0" name="Rectangle 10"/>
          <p:cNvSpPr/>
          <p:nvPr/>
        </p:nvSpPr>
        <p:spPr>
          <a:xfrm>
            <a:off x="304920" y="533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diting and Proofread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2" name="Text Box 13"/>
          <p:cNvSpPr/>
          <p:nvPr/>
        </p:nvSpPr>
        <p:spPr>
          <a:xfrm>
            <a:off x="609480" y="541008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NEVER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skip editing and proofreading steps!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3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8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3" dur="5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8" dur="50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3" dur="500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8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3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8" dur="5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3" dur="50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500"/>
                            </p:stCondLst>
                            <p:childTnLst>
                              <p:par>
                                <p:cTn id="62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2000"/>
                            </p:stCondLst>
                            <p:childTnLst>
                              <p:par>
                                <p:cTn id="629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3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D9006202-5A71-4FAB-A404-F3BC8829B563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380880" y="685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457200" y="1981080"/>
            <a:ext cx="830592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38360" indent="-738360">
              <a:tabLst>
                <a:tab algn="l" pos="0"/>
                <a:tab algn="l" pos="73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7.5 Explain the tasks involved in editing and proofreading.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738360" indent="-738360">
              <a:spcBef>
                <a:spcPts val="1749"/>
              </a:spcBef>
              <a:tabLst>
                <a:tab algn="l" pos="0"/>
                <a:tab algn="l" pos="73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7.6 Describe the process of handling incoming and outgoing mail.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738360" indent="-738360">
              <a:spcBef>
                <a:spcPts val="1749"/>
              </a:spcBef>
              <a:tabLst>
                <a:tab algn="l" pos="0"/>
                <a:tab algn="l" pos="73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7.7 Compare and contrast the services provided by the U.S. Postal Service and other delivery services.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earning Outcome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BB8AEC45-F83B-4534-9953-45E3BA6BE04A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4" name="AutoShape 5"/>
          <p:cNvSpPr/>
          <p:nvPr/>
        </p:nvSpPr>
        <p:spPr>
          <a:xfrm>
            <a:off x="380880" y="1828800"/>
            <a:ext cx="8305920" cy="1066680"/>
          </a:xfrm>
          <a:prstGeom prst="bevel">
            <a:avLst>
              <a:gd name="adj" fmla="val 12500"/>
            </a:avLst>
          </a:prstGeom>
          <a:solidFill>
            <a:srgbClr val="804080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ools for Editing And Proofreading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5" name="Text Box 7"/>
          <p:cNvSpPr/>
          <p:nvPr/>
        </p:nvSpPr>
        <p:spPr>
          <a:xfrm>
            <a:off x="3963240" y="3200400"/>
            <a:ext cx="1701720" cy="520560"/>
          </a:xfrm>
          <a:prstGeom prst="rect">
            <a:avLst/>
          </a:prstGeom>
          <a:noFill/>
          <a:ln w="38160">
            <a:solidFill>
              <a:srgbClr val="5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Dictionar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3276360" y="4191120"/>
            <a:ext cx="2875320" cy="520560"/>
          </a:xfrm>
          <a:prstGeom prst="rect">
            <a:avLst/>
          </a:prstGeom>
          <a:noFill/>
          <a:ln w="38160">
            <a:solidFill>
              <a:srgbClr val="5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Medical dictionar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7" name="Text Box 9"/>
          <p:cNvSpPr/>
          <p:nvPr/>
        </p:nvSpPr>
        <p:spPr>
          <a:xfrm>
            <a:off x="380880" y="3429000"/>
            <a:ext cx="2438640" cy="1373760"/>
          </a:xfrm>
          <a:prstGeom prst="rect">
            <a:avLst/>
          </a:prstGeom>
          <a:noFill/>
          <a:ln w="38160">
            <a:solidFill>
              <a:srgbClr val="5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33"/>
                </a:solidFill>
                <a:latin typeface="Times New Roman"/>
              </a:rPr>
              <a:t>Physician’s Desk Reference (PDR)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8" name="Text Box 10"/>
          <p:cNvSpPr/>
          <p:nvPr/>
        </p:nvSpPr>
        <p:spPr>
          <a:xfrm>
            <a:off x="6553080" y="3429000"/>
            <a:ext cx="2210040" cy="1373760"/>
          </a:xfrm>
          <a:prstGeom prst="rect">
            <a:avLst/>
          </a:prstGeom>
          <a:noFill/>
          <a:ln w="38160">
            <a:solidFill>
              <a:srgbClr val="5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English grammar and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usage manual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9" name="Text Box 11"/>
          <p:cNvSpPr/>
          <p:nvPr/>
        </p:nvSpPr>
        <p:spPr>
          <a:xfrm>
            <a:off x="2437200" y="5257800"/>
            <a:ext cx="4554720" cy="520560"/>
          </a:xfrm>
          <a:prstGeom prst="rect">
            <a:avLst/>
          </a:prstGeom>
          <a:noFill/>
          <a:ln w="38160">
            <a:solidFill>
              <a:srgbClr val="5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Word processing spell checker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diting and Proofreading</a:t>
            </a:r>
            <a:r>
              <a:rPr b="1" lang="en-US" sz="5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7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2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7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2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7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3C090408-E93A-4752-86CB-9EEEB2B3AE71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dit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Editing ensures that documents are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12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ccurate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12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lear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12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omplete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12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Free of grammatical error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12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Logically organized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12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Written in appropriate styl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64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69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74" dur="5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79" dur="5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84" dur="500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89" dur="500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lide Number Placeholder 4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D672C908-D9AB-409D-AF22-F36481A6849A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diting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Language usag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Learn basic grammar rul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sk: “Is this the best way to convey what I want to say?”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tyl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ppropriate to reader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257" name="Picture 8" descr="MPj03877960000[1]"/>
          <p:cNvPicPr/>
          <p:nvPr/>
        </p:nvPicPr>
        <p:blipFill>
          <a:blip r:embed="rId1"/>
          <a:stretch/>
        </p:blipFill>
        <p:spPr>
          <a:xfrm>
            <a:off x="5362560" y="2151000"/>
            <a:ext cx="2610000" cy="3657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30E76D1D-7F30-4A45-B4DF-FAA207E4CEEB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diting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ontent - logical flow of though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tate purpos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Discuss one topic at a tim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hange paragraphs when changing topic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List events in chronological order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tick to subjec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elect words carefull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Proofread what you writ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5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7" dur="5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BA3A6CC0-CF10-49FE-8819-3E73E0182C3F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ofread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Proofread and put aside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Have coworker proofread documen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ree types of error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Formatting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Data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Mechanical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500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BE7230C6-2A27-4A2C-93E9-39D6BDAD5F2C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ofreading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rmatting error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Positioning parts of a letter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Indenting, line length, line spacing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void by following office styl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Data error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Mistyping monetary figure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void by double-checking </a:t>
            </a:r>
            <a:br>
              <a:rPr sz="2800"/>
            </a:b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figures or having someone else check them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67" name="WordArt 4"/>
          <p:cNvSpPr txBox="1"/>
          <p:nvPr/>
        </p:nvSpPr>
        <p:spPr>
          <a:xfrm>
            <a:off x="6705720" y="3886200"/>
            <a:ext cx="182880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$$$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75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78" dur="50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81" dur="500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2BAC15CA-8DD9-43B2-98B5-A70E098920E5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ofreading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Mechanical error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pelling, punctuation, spacing between words, division of work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void b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Learning basic spelling, punctuation, and word division rul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Checking for transposed characters or word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voiding dividing words at the end of a line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9FFCB588-791A-4472-843E-B39D0FBE9678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72" name="Text Box 5"/>
          <p:cNvSpPr/>
          <p:nvPr/>
        </p:nvSpPr>
        <p:spPr>
          <a:xfrm>
            <a:off x="228600" y="182880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 letter must be sent to current employees that have exceeded their number of absences according to office policy. Which of the following would be most appropriate?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73" name="Text Box 6"/>
          <p:cNvSpPr/>
          <p:nvPr/>
        </p:nvSpPr>
        <p:spPr>
          <a:xfrm>
            <a:off x="370800" y="3352680"/>
            <a:ext cx="84182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33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Dear _____, The attendance policy of this office requires that…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343080" indent="-343080">
              <a:buClr>
                <a:srgbClr val="000033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Dear _____, You have violated the attendance policy of this …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343080" indent="-343080">
              <a:buClr>
                <a:srgbClr val="000033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Dear _____, Are you aware that you have missed “X” days…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457200" y="4940280"/>
            <a:ext cx="79246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Text Box 12"/>
          <p:cNvSpPr/>
          <p:nvPr/>
        </p:nvSpPr>
        <p:spPr>
          <a:xfrm>
            <a:off x="304920" y="4572000"/>
            <a:ext cx="8458200" cy="1557000"/>
          </a:xfrm>
          <a:prstGeom prst="rect">
            <a:avLst/>
          </a:prstGeom>
          <a:solidFill>
            <a:srgbClr val="804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his correspondence must communicate the facts in a soft manner while getting the point across. The first response begins with identifying the “fact” or policy followed by the individual’s performance and is less subjective or punitive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277" name="Picture 13" descr="j0299125"/>
          <p:cNvPicPr/>
          <p:nvPr/>
        </p:nvPicPr>
        <p:blipFill>
          <a:blip r:embed="rId1"/>
          <a:stretch/>
        </p:blipFill>
        <p:spPr>
          <a:xfrm>
            <a:off x="304920" y="380880"/>
            <a:ext cx="836640" cy="1371600"/>
          </a:xfrm>
          <a:prstGeom prst="rect">
            <a:avLst/>
          </a:prstGeom>
          <a:ln w="0">
            <a:noFill/>
          </a:ln>
        </p:spPr>
      </p:pic>
      <p:sp>
        <p:nvSpPr>
          <p:cNvPr id="278" name="Oval 14"/>
          <p:cNvSpPr/>
          <p:nvPr/>
        </p:nvSpPr>
        <p:spPr>
          <a:xfrm>
            <a:off x="380880" y="342900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79" name="AutoShape 15"/>
          <p:cNvSpPr/>
          <p:nvPr/>
        </p:nvSpPr>
        <p:spPr>
          <a:xfrm>
            <a:off x="1066680" y="457200"/>
            <a:ext cx="2133720" cy="838080"/>
          </a:xfrm>
          <a:prstGeom prst="wedgeRoundRectCallout">
            <a:avLst>
              <a:gd name="adj1" fmla="val -43518"/>
              <a:gd name="adj2" fmla="val 70074"/>
              <a:gd name="adj3" fmla="val 16667"/>
            </a:avLst>
          </a:prstGeom>
          <a:solidFill>
            <a:srgbClr val="5f00ff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ice Work!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280" name="Picture 16" descr=""/>
          <p:cNvPicPr/>
          <p:nvPr/>
        </p:nvPicPr>
        <p:blipFill>
          <a:blip r:embed="rId2"/>
          <a:stretch/>
        </p:blipFill>
        <p:spPr>
          <a:xfrm>
            <a:off x="83059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afterEffect" fill="hold" presetClass="entr" presetID="6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07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9" dur="2268" fill="hold"/>
                                        <p:tgtEl>
                                          <p:spTgt spid="2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Slide Number Placeholder 4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AE9B7472-4CE8-4787-A352-F62E8E6EBBAC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eparing Outgoing Mai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7724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igning letter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If you sign for the doctor, place your initials after the doctor’s signature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Preparing the envelop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Use USPS guidelines for addressing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envelop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ddress placement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ddress format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284" name="Picture 4" descr="MCj03970660000[1]"/>
          <p:cNvPicPr/>
          <p:nvPr/>
        </p:nvPicPr>
        <p:blipFill>
          <a:blip r:embed="rId1"/>
          <a:stretch/>
        </p:blipFill>
        <p:spPr>
          <a:xfrm>
            <a:off x="6248520" y="3429000"/>
            <a:ext cx="2236680" cy="2278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lide Number Placeholder 4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B6A46C0F-2641-4934-B755-AEBCA606EF87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eparing Outgoing Mail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Folding and inserting the mail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871560" indent="-41868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Type of envelope determines the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way a letter should be folded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22640" indent="-449280">
              <a:spcBef>
                <a:spcPts val="550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Small envelope – fold letter in half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22640" indent="-449280">
              <a:spcBef>
                <a:spcPts val="550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Business-size envelope – fold in thirds </a:t>
            </a:r>
            <a:br>
              <a:rPr sz="2200"/>
            </a:b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(fold bottom up then top down)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22640" indent="-449280">
              <a:spcBef>
                <a:spcPts val="550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Window envelope – accordion fold so address appears in the window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lvl="1" marL="871560" indent="-418680">
              <a:spcBef>
                <a:spcPts val="64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33"/>
                </a:solidFill>
                <a:latin typeface="Times New Roman"/>
              </a:rPr>
              <a:t>Be sure letters are signed and all enclosures are included</a:t>
            </a: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  <a:p>
            <a:pPr lvl="1" marL="871560" indent="-418680">
              <a:spcBef>
                <a:spcPts val="64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33"/>
                </a:solidFill>
                <a:latin typeface="Times New Roman"/>
              </a:rPr>
              <a:t>Be sure address on letter matches envelope</a:t>
            </a: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288" name="Picture 4" descr="MCj04315360000[1]"/>
          <p:cNvPicPr/>
          <p:nvPr/>
        </p:nvPicPr>
        <p:blipFill>
          <a:blip r:embed="rId1"/>
          <a:stretch/>
        </p:blipFill>
        <p:spPr>
          <a:xfrm>
            <a:off x="6477120" y="1752480"/>
            <a:ext cx="2171520" cy="2135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53A54288-4FA1-4C82-84D6-5FFB0241BB44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Written materials demonstrate ability to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ommunicat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onduct busines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Professional image is conveyed in written correspondence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Written documents = legal record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6952320" y="228600"/>
            <a:ext cx="625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33"/>
                </a:solidFill>
                <a:latin typeface="Wingdings"/>
                <a:ea typeface="Wingdings"/>
              </a:rPr>
              <a:t></a:t>
            </a:r>
            <a:endParaRPr b="0" lang="en-US" sz="96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D2132F71-57D7-4617-9A3D-901A797DCA8F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1" name="Picture 4" descr="j0299125"/>
          <p:cNvPicPr/>
          <p:nvPr/>
        </p:nvPicPr>
        <p:blipFill>
          <a:blip r:embed="rId1"/>
          <a:stretch/>
        </p:blipFill>
        <p:spPr>
          <a:xfrm>
            <a:off x="7620120" y="685800"/>
            <a:ext cx="696960" cy="114300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6"/>
          <p:cNvSpPr/>
          <p:nvPr/>
        </p:nvSpPr>
        <p:spPr>
          <a:xfrm>
            <a:off x="609480" y="3216240"/>
            <a:ext cx="7848720" cy="825480"/>
          </a:xfrm>
          <a:prstGeom prst="rect">
            <a:avLst/>
          </a:prstGeom>
          <a:solidFill>
            <a:srgbClr val="804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When preparing envelopes for mailing office correspondence, you should use USPS guidelines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533520" y="198108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How should you prepare envelopes for mailing office correspondence?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6172200" y="4952880"/>
            <a:ext cx="243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5f00ff"/>
              </a:buClr>
              <a:buFont typeface="Wingding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5f00ff"/>
                </a:solidFill>
                <a:latin typeface="Times New Roman"/>
              </a:rPr>
              <a:t>Stamp of</a:t>
            </a:r>
            <a:br>
              <a:rPr sz="2800"/>
            </a:br>
            <a:r>
              <a:rPr b="1" lang="en-US" sz="2800" spc="-1" strike="noStrike">
                <a:solidFill>
                  <a:srgbClr val="5f00ff"/>
                </a:solidFill>
                <a:latin typeface="Times New Roman"/>
              </a:rPr>
              <a:t>     Approval!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295" name="Picture 9" descr=""/>
          <p:cNvPicPr/>
          <p:nvPr/>
        </p:nvPicPr>
        <p:blipFill>
          <a:blip r:embed="rId2"/>
          <a:stretch/>
        </p:blipFill>
        <p:spPr>
          <a:xfrm>
            <a:off x="8381880" y="5486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6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1000"/>
                            </p:stCondLst>
                            <p:childTnLst>
                              <p:par>
                                <p:cTn id="858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3500"/>
                            </p:stCondLst>
                            <p:childTnLst>
                              <p:par>
                                <p:cTn id="8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3" dur="4716" fill="hold"/>
                                        <p:tgtEl>
                                          <p:spTgt spid="2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Slide Number Placeholder 4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1E686A05-D46C-4DE6-B2CE-C34C9B08A8CB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Mailing Equipment and Supplie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50292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Letterhead, blank stationery, envelope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21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vailable from USPS, private delivery companies, and office supply store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Form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Label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Packaging suppli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299" name="Picture 4" descr="MCj01495690000[1]"/>
          <p:cNvPicPr/>
          <p:nvPr/>
        </p:nvPicPr>
        <p:blipFill>
          <a:blip r:embed="rId1"/>
          <a:stretch/>
        </p:blipFill>
        <p:spPr>
          <a:xfrm>
            <a:off x="5715000" y="2971800"/>
            <a:ext cx="2692440" cy="1981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0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5" dur="5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8" dur="500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1" dur="500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4" dur="500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Slide Number Placeholder 4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9C08A5A9-2500-4F96-B8ED-FF2F6AC11AEC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Mailing Equipment and Supplies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1532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irmail supplie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75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33"/>
                </a:solidFill>
                <a:latin typeface="Times New Roman"/>
              </a:rPr>
              <a:t>Letters and packages must be </a:t>
            </a:r>
            <a:br>
              <a:rPr sz="2700"/>
            </a:br>
            <a:r>
              <a:rPr b="0" lang="en-US" sz="2700" spc="-1" strike="noStrike">
                <a:solidFill>
                  <a:srgbClr val="000033"/>
                </a:solidFill>
                <a:latin typeface="Times New Roman"/>
              </a:rPr>
              <a:t>labeled “AIRMAIL” on all sides</a:t>
            </a:r>
            <a:endParaRPr b="0" lang="en-US" sz="27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75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33"/>
                </a:solidFill>
                <a:latin typeface="Times New Roman"/>
              </a:rPr>
              <a:t>Available for mail to foreign countries</a:t>
            </a:r>
            <a:endParaRPr b="0" lang="en-US" sz="2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21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Envelopes for Overnight Delivery Service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75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33"/>
                </a:solidFill>
                <a:latin typeface="Times New Roman"/>
              </a:rPr>
              <a:t>USPS and other companies require the use of their own mailing materials for next day delivery</a:t>
            </a:r>
            <a:endParaRPr b="0" lang="en-US" sz="27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303" name="Picture 5" descr="MMj02970310000[1]"/>
          <p:cNvPicPr/>
          <p:nvPr/>
        </p:nvPicPr>
        <p:blipFill>
          <a:blip r:embed="rId1"/>
          <a:stretch/>
        </p:blipFill>
        <p:spPr>
          <a:xfrm>
            <a:off x="6477120" y="1981080"/>
            <a:ext cx="2247840" cy="1379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4" dur="5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9" dur="500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2" dur="500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Slide Number Placeholder 4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47B2E043-7596-40CA-B893-06A6AA68FCC4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Mailing Equipment and Supplies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Postal rates, scales, and meter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75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33"/>
                </a:solidFill>
                <a:latin typeface="Times New Roman"/>
              </a:rPr>
              <a:t>Rates and regulations change periodically, so keep current rates on-hand at the medical office</a:t>
            </a:r>
            <a:endParaRPr b="0" lang="en-US" sz="27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307" name="Picture 4" descr="j0356853"/>
          <p:cNvPicPr/>
          <p:nvPr/>
        </p:nvPicPr>
        <p:blipFill>
          <a:blip r:embed="rId1"/>
          <a:stretch/>
        </p:blipFill>
        <p:spPr>
          <a:xfrm>
            <a:off x="5638680" y="2666880"/>
            <a:ext cx="2363760" cy="1824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77D0EAB2-B17B-41E3-A49C-08C6FB21FB22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0" name="Picture 4" descr="j0299125"/>
          <p:cNvPicPr/>
          <p:nvPr/>
        </p:nvPicPr>
        <p:blipFill>
          <a:blip r:embed="rId1"/>
          <a:stretch/>
        </p:blipFill>
        <p:spPr>
          <a:xfrm>
            <a:off x="7467480" y="609480"/>
            <a:ext cx="790560" cy="129564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6"/>
          <p:cNvSpPr/>
          <p:nvPr/>
        </p:nvSpPr>
        <p:spPr>
          <a:xfrm>
            <a:off x="533520" y="220968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In addition to letterhead, blank stationary, and envelopes, what other mailing supplies might be needed for a medical office?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685800" y="3733920"/>
            <a:ext cx="7467480" cy="1373760"/>
          </a:xfrm>
          <a:prstGeom prst="rect">
            <a:avLst/>
          </a:prstGeom>
          <a:solidFill>
            <a:srgbClr val="804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 medical office may need forms, labels, and packaging supplies for items needing special attention.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grpSp>
        <p:nvGrpSpPr>
          <p:cNvPr id="313" name="Group 104"/>
          <p:cNvGrpSpPr/>
          <p:nvPr/>
        </p:nvGrpSpPr>
        <p:grpSpPr>
          <a:xfrm>
            <a:off x="5867280" y="4952880"/>
            <a:ext cx="2362320" cy="1447920"/>
            <a:chOff x="5867280" y="4952880"/>
            <a:chExt cx="2362320" cy="1447920"/>
          </a:xfrm>
        </p:grpSpPr>
        <p:sp>
          <p:nvSpPr>
            <p:cNvPr id="314" name="AutoShape 105"/>
            <p:cNvSpPr/>
            <p:nvPr/>
          </p:nvSpPr>
          <p:spPr>
            <a:xfrm>
              <a:off x="5867280" y="4952880"/>
              <a:ext cx="2362320" cy="1447920"/>
            </a:xfrm>
            <a:prstGeom prst="cube">
              <a:avLst>
                <a:gd name="adj" fmla="val 25000"/>
              </a:avLst>
            </a:prstGeom>
            <a:solidFill>
              <a:srgbClr val="5f00ff"/>
            </a:solidFill>
            <a:ln w="93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315" name="Text Box 106"/>
            <p:cNvSpPr/>
            <p:nvPr/>
          </p:nvSpPr>
          <p:spPr>
            <a:xfrm>
              <a:off x="6019560" y="5410080"/>
              <a:ext cx="175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Good Answer!</a:t>
              </a:r>
              <a:endParaRPr b="0" lang="en-US" sz="24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316" name="Line 107"/>
            <p:cNvSpPr/>
            <p:nvPr/>
          </p:nvSpPr>
          <p:spPr>
            <a:xfrm>
              <a:off x="6019560" y="5105160"/>
              <a:ext cx="2057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317" name="Line 108"/>
            <p:cNvSpPr/>
            <p:nvPr/>
          </p:nvSpPr>
          <p:spPr>
            <a:xfrm>
              <a:off x="8076960" y="5105160"/>
              <a:ext cx="0" cy="1143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318" name="Rectangle 109"/>
            <p:cNvSpPr/>
            <p:nvPr/>
          </p:nvSpPr>
          <p:spPr>
            <a:xfrm>
              <a:off x="6476760" y="5181480"/>
              <a:ext cx="91440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319" name="Rectangle 110"/>
            <p:cNvSpPr/>
            <p:nvPr/>
          </p:nvSpPr>
          <p:spPr>
            <a:xfrm>
              <a:off x="6248160" y="4952880"/>
              <a:ext cx="3812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320" name="Rectangle 111"/>
            <p:cNvSpPr/>
            <p:nvPr/>
          </p:nvSpPr>
          <p:spPr>
            <a:xfrm>
              <a:off x="7696080" y="4952880"/>
              <a:ext cx="22860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pic>
        <p:nvPicPr>
          <p:cNvPr id="321" name="Picture 112" descr=""/>
          <p:cNvPicPr/>
          <p:nvPr/>
        </p:nvPicPr>
        <p:blipFill>
          <a:blip r:embed="rId2"/>
          <a:stretch/>
        </p:blipFill>
        <p:spPr>
          <a:xfrm>
            <a:off x="8534520" y="6019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0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500"/>
                            </p:stCondLst>
                            <p:childTnLst>
                              <p:par>
                                <p:cTn id="91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5" dur="726" fill="hold"/>
                                        <p:tgtEl>
                                          <p:spTgt spid="3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Slide Number Placeholder 4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3278EFFA-3F28-4305-AA13-F450C185F843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3" name="Text Box 11"/>
          <p:cNvSpPr/>
          <p:nvPr/>
        </p:nvSpPr>
        <p:spPr>
          <a:xfrm>
            <a:off x="228600" y="4648320"/>
            <a:ext cx="397836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5f00ff"/>
              </a:buClr>
              <a:buFont typeface="Wingdings" charset="2"/>
              <a:buChar char="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USPS – Regular Mail Servic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403884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First-class mail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Must weigh no 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more than 11 oz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Cost is based on     weight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Mail is forwarded at      no extra cost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Fourth-class mail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lso called </a:t>
            </a:r>
            <a:r>
              <a:rPr b="1" i="1" lang="en-US" sz="2400" spc="-1" strike="noStrike">
                <a:solidFill>
                  <a:srgbClr val="000033"/>
                </a:solidFill>
                <a:latin typeface="Times New Roman"/>
              </a:rPr>
              <a:t>parcel post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   and is used for items weighing between </a:t>
            </a:r>
            <a:r>
              <a:rPr b="1" lang="en-US" sz="2400" spc="-1" strike="noStrike">
                <a:solidFill>
                  <a:srgbClr val="000033"/>
                </a:solidFill>
                <a:latin typeface="Times New Roman"/>
              </a:rPr>
              <a:t>1 lb.      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nd </a:t>
            </a:r>
            <a:r>
              <a:rPr b="1" lang="en-US" sz="2400" spc="-1" strike="noStrike">
                <a:solidFill>
                  <a:srgbClr val="000033"/>
                </a:solidFill>
                <a:latin typeface="Times New Roman"/>
              </a:rPr>
              <a:t>70 lb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Rates are based on weight and distance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2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5" dur="5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8" dur="500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3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6" dur="5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9" dur="500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Slide Number Placeholder 4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6B8B388B-7721-4557-9AE6-86CFF6E86375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USPS – Regular Mail Service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Priority Mail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11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Useful for heavier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items requiring faster delivery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11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USPS offers a flat rate for any items that can fit into the priority envelope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11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USPS guarantees delivery within 2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–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3 day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Express Mail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11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The quickest service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11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Delivery service available every day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11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Rates vary with weight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11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Items automatically insured against loss or damage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11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Special flat rate also available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46" dur="10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49" dur="10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52" dur="10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57" dur="10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60" dur="10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63" dur="10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66" dur="10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69" dur="1000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72" dur="1000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Slide Number Placeholder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9AD40595-4C74-4320-A857-B46C7BB1E04E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USPS – Special Postal Service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50292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pecial deliver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Deliveries made before regular mail delivery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Limited hours and distance limits availability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ertified mail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Offers a guarantee that the item has been received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Requires signature of recipient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334" name="Picture 13" descr="MCj02375120000[1]"/>
          <p:cNvPicPr/>
          <p:nvPr/>
        </p:nvPicPr>
        <p:blipFill>
          <a:blip r:embed="rId1"/>
          <a:stretch/>
        </p:blipFill>
        <p:spPr>
          <a:xfrm>
            <a:off x="5562720" y="2438280"/>
            <a:ext cx="3170160" cy="3200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9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2" dur="500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5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lide Number Placeholder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6D9AB730-9664-4F78-BC7C-9814380B06AF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USPS – Special Postal Services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8487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Return receipt requested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Offers proof of who received 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the item and when they received it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Registered mail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Used to send valuable, important item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Evidence provided of mailing and delivery to sender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First-class and priority mail can be registered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338" name="Picture 6" descr="MCj02808200000[1]"/>
          <p:cNvPicPr/>
          <p:nvPr/>
        </p:nvPicPr>
        <p:blipFill>
          <a:blip r:embed="rId1"/>
          <a:stretch/>
        </p:blipFill>
        <p:spPr>
          <a:xfrm>
            <a:off x="6172200" y="2057400"/>
            <a:ext cx="2295360" cy="1693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2" dur="500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5" dur="500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8" dur="500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01" dur="500"/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Slide Number Placeholder 4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E2C3D723-DD85-4246-9390-E0EB0A14C948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USPS – Special Postal Services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80520" y="2022480"/>
            <a:ext cx="403884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International mail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USPS offers surface 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nd airmail services 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to most foreign 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countri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International mail 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classes are similar to 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domestic mail class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48320" y="202248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Tracing mail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Service used if a piece of certified or registered mail does not reach its destination on time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The original receipt must be presented to locate the item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2" dur="5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7" dur="5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2" dur="500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4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5083BCBB-AF07-4633-A65D-8B6B18F5C9FA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rrespondence and Professionalism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3059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Learning to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804080"/>
                </a:solidFill>
                <a:latin typeface="Wingdings"/>
                <a:ea typeface="Wingdings"/>
              </a:rPr>
              <a:t></a:t>
            </a:r>
            <a:r>
              <a:rPr b="0" lang="en-US" sz="60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5f00ff"/>
                </a:solidFill>
                <a:latin typeface="Times New Roman"/>
              </a:rPr>
              <a:t>Create</a:t>
            </a:r>
            <a:r>
              <a:rPr b="0" lang="en-US" sz="2800" spc="-1" strike="noStrike">
                <a:solidFill>
                  <a:srgbClr val="5f00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     </a:t>
            </a:r>
            <a:r>
              <a:rPr b="0" lang="en-US" sz="6600" spc="-1" strike="noStrike">
                <a:solidFill>
                  <a:srgbClr val="804080"/>
                </a:solidFill>
                <a:latin typeface="Wingdings"/>
                <a:ea typeface="Wingdings"/>
              </a:rPr>
              <a:t></a:t>
            </a: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5f00ff"/>
                </a:solidFill>
                <a:latin typeface="Times New Roman"/>
              </a:rPr>
              <a:t>Receiv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5f00ff"/>
                </a:solidFill>
                <a:latin typeface="Times New Roman"/>
              </a:rPr>
              <a:t>Send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orrespondence properly ensures positive, effective communication between your office and others.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838080" y="2057400"/>
            <a:ext cx="106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33"/>
                </a:solidFill>
                <a:latin typeface="Wingdings"/>
                <a:ea typeface="Wingdings"/>
              </a:rPr>
              <a:t></a:t>
            </a:r>
            <a:endParaRPr b="0" lang="en-US" sz="60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122" name="Picture 13" descr="MCj04316000000[1]"/>
          <p:cNvPicPr/>
          <p:nvPr/>
        </p:nvPicPr>
        <p:blipFill>
          <a:blip r:embed="rId1"/>
          <a:stretch/>
        </p:blipFill>
        <p:spPr>
          <a:xfrm>
            <a:off x="3276720" y="2438280"/>
            <a:ext cx="1295280" cy="1295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4512363E-0703-4D60-88B8-E2762D685107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533520" y="1828800"/>
          <a:ext cx="8229600" cy="4419720"/>
        </p:xfrm>
        <a:graphic>
          <a:graphicData uri="http://schemas.openxmlformats.org/drawingml/2006/table">
            <a:tbl>
              <a:tblPr/>
              <a:tblGrid>
                <a:gridCol w="3504960"/>
                <a:gridCol w="472464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livery Servic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5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scrip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5f00ff"/>
                    </a:solidFill>
                  </a:tcPr>
                </a:tc>
              </a:tr>
              <a:tr h="13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United Parcel Service (UPS)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1160" indent="-281160"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rovides overnight letter and express service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marL="281160" indent="-281160"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ackages insured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Express Delivery Services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ederal Expres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HL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12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essengers or Carriers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1160" indent="-281160"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Local area same-day delivery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ther Delivery Service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7A72C317-A23C-4DDE-BFDE-DAC71AADC81B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grpSp>
        <p:nvGrpSpPr>
          <p:cNvPr id="347" name="Group 18"/>
          <p:cNvGrpSpPr/>
          <p:nvPr/>
        </p:nvGrpSpPr>
        <p:grpSpPr>
          <a:xfrm>
            <a:off x="455040" y="2895480"/>
            <a:ext cx="6783840" cy="520560"/>
            <a:chOff x="455040" y="2895480"/>
            <a:chExt cx="6783840" cy="520560"/>
          </a:xfrm>
        </p:grpSpPr>
        <p:sp>
          <p:nvSpPr>
            <p:cNvPr id="348" name="Text Box 5"/>
            <p:cNvSpPr/>
            <p:nvPr/>
          </p:nvSpPr>
          <p:spPr>
            <a:xfrm>
              <a:off x="455040" y="2895480"/>
              <a:ext cx="45288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33"/>
                  </a:solidFill>
                  <a:latin typeface="Times New Roman"/>
                </a:rPr>
                <a:t>Confidential laboratory results</a:t>
              </a: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349" name="Line 8"/>
            <p:cNvSpPr/>
            <p:nvPr/>
          </p:nvSpPr>
          <p:spPr>
            <a:xfrm>
              <a:off x="5257800" y="3124080"/>
              <a:ext cx="1981080" cy="0"/>
            </a:xfrm>
            <a:prstGeom prst="line">
              <a:avLst/>
            </a:prstGeom>
            <a:ln w="9360">
              <a:solidFill>
                <a:srgbClr val="00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grpSp>
        <p:nvGrpSpPr>
          <p:cNvPr id="350" name="Group 19"/>
          <p:cNvGrpSpPr/>
          <p:nvPr/>
        </p:nvGrpSpPr>
        <p:grpSpPr>
          <a:xfrm>
            <a:off x="440640" y="3571920"/>
            <a:ext cx="6798240" cy="520560"/>
            <a:chOff x="440640" y="3571920"/>
            <a:chExt cx="6798240" cy="520560"/>
          </a:xfrm>
        </p:grpSpPr>
        <p:sp>
          <p:nvSpPr>
            <p:cNvPr id="351" name="Text Box 6"/>
            <p:cNvSpPr/>
            <p:nvPr/>
          </p:nvSpPr>
          <p:spPr>
            <a:xfrm>
              <a:off x="440640" y="3571920"/>
              <a:ext cx="525276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33"/>
                  </a:solidFill>
                  <a:latin typeface="Times New Roman"/>
                </a:rPr>
                <a:t>Signed and dated contract materials</a:t>
              </a: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352" name="Line 9"/>
            <p:cNvSpPr/>
            <p:nvPr/>
          </p:nvSpPr>
          <p:spPr>
            <a:xfrm>
              <a:off x="5715000" y="3809880"/>
              <a:ext cx="1523880" cy="0"/>
            </a:xfrm>
            <a:prstGeom prst="line">
              <a:avLst/>
            </a:prstGeom>
            <a:ln w="9360">
              <a:solidFill>
                <a:srgbClr val="00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grpSp>
        <p:nvGrpSpPr>
          <p:cNvPr id="353" name="Group 20"/>
          <p:cNvGrpSpPr/>
          <p:nvPr/>
        </p:nvGrpSpPr>
        <p:grpSpPr>
          <a:xfrm>
            <a:off x="438480" y="4181400"/>
            <a:ext cx="6800400" cy="520560"/>
            <a:chOff x="438480" y="4181400"/>
            <a:chExt cx="6800400" cy="520560"/>
          </a:xfrm>
        </p:grpSpPr>
        <p:sp>
          <p:nvSpPr>
            <p:cNvPr id="354" name="Text Box 7"/>
            <p:cNvSpPr/>
            <p:nvPr/>
          </p:nvSpPr>
          <p:spPr>
            <a:xfrm>
              <a:off x="438480" y="4181400"/>
              <a:ext cx="551304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33"/>
                  </a:solidFill>
                  <a:latin typeface="Times New Roman"/>
                </a:rPr>
                <a:t>Patient invoice and billing statements</a:t>
              </a: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355" name="Line 10"/>
            <p:cNvSpPr/>
            <p:nvPr/>
          </p:nvSpPr>
          <p:spPr>
            <a:xfrm>
              <a:off x="6095880" y="4419720"/>
              <a:ext cx="1143000" cy="0"/>
            </a:xfrm>
            <a:prstGeom prst="line">
              <a:avLst/>
            </a:prstGeom>
            <a:ln w="9360">
              <a:solidFill>
                <a:srgbClr val="00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sp>
        <p:nvSpPr>
          <p:cNvPr id="356" name="Text Box 12"/>
          <p:cNvSpPr/>
          <p:nvPr/>
        </p:nvSpPr>
        <p:spPr>
          <a:xfrm>
            <a:off x="380880" y="1752480"/>
            <a:ext cx="8474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Which type of mail would you use to send each of the following: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57" name="Text Box 14"/>
          <p:cNvSpPr/>
          <p:nvPr/>
        </p:nvSpPr>
        <p:spPr>
          <a:xfrm>
            <a:off x="7394040" y="3429000"/>
            <a:ext cx="1146960" cy="520560"/>
          </a:xfrm>
          <a:prstGeom prst="rect">
            <a:avLst/>
          </a:prstGeom>
          <a:solidFill>
            <a:srgbClr val="5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 or D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58" name="Text Box 15"/>
          <p:cNvSpPr/>
          <p:nvPr/>
        </p:nvSpPr>
        <p:spPr>
          <a:xfrm>
            <a:off x="7530120" y="4029120"/>
            <a:ext cx="436680" cy="520560"/>
          </a:xfrm>
          <a:prstGeom prst="rect">
            <a:avLst/>
          </a:prstGeom>
          <a:solidFill>
            <a:srgbClr val="5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0" name="Text Box 17"/>
          <p:cNvSpPr/>
          <p:nvPr/>
        </p:nvSpPr>
        <p:spPr>
          <a:xfrm>
            <a:off x="2859120" y="4800600"/>
            <a:ext cx="3578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. First Class Mail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B. Priority Mail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. Certified Mail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D. Registered Mail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1" name="Text Box 24"/>
          <p:cNvSpPr/>
          <p:nvPr/>
        </p:nvSpPr>
        <p:spPr>
          <a:xfrm>
            <a:off x="5638680" y="2286000"/>
            <a:ext cx="1524240" cy="520560"/>
          </a:xfrm>
          <a:prstGeom prst="rect">
            <a:avLst/>
          </a:prstGeom>
          <a:solidFill>
            <a:srgbClr val="5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ANSWER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: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2" name="Text Box 25"/>
          <p:cNvSpPr/>
          <p:nvPr/>
        </p:nvSpPr>
        <p:spPr>
          <a:xfrm>
            <a:off x="7317720" y="2819520"/>
            <a:ext cx="1146960" cy="520560"/>
          </a:xfrm>
          <a:prstGeom prst="rect">
            <a:avLst/>
          </a:prstGeom>
          <a:solidFill>
            <a:srgbClr val="5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 or D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3" name="Text Box 31"/>
          <p:cNvSpPr/>
          <p:nvPr/>
        </p:nvSpPr>
        <p:spPr>
          <a:xfrm>
            <a:off x="6934320" y="57913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00ff"/>
                </a:solidFill>
                <a:latin typeface="Times New Roman"/>
              </a:rPr>
              <a:t>Right!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grpSp>
        <p:nvGrpSpPr>
          <p:cNvPr id="364" name="Group 38"/>
          <p:cNvGrpSpPr/>
          <p:nvPr/>
        </p:nvGrpSpPr>
        <p:grpSpPr>
          <a:xfrm>
            <a:off x="6248520" y="5181480"/>
            <a:ext cx="2514600" cy="1295640"/>
            <a:chOff x="6248520" y="5181480"/>
            <a:chExt cx="2514600" cy="1295640"/>
          </a:xfrm>
        </p:grpSpPr>
        <p:sp>
          <p:nvSpPr>
            <p:cNvPr id="365" name="Rectangle 34"/>
            <p:cNvSpPr/>
            <p:nvPr/>
          </p:nvSpPr>
          <p:spPr>
            <a:xfrm>
              <a:off x="6248520" y="5181480"/>
              <a:ext cx="2514600" cy="1295640"/>
            </a:xfrm>
            <a:prstGeom prst="rect">
              <a:avLst/>
            </a:prstGeom>
            <a:noFill/>
            <a:ln w="93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366" name="Text Box 36"/>
            <p:cNvSpPr/>
            <p:nvPr/>
          </p:nvSpPr>
          <p:spPr>
            <a:xfrm>
              <a:off x="6324840" y="5257800"/>
              <a:ext cx="685800" cy="324360"/>
            </a:xfrm>
            <a:prstGeom prst="rect">
              <a:avLst/>
            </a:prstGeom>
            <a:noFill/>
            <a:ln w="93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33"/>
                  </a:solidFill>
                  <a:latin typeface="Times New Roman"/>
                </a:rPr>
                <a:t>111 One Drive</a:t>
              </a:r>
              <a:endParaRPr b="0" lang="en-US" sz="600" spc="-1" strike="noStrike">
                <a:solidFill>
                  <a:srgbClr val="000033"/>
                </a:solidFill>
                <a:latin typeface="Times New Roman"/>
              </a:endParaRPr>
            </a:p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33"/>
                  </a:solidFill>
                  <a:latin typeface="Times New Roman"/>
                </a:rPr>
                <a:t>Any,  ST 11111</a:t>
              </a:r>
              <a:endParaRPr b="0" lang="en-US" sz="6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367" name="AutoShape 37"/>
            <p:cNvSpPr/>
            <p:nvPr/>
          </p:nvSpPr>
          <p:spPr>
            <a:xfrm>
              <a:off x="8305920" y="5257800"/>
              <a:ext cx="228600" cy="304920"/>
            </a:xfrm>
            <a:custGeom>
              <a:avLst/>
              <a:gdLst>
                <a:gd name="textAreaLeft" fmla="*/ 11160 w 228600"/>
                <a:gd name="textAreaRight" fmla="*/ 217440 w 228600"/>
                <a:gd name="textAreaTop" fmla="*/ 11160 h 304920"/>
                <a:gd name="textAreaBottom" fmla="*/ 293760 h 304920"/>
              </a:gdLst>
              <a:ahLst/>
              <a:rect l="textAreaLeft" t="textAreaTop" r="textAreaRight" b="textAreaBottom"/>
              <a:pathLst>
                <a:path w="21600" h="28800">
                  <a:moveTo>
                    <a:pt x="3600" y="0"/>
                  </a:moveTo>
                  <a:arcTo wR="3600" hR="3600" stAng="16200000" swAng="-5400000"/>
                  <a:lnTo>
                    <a:pt x="0" y="25200"/>
                  </a:lnTo>
                  <a:arcTo wR="3600" hR="3600" stAng="10800000" swAng="-5400000"/>
                  <a:lnTo>
                    <a:pt x="18000" y="288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5f00ff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pic>
        <p:nvPicPr>
          <p:cNvPr id="368" name="j0074691.wav" descr=""/>
          <p:cNvPicPr/>
          <p:nvPr/>
        </p:nvPicPr>
        <p:blipFill>
          <a:blip r:embed="rId1"/>
          <a:stretch/>
        </p:blipFill>
        <p:spPr>
          <a:xfrm>
            <a:off x="861048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40" descr="j0299125"/>
          <p:cNvPicPr/>
          <p:nvPr/>
        </p:nvPicPr>
        <p:blipFill>
          <a:blip r:embed="rId2"/>
          <a:stretch/>
        </p:blipFill>
        <p:spPr>
          <a:xfrm>
            <a:off x="7467480" y="457200"/>
            <a:ext cx="790560" cy="1295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033" dur="indefinite" restart="never" nodeType="tmRoot">
          <p:childTnLst>
            <p:seq>
              <p:cTn id="1034" dur="indefinite" nodeType="mainSeq">
                <p:childTnLst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500"/>
                            </p:stCondLst>
                            <p:childTnLst>
                              <p:par>
                                <p:cTn id="1058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4" nodeType="with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5" dur="23269" fill="hold"/>
                                        <p:tgtEl>
                                          <p:spTgt spid="3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9170D281-3AD7-4A6D-8931-6753ED6F809F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1" name="Text Box 34"/>
          <p:cNvSpPr/>
          <p:nvPr/>
        </p:nvSpPr>
        <p:spPr>
          <a:xfrm>
            <a:off x="7889040" y="304920"/>
            <a:ext cx="1174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33"/>
                </a:solidFill>
                <a:latin typeface="Wingdings"/>
                <a:ea typeface="Wingdings"/>
              </a:rPr>
              <a:t></a:t>
            </a:r>
            <a:endParaRPr b="0" lang="en-US" sz="80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2" name="Line 5"/>
          <p:cNvSpPr/>
          <p:nvPr/>
        </p:nvSpPr>
        <p:spPr>
          <a:xfrm flipV="1">
            <a:off x="685800" y="5790960"/>
            <a:ext cx="0" cy="1066680"/>
          </a:xfrm>
          <a:prstGeom prst="line">
            <a:avLst/>
          </a:prstGeom>
          <a:ln w="5724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3" name="Line 7"/>
          <p:cNvSpPr/>
          <p:nvPr/>
        </p:nvSpPr>
        <p:spPr>
          <a:xfrm>
            <a:off x="685800" y="5791320"/>
            <a:ext cx="1752480" cy="0"/>
          </a:xfrm>
          <a:prstGeom prst="line">
            <a:avLst/>
          </a:prstGeom>
          <a:ln w="5724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4" name="Line 8"/>
          <p:cNvSpPr/>
          <p:nvPr/>
        </p:nvSpPr>
        <p:spPr>
          <a:xfrm flipV="1">
            <a:off x="2438280" y="5028840"/>
            <a:ext cx="0" cy="762120"/>
          </a:xfrm>
          <a:prstGeom prst="line">
            <a:avLst/>
          </a:prstGeom>
          <a:ln w="5724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5" name="Line 9"/>
          <p:cNvSpPr/>
          <p:nvPr/>
        </p:nvSpPr>
        <p:spPr>
          <a:xfrm>
            <a:off x="2438280" y="5029200"/>
            <a:ext cx="1600200" cy="0"/>
          </a:xfrm>
          <a:prstGeom prst="line">
            <a:avLst/>
          </a:prstGeom>
          <a:ln w="5724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6" name="Line 10"/>
          <p:cNvSpPr/>
          <p:nvPr/>
        </p:nvSpPr>
        <p:spPr>
          <a:xfrm flipV="1">
            <a:off x="4038480" y="4191120"/>
            <a:ext cx="0" cy="838080"/>
          </a:xfrm>
          <a:prstGeom prst="line">
            <a:avLst/>
          </a:prstGeom>
          <a:ln w="5724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7" name="Line 11"/>
          <p:cNvSpPr/>
          <p:nvPr/>
        </p:nvSpPr>
        <p:spPr>
          <a:xfrm>
            <a:off x="4038480" y="4191120"/>
            <a:ext cx="1600200" cy="0"/>
          </a:xfrm>
          <a:prstGeom prst="line">
            <a:avLst/>
          </a:prstGeom>
          <a:ln w="5724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8" name="Line 12"/>
          <p:cNvSpPr/>
          <p:nvPr/>
        </p:nvSpPr>
        <p:spPr>
          <a:xfrm flipV="1">
            <a:off x="5638680" y="3276720"/>
            <a:ext cx="0" cy="914400"/>
          </a:xfrm>
          <a:prstGeom prst="line">
            <a:avLst/>
          </a:prstGeom>
          <a:ln w="5724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9" name="Line 13"/>
          <p:cNvSpPr/>
          <p:nvPr/>
        </p:nvSpPr>
        <p:spPr>
          <a:xfrm>
            <a:off x="5638680" y="3276720"/>
            <a:ext cx="1600200" cy="0"/>
          </a:xfrm>
          <a:prstGeom prst="line">
            <a:avLst/>
          </a:prstGeom>
          <a:ln w="5724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0" name="Line 14"/>
          <p:cNvSpPr/>
          <p:nvPr/>
        </p:nvSpPr>
        <p:spPr>
          <a:xfrm flipV="1">
            <a:off x="7238880" y="2362320"/>
            <a:ext cx="0" cy="914400"/>
          </a:xfrm>
          <a:prstGeom prst="line">
            <a:avLst/>
          </a:prstGeom>
          <a:ln w="5724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1" name="Line 15"/>
          <p:cNvSpPr/>
          <p:nvPr/>
        </p:nvSpPr>
        <p:spPr>
          <a:xfrm>
            <a:off x="7238880" y="2362320"/>
            <a:ext cx="1676520" cy="0"/>
          </a:xfrm>
          <a:prstGeom prst="line">
            <a:avLst/>
          </a:prstGeom>
          <a:ln w="5724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2" name="WordArt 16"/>
          <p:cNvSpPr txBox="1"/>
          <p:nvPr/>
        </p:nvSpPr>
        <p:spPr>
          <a:xfrm>
            <a:off x="533520" y="2133720"/>
            <a:ext cx="37335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33"/>
                  </a:solidFill>
                  <a:miter/>
                </a:ln>
                <a:solidFill>
                  <a:srgbClr val="804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Steps</a:t>
            </a:r>
            <a:endParaRPr b="0" lang="en-US" sz="2800" spc="1" strike="noStrike">
              <a:ln w="9360">
                <a:solidFill>
                  <a:srgbClr val="000033"/>
                </a:solidFill>
                <a:miter/>
              </a:ln>
              <a:solidFill>
                <a:srgbClr val="804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383" name="Group 35"/>
          <p:cNvGrpSpPr/>
          <p:nvPr/>
        </p:nvGrpSpPr>
        <p:grpSpPr>
          <a:xfrm>
            <a:off x="914400" y="5095800"/>
            <a:ext cx="838080" cy="1292040"/>
            <a:chOff x="914400" y="5095800"/>
            <a:chExt cx="838080" cy="1292040"/>
          </a:xfrm>
        </p:grpSpPr>
        <p:sp>
          <p:nvSpPr>
            <p:cNvPr id="384" name="Text Box 17"/>
            <p:cNvSpPr/>
            <p:nvPr/>
          </p:nvSpPr>
          <p:spPr>
            <a:xfrm>
              <a:off x="914400" y="58672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33"/>
                  </a:solidFill>
                  <a:latin typeface="Times New Roman"/>
                </a:rPr>
                <a:t>Sort</a:t>
              </a: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385" name="Text Box 22"/>
            <p:cNvSpPr/>
            <p:nvPr/>
          </p:nvSpPr>
          <p:spPr>
            <a:xfrm>
              <a:off x="1204560" y="5095800"/>
              <a:ext cx="49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f00ff"/>
                  </a:solidFill>
                  <a:latin typeface="Wingdings 2"/>
                  <a:ea typeface="Wingdings 2"/>
                </a:rPr>
                <a:t></a:t>
              </a: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grpSp>
        <p:nvGrpSpPr>
          <p:cNvPr id="386" name="Group 36"/>
          <p:cNvGrpSpPr/>
          <p:nvPr/>
        </p:nvGrpSpPr>
        <p:grpSpPr>
          <a:xfrm>
            <a:off x="2624760" y="4334040"/>
            <a:ext cx="1030680" cy="1206360"/>
            <a:chOff x="2624760" y="4334040"/>
            <a:chExt cx="1030680" cy="1206360"/>
          </a:xfrm>
        </p:grpSpPr>
        <p:sp>
          <p:nvSpPr>
            <p:cNvPr id="387" name="Text Box 18"/>
            <p:cNvSpPr/>
            <p:nvPr/>
          </p:nvSpPr>
          <p:spPr>
            <a:xfrm>
              <a:off x="2624760" y="5019840"/>
              <a:ext cx="1009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33"/>
                  </a:solidFill>
                  <a:latin typeface="Times New Roman"/>
                </a:rPr>
                <a:t>Open</a:t>
              </a: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388" name="Text Box 23"/>
            <p:cNvSpPr/>
            <p:nvPr/>
          </p:nvSpPr>
          <p:spPr>
            <a:xfrm>
              <a:off x="3157560" y="4334040"/>
              <a:ext cx="49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f00ff"/>
                  </a:solidFill>
                  <a:latin typeface="Wingdings 2"/>
                  <a:ea typeface="Wingdings 2"/>
                </a:rPr>
                <a:t></a:t>
              </a: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grpSp>
        <p:nvGrpSpPr>
          <p:cNvPr id="389" name="Group 37"/>
          <p:cNvGrpSpPr/>
          <p:nvPr/>
        </p:nvGrpSpPr>
        <p:grpSpPr>
          <a:xfrm>
            <a:off x="4199760" y="3495600"/>
            <a:ext cx="1284120" cy="1216080"/>
            <a:chOff x="4199760" y="3495600"/>
            <a:chExt cx="1284120" cy="1216080"/>
          </a:xfrm>
        </p:grpSpPr>
        <p:sp>
          <p:nvSpPr>
            <p:cNvPr id="390" name="Text Box 19"/>
            <p:cNvSpPr/>
            <p:nvPr/>
          </p:nvSpPr>
          <p:spPr>
            <a:xfrm>
              <a:off x="4199760" y="4191120"/>
              <a:ext cx="1284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33"/>
                  </a:solidFill>
                  <a:latin typeface="Times New Roman"/>
                </a:rPr>
                <a:t>Record</a:t>
              </a: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391" name="Text Box 24"/>
            <p:cNvSpPr/>
            <p:nvPr/>
          </p:nvSpPr>
          <p:spPr>
            <a:xfrm>
              <a:off x="4792680" y="3495600"/>
              <a:ext cx="49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f00ff"/>
                  </a:solidFill>
                  <a:latin typeface="Wingdings 2"/>
                  <a:ea typeface="Wingdings 2"/>
                </a:rPr>
                <a:t></a:t>
              </a: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grpSp>
        <p:nvGrpSpPr>
          <p:cNvPr id="392" name="Group 38"/>
          <p:cNvGrpSpPr/>
          <p:nvPr/>
        </p:nvGrpSpPr>
        <p:grpSpPr>
          <a:xfrm>
            <a:off x="5652000" y="2657520"/>
            <a:ext cx="1584360" cy="1139760"/>
            <a:chOff x="5652000" y="2657520"/>
            <a:chExt cx="1584360" cy="1139760"/>
          </a:xfrm>
        </p:grpSpPr>
        <p:sp>
          <p:nvSpPr>
            <p:cNvPr id="393" name="Text Box 20"/>
            <p:cNvSpPr/>
            <p:nvPr/>
          </p:nvSpPr>
          <p:spPr>
            <a:xfrm>
              <a:off x="5652000" y="327672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33"/>
                  </a:solidFill>
                  <a:latin typeface="Times New Roman"/>
                </a:rPr>
                <a:t>Annotate</a:t>
              </a: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394" name="Text Box 25"/>
            <p:cNvSpPr/>
            <p:nvPr/>
          </p:nvSpPr>
          <p:spPr>
            <a:xfrm>
              <a:off x="6245640" y="2657520"/>
              <a:ext cx="49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f00ff"/>
                  </a:solidFill>
                  <a:latin typeface="Wingdings 2"/>
                  <a:ea typeface="Wingdings 2"/>
                </a:rPr>
                <a:t></a:t>
              </a: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grpSp>
        <p:nvGrpSpPr>
          <p:cNvPr id="395" name="Group 39"/>
          <p:cNvGrpSpPr/>
          <p:nvPr/>
        </p:nvGrpSpPr>
        <p:grpSpPr>
          <a:xfrm>
            <a:off x="7267680" y="1743120"/>
            <a:ext cx="1721520" cy="1215720"/>
            <a:chOff x="7267680" y="1743120"/>
            <a:chExt cx="1721520" cy="1215720"/>
          </a:xfrm>
        </p:grpSpPr>
        <p:sp>
          <p:nvSpPr>
            <p:cNvPr id="396" name="Text Box 21"/>
            <p:cNvSpPr/>
            <p:nvPr/>
          </p:nvSpPr>
          <p:spPr>
            <a:xfrm>
              <a:off x="7267680" y="2438280"/>
              <a:ext cx="1721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33"/>
                  </a:solidFill>
                  <a:latin typeface="Times New Roman"/>
                </a:rPr>
                <a:t>Distribute</a:t>
              </a: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397" name="Text Box 26"/>
            <p:cNvSpPr/>
            <p:nvPr/>
          </p:nvSpPr>
          <p:spPr>
            <a:xfrm>
              <a:off x="7937640" y="1743120"/>
              <a:ext cx="49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f00ff"/>
                  </a:solidFill>
                  <a:latin typeface="Wingdings 2"/>
                  <a:ea typeface="Wingdings 2"/>
                </a:rPr>
                <a:t></a:t>
              </a: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sp>
        <p:nvSpPr>
          <p:cNvPr id="398" name="Line 27"/>
          <p:cNvSpPr/>
          <p:nvPr/>
        </p:nvSpPr>
        <p:spPr>
          <a:xfrm>
            <a:off x="2438280" y="5791320"/>
            <a:ext cx="0" cy="1066680"/>
          </a:xfrm>
          <a:prstGeom prst="line">
            <a:avLst/>
          </a:prstGeom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99" name="Line 28"/>
          <p:cNvSpPr/>
          <p:nvPr/>
        </p:nvSpPr>
        <p:spPr>
          <a:xfrm>
            <a:off x="4038480" y="5029200"/>
            <a:ext cx="0" cy="1828800"/>
          </a:xfrm>
          <a:prstGeom prst="line">
            <a:avLst/>
          </a:prstGeom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0" name="Line 29"/>
          <p:cNvSpPr/>
          <p:nvPr/>
        </p:nvSpPr>
        <p:spPr>
          <a:xfrm>
            <a:off x="5638680" y="4191120"/>
            <a:ext cx="0" cy="2666880"/>
          </a:xfrm>
          <a:prstGeom prst="line">
            <a:avLst/>
          </a:prstGeom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1" name="Line 30"/>
          <p:cNvSpPr/>
          <p:nvPr/>
        </p:nvSpPr>
        <p:spPr>
          <a:xfrm>
            <a:off x="7238880" y="3276720"/>
            <a:ext cx="0" cy="3581280"/>
          </a:xfrm>
          <a:prstGeom prst="line">
            <a:avLst/>
          </a:prstGeom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2" name="Line 31"/>
          <p:cNvSpPr/>
          <p:nvPr/>
        </p:nvSpPr>
        <p:spPr>
          <a:xfrm>
            <a:off x="8915400" y="2362320"/>
            <a:ext cx="0" cy="4495680"/>
          </a:xfrm>
          <a:prstGeom prst="line">
            <a:avLst/>
          </a:prstGeom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3" name="Text Box 32"/>
          <p:cNvSpPr/>
          <p:nvPr/>
        </p:nvSpPr>
        <p:spPr>
          <a:xfrm>
            <a:off x="7624080" y="685800"/>
            <a:ext cx="1174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33"/>
                </a:solidFill>
                <a:latin typeface="Wingdings"/>
                <a:ea typeface="Wingdings"/>
              </a:rPr>
              <a:t></a:t>
            </a:r>
            <a:endParaRPr b="0" lang="en-US" sz="80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cessing Incoming Mai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7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Slide Number Placeholder 4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2509B46A-15ED-4F9C-A702-AF34BC8E7878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cessing Incoming Mail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r>
              <a:rPr b="0" lang="en-US" sz="4800" spc="-1" strike="noStrike">
                <a:solidFill>
                  <a:srgbClr val="000033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54864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3"/>
                </a:solidFill>
                <a:latin typeface="Times New Roman"/>
              </a:rPr>
              <a:t>Sorting and Opening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Mail is often sorted according to its priority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lnSpc>
                <a:spcPct val="90000"/>
              </a:lnSpc>
              <a:spcBef>
                <a:spcPts val="550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Urgent, registered mail, etc.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lnSpc>
                <a:spcPct val="90000"/>
              </a:lnSpc>
              <a:spcBef>
                <a:spcPts val="550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Personal or confidential mail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lnSpc>
                <a:spcPct val="90000"/>
              </a:lnSpc>
              <a:spcBef>
                <a:spcPts val="550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First class, airmail, and Priority Mail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lnSpc>
                <a:spcPct val="90000"/>
              </a:lnSpc>
              <a:spcBef>
                <a:spcPts val="550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Packages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lnSpc>
                <a:spcPct val="90000"/>
              </a:lnSpc>
              <a:spcBef>
                <a:spcPts val="550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Advertisements and catalogues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33"/>
                </a:solidFill>
                <a:uFillTx/>
                <a:latin typeface="Times New Roman"/>
              </a:rPr>
              <a:t>Do not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 sort mail in a cluttered area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408" name="Picture 22" descr="j0365770"/>
          <p:cNvPicPr/>
          <p:nvPr/>
        </p:nvPicPr>
        <p:blipFill>
          <a:blip r:embed="rId1"/>
          <a:stretch/>
        </p:blipFill>
        <p:spPr>
          <a:xfrm>
            <a:off x="6059520" y="2209680"/>
            <a:ext cx="2281320" cy="2441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093" dur="indefinite" restart="never" nodeType="tmRoot">
          <p:childTnLst>
            <p:seq>
              <p:cTn id="1094" dur="indefinite" nodeType="mainSeq">
                <p:childTnLst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Slide Number Placeholder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C07E4AFA-9695-469F-BC0E-B64180C24019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cessing Incoming Mail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48769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Recording – daily mail log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889560" indent="-427320">
              <a:spcBef>
                <a:spcPts val="55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Mail received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lvl="1" marL="889560" indent="-427320">
              <a:spcBef>
                <a:spcPts val="55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Follow-up correspondence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51080" indent="0">
              <a:lnSpc>
                <a:spcPct val="50000"/>
              </a:lnSpc>
              <a:spcBef>
                <a:spcPts val="550"/>
              </a:spcBef>
              <a:buNone/>
              <a:tabLst>
                <a:tab algn="l" pos="17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marL="460080" indent="-46008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nnotating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889560" indent="-427320">
              <a:spcBef>
                <a:spcPts val="55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Outline key points 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lvl="1" marL="889560" indent="-427320">
              <a:spcBef>
                <a:spcPts val="55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Write reminders, comments, or suggestions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51080" indent="0">
              <a:lnSpc>
                <a:spcPct val="50000"/>
              </a:lnSpc>
              <a:spcBef>
                <a:spcPts val="550"/>
              </a:spcBef>
              <a:buNone/>
              <a:tabLst>
                <a:tab algn="l" pos="17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marL="460080" indent="-46008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Distributing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889560" indent="-427320">
              <a:spcBef>
                <a:spcPts val="55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Deliver items to mail recipients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412" name="Picture 25" descr="j0411662"/>
          <p:cNvPicPr/>
          <p:nvPr/>
        </p:nvPicPr>
        <p:blipFill>
          <a:blip r:embed="rId1"/>
          <a:stretch/>
        </p:blipFill>
        <p:spPr>
          <a:xfrm>
            <a:off x="5867280" y="1905120"/>
            <a:ext cx="2978280" cy="4302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1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6" dur="5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1" dur="5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8" dur="500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3" dur="500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500" fill="hold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8" dur="500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5" dur="500"/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4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500" fill="hold"/>
                                        <p:tgtEl>
                                          <p:spTgt spid="4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0" dur="500"/>
                                        <p:tgtEl>
                                          <p:spTgt spid="4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70FC5F36-6853-4067-8AC5-916CF5091253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414" name="Picture 14" descr="HM00343_"/>
          <p:cNvPicPr/>
          <p:nvPr/>
        </p:nvPicPr>
        <p:blipFill>
          <a:blip r:embed="rId1"/>
          <a:stretch/>
        </p:blipFill>
        <p:spPr>
          <a:xfrm>
            <a:off x="3886200" y="5029200"/>
            <a:ext cx="1447920" cy="137160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cessing Incoming Mail</a:t>
            </a:r>
            <a:r>
              <a:rPr b="0" lang="en-US" sz="44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r>
              <a:rPr b="1" lang="en-US" sz="4000" spc="-1" strike="noStrike">
                <a:solidFill>
                  <a:srgbClr val="0000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4080"/>
                </a:solidFill>
                <a:latin typeface="Times New Roman"/>
              </a:rPr>
              <a:t>Handling Drug and Product Sample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17" name="Rectangle 21"/>
          <p:cNvSpPr/>
          <p:nvPr/>
        </p:nvSpPr>
        <p:spPr>
          <a:xfrm>
            <a:off x="380880" y="2209680"/>
            <a:ext cx="4343400" cy="37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00ff"/>
                </a:solidFill>
                <a:latin typeface="Times New Roman"/>
              </a:rPr>
              <a:t>DO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Place only nonprescription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products in patient areas according to office policy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11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Sort and store other 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prescription items in locked cabinet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11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Destroy out-dated 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sampl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18" name="Rectangle 22"/>
          <p:cNvSpPr/>
          <p:nvPr/>
        </p:nvSpPr>
        <p:spPr>
          <a:xfrm>
            <a:off x="4648320" y="2209680"/>
            <a:ext cx="4495680" cy="38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00ff"/>
                </a:solidFill>
                <a:latin typeface="Times New Roman"/>
              </a:rPr>
              <a:t>DO NO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Give patients sample without the physician approval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11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Fail to document in patient record 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when samples are given per the 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physician request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11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Discard medication samples in trash can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81FA422F-32DE-4111-B1CD-EA40AC76438B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20" name="Text Box 5"/>
          <p:cNvSpPr/>
          <p:nvPr/>
        </p:nvSpPr>
        <p:spPr>
          <a:xfrm>
            <a:off x="304920" y="1981080"/>
            <a:ext cx="855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What are the steps for processing incoming mail?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2" name="Text Box 10"/>
          <p:cNvSpPr/>
          <p:nvPr/>
        </p:nvSpPr>
        <p:spPr>
          <a:xfrm>
            <a:off x="533520" y="2743200"/>
            <a:ext cx="7772400" cy="2288520"/>
          </a:xfrm>
          <a:prstGeom prst="rect">
            <a:avLst/>
          </a:prstGeom>
          <a:solidFill>
            <a:srgbClr val="804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The steps for processing incoming mail are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rting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pening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cording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notating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stributing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23" name="Text Box 11"/>
          <p:cNvSpPr/>
          <p:nvPr/>
        </p:nvSpPr>
        <p:spPr>
          <a:xfrm>
            <a:off x="5638680" y="556272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00ff"/>
                </a:solidFill>
                <a:latin typeface="Times New Roman"/>
              </a:rPr>
              <a:t>CORRECT!</a:t>
            </a:r>
            <a:endParaRPr b="0" lang="en-US" sz="40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424" name="Picture 12" descr=""/>
          <p:cNvPicPr/>
          <p:nvPr/>
        </p:nvPicPr>
        <p:blipFill>
          <a:blip r:embed="rId1"/>
          <a:stretch/>
        </p:blipFill>
        <p:spPr>
          <a:xfrm>
            <a:off x="8458200" y="5410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175" dur="indefinite" restart="never" nodeType="tmRoot">
          <p:childTnLst>
            <p:seq>
              <p:cTn id="1176" dur="indefinite" nodeType="mainSeq">
                <p:childTnLst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183" nodeType="afterEffect" fill="hold" presetClass="entr" presetID="2" presetSubtype="9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fill="hold">
                            <p:stCondLst>
                              <p:cond delay="3350"/>
                            </p:stCondLst>
                            <p:childTnLst>
                              <p:par>
                                <p:cTn id="118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9" dur="5760" fill="hold"/>
                                        <p:tgtEl>
                                          <p:spTgt spid="4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C945A5C3-D508-472E-884F-C02E97DDB7A2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3818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33"/>
                </a:solidFill>
                <a:latin typeface="Times New Roman"/>
              </a:rPr>
              <a:t>Proper and efficient management of correspondence and mail is essential to promoting a positive, professional office image.</a:t>
            </a: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33"/>
                </a:solidFill>
                <a:latin typeface="Times New Roman"/>
              </a:rPr>
              <a:t>It is important to choose appropriate supplies and letter styles, as well as to edit and proofread correspondence.</a:t>
            </a: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33"/>
                </a:solidFill>
                <a:latin typeface="Times New Roman"/>
              </a:rPr>
              <a:t>Be familiar with types of mail and delivery services to choose the most appropriate service for mailing needs.</a:t>
            </a: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33"/>
                </a:solidFill>
                <a:latin typeface="Times New Roman"/>
              </a:rPr>
              <a:t>Handle incoming mail responsibly.</a:t>
            </a: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190" dur="indefinite" restart="never" nodeType="tmRoot">
          <p:childTnLst>
            <p:seq>
              <p:cTn id="1191" dur="indefinite" nodeType="mainSeq">
                <p:childTnLst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9375FD15-A8EA-49F5-96F8-3B4E89F671AF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29" name="WordArt 4"/>
          <p:cNvSpPr txBox="1"/>
          <p:nvPr/>
        </p:nvSpPr>
        <p:spPr>
          <a:xfrm>
            <a:off x="1981080" y="914400"/>
            <a:ext cx="5257800" cy="79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33"/>
                  </a:solidFill>
                  <a:miter/>
                </a:ln>
                <a:solidFill>
                  <a:srgbClr val="804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End of Chapter 7</a:t>
            </a:r>
            <a:endParaRPr b="0" lang="en-US" sz="2800" spc="1" strike="noStrike">
              <a:ln w="9360">
                <a:solidFill>
                  <a:srgbClr val="000033"/>
                </a:solidFill>
                <a:miter/>
              </a:ln>
              <a:solidFill>
                <a:srgbClr val="804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0" name="Rectangle 5"/>
          <p:cNvSpPr/>
          <p:nvPr/>
        </p:nvSpPr>
        <p:spPr>
          <a:xfrm>
            <a:off x="457200" y="533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grpSp>
        <p:nvGrpSpPr>
          <p:cNvPr id="431" name="Group 55"/>
          <p:cNvGrpSpPr/>
          <p:nvPr/>
        </p:nvGrpSpPr>
        <p:grpSpPr>
          <a:xfrm>
            <a:off x="533520" y="2590920"/>
            <a:ext cx="3276000" cy="2742840"/>
            <a:chOff x="533520" y="2590920"/>
            <a:chExt cx="3276000" cy="2742840"/>
          </a:xfrm>
        </p:grpSpPr>
        <p:sp>
          <p:nvSpPr>
            <p:cNvPr id="432" name="Freeform 8"/>
            <p:cNvSpPr/>
            <p:nvPr/>
          </p:nvSpPr>
          <p:spPr>
            <a:xfrm>
              <a:off x="2235240" y="4809960"/>
              <a:ext cx="436320" cy="163440"/>
            </a:xfrm>
            <a:prstGeom prst="pie">
              <a:avLst/>
            </a:pr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33" name="Freeform 9"/>
            <p:cNvSpPr/>
            <p:nvPr/>
          </p:nvSpPr>
          <p:spPr>
            <a:xfrm>
              <a:off x="1922040" y="4825800"/>
              <a:ext cx="400320" cy="20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34" name="Freeform 10"/>
            <p:cNvSpPr/>
            <p:nvPr/>
          </p:nvSpPr>
          <p:spPr>
            <a:xfrm>
              <a:off x="1571040" y="4861440"/>
              <a:ext cx="412200" cy="233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35" name="Freeform 11"/>
            <p:cNvSpPr/>
            <p:nvPr/>
          </p:nvSpPr>
          <p:spPr>
            <a:xfrm>
              <a:off x="1183320" y="4941720"/>
              <a:ext cx="462240" cy="227880"/>
            </a:xfrm>
            <a:prstGeom prst="pie">
              <a:avLst/>
            </a:pr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36" name="Freeform 12"/>
            <p:cNvSpPr/>
            <p:nvPr/>
          </p:nvSpPr>
          <p:spPr>
            <a:xfrm>
              <a:off x="981720" y="4505400"/>
              <a:ext cx="363240" cy="51984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37" name="Freeform 13"/>
            <p:cNvSpPr/>
            <p:nvPr/>
          </p:nvSpPr>
          <p:spPr>
            <a:xfrm>
              <a:off x="856800" y="4106160"/>
              <a:ext cx="314640" cy="420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38" name="Freeform 14"/>
            <p:cNvSpPr/>
            <p:nvPr/>
          </p:nvSpPr>
          <p:spPr>
            <a:xfrm>
              <a:off x="682200" y="3729600"/>
              <a:ext cx="331920" cy="415440"/>
            </a:xfrm>
            <a:prstGeom prst="pie">
              <a:avLst/>
            </a:pr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39" name="Freeform 15"/>
            <p:cNvSpPr/>
            <p:nvPr/>
          </p:nvSpPr>
          <p:spPr>
            <a:xfrm>
              <a:off x="826920" y="3676320"/>
              <a:ext cx="294840" cy="201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40" name="Freeform 16"/>
            <p:cNvSpPr/>
            <p:nvPr/>
          </p:nvSpPr>
          <p:spPr>
            <a:xfrm>
              <a:off x="2610360" y="4740480"/>
              <a:ext cx="483480" cy="213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41" name="Freeform 17"/>
            <p:cNvSpPr/>
            <p:nvPr/>
          </p:nvSpPr>
          <p:spPr>
            <a:xfrm>
              <a:off x="2940840" y="4401720"/>
              <a:ext cx="287640" cy="56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42" name="Freeform 18"/>
            <p:cNvSpPr/>
            <p:nvPr/>
          </p:nvSpPr>
          <p:spPr>
            <a:xfrm>
              <a:off x="2847960" y="4050720"/>
              <a:ext cx="263160" cy="459720"/>
            </a:xfrm>
            <a:prstGeom prst="pie">
              <a:avLst/>
            </a:pr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43" name="Freeform 19"/>
            <p:cNvSpPr/>
            <p:nvPr/>
          </p:nvSpPr>
          <p:spPr>
            <a:xfrm>
              <a:off x="924120" y="3856320"/>
              <a:ext cx="2098440" cy="1133640"/>
            </a:xfrm>
            <a:prstGeom prst="pie">
              <a:avLst/>
            </a:pr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44" name="Freeform 20"/>
            <p:cNvSpPr/>
            <p:nvPr/>
          </p:nvSpPr>
          <p:spPr>
            <a:xfrm>
              <a:off x="951480" y="2608920"/>
              <a:ext cx="2679120" cy="2120400"/>
            </a:xfrm>
            <a:prstGeom prst="pie">
              <a:avLst/>
            </a:pr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45" name="Freeform 21"/>
            <p:cNvSpPr/>
            <p:nvPr/>
          </p:nvSpPr>
          <p:spPr>
            <a:xfrm>
              <a:off x="3662280" y="3696120"/>
              <a:ext cx="147240" cy="216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46" name="Freeform 22"/>
            <p:cNvSpPr/>
            <p:nvPr/>
          </p:nvSpPr>
          <p:spPr>
            <a:xfrm>
              <a:off x="3397680" y="3920400"/>
              <a:ext cx="329040" cy="144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47" name="Freeform 23"/>
            <p:cNvSpPr/>
            <p:nvPr/>
          </p:nvSpPr>
          <p:spPr>
            <a:xfrm>
              <a:off x="2345400" y="2590920"/>
              <a:ext cx="1309680" cy="1481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48" name="Freeform 24"/>
            <p:cNvSpPr/>
            <p:nvPr/>
          </p:nvSpPr>
          <p:spPr>
            <a:xfrm>
              <a:off x="1697040" y="2667600"/>
              <a:ext cx="1690200" cy="1953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49" name="Freeform 25"/>
            <p:cNvSpPr/>
            <p:nvPr/>
          </p:nvSpPr>
          <p:spPr>
            <a:xfrm>
              <a:off x="2551680" y="4006080"/>
              <a:ext cx="515160" cy="26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50" name="Freeform 26"/>
            <p:cNvSpPr/>
            <p:nvPr/>
          </p:nvSpPr>
          <p:spPr>
            <a:xfrm>
              <a:off x="2180880" y="4048920"/>
              <a:ext cx="1068840" cy="99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51" name="Freeform 27"/>
            <p:cNvSpPr/>
            <p:nvPr/>
          </p:nvSpPr>
          <p:spPr>
            <a:xfrm>
              <a:off x="2790360" y="5066640"/>
              <a:ext cx="484920" cy="72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52" name="Freeform 28"/>
            <p:cNvSpPr/>
            <p:nvPr/>
          </p:nvSpPr>
          <p:spPr>
            <a:xfrm>
              <a:off x="2129400" y="4121640"/>
              <a:ext cx="917280" cy="851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53" name="Freeform 29"/>
            <p:cNvSpPr/>
            <p:nvPr/>
          </p:nvSpPr>
          <p:spPr>
            <a:xfrm>
              <a:off x="891360" y="2756880"/>
              <a:ext cx="1702800" cy="2024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54" name="Freeform 30"/>
            <p:cNvSpPr/>
            <p:nvPr/>
          </p:nvSpPr>
          <p:spPr>
            <a:xfrm>
              <a:off x="2342520" y="4393080"/>
              <a:ext cx="396360" cy="92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55" name="Freeform 31"/>
            <p:cNvSpPr/>
            <p:nvPr/>
          </p:nvSpPr>
          <p:spPr>
            <a:xfrm>
              <a:off x="2169720" y="4555080"/>
              <a:ext cx="603720" cy="97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56" name="Freeform 32"/>
            <p:cNvSpPr/>
            <p:nvPr/>
          </p:nvSpPr>
          <p:spPr>
            <a:xfrm>
              <a:off x="1200240" y="2975760"/>
              <a:ext cx="460800" cy="21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57" name="Freeform 33"/>
            <p:cNvSpPr/>
            <p:nvPr/>
          </p:nvSpPr>
          <p:spPr>
            <a:xfrm>
              <a:off x="987120" y="4381920"/>
              <a:ext cx="772560" cy="832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58" name="Freeform 34"/>
            <p:cNvSpPr/>
            <p:nvPr/>
          </p:nvSpPr>
          <p:spPr>
            <a:xfrm>
              <a:off x="1740240" y="4801320"/>
              <a:ext cx="466200" cy="307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59" name="Freeform 35"/>
            <p:cNvSpPr/>
            <p:nvPr/>
          </p:nvSpPr>
          <p:spPr>
            <a:xfrm>
              <a:off x="968760" y="3228840"/>
              <a:ext cx="266040" cy="185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60" name="Freeform 36"/>
            <p:cNvSpPr/>
            <p:nvPr/>
          </p:nvSpPr>
          <p:spPr>
            <a:xfrm>
              <a:off x="1242000" y="4253760"/>
              <a:ext cx="290160" cy="514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61" name="Freeform 37"/>
            <p:cNvSpPr/>
            <p:nvPr/>
          </p:nvSpPr>
          <p:spPr>
            <a:xfrm>
              <a:off x="1366560" y="5216400"/>
              <a:ext cx="228600" cy="117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62" name="Freeform 38"/>
            <p:cNvSpPr/>
            <p:nvPr/>
          </p:nvSpPr>
          <p:spPr>
            <a:xfrm>
              <a:off x="1283400" y="5234040"/>
              <a:ext cx="144360" cy="83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63" name="Freeform 39"/>
            <p:cNvSpPr/>
            <p:nvPr/>
          </p:nvSpPr>
          <p:spPr>
            <a:xfrm>
              <a:off x="627840" y="3651480"/>
              <a:ext cx="511200" cy="101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64" name="Freeform 40"/>
            <p:cNvSpPr/>
            <p:nvPr/>
          </p:nvSpPr>
          <p:spPr>
            <a:xfrm>
              <a:off x="533520" y="3781440"/>
              <a:ext cx="370440" cy="712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65" name="Freeform 41"/>
            <p:cNvSpPr/>
            <p:nvPr/>
          </p:nvSpPr>
          <p:spPr>
            <a:xfrm>
              <a:off x="1450800" y="2858400"/>
              <a:ext cx="1209240" cy="871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66" name="Freeform 42"/>
            <p:cNvSpPr/>
            <p:nvPr/>
          </p:nvSpPr>
          <p:spPr>
            <a:xfrm>
              <a:off x="1748520" y="3711960"/>
              <a:ext cx="1295280" cy="885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67" name="Freeform 43"/>
            <p:cNvSpPr/>
            <p:nvPr/>
          </p:nvSpPr>
          <p:spPr>
            <a:xfrm>
              <a:off x="2690640" y="2849400"/>
              <a:ext cx="552240" cy="73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68" name="Freeform 44"/>
            <p:cNvSpPr/>
            <p:nvPr/>
          </p:nvSpPr>
          <p:spPr>
            <a:xfrm>
              <a:off x="1242000" y="3753000"/>
              <a:ext cx="547920" cy="79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69" name="Freeform 45"/>
            <p:cNvSpPr/>
            <p:nvPr/>
          </p:nvSpPr>
          <p:spPr>
            <a:xfrm>
              <a:off x="978840" y="3916800"/>
              <a:ext cx="629640" cy="998280"/>
            </a:xfrm>
            <a:prstGeom prst="pie">
              <a:avLst/>
            </a:pr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70" name="Freeform 46"/>
            <p:cNvSpPr/>
            <p:nvPr/>
          </p:nvSpPr>
          <p:spPr>
            <a:xfrm>
              <a:off x="1558440" y="4193280"/>
              <a:ext cx="1402200" cy="664560"/>
            </a:xfrm>
            <a:prstGeom prst="pie">
              <a:avLst/>
            </a:pr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71" name="Freeform 47"/>
            <p:cNvSpPr/>
            <p:nvPr/>
          </p:nvSpPr>
          <p:spPr>
            <a:xfrm>
              <a:off x="2412720" y="4268160"/>
              <a:ext cx="547920" cy="370440"/>
            </a:xfrm>
            <a:prstGeom prst="pie">
              <a:avLst/>
            </a:pr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72" name="Freeform 48"/>
            <p:cNvSpPr/>
            <p:nvPr/>
          </p:nvSpPr>
          <p:spPr>
            <a:xfrm>
              <a:off x="1022760" y="3945600"/>
              <a:ext cx="428040" cy="9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73" name="Freeform 49"/>
            <p:cNvSpPr/>
            <p:nvPr/>
          </p:nvSpPr>
          <p:spPr>
            <a:xfrm>
              <a:off x="1757520" y="4594320"/>
              <a:ext cx="366120" cy="19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74" name="Freeform 50"/>
            <p:cNvSpPr/>
            <p:nvPr/>
          </p:nvSpPr>
          <p:spPr>
            <a:xfrm>
              <a:off x="2751840" y="4268160"/>
              <a:ext cx="180360" cy="413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75" name="Freeform 51"/>
            <p:cNvSpPr/>
            <p:nvPr/>
          </p:nvSpPr>
          <p:spPr>
            <a:xfrm>
              <a:off x="1289160" y="4997160"/>
              <a:ext cx="258840" cy="108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76" name="Freeform 52"/>
            <p:cNvSpPr/>
            <p:nvPr/>
          </p:nvSpPr>
          <p:spPr>
            <a:xfrm>
              <a:off x="2412720" y="4845600"/>
              <a:ext cx="176040" cy="74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77" name="Freeform 53"/>
            <p:cNvSpPr/>
            <p:nvPr/>
          </p:nvSpPr>
          <p:spPr>
            <a:xfrm>
              <a:off x="2909160" y="4121640"/>
              <a:ext cx="118440" cy="31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78" name="Freeform 54"/>
            <p:cNvSpPr/>
            <p:nvPr/>
          </p:nvSpPr>
          <p:spPr>
            <a:xfrm>
              <a:off x="785160" y="3788640"/>
              <a:ext cx="157680" cy="284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sp>
        <p:nvSpPr>
          <p:cNvPr id="479" name="Text Box 56"/>
          <p:cNvSpPr/>
          <p:nvPr/>
        </p:nvSpPr>
        <p:spPr>
          <a:xfrm>
            <a:off x="4038480" y="2209680"/>
            <a:ext cx="4572000" cy="32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If a fellow wants to be a nobody in the business world, let him neglect sending the mailman to somebody on his behalf.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—</a:t>
            </a:r>
            <a:r>
              <a:rPr b="1" lang="en-US" sz="2400" spc="-1" strike="noStrike">
                <a:solidFill>
                  <a:srgbClr val="000033"/>
                </a:solidFill>
                <a:latin typeface="Times New Roman"/>
              </a:rPr>
              <a:t>Abraham Lincoln</a:t>
            </a:r>
            <a:br>
              <a:rPr sz="2400"/>
            </a:b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08" dur="indefinite" restart="never" nodeType="tmRoot">
          <p:childTnLst>
            <p:seq>
              <p:cTn id="1209" dur="indefinite" nodeType="mainSeq">
                <p:childTnLst>
                  <p:par>
                    <p:cTn id="1210" fill="hold">
                      <p:stCondLst>
                        <p:cond delay="0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14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B2A6C97F-27F1-44AC-8F05-EDEF0BAD9C90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grpSp>
        <p:nvGrpSpPr>
          <p:cNvPr id="124" name="Group 27"/>
          <p:cNvGrpSpPr/>
          <p:nvPr/>
        </p:nvGrpSpPr>
        <p:grpSpPr>
          <a:xfrm>
            <a:off x="565200" y="1905120"/>
            <a:ext cx="3625920" cy="1371600"/>
            <a:chOff x="565200" y="1905120"/>
            <a:chExt cx="3625920" cy="1371600"/>
          </a:xfrm>
        </p:grpSpPr>
        <p:sp>
          <p:nvSpPr>
            <p:cNvPr id="125" name="Text Box 7"/>
            <p:cNvSpPr/>
            <p:nvPr/>
          </p:nvSpPr>
          <p:spPr>
            <a:xfrm>
              <a:off x="565200" y="1905120"/>
              <a:ext cx="3625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33"/>
                  </a:solidFill>
                  <a:latin typeface="Times New Roman"/>
                </a:rPr>
                <a:t>Letterhead paper</a:t>
              </a:r>
              <a:endParaRPr b="0" lang="en-US" sz="32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126" name="Line 12"/>
            <p:cNvSpPr/>
            <p:nvPr/>
          </p:nvSpPr>
          <p:spPr>
            <a:xfrm>
              <a:off x="1905120" y="2438280"/>
              <a:ext cx="1218960" cy="838440"/>
            </a:xfrm>
            <a:prstGeom prst="line">
              <a:avLst/>
            </a:prstGeom>
            <a:ln w="381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grpSp>
        <p:nvGrpSpPr>
          <p:cNvPr id="127" name="Group 28"/>
          <p:cNvGrpSpPr/>
          <p:nvPr/>
        </p:nvGrpSpPr>
        <p:grpSpPr>
          <a:xfrm>
            <a:off x="6019920" y="1905120"/>
            <a:ext cx="2622600" cy="1523880"/>
            <a:chOff x="6019920" y="1905120"/>
            <a:chExt cx="2622600" cy="1523880"/>
          </a:xfrm>
        </p:grpSpPr>
        <p:sp>
          <p:nvSpPr>
            <p:cNvPr id="128" name="Text Box 8"/>
            <p:cNvSpPr/>
            <p:nvPr/>
          </p:nvSpPr>
          <p:spPr>
            <a:xfrm>
              <a:off x="6248520" y="1905120"/>
              <a:ext cx="239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33"/>
                  </a:solidFill>
                  <a:latin typeface="Times New Roman"/>
                </a:rPr>
                <a:t>Envelopes</a:t>
              </a:r>
              <a:endParaRPr b="0" lang="en-US" sz="32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129" name="Line 14"/>
            <p:cNvSpPr/>
            <p:nvPr/>
          </p:nvSpPr>
          <p:spPr>
            <a:xfrm flipV="1">
              <a:off x="6019920" y="2438280"/>
              <a:ext cx="990360" cy="990720"/>
            </a:xfrm>
            <a:prstGeom prst="line">
              <a:avLst/>
            </a:prstGeom>
            <a:ln w="381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grpSp>
        <p:nvGrpSpPr>
          <p:cNvPr id="130" name="Group 20"/>
          <p:cNvGrpSpPr/>
          <p:nvPr/>
        </p:nvGrpSpPr>
        <p:grpSpPr>
          <a:xfrm>
            <a:off x="672120" y="4572000"/>
            <a:ext cx="2451600" cy="1372680"/>
            <a:chOff x="672120" y="4572000"/>
            <a:chExt cx="2451600" cy="1372680"/>
          </a:xfrm>
        </p:grpSpPr>
        <p:sp>
          <p:nvSpPr>
            <p:cNvPr id="131" name="Text Box 9"/>
            <p:cNvSpPr/>
            <p:nvPr/>
          </p:nvSpPr>
          <p:spPr>
            <a:xfrm>
              <a:off x="672120" y="5302080"/>
              <a:ext cx="1398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33"/>
                  </a:solidFill>
                  <a:latin typeface="Times New Roman"/>
                </a:rPr>
                <a:t>Labels</a:t>
              </a:r>
              <a:endParaRPr b="0" lang="en-US" sz="36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132" name="Line 15"/>
            <p:cNvSpPr/>
            <p:nvPr/>
          </p:nvSpPr>
          <p:spPr>
            <a:xfrm flipH="1">
              <a:off x="1523880" y="4572000"/>
              <a:ext cx="1599840" cy="914400"/>
            </a:xfrm>
            <a:prstGeom prst="line">
              <a:avLst/>
            </a:prstGeom>
            <a:ln w="381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grpSp>
        <p:nvGrpSpPr>
          <p:cNvPr id="133" name="Group 22"/>
          <p:cNvGrpSpPr/>
          <p:nvPr/>
        </p:nvGrpSpPr>
        <p:grpSpPr>
          <a:xfrm>
            <a:off x="5943600" y="4572000"/>
            <a:ext cx="2417040" cy="1372680"/>
            <a:chOff x="5943600" y="4572000"/>
            <a:chExt cx="2417040" cy="1372680"/>
          </a:xfrm>
        </p:grpSpPr>
        <p:sp>
          <p:nvSpPr>
            <p:cNvPr id="134" name="Text Box 10"/>
            <p:cNvSpPr/>
            <p:nvPr/>
          </p:nvSpPr>
          <p:spPr>
            <a:xfrm>
              <a:off x="6631560" y="5302080"/>
              <a:ext cx="172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33"/>
                  </a:solidFill>
                  <a:latin typeface="Times New Roman"/>
                </a:rPr>
                <a:t>Invoices</a:t>
              </a:r>
              <a:endParaRPr b="0" lang="en-US" sz="36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135" name="Line 16"/>
            <p:cNvSpPr/>
            <p:nvPr/>
          </p:nvSpPr>
          <p:spPr>
            <a:xfrm>
              <a:off x="5943600" y="4572000"/>
              <a:ext cx="1676520" cy="914400"/>
            </a:xfrm>
            <a:prstGeom prst="line">
              <a:avLst/>
            </a:prstGeom>
            <a:ln w="381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grpSp>
        <p:nvGrpSpPr>
          <p:cNvPr id="136" name="Group 21"/>
          <p:cNvGrpSpPr/>
          <p:nvPr/>
        </p:nvGrpSpPr>
        <p:grpSpPr>
          <a:xfrm>
            <a:off x="3431880" y="5334120"/>
            <a:ext cx="2184840" cy="1099800"/>
            <a:chOff x="3431880" y="5334120"/>
            <a:chExt cx="2184840" cy="1099800"/>
          </a:xfrm>
        </p:grpSpPr>
        <p:sp>
          <p:nvSpPr>
            <p:cNvPr id="137" name="Text Box 11"/>
            <p:cNvSpPr/>
            <p:nvPr/>
          </p:nvSpPr>
          <p:spPr>
            <a:xfrm>
              <a:off x="3431880" y="5791320"/>
              <a:ext cx="2184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33"/>
                  </a:solidFill>
                  <a:latin typeface="Times New Roman"/>
                </a:rPr>
                <a:t>Statements</a:t>
              </a:r>
              <a:endParaRPr b="0" lang="en-US" sz="36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138" name="Line 17"/>
            <p:cNvSpPr/>
            <p:nvPr/>
          </p:nvSpPr>
          <p:spPr>
            <a:xfrm>
              <a:off x="4495680" y="5334120"/>
              <a:ext cx="0" cy="609480"/>
            </a:xfrm>
            <a:prstGeom prst="line">
              <a:avLst/>
            </a:prstGeom>
            <a:ln w="381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hoosing Correspondence Supplie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Oval 5"/>
          <p:cNvSpPr/>
          <p:nvPr/>
        </p:nvSpPr>
        <p:spPr>
          <a:xfrm>
            <a:off x="2743200" y="2666880"/>
            <a:ext cx="3657600" cy="2667240"/>
          </a:xfrm>
          <a:prstGeom prst="ellipse">
            <a:avLst/>
          </a:prstGeom>
          <a:solidFill>
            <a:srgbClr val="fff0a0"/>
          </a:solidFill>
          <a:ln w="0">
            <a:noFill/>
          </a:ln>
          <a:effectLst>
            <a:outerShdw dist="153753" dir="2700000" blurRad="0" rotWithShape="0">
              <a:srgbClr val="99906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33"/>
                </a:solidFill>
                <a:latin typeface="Times New Roman"/>
              </a:rPr>
              <a:t>Supplies</a:t>
            </a:r>
            <a:endParaRPr b="0" lang="en-US" sz="4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E58B2D82-9B70-4126-9FBE-17996C002489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hoosing Correspondence Supplies</a:t>
            </a:r>
            <a:r>
              <a:rPr b="0" lang="en-US" sz="4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Letterhead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Formal business stationar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Doctor’s or office’s name, </a:t>
            </a:r>
            <a:br>
              <a:rPr sz="2800"/>
            </a:b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ddress, phone number </a:t>
            </a:r>
            <a:br>
              <a:rPr sz="2800"/>
            </a:b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printed at the top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orrespondence with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Patient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Colleagu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Vender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6095880" y="2209680"/>
            <a:ext cx="2667240" cy="3110760"/>
          </a:xfrm>
          <a:prstGeom prst="rect">
            <a:avLst/>
          </a:prstGeom>
          <a:noFill/>
          <a:ln w="1260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"/>
              </a:rPr>
              <a:t>Medical Practice, Inc.</a:t>
            </a:r>
            <a:endParaRPr b="0" lang="en-US" sz="10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"/>
              </a:rPr>
              <a:t>111 One Dr.</a:t>
            </a:r>
            <a:endParaRPr b="0" lang="en-US" sz="10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"/>
              </a:rPr>
              <a:t>Any, St. 11111</a:t>
            </a:r>
            <a:endParaRPr b="0" lang="en-US" sz="10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"/>
              </a:rPr>
              <a:t>111-111-1111</a:t>
            </a:r>
            <a:endParaRPr b="0" lang="en-US" sz="10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00042D64-C502-4933-8FCE-4064E25717BB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Letterhead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otton fiber bond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More expensive than other 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types of paper (sulfite bond)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Watermark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ize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Standard or letter size – 8½ x 11 inch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Legal size 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–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 8½ x 14 inch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380880" y="533520"/>
            <a:ext cx="8763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hoosing Correspondence Supplies</a:t>
            </a:r>
            <a:r>
              <a:rPr b="0" lang="en-US" sz="4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6095880" y="2209680"/>
            <a:ext cx="2667240" cy="2832840"/>
          </a:xfrm>
          <a:prstGeom prst="rect">
            <a:avLst/>
          </a:prstGeom>
          <a:noFill/>
          <a:ln w="1260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"/>
              </a:rPr>
              <a:t>Medical Practice, Inc.</a:t>
            </a:r>
            <a:endParaRPr b="0" lang="en-US" sz="10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"/>
              </a:rPr>
              <a:t>111 One Dr.</a:t>
            </a:r>
            <a:endParaRPr b="0" lang="en-US" sz="10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"/>
              </a:rPr>
              <a:t>Any, St. 11111</a:t>
            </a:r>
            <a:endParaRPr b="0" lang="en-US" sz="10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"/>
              </a:rPr>
              <a:t>111-111-1111</a:t>
            </a:r>
            <a:endParaRPr b="0" lang="en-US" sz="10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49" name="WordArt 6"/>
          <p:cNvSpPr txBox="1"/>
          <p:nvPr/>
        </p:nvSpPr>
        <p:spPr>
          <a:xfrm>
            <a:off x="6400800" y="3276720"/>
            <a:ext cx="2028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0c0c0">
                    <a:alpha val="23000"/>
                  </a:srgbClr>
                </a:solidFill>
                <a:latin typeface="Times New Roman"/>
              </a:rPr>
              <a:t>Watermark</a:t>
            </a:r>
            <a:endParaRPr b="0" lang="en-US" sz="2800" spc="1" strike="noStrike">
              <a:ln w="0">
                <a:noFill/>
              </a:ln>
              <a:solidFill>
                <a:srgbClr val="c0c0c0">
                  <a:alpha val="23000"/>
                </a:srgbClr>
              </a:solidFill>
              <a:latin typeface="Times New Roman"/>
              <a:ea typeface="Times New Roman"/>
            </a:endParaRPr>
          </a:p>
        </p:txBody>
      </p:sp>
    </p:spTree>
  </p:cSld>
  <p:transition>
    <p:random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DC7B0341-A8F5-4049-83EC-B3CE32CD604B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Envelope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hould match letterhead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Types of envelope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Correspondence or business  – No. 10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Invoices or statements – No. 6 to No. 10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Payment-return envelop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Tan Kraft or clasp envelopes – large bulky document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Padded envelopes – send items that may be damaged during mail handling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380880" y="533520"/>
            <a:ext cx="8763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hoosing Correspondence Supplies</a:t>
            </a:r>
            <a:r>
              <a:rPr b="0" lang="en-US" sz="4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5T01:47:17Z</dcterms:created>
  <dc:creator>Kathryn A. Booth RN-BSN, MS, RMA, RPT</dc:creator>
  <dc:description/>
  <dc:language>en-US</dc:language>
  <cp:lastModifiedBy>Kathryn A. Booth</cp:lastModifiedBy>
  <dcterms:modified xsi:type="dcterms:W3CDTF">2008-03-31T02:26:31Z</dcterms:modified>
  <cp:revision>81</cp:revision>
  <dc:subject>Medical Assisting 3e</dc:subject>
  <dc:title>Managing Correspondence and Mail</dc:title>
</cp:coreProperties>
</file>