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jpeg" ContentType="image/jpeg"/>
  <Override PartName="/ppt/media/image1.png" ContentType="image/png"/>
  <Override PartName="/ppt/media/image2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chimes.wav" ContentType="audio/x-wav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7901-AB83-42C9-9F1D-21AB6551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10F5-C4C3-439C-B736-A7B11A4D961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D1EC-B972-4147-A828-CBA7ECF0EF2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6680-2CDC-4762-AE78-D32B93C95A4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FBCF-055E-4B9E-9F03-A692E95BF63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9CF8-0D06-48B6-9423-00C66F1410E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FEE8-5899-467D-8AC1-9C52F4E95E7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8525-9F25-48B6-AE33-FF0A2F82173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1C3B-C1C6-47AF-86A1-DDBAE8F1660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D0EE-3CB4-4A72-97EF-5613724FD8A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880F-0684-45FB-88A1-DA7A94B953E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E8D6-DDB5-4C87-BB08-5A4EF5EE08C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70F8-304E-419F-BEB5-FBEE84BA737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6F2B-0153-43BB-B907-FA77F0AE3E7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22C-F383-4624-8B9A-CD90115275D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3FF-6AE2-4ECB-8218-362E47B8CC3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87BE-F15D-47AA-8238-CBCF10E3C7E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4F98-B5DA-4664-A557-B8D84A673F4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6531-81C0-4D32-9D1B-90B1AF42503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BA85-C38D-4B16-BD92-E43F55EAEA8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D984-F0BC-48C7-9E29-1BA550D0A2C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A62E-708D-4488-83CB-16B990265D3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93F8-C453-4FA9-A056-116CC71082B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40B3-B379-48BD-8F0F-4A08749776A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2CCE-18DC-477C-9836-E1764BAC2CB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EA4-3B1C-4D09-9EB2-636D91199ED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EC24-DC74-47BF-BF99-31BBEC5C6BE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041A-3E58-406E-B193-4FFE8959A3D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1F15-EF17-43D7-B28E-F373D9D5E17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276F-5B40-4BAE-9EFF-230E1624FE3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3B7E-D295-4D55-A775-217B401B268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35E-2176-4C45-A1C7-6E2A45B2038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2ACB-2A09-4B69-A685-EACEF35E548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829-2890-4FA3-A6D6-3067B9E2BB1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DFC1-468C-48F2-8167-F604BADFD46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77DD-7420-4854-97A7-063326B0ED5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6D2F-34D8-4AA1-BA9E-7A5186ECD78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DF90-2716-45AE-BFE5-C1EEB071B17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0377-BB58-4491-ABE5-F39C2BD5979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C674-6FDA-419F-868C-DC912713C5C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5991-3643-437D-BF5E-1707BE8F174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89F5-C002-4F3E-BB90-5035D81F2F2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9E46-971B-4CC3-B0DC-C14E73BD95C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307B-C808-4630-9885-0C04B80B173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A075-BC56-460A-B8F4-6948CA90517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E52-1B34-4525-9010-5C71F54F6EE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8948-3DEB-4763-84CF-D2A849AFE24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1C42-047C-49BB-873E-2B99127938A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407F-F217-4970-8E2C-68DBC3FED1D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F9F5-DA62-4B17-9E83-414F8E943D3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4D1A-C016-4F5B-822A-4EE27131C98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2651-347B-47B9-B543-B76C34C20A5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C1D5-9531-47CF-89A2-742AE236090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ABA8-FDDA-4BF5-967C-5DB7E0B64CB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83CF-E580-443B-A122-32F4FFF4E18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C8C3-B938-4BCA-A063-23E57A50ACD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AF9B-3639-41DB-9E48-238AEA66298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C8F-89B2-4252-9FFD-C2ED6523445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EB9E-3E60-4962-A050-8EB9F932811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CE6E-0016-4170-843C-EBD93E4B8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5491-D1E3-4BC3-88A0-E22239ED0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96D4-778E-4277-AA93-1DE22F5B9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CEEE-A6AA-436A-A7FD-ACA9935EA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6D15-92ED-4AE8-BC14-F5CEBB451E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77F0-18BA-4EB8-88C8-E6C908481B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A72C-1FC0-43A0-B8F5-54EB7AC051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A680-83F6-456C-AD0F-EC7D89555E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FB95-CE34-45BB-9FDE-45D67A720F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1E93-7F1B-4571-AF53-BADA08285D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3544-7966-4B7A-A6C1-AC7F9F4B2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DB54-3904-4D89-8FC9-4FAF0E394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EC36-B608-40EE-A8AB-33CAF9DF5A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86A6-B8BD-4829-B624-264EBB1121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FFD9-28ED-4B7E-BAA6-FD54019CF2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F342-AC73-463B-AD4F-C08A6CF7B8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C718-47D2-415D-A9B6-57F6ED100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03C4-260D-4F78-AA4A-4C5620EE3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7F3B-1F42-4C53-8983-18EBC9D82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2284-93A0-4BE5-8F06-E50248296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0BA6-37FE-4A02-BDC6-AD50866AE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C363-5078-4BE0-9129-E35D12BEA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2D53-085B-472A-8F7D-1B6556394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5F3C-0633-4090-AEAF-A27197984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A2C522F-9FF3-438C-9C1F-97963B4C570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82E9F43-9BAC-4344-A984-864DEB76506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90A07ED-FE66-4758-B980-B182BB544F3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895480" y="1219320"/>
            <a:ext cx="3124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7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Correspondence and Mail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F9B6162-3846-45F8-8595-29B4693CC53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abel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, computerized address labels can save a large amount of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ices and stateme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invoic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statement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uter-generated invoices and statemen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erb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 mail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5648C91-E90B-4549-AF57-6C11DE6A12F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895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three things do written materials of a medical office convey or demonstr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33520" y="3124080"/>
            <a:ext cx="77724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ritten materials convey the ability of the medical office staff to communicate and to conduct business, as well as demonstrate a professional image that reflects on the entire office staff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Picture 14" descr="j0299125"/>
          <p:cNvPicPr/>
          <p:nvPr/>
        </p:nvPicPr>
        <p:blipFill>
          <a:blip r:embed="rId1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5"/>
          <p:cNvSpPr txBox="1"/>
          <p:nvPr/>
        </p:nvSpPr>
        <p:spPr>
          <a:xfrm>
            <a:off x="6172200" y="5257800"/>
            <a:ext cx="22096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ight!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183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C4355F3-A3A1-46F3-9B6C-C739BDD3645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 of communic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pose - to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explain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clarify,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provide inform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Referral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Scheduling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report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educ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surance/billing inform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ver or form lett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31DBA5D-BF78-4633-90EA-ABD05E2163D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8088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65040" y="2657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rgin - 1 inch is standar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elin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onth, day, and yea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3 lines below letterhead on line 15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side addres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cludes information needed for correct delivery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159B3B1-F84D-4D1E-AF84-DD2F8BB79E3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ttention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when letter is sent to specific person in a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alut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greeting such as “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Dea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y use business title or department if name is not know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inside addr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F0E5522-EECC-43A5-8088-538150BA116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bject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to bring attention to subject (optional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Body 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two lines below salutation or subject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ext is single-spaced and double-spaced between paragraph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5675D1C-0549-446E-9CF3-BA64ACFF210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mplimentary closing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d two lines below bod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ncerely” is commonly us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gnature block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s writer’s name on first line and business title on second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ree to four lines below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6A3ECBC-514D-4C68-8741-10BA6B2DE39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ica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writer’s initials followed by a colon or slash mark and the typist’s initials (KB/SF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wo lines below the signature block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741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y be abbreviated as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l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or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py notation (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) appears after the enclosure notati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cludes information such as number of enclosures an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recip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C7769D4-386D-4DD5-9AA2-FF5458A098B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590920" y="1981080"/>
            <a:ext cx="4038480" cy="19051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nctuation Styles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cxnSp>
        <p:nvCxnSpPr>
          <p:cNvPr id="186" name="AutoShape 7"/>
          <p:cNvCxnSpPr>
            <a:stCxn id="185" idx="3"/>
            <a:endCxn id="187" idx="0"/>
          </p:cNvCxnSpPr>
          <p:nvPr/>
        </p:nvCxnSpPr>
        <p:spPr>
          <a:xfrm>
            <a:off x="6629040" y="2933280"/>
            <a:ext cx="724680" cy="11055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cxnSp>
        <p:nvCxnSpPr>
          <p:cNvPr id="188" name="AutoShape 8"/>
          <p:cNvCxnSpPr>
            <a:stCxn id="185" idx="1"/>
          </p:cNvCxnSpPr>
          <p:nvPr/>
        </p:nvCxnSpPr>
        <p:spPr>
          <a:xfrm flipV="1" rot="10800000">
            <a:off x="1828080" y="2932560"/>
            <a:ext cx="762840" cy="12963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sp>
        <p:nvSpPr>
          <p:cNvPr id="189" name="AutoShape 9"/>
          <p:cNvSpPr/>
          <p:nvPr/>
        </p:nvSpPr>
        <p:spPr>
          <a:xfrm>
            <a:off x="7621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62485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509BAC0-2154-41E0-8C26-78459B52188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Open punctuation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uses no punctuation after these items in a lett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ignature bloc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enclosure and copy 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268C7DF-A18F-4704-911D-C023095AF01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1981080"/>
            <a:ext cx="79246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1 List the supplies necessary for creating and mailing professional-looking correspondence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2 Identify the types of correspondence used in medical office communication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3 Describe the parts of a letter and the different letter and punctuation styl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4 Compose a business lett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AA43030-5429-4CB7-A601-B3E7B0717EE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Mixed Punctuation</a:t>
            </a: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cludes the following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mma after 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or period after the enclosure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copy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8077320" y="3657600"/>
            <a:ext cx="38088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WordArt 9"/>
          <p:cNvSpPr txBox="1"/>
          <p:nvPr/>
        </p:nvSpPr>
        <p:spPr>
          <a:xfrm>
            <a:off x="8077320" y="24382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8077320" y="49528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51BEA2A-E523-4B64-B4EB-182EF7E3505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ne-inch margins on the left and right for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 ½-inch pap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 should be centered on the p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ngle-space body of letter and double-space between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hort sentences with no more than 20 words on an aver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CEAE2D8-2AD2-4751-A934-0FCC4CB4F19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at least two sentences per paragraph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ivide paragraphs longer than 10 lines into two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 multi-page letters, use letterhead for first page onl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BA1664F-68C1-4F1D-BF80-0A619081616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1752480"/>
          <a:ext cx="8458200" cy="3936960"/>
        </p:xfrm>
        <a:graphic>
          <a:graphicData uri="http://schemas.openxmlformats.org/drawingml/2006/table">
            <a:tbl>
              <a:tblPr/>
              <a:tblGrid>
                <a:gridCol w="2129040"/>
                <a:gridCol w="632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ll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ines are typed flush lef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commonly used in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ateline, complimentary closing, signature block and notations are aligned at the center of page or to the righ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ditional, balanced appearan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4B3E479-79F3-4675-8879-44EC2C0ABEE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1752480"/>
          <a:ext cx="8305920" cy="3956040"/>
        </p:xfrm>
        <a:graphic>
          <a:graphicData uri="http://schemas.openxmlformats.org/drawingml/2006/table">
            <a:tbl>
              <a:tblPr/>
              <a:tblGrid>
                <a:gridCol w="2362320"/>
                <a:gridCol w="59436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 with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agraphs are indented ½ inch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implifi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cation of full-block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modern letter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salutation, courtesy title, or clos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subject line in all capital lett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oo informal for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C642A0C-C405-4EB1-A4A4-39B6EE6207F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80880" y="18954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the medical assistant do if a mailing is to be sent to an organization to request x-ray films, but no specific name or title is given to address it to? Which of the following would you us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442960" y="3809880"/>
            <a:ext cx="630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Attention: 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Sir/Mad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Radiology Depart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Group 25"/>
          <p:cNvGrpSpPr/>
          <p:nvPr/>
        </p:nvGrpSpPr>
        <p:grpSpPr>
          <a:xfrm>
            <a:off x="304920" y="4114800"/>
            <a:ext cx="2590560" cy="1447920"/>
            <a:chOff x="304920" y="4114800"/>
            <a:chExt cx="2590560" cy="1447920"/>
          </a:xfrm>
        </p:grpSpPr>
        <p:sp>
          <p:nvSpPr>
            <p:cNvPr id="218" name="Text Box 13"/>
            <p:cNvSpPr/>
            <p:nvPr/>
          </p:nvSpPr>
          <p:spPr>
            <a:xfrm>
              <a:off x="304920" y="4114800"/>
              <a:ext cx="1400040" cy="398880"/>
            </a:xfrm>
            <a:prstGeom prst="rect">
              <a:avLst/>
            </a:prstGeom>
            <a:solidFill>
              <a:srgbClr val="8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362320" y="5181480"/>
              <a:ext cx="533160" cy="381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220" name="WordArt 22"/>
          <p:cNvSpPr txBox="1"/>
          <p:nvPr/>
        </p:nvSpPr>
        <p:spPr>
          <a:xfrm>
            <a:off x="6172200" y="5334120"/>
            <a:ext cx="1666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Correct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j0299125"/>
          <p:cNvPicPr/>
          <p:nvPr/>
        </p:nvPicPr>
        <p:blipFill>
          <a:blip r:embed="rId2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226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658CB68-235D-4244-8A7C-C6CFFC3C157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y your reading audienc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of letter (formal or relaxe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now the purpose of the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clear and conci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n’t use unnecessary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ssage should be easily understoo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 active voice when possibl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ssive voice is best when relaying negative new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4C17BC9-A64B-46B1-8AC6-961539F31A4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polite and courteou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curacy of dates and monetary fig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leaving “widows and orphans” (dangling words and phrases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4DDF0E2-8853-4D7E-AC0E-2D3F7E7700B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Picture 8" descr="j0299125"/>
          <p:cNvPicPr/>
          <p:nvPr/>
        </p:nvPicPr>
        <p:blipFill>
          <a:blip r:embed="rId1"/>
          <a:stretch/>
        </p:blipFill>
        <p:spPr>
          <a:xfrm>
            <a:off x="7350120" y="6094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80880" y="19051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l professional correspondence must be written in a way that conveys information clearly.  What do you need to know when preparing to write any form of office communication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80880" y="3808440"/>
            <a:ext cx="8382240" cy="9471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 must know who you are writing to, i.e., a physician, patient, vendor, or fellow staff member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 rot="10800000">
            <a:off x="6400800" y="4952520"/>
            <a:ext cx="2362320" cy="1600200"/>
          </a:xfrm>
          <a:prstGeom prst="verticalScroll">
            <a:avLst>
              <a:gd name="adj" fmla="val 12500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78168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od Job!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6" name="Picture 15" descr=""/>
          <p:cNvPicPr/>
          <p:nvPr/>
        </p:nvPicPr>
        <p:blipFill>
          <a:blip r:embed="rId2"/>
          <a:stretch/>
        </p:blipFill>
        <p:spPr>
          <a:xfrm>
            <a:off x="8610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471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F05AFF2-B3E1-48F3-B00E-53560AB5E68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Edi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ctual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ogical flow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cisenes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tical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at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ave another person proofread if possib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09480" y="5410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skip editing and proofreading steps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893C851-353D-4575-A2C6-AA61EE9A1DB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1981080"/>
            <a:ext cx="8305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5 Explain the tasks involved in editing and proofreading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6 Describe the process of handling incoming and outgoing mail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7 Compare and contrast the services provided by the U.S. Postal Service and other delivery servic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4D8E802-C25B-407A-AFE4-FCA2075F666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380880" y="1828800"/>
            <a:ext cx="8305920" cy="1066680"/>
          </a:xfrm>
          <a:prstGeom prst="bevel">
            <a:avLst>
              <a:gd name="adj" fmla="val 12500"/>
            </a:avLst>
          </a:prstGeom>
          <a:solidFill>
            <a:srgbClr val="80408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ls for Editing And 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963240" y="3200400"/>
            <a:ext cx="1701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360" y="4191120"/>
            <a:ext cx="28753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80880" y="3429000"/>
            <a:ext cx="24386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Physician’s Desk Reference (PDR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6553080" y="3429000"/>
            <a:ext cx="22100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glish grammar 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age manu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437200" y="5257800"/>
            <a:ext cx="4554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ord processing spell check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97EA805-2965-4011-B212-CA7F9C2588B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iting ensures that documents ar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ear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ree of grammatical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gically organiz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in appropriat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9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794A168-0976-4213-9005-3AC810FBE37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nguage usag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basic grammar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k: “Is this the best way to convey what I want to say?”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priate to rea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57" name="Picture 8" descr="MPj03877960000[1]"/>
          <p:cNvPicPr/>
          <p:nvPr/>
        </p:nvPicPr>
        <p:blipFill>
          <a:blip r:embed="rId1"/>
          <a:stretch/>
        </p:blipFill>
        <p:spPr>
          <a:xfrm>
            <a:off x="5362560" y="21510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8070CD0-E345-4B72-94B0-63F7049B199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ntent - logical flow of though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purpo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cuss one topic at a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ange paragraphs when changing topic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events in chronological ord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ick to subjec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lect words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oofread what you wri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B943E8A-BCDA-4672-BC2E-33E8FAA9D84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ofread and put asi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coworker proofread docum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ree types of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t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chanical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3AA0C1A-9A2D-4DAA-80D1-E77C1D3B818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matting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itioning parts of a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denting, line length, line spa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following offic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a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istyping monetary figu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double-checking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gures or having someone else check th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6705720" y="3886200"/>
            <a:ext cx="1828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F360E1B-7777-4892-B8B6-B7F59A4C97E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chanical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lling, punctuation, spacing between words, division of work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ing basic spelling, punctuation, and word division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ing for transposed characters or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oiding dividing words at the end of a lin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3A12F72-F2E7-45E5-863D-3D69B2D0696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28600" y="1828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etter must be sent to current employees that have exceeded their number of absences according to office policy. Which of the following would be most appropri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70800" y="3352680"/>
            <a:ext cx="8418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The attendance policy of this office requires that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You have violated the attendance policy of this 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Are you aware that you have missed “X” days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57200" y="494028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04920" y="4572000"/>
            <a:ext cx="84582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is correspondence must communicate the facts in a soft manner while getting the point across. The first response begins with identifying the “fact” or policy followed by the individual’s performance and is less subjective or punitive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77" name="Picture 13" descr="j0299125"/>
          <p:cNvPicPr/>
          <p:nvPr/>
        </p:nvPicPr>
        <p:blipFill>
          <a:blip r:embed="rId1"/>
          <a:stretch/>
        </p:blipFill>
        <p:spPr>
          <a:xfrm>
            <a:off x="304920" y="3808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78" name="Oval 14"/>
          <p:cNvSpPr/>
          <p:nvPr/>
        </p:nvSpPr>
        <p:spPr>
          <a:xfrm>
            <a:off x="380880" y="34290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1066680" y="457200"/>
            <a:ext cx="2133720" cy="838080"/>
          </a:xfrm>
          <a:prstGeom prst="wedgeRoundRectCallout">
            <a:avLst>
              <a:gd name="adj1" fmla="val -43518"/>
              <a:gd name="adj2" fmla="val 70074"/>
              <a:gd name="adj3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ce Work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0" name="Picture 16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9" dur="22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F4528D0-370F-4693-9347-711650FA1BC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gning let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sign for the doctor, place your initials after the doctor’s signatu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aring the envelop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 USPS guidelines for addressing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placem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forma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4" name="Picture 4" descr="MCj0397066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236680" cy="22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27DC375-5CC7-4487-B26E-102B73181B9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lding and inserting the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 of envelope determines th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y a letter should be fold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Small envelope – fold letter in half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usiness-size envelope – fold in thirds </a:t>
            </a:r>
            <a:br>
              <a:rPr sz="2200"/>
            </a:b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(fold bottom up then top down)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ndow envelope – accordion fold so address appears in the window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letters are signed and all enclosures are included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address on letter matches envelop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8" name="Picture 4" descr="MCj04315360000[1]"/>
          <p:cNvPicPr/>
          <p:nvPr/>
        </p:nvPicPr>
        <p:blipFill>
          <a:blip r:embed="rId1"/>
          <a:stretch/>
        </p:blipFill>
        <p:spPr>
          <a:xfrm>
            <a:off x="6477120" y="1752480"/>
            <a:ext cx="2171520" cy="21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437B3B7-7CDF-43AF-A7FE-EAC7E66293C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materials demonstrate ability to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nduct busin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image is conveyed in written correspondenc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documents = legal record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52320" y="22860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33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48AB33D-80D5-47A4-BA1D-02E771F3FD6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Picture 4" descr="j0299125"/>
          <p:cNvPicPr/>
          <p:nvPr/>
        </p:nvPicPr>
        <p:blipFill>
          <a:blip r:embed="rId1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609480" y="3216240"/>
            <a:ext cx="7848720" cy="8254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en preparing envelopes for mailing office correspondence, you should use USPS guidelines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3352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ow should you prepare envelopes for mailing office corresponden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172200" y="49528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5f00ff"/>
              </a:buClr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Stamp of</a:t>
            </a:r>
            <a:br>
              <a:rPr sz="2800"/>
            </a:b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     Approval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2"/>
          <a:stretch/>
        </p:blipFill>
        <p:spPr>
          <a:xfrm>
            <a:off x="83818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4716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AC9DC88-BC8A-4EC6-B9B0-0E68B83C763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tterhead, blank stationery,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ailable from USPS, private delivery companies, and office supply sto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ckag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9" name="Picture 4" descr="MCj01495690000[1]"/>
          <p:cNvPicPr/>
          <p:nvPr/>
        </p:nvPicPr>
        <p:blipFill>
          <a:blip r:embed="rId1"/>
          <a:stretch/>
        </p:blipFill>
        <p:spPr>
          <a:xfrm>
            <a:off x="5715000" y="2971800"/>
            <a:ext cx="26924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06302A8-3FE1-4C02-8789-9B6551055B7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irmai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etters and packages must be </a:t>
            </a:r>
            <a:br>
              <a:rPr sz="2700"/>
            </a:b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abeled “AIRMAIL” on all sid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Available for mail to foreign countri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for Overnight Delivery Serv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USPS and other companies require the use of their own mailing materials for next day delivery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3" name="Picture 5" descr="MMj02970310000[1]"/>
          <p:cNvPicPr/>
          <p:nvPr/>
        </p:nvPicPr>
        <p:blipFill>
          <a:blip r:embed="rId1"/>
          <a:stretch/>
        </p:blipFill>
        <p:spPr>
          <a:xfrm>
            <a:off x="6477120" y="1981080"/>
            <a:ext cx="224784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4865665-EBF5-469E-9E27-ABE11083D41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tal rates, scales, and me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Rates and regulations change periodically, so keep current rates on-hand at the medical office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7" name="Picture 4" descr="j0356853"/>
          <p:cNvPicPr/>
          <p:nvPr/>
        </p:nvPicPr>
        <p:blipFill>
          <a:blip r:embed="rId1"/>
          <a:stretch/>
        </p:blipFill>
        <p:spPr>
          <a:xfrm>
            <a:off x="5638680" y="2666880"/>
            <a:ext cx="2363760" cy="182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7738DA7-ECDA-4391-BE77-871654BB192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Picture 4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79056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533520" y="22096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addition to letterhead, blank stationary, and envelopes, what other mailing supplies might be needed for a medical offi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85800" y="3733920"/>
            <a:ext cx="7467480" cy="1373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medical office may need forms, labels, and packaging supplies for items needing special attention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13" name="Group 104"/>
          <p:cNvGrpSpPr/>
          <p:nvPr/>
        </p:nvGrpSpPr>
        <p:grpSpPr>
          <a:xfrm>
            <a:off x="5867280" y="4952880"/>
            <a:ext cx="2362320" cy="1447920"/>
            <a:chOff x="5867280" y="4952880"/>
            <a:chExt cx="2362320" cy="1447920"/>
          </a:xfrm>
        </p:grpSpPr>
        <p:sp>
          <p:nvSpPr>
            <p:cNvPr id="314" name="AutoShape 105"/>
            <p:cNvSpPr/>
            <p:nvPr/>
          </p:nvSpPr>
          <p:spPr>
            <a:xfrm>
              <a:off x="5867280" y="4952880"/>
              <a:ext cx="2362320" cy="1447920"/>
            </a:xfrm>
            <a:prstGeom prst="cube">
              <a:avLst>
                <a:gd name="adj" fmla="val 25000"/>
              </a:avLst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5" name="Text Box 106"/>
            <p:cNvSpPr/>
            <p:nvPr/>
          </p:nvSpPr>
          <p:spPr>
            <a:xfrm>
              <a:off x="6019560" y="54100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ood Answer!</a:t>
              </a:r>
              <a:endParaRPr b="0" lang="en-US" sz="24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6" name="Line 107"/>
            <p:cNvSpPr/>
            <p:nvPr/>
          </p:nvSpPr>
          <p:spPr>
            <a:xfrm>
              <a:off x="6019560" y="5105160"/>
              <a:ext cx="2057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7" name="Line 108"/>
            <p:cNvSpPr/>
            <p:nvPr/>
          </p:nvSpPr>
          <p:spPr>
            <a:xfrm>
              <a:off x="8076960" y="5105160"/>
              <a:ext cx="0" cy="1143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8" name="Rectangle 109"/>
            <p:cNvSpPr/>
            <p:nvPr/>
          </p:nvSpPr>
          <p:spPr>
            <a:xfrm>
              <a:off x="647676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9" name="Rectangle 110"/>
            <p:cNvSpPr/>
            <p:nvPr/>
          </p:nvSpPr>
          <p:spPr>
            <a:xfrm>
              <a:off x="6248160" y="4952880"/>
              <a:ext cx="381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20" name="Rectangle 111"/>
            <p:cNvSpPr/>
            <p:nvPr/>
          </p:nvSpPr>
          <p:spPr>
            <a:xfrm>
              <a:off x="7696080" y="49528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21" name="Picture 112" descr=""/>
          <p:cNvPicPr/>
          <p:nvPr/>
        </p:nvPicPr>
        <p:blipFill>
          <a:blip r:embed="rId2"/>
          <a:stretch/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5" dur="726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E67F530-99F2-416D-B9C7-0B409583A4A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228600" y="4648320"/>
            <a:ext cx="3978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5f00ff"/>
              </a:buClr>
              <a:buFont typeface="Wingdings" charset="2"/>
              <a:buChar char="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rst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ust weigh n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than 11 oz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is based on    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forwarded at      no extra co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urth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so called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parcel pos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  and is used for items weighing between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1 lb.     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70 lb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are based on weight and distan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5A63F04-9CC7-4FCA-A031-7967791A958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ful for heavier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requiring faster deliver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a flat rate for any items that can fit into the priority envelop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guarantees delivery within 2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3 day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pre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quickest servi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y service available every da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vary with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automatically insured against loss or damag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 flat rate also availabl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6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9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0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3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9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2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420A72F-51EE-4B9C-95DE-191114D56EF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 delive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ies made before regular mail deliver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imited hours and distance limits availabil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a guarantee that the item has been receiv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ires signature of recipi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4" name="Picture 13" descr="MCj02375120000[1]"/>
          <p:cNvPicPr/>
          <p:nvPr/>
        </p:nvPicPr>
        <p:blipFill>
          <a:blip r:embed="rId1"/>
          <a:stretch/>
        </p:blipFill>
        <p:spPr>
          <a:xfrm>
            <a:off x="5562720" y="2438280"/>
            <a:ext cx="31701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D2E7546-BC15-4485-9FC1-4751DC7ED67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turn receipt request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proof of who receiv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item and when they received i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d to send valuable, important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idence provided of mailing and delivery to sen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irst-class and priority mail can be registe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8" name="Picture 6" descr="MCj02808200000[1]"/>
          <p:cNvPicPr/>
          <p:nvPr/>
        </p:nvPicPr>
        <p:blipFill>
          <a:blip r:embed="rId1"/>
          <a:stretch/>
        </p:blipFill>
        <p:spPr>
          <a:xfrm>
            <a:off x="6172200" y="2057400"/>
            <a:ext cx="2295360" cy="169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1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D35BBAB-E41D-4992-AB73-FB601163DFA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202248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ternational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surfac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airmail services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most foreign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untr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ternational mail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sses are similar t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mestic mail clas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02248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racing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 used if a piece of certified or registered mail does not reach its destination on tim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original receipt must be presented to locate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35836FA-A313-4D59-A13F-A29939E436F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spondence and Professional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arning t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4080"/>
                </a:solidFill>
                <a:latin typeface="Wingdings"/>
                <a:ea typeface="Wingdings"/>
              </a:rPr>
              <a:t></a:t>
            </a:r>
            <a:r>
              <a:rPr b="0" lang="en-US" sz="6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Create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    </a:t>
            </a:r>
            <a:r>
              <a:rPr b="0" lang="en-US" sz="6600" spc="-1" strike="noStrike">
                <a:solidFill>
                  <a:srgbClr val="804080"/>
                </a:solidFill>
                <a:latin typeface="Wingdings"/>
                <a:ea typeface="Wingdings"/>
              </a:rPr>
              <a:t>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Receiv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properly ensures positive, effective communication between your office and other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38080" y="20574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33"/>
                </a:solidFill>
                <a:latin typeface="Wingdings"/>
                <a:ea typeface="Wingdings"/>
              </a:rPr>
              <a:t></a:t>
            </a:r>
            <a:endParaRPr b="0" lang="en-US" sz="6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2" name="Picture 13" descr="MCj04316000000[1]"/>
          <p:cNvPicPr/>
          <p:nvPr/>
        </p:nvPicPr>
        <p:blipFill>
          <a:blip r:embed="rId1"/>
          <a:stretch/>
        </p:blipFill>
        <p:spPr>
          <a:xfrm>
            <a:off x="327672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76BC8B4-7A4B-4952-A10E-743E3776CCD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828800"/>
          <a:ext cx="8229600" cy="4419720"/>
        </p:xfrm>
        <a:graphic>
          <a:graphicData uri="http://schemas.openxmlformats.org/drawingml/2006/table">
            <a:tbl>
              <a:tblPr/>
              <a:tblGrid>
                <a:gridCol w="3504960"/>
                <a:gridCol w="4724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ivery Servic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nited Parcel Service (UPS)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overnight letter and express servic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ckages insur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press Delivery Servic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ederal Expres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H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ssengers or Carrier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ocal area same-day deliver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ther Delivery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8E6A4C5-244D-4855-8C51-5EEEF007B3C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47" name="Group 18"/>
          <p:cNvGrpSpPr/>
          <p:nvPr/>
        </p:nvGrpSpPr>
        <p:grpSpPr>
          <a:xfrm>
            <a:off x="455040" y="2895480"/>
            <a:ext cx="6783840" cy="520560"/>
            <a:chOff x="455040" y="2895480"/>
            <a:chExt cx="6783840" cy="520560"/>
          </a:xfrm>
        </p:grpSpPr>
        <p:sp>
          <p:nvSpPr>
            <p:cNvPr id="348" name="Text Box 5"/>
            <p:cNvSpPr/>
            <p:nvPr/>
          </p:nvSpPr>
          <p:spPr>
            <a:xfrm>
              <a:off x="455040" y="2895480"/>
              <a:ext cx="45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nfidential laboratory resul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49" name="Line 8"/>
            <p:cNvSpPr/>
            <p:nvPr/>
          </p:nvSpPr>
          <p:spPr>
            <a:xfrm>
              <a:off x="5257800" y="3124080"/>
              <a:ext cx="19810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0" name="Group 19"/>
          <p:cNvGrpSpPr/>
          <p:nvPr/>
        </p:nvGrpSpPr>
        <p:grpSpPr>
          <a:xfrm>
            <a:off x="440640" y="3571920"/>
            <a:ext cx="6798240" cy="520560"/>
            <a:chOff x="440640" y="3571920"/>
            <a:chExt cx="6798240" cy="520560"/>
          </a:xfrm>
        </p:grpSpPr>
        <p:sp>
          <p:nvSpPr>
            <p:cNvPr id="351" name="Text Box 6"/>
            <p:cNvSpPr/>
            <p:nvPr/>
          </p:nvSpPr>
          <p:spPr>
            <a:xfrm>
              <a:off x="440640" y="3571920"/>
              <a:ext cx="52527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Signed and dated contract material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2" name="Line 9"/>
            <p:cNvSpPr/>
            <p:nvPr/>
          </p:nvSpPr>
          <p:spPr>
            <a:xfrm>
              <a:off x="5715000" y="3809880"/>
              <a:ext cx="15238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3" name="Group 20"/>
          <p:cNvGrpSpPr/>
          <p:nvPr/>
        </p:nvGrpSpPr>
        <p:grpSpPr>
          <a:xfrm>
            <a:off x="438480" y="4181400"/>
            <a:ext cx="6800400" cy="520560"/>
            <a:chOff x="438480" y="4181400"/>
            <a:chExt cx="6800400" cy="520560"/>
          </a:xfrm>
        </p:grpSpPr>
        <p:sp>
          <p:nvSpPr>
            <p:cNvPr id="354" name="Text Box 7"/>
            <p:cNvSpPr/>
            <p:nvPr/>
          </p:nvSpPr>
          <p:spPr>
            <a:xfrm>
              <a:off x="438480" y="4181400"/>
              <a:ext cx="5513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tient invoice and billing statemen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6095880" y="4419720"/>
              <a:ext cx="114300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56" name="Text Box 12"/>
          <p:cNvSpPr/>
          <p:nvPr/>
        </p:nvSpPr>
        <p:spPr>
          <a:xfrm>
            <a:off x="380880" y="17524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type of mail would you use to send each of the following: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7394040" y="342900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7530120" y="4029120"/>
            <a:ext cx="43668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859120" y="4800600"/>
            <a:ext cx="357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. First 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. 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. 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. 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5638680" y="2286000"/>
            <a:ext cx="152424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NSWE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7317720" y="281952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3" name="Text Box 31"/>
          <p:cNvSpPr/>
          <p:nvPr/>
        </p:nvSpPr>
        <p:spPr>
          <a:xfrm>
            <a:off x="693432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Right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64" name="Group 38"/>
          <p:cNvGrpSpPr/>
          <p:nvPr/>
        </p:nvGrpSpPr>
        <p:grpSpPr>
          <a:xfrm>
            <a:off x="6248520" y="5181480"/>
            <a:ext cx="2514600" cy="1295640"/>
            <a:chOff x="6248520" y="5181480"/>
            <a:chExt cx="2514600" cy="1295640"/>
          </a:xfrm>
        </p:grpSpPr>
        <p:sp>
          <p:nvSpPr>
            <p:cNvPr id="365" name="Rectangle 34"/>
            <p:cNvSpPr/>
            <p:nvPr/>
          </p:nvSpPr>
          <p:spPr>
            <a:xfrm>
              <a:off x="6248520" y="5181480"/>
              <a:ext cx="2514600" cy="12956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6" name="Text Box 36"/>
            <p:cNvSpPr/>
            <p:nvPr/>
          </p:nvSpPr>
          <p:spPr>
            <a:xfrm>
              <a:off x="6324840" y="5257800"/>
              <a:ext cx="685800" cy="32436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111 One Drive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Any,  ST 11111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7" name="AutoShape 37"/>
            <p:cNvSpPr/>
            <p:nvPr/>
          </p:nvSpPr>
          <p:spPr>
            <a:xfrm>
              <a:off x="8305920" y="5257800"/>
              <a:ext cx="228600" cy="30492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304920"/>
                <a:gd name="textAreaBottom" fmla="*/ 29376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f00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68" name="j0074691.wav" descr=""/>
          <p:cNvPicPr/>
          <p:nvPr/>
        </p:nvPicPr>
        <p:blipFill>
          <a:blip r:embed="rId1"/>
          <a:stretch/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0" descr="j0299125"/>
          <p:cNvPicPr/>
          <p:nvPr/>
        </p:nvPicPr>
        <p:blipFill>
          <a:blip r:embed="rId2"/>
          <a:stretch/>
        </p:blipFill>
        <p:spPr>
          <a:xfrm>
            <a:off x="7467480" y="45720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23269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96158B7-5816-44BC-8E73-31E1DECDB7B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7889040" y="30492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2" name="Line 5"/>
          <p:cNvSpPr/>
          <p:nvPr/>
        </p:nvSpPr>
        <p:spPr>
          <a:xfrm flipV="1">
            <a:off x="685800" y="5790960"/>
            <a:ext cx="0" cy="10666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685800" y="5791320"/>
            <a:ext cx="175248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 flipV="1">
            <a:off x="2438280" y="5028840"/>
            <a:ext cx="0" cy="76212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438280" y="502920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6" name="Line 10"/>
          <p:cNvSpPr/>
          <p:nvPr/>
        </p:nvSpPr>
        <p:spPr>
          <a:xfrm flipV="1">
            <a:off x="4038480" y="4191120"/>
            <a:ext cx="0" cy="8380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4038480" y="41911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5638680" y="32767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5638680" y="32767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 flipV="1">
            <a:off x="7238880" y="23623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7238880" y="2362320"/>
            <a:ext cx="167652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2" name="WordArt 16"/>
          <p:cNvSpPr txBox="1"/>
          <p:nvPr/>
        </p:nvSpPr>
        <p:spPr>
          <a:xfrm>
            <a:off x="533520" y="2133720"/>
            <a:ext cx="3733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s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83" name="Group 35"/>
          <p:cNvGrpSpPr/>
          <p:nvPr/>
        </p:nvGrpSpPr>
        <p:grpSpPr>
          <a:xfrm>
            <a:off x="914400" y="5095800"/>
            <a:ext cx="838080" cy="1292040"/>
            <a:chOff x="914400" y="5095800"/>
            <a:chExt cx="838080" cy="1292040"/>
          </a:xfrm>
        </p:grpSpPr>
        <p:sp>
          <p:nvSpPr>
            <p:cNvPr id="384" name="Text Box 17"/>
            <p:cNvSpPr/>
            <p:nvPr/>
          </p:nvSpPr>
          <p:spPr>
            <a:xfrm>
              <a:off x="914400" y="5867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Sor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5" name="Text Box 22"/>
            <p:cNvSpPr/>
            <p:nvPr/>
          </p:nvSpPr>
          <p:spPr>
            <a:xfrm>
              <a:off x="1204560" y="50958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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6" name="Group 36"/>
          <p:cNvGrpSpPr/>
          <p:nvPr/>
        </p:nvGrpSpPr>
        <p:grpSpPr>
          <a:xfrm>
            <a:off x="2624760" y="4334040"/>
            <a:ext cx="1030680" cy="1206360"/>
            <a:chOff x="2624760" y="4334040"/>
            <a:chExt cx="1030680" cy="1206360"/>
          </a:xfrm>
        </p:grpSpPr>
        <p:sp>
          <p:nvSpPr>
            <p:cNvPr id="387" name="Text Box 18"/>
            <p:cNvSpPr/>
            <p:nvPr/>
          </p:nvSpPr>
          <p:spPr>
            <a:xfrm>
              <a:off x="2624760" y="501984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Open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3157560" y="43340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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99760" y="3495600"/>
            <a:ext cx="1284120" cy="1216080"/>
            <a:chOff x="4199760" y="3495600"/>
            <a:chExt cx="1284120" cy="1216080"/>
          </a:xfrm>
        </p:grpSpPr>
        <p:sp>
          <p:nvSpPr>
            <p:cNvPr id="390" name="Text Box 19"/>
            <p:cNvSpPr/>
            <p:nvPr/>
          </p:nvSpPr>
          <p:spPr>
            <a:xfrm>
              <a:off x="4199760" y="419112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Record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4792680" y="34956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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2" name="Group 38"/>
          <p:cNvGrpSpPr/>
          <p:nvPr/>
        </p:nvGrpSpPr>
        <p:grpSpPr>
          <a:xfrm>
            <a:off x="5652000" y="2657520"/>
            <a:ext cx="1584360" cy="1139760"/>
            <a:chOff x="5652000" y="2657520"/>
            <a:chExt cx="1584360" cy="1139760"/>
          </a:xfrm>
        </p:grpSpPr>
        <p:sp>
          <p:nvSpPr>
            <p:cNvPr id="393" name="Text Box 20"/>
            <p:cNvSpPr/>
            <p:nvPr/>
          </p:nvSpPr>
          <p:spPr>
            <a:xfrm>
              <a:off x="5652000" y="32767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Annota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6245640" y="26575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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7267680" y="1743120"/>
            <a:ext cx="1721520" cy="1215720"/>
            <a:chOff x="7267680" y="1743120"/>
            <a:chExt cx="1721520" cy="1215720"/>
          </a:xfrm>
        </p:grpSpPr>
        <p:sp>
          <p:nvSpPr>
            <p:cNvPr id="396" name="Text Box 21"/>
            <p:cNvSpPr/>
            <p:nvPr/>
          </p:nvSpPr>
          <p:spPr>
            <a:xfrm>
              <a:off x="7267680" y="2438280"/>
              <a:ext cx="172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Distribu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7" name="Text Box 26"/>
            <p:cNvSpPr/>
            <p:nvPr/>
          </p:nvSpPr>
          <p:spPr>
            <a:xfrm>
              <a:off x="7937640" y="17431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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98" name="Line 27"/>
          <p:cNvSpPr/>
          <p:nvPr/>
        </p:nvSpPr>
        <p:spPr>
          <a:xfrm>
            <a:off x="2438280" y="5791320"/>
            <a:ext cx="0" cy="1066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>
            <a:off x="4038480" y="5029200"/>
            <a:ext cx="0" cy="182880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0" name="Line 29"/>
          <p:cNvSpPr/>
          <p:nvPr/>
        </p:nvSpPr>
        <p:spPr>
          <a:xfrm>
            <a:off x="5638680" y="4191120"/>
            <a:ext cx="0" cy="26668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Line 30"/>
          <p:cNvSpPr/>
          <p:nvPr/>
        </p:nvSpPr>
        <p:spPr>
          <a:xfrm>
            <a:off x="7238880" y="3276720"/>
            <a:ext cx="0" cy="35812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2" name="Line 31"/>
          <p:cNvSpPr/>
          <p:nvPr/>
        </p:nvSpPr>
        <p:spPr>
          <a:xfrm>
            <a:off x="8915400" y="2362320"/>
            <a:ext cx="0" cy="4495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3" name="Text Box 32"/>
          <p:cNvSpPr/>
          <p:nvPr/>
        </p:nvSpPr>
        <p:spPr>
          <a:xfrm>
            <a:off x="7624080" y="68580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8492DC4-0D0B-4998-8A49-FB674AE5C5A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486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Sorting and Open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often sorted according to its prio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rgent, registered mail, etc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ersonal or confidential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irst class, airmail, and Priority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ackag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Advertisements and catalogu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33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sort mail in a cluttered are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08" name="Picture 22" descr="j0365770"/>
          <p:cNvPicPr/>
          <p:nvPr/>
        </p:nvPicPr>
        <p:blipFill>
          <a:blip r:embed="rId1"/>
          <a:stretch/>
        </p:blipFill>
        <p:spPr>
          <a:xfrm>
            <a:off x="6059520" y="2209680"/>
            <a:ext cx="2281320" cy="24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5E19064-88FF-4A68-8488-0C4CBD59101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cording – daily mail log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Mail received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ollow-up correspondenc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nnota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utline key point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rite reminders, comments, or suggestion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tribu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Deliver items to mail recipie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2" name="Picture 25" descr="j0411662"/>
          <p:cNvPicPr/>
          <p:nvPr/>
        </p:nvPicPr>
        <p:blipFill>
          <a:blip r:embed="rId1"/>
          <a:stretch/>
        </p:blipFill>
        <p:spPr>
          <a:xfrm>
            <a:off x="5867280" y="1905120"/>
            <a:ext cx="2978280" cy="430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969F5A3-8A8C-4892-94E3-1E4CBA04F98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4" name="Picture 14" descr="HM00343_"/>
          <p:cNvPicPr/>
          <p:nvPr/>
        </p:nvPicPr>
        <p:blipFill>
          <a:blip r:embed="rId1"/>
          <a:stretch/>
        </p:blipFill>
        <p:spPr>
          <a:xfrm>
            <a:off x="3886200" y="502920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1" lang="en-US" sz="4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Handling Drug and Product Sampl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380880" y="2209680"/>
            <a:ext cx="434340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lace only nonprescription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ts in patient areas according to office polic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ort and store other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scription items in locked cabine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stroy out-dat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amp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4648320" y="2209680"/>
            <a:ext cx="44956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 NO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ive patients sample without the physician approv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il to document in patient recor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hen samples are given per th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ysician reque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ard medication samples in trash can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CC35D08-5914-4A53-B08F-FBE5ACAF493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04920" y="1981080"/>
            <a:ext cx="85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are the steps for processing incoming mail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33520" y="2743200"/>
            <a:ext cx="7772400" cy="228852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teps for processing incoming mail a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ota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638680" y="5562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00ff"/>
                </a:solidFill>
                <a:latin typeface="Times New Roman"/>
              </a:rPr>
              <a:t>CORRECT!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24" name="Picture 12" descr=""/>
          <p:cNvPicPr/>
          <p:nvPr/>
        </p:nvPicPr>
        <p:blipFill>
          <a:blip r:embed="rId1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350"/>
                            </p:stCondLst>
                            <p:childTnLst>
                              <p:par>
                                <p:cTn id="1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9" dur="5760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5FDF62E-A3E3-4FBA-8522-E931A2599F1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roper and efficient management of correspondence and mail is essential to promoting a positive, professional office imag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t is important to choose appropriate supplies and letter styles, as well as to edit and proofread correspondenc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familiar with types of mail and delivery services to choose the most appropriate service for mailing needs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Handle incoming mail responsibly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F5D4F3C-EE53-41E2-9625-093444C0360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1981080" y="914400"/>
            <a:ext cx="5257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7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31" name="Group 55"/>
          <p:cNvGrpSpPr/>
          <p:nvPr/>
        </p:nvGrpSpPr>
        <p:grpSpPr>
          <a:xfrm>
            <a:off x="533520" y="2590920"/>
            <a:ext cx="3276000" cy="2742840"/>
            <a:chOff x="533520" y="2590920"/>
            <a:chExt cx="3276000" cy="2742840"/>
          </a:xfrm>
        </p:grpSpPr>
        <p:sp>
          <p:nvSpPr>
            <p:cNvPr id="432" name="Freeform 8"/>
            <p:cNvSpPr/>
            <p:nvPr/>
          </p:nvSpPr>
          <p:spPr>
            <a:xfrm>
              <a:off x="2235240" y="4809960"/>
              <a:ext cx="436320" cy="163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1922040" y="4825800"/>
              <a:ext cx="40032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1571040" y="4861440"/>
              <a:ext cx="41220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1183320" y="4941720"/>
              <a:ext cx="462240" cy="2278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981720" y="4505400"/>
              <a:ext cx="363240" cy="519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856800" y="4106160"/>
              <a:ext cx="31464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682200" y="3729600"/>
              <a:ext cx="331920" cy="415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9" name="Freeform 15"/>
            <p:cNvSpPr/>
            <p:nvPr/>
          </p:nvSpPr>
          <p:spPr>
            <a:xfrm>
              <a:off x="826920" y="3676320"/>
              <a:ext cx="29484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2610360" y="4740480"/>
              <a:ext cx="48348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1" name="Freeform 17"/>
            <p:cNvSpPr/>
            <p:nvPr/>
          </p:nvSpPr>
          <p:spPr>
            <a:xfrm>
              <a:off x="2940840" y="4401720"/>
              <a:ext cx="287640" cy="56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2847960" y="4050720"/>
              <a:ext cx="263160" cy="459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924120" y="3856320"/>
              <a:ext cx="2098440" cy="113364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951480" y="2608920"/>
              <a:ext cx="2679120" cy="21204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3662280" y="3696120"/>
              <a:ext cx="14724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6" name="Freeform 22"/>
            <p:cNvSpPr/>
            <p:nvPr/>
          </p:nvSpPr>
          <p:spPr>
            <a:xfrm>
              <a:off x="3397680" y="3920400"/>
              <a:ext cx="32904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7" name="Freeform 23"/>
            <p:cNvSpPr/>
            <p:nvPr/>
          </p:nvSpPr>
          <p:spPr>
            <a:xfrm>
              <a:off x="2345400" y="2590920"/>
              <a:ext cx="1309680" cy="148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8" name="Freeform 24"/>
            <p:cNvSpPr/>
            <p:nvPr/>
          </p:nvSpPr>
          <p:spPr>
            <a:xfrm>
              <a:off x="1697040" y="2667600"/>
              <a:ext cx="1690200" cy="19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9" name="Freeform 25"/>
            <p:cNvSpPr/>
            <p:nvPr/>
          </p:nvSpPr>
          <p:spPr>
            <a:xfrm>
              <a:off x="2551680" y="4006080"/>
              <a:ext cx="51516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2180880" y="4048920"/>
              <a:ext cx="1068840" cy="9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2790360" y="5066640"/>
              <a:ext cx="48492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2129400" y="4121640"/>
              <a:ext cx="917280" cy="85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91360" y="2756880"/>
              <a:ext cx="1702800" cy="202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4" name="Freeform 30"/>
            <p:cNvSpPr/>
            <p:nvPr/>
          </p:nvSpPr>
          <p:spPr>
            <a:xfrm>
              <a:off x="2342520" y="4393080"/>
              <a:ext cx="3963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5" name="Freeform 31"/>
            <p:cNvSpPr/>
            <p:nvPr/>
          </p:nvSpPr>
          <p:spPr>
            <a:xfrm>
              <a:off x="2169720" y="4555080"/>
              <a:ext cx="60372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6" name="Freeform 32"/>
            <p:cNvSpPr/>
            <p:nvPr/>
          </p:nvSpPr>
          <p:spPr>
            <a:xfrm>
              <a:off x="1200240" y="2975760"/>
              <a:ext cx="46080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7" name="Freeform 33"/>
            <p:cNvSpPr/>
            <p:nvPr/>
          </p:nvSpPr>
          <p:spPr>
            <a:xfrm>
              <a:off x="987120" y="4381920"/>
              <a:ext cx="772560" cy="83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8" name="Freeform 34"/>
            <p:cNvSpPr/>
            <p:nvPr/>
          </p:nvSpPr>
          <p:spPr>
            <a:xfrm>
              <a:off x="1740240" y="4801320"/>
              <a:ext cx="466200" cy="30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9" name="Freeform 35"/>
            <p:cNvSpPr/>
            <p:nvPr/>
          </p:nvSpPr>
          <p:spPr>
            <a:xfrm>
              <a:off x="968760" y="3228840"/>
              <a:ext cx="2660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0" name="Freeform 36"/>
            <p:cNvSpPr/>
            <p:nvPr/>
          </p:nvSpPr>
          <p:spPr>
            <a:xfrm>
              <a:off x="1242000" y="4253760"/>
              <a:ext cx="290160" cy="51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1" name="Freeform 37"/>
            <p:cNvSpPr/>
            <p:nvPr/>
          </p:nvSpPr>
          <p:spPr>
            <a:xfrm>
              <a:off x="1366560" y="5216400"/>
              <a:ext cx="22860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2" name="Freeform 38"/>
            <p:cNvSpPr/>
            <p:nvPr/>
          </p:nvSpPr>
          <p:spPr>
            <a:xfrm>
              <a:off x="1283400" y="5234040"/>
              <a:ext cx="144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3" name="Freeform 39"/>
            <p:cNvSpPr/>
            <p:nvPr/>
          </p:nvSpPr>
          <p:spPr>
            <a:xfrm>
              <a:off x="627840" y="3651480"/>
              <a:ext cx="511200" cy="10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4" name="Freeform 40"/>
            <p:cNvSpPr/>
            <p:nvPr/>
          </p:nvSpPr>
          <p:spPr>
            <a:xfrm>
              <a:off x="533520" y="3781440"/>
              <a:ext cx="370440" cy="71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5" name="Freeform 41"/>
            <p:cNvSpPr/>
            <p:nvPr/>
          </p:nvSpPr>
          <p:spPr>
            <a:xfrm>
              <a:off x="1450800" y="2858400"/>
              <a:ext cx="1209240" cy="87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6" name="Freeform 42"/>
            <p:cNvSpPr/>
            <p:nvPr/>
          </p:nvSpPr>
          <p:spPr>
            <a:xfrm>
              <a:off x="1748520" y="3711960"/>
              <a:ext cx="1295280" cy="88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7" name="Freeform 43"/>
            <p:cNvSpPr/>
            <p:nvPr/>
          </p:nvSpPr>
          <p:spPr>
            <a:xfrm>
              <a:off x="2690640" y="2849400"/>
              <a:ext cx="552240" cy="73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8" name="Freeform 44"/>
            <p:cNvSpPr/>
            <p:nvPr/>
          </p:nvSpPr>
          <p:spPr>
            <a:xfrm>
              <a:off x="1242000" y="3753000"/>
              <a:ext cx="547920" cy="79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9" name="Freeform 45"/>
            <p:cNvSpPr/>
            <p:nvPr/>
          </p:nvSpPr>
          <p:spPr>
            <a:xfrm>
              <a:off x="978840" y="3916800"/>
              <a:ext cx="629640" cy="9982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0" name="Freeform 46"/>
            <p:cNvSpPr/>
            <p:nvPr/>
          </p:nvSpPr>
          <p:spPr>
            <a:xfrm>
              <a:off x="1558440" y="4193280"/>
              <a:ext cx="1402200" cy="6645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1" name="Freeform 47"/>
            <p:cNvSpPr/>
            <p:nvPr/>
          </p:nvSpPr>
          <p:spPr>
            <a:xfrm>
              <a:off x="2412720" y="4268160"/>
              <a:ext cx="547920" cy="370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2" name="Freeform 48"/>
            <p:cNvSpPr/>
            <p:nvPr/>
          </p:nvSpPr>
          <p:spPr>
            <a:xfrm>
              <a:off x="1022760" y="3945600"/>
              <a:ext cx="428040" cy="9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3" name="Freeform 49"/>
            <p:cNvSpPr/>
            <p:nvPr/>
          </p:nvSpPr>
          <p:spPr>
            <a:xfrm>
              <a:off x="1757520" y="4594320"/>
              <a:ext cx="36612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4" name="Freeform 50"/>
            <p:cNvSpPr/>
            <p:nvPr/>
          </p:nvSpPr>
          <p:spPr>
            <a:xfrm>
              <a:off x="2751840" y="4268160"/>
              <a:ext cx="1803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5" name="Freeform 51"/>
            <p:cNvSpPr/>
            <p:nvPr/>
          </p:nvSpPr>
          <p:spPr>
            <a:xfrm>
              <a:off x="1289160" y="4997160"/>
              <a:ext cx="25884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6" name="Freeform 52"/>
            <p:cNvSpPr/>
            <p:nvPr/>
          </p:nvSpPr>
          <p:spPr>
            <a:xfrm>
              <a:off x="2412720" y="4845600"/>
              <a:ext cx="1760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7" name="Freeform 53"/>
            <p:cNvSpPr/>
            <p:nvPr/>
          </p:nvSpPr>
          <p:spPr>
            <a:xfrm>
              <a:off x="2909160" y="4121640"/>
              <a:ext cx="118440" cy="31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8" name="Freeform 54"/>
            <p:cNvSpPr/>
            <p:nvPr/>
          </p:nvSpPr>
          <p:spPr>
            <a:xfrm>
              <a:off x="785160" y="3788640"/>
              <a:ext cx="157680" cy="28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479" name="Text Box 56"/>
          <p:cNvSpPr/>
          <p:nvPr/>
        </p:nvSpPr>
        <p:spPr>
          <a:xfrm>
            <a:off x="4038480" y="2209680"/>
            <a:ext cx="457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f a fellow wants to be a nobody in the business world, let him neglect sending the mailman to somebody on his behalf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Abraham Lincoln</a:t>
            </a:r>
            <a:br>
              <a:rPr sz="2400"/>
            </a:b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EEFC2C1-8A97-4201-AA93-727137E0E2F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565200" y="1905120"/>
            <a:ext cx="3625920" cy="1371600"/>
            <a:chOff x="565200" y="1905120"/>
            <a:chExt cx="3625920" cy="1371600"/>
          </a:xfrm>
        </p:grpSpPr>
        <p:sp>
          <p:nvSpPr>
            <p:cNvPr id="125" name="Text Box 7"/>
            <p:cNvSpPr/>
            <p:nvPr/>
          </p:nvSpPr>
          <p:spPr>
            <a:xfrm>
              <a:off x="565200" y="1905120"/>
              <a:ext cx="36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Letterhead paper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905120" y="2438280"/>
              <a:ext cx="1218960" cy="83844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27" name="Group 28"/>
          <p:cNvGrpSpPr/>
          <p:nvPr/>
        </p:nvGrpSpPr>
        <p:grpSpPr>
          <a:xfrm>
            <a:off x="6019920" y="1905120"/>
            <a:ext cx="2622600" cy="1523880"/>
            <a:chOff x="6019920" y="1905120"/>
            <a:chExt cx="2622600" cy="1523880"/>
          </a:xfrm>
        </p:grpSpPr>
        <p:sp>
          <p:nvSpPr>
            <p:cNvPr id="128" name="Text Box 8"/>
            <p:cNvSpPr/>
            <p:nvPr/>
          </p:nvSpPr>
          <p:spPr>
            <a:xfrm>
              <a:off x="6248520" y="1905120"/>
              <a:ext cx="239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Envelopes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 flipV="1">
              <a:off x="6019920" y="2438280"/>
              <a:ext cx="990360" cy="99072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672120" y="4572000"/>
            <a:ext cx="2451600" cy="1372680"/>
            <a:chOff x="672120" y="4572000"/>
            <a:chExt cx="2451600" cy="1372680"/>
          </a:xfrm>
        </p:grpSpPr>
        <p:sp>
          <p:nvSpPr>
            <p:cNvPr id="131" name="Text Box 9"/>
            <p:cNvSpPr/>
            <p:nvPr/>
          </p:nvSpPr>
          <p:spPr>
            <a:xfrm>
              <a:off x="672120" y="5302080"/>
              <a:ext cx="13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Label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1523880" y="4572000"/>
              <a:ext cx="159984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5943600" y="4572000"/>
            <a:ext cx="2417040" cy="1372680"/>
            <a:chOff x="5943600" y="4572000"/>
            <a:chExt cx="2417040" cy="1372680"/>
          </a:xfrm>
        </p:grpSpPr>
        <p:sp>
          <p:nvSpPr>
            <p:cNvPr id="134" name="Text Box 10"/>
            <p:cNvSpPr/>
            <p:nvPr/>
          </p:nvSpPr>
          <p:spPr>
            <a:xfrm>
              <a:off x="6631560" y="530208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Invoice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5943600" y="4572000"/>
              <a:ext cx="167652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3431880" y="5334120"/>
            <a:ext cx="2184840" cy="1099800"/>
            <a:chOff x="3431880" y="5334120"/>
            <a:chExt cx="2184840" cy="1099800"/>
          </a:xfrm>
        </p:grpSpPr>
        <p:sp>
          <p:nvSpPr>
            <p:cNvPr id="137" name="Text Box 11"/>
            <p:cNvSpPr/>
            <p:nvPr/>
          </p:nvSpPr>
          <p:spPr>
            <a:xfrm>
              <a:off x="3431880" y="579132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Statement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4495680" y="5334120"/>
              <a:ext cx="0" cy="60948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743200" y="2666880"/>
            <a:ext cx="3657600" cy="2667240"/>
          </a:xfrm>
          <a:prstGeom prst="ellipse">
            <a:avLst/>
          </a:prstGeom>
          <a:solidFill>
            <a:srgbClr val="fff0a0"/>
          </a:solidFill>
          <a:ln w="0">
            <a:noFill/>
          </a:ln>
          <a:effectLst>
            <a:outerShdw dist="153753" dir="2700000" blurRad="0" rotWithShape="0">
              <a:srgbClr val="999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Supplies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1E5F9AB-6F5A-4761-A438-3FC0A6BA4E7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business sta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octor’s or office’s name,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ddress, phone number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 at the top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with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lleagu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en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5880" y="2209680"/>
            <a:ext cx="2667240" cy="311076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5EC0597-0AD9-4A5F-BA08-3EAC03BCCEB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tton fiber bond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expensive than other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s of paper (sulfite bon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termar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z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ndard or letter size – 8½ x 11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gal siz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8½ x 14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5880" y="2209680"/>
            <a:ext cx="2667240" cy="283284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6400800" y="327672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0c0c0">
                    <a:alpha val="23000"/>
                  </a:srgbClr>
                </a:solidFill>
                <a:latin typeface="Times New Roman"/>
              </a:rPr>
              <a:t>Watermark</a:t>
            </a:r>
            <a:endParaRPr b="0" lang="en-US" sz="2800" spc="1" strike="noStrike">
              <a:ln w="0">
                <a:noFill/>
              </a:ln>
              <a:solidFill>
                <a:srgbClr val="c0c0c0">
                  <a:alpha val="23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0938558-E1AE-4BE8-AF4F-526BBD9ED3D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hould match letterhea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of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rrespondence or business  –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voices or statements – No. 6 to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-return 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n Kraft or clasp envelopes – large bulky docum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dded envelopes – send items that may be damaged during mail hand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1:47:17Z</dcterms:created>
  <dc:creator>Kathryn A. Booth RN-BSN, MS, RMA, RPT</dc:creator>
  <dc:description/>
  <dc:language>en-US</dc:language>
  <cp:lastModifiedBy>Kathryn A. Booth</cp:lastModifiedBy>
  <dcterms:modified xsi:type="dcterms:W3CDTF">2008-03-31T02:26:31Z</dcterms:modified>
  <cp:revision>81</cp:revision>
  <dc:subject>Medical Assisting 3e</dc:subject>
  <dc:title>Managing Correspondence and Mail</dc:title>
</cp:coreProperties>
</file>