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844-A99F-498C-A436-8D7DE46D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FB6-9958-49A1-AE5E-DF30C19A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B75-2D86-4C7B-85FE-CD58B0D7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301-C692-43BF-B44A-2D712FAC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F519-AEF7-481E-AED1-432AC496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4DB0-F950-4910-BDEA-53BE6F8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9ED9-BA9A-409D-A6AB-1BFF3692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D90A-1CA5-4C56-9E2E-44B1EF94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65B-BAD2-4255-82D9-32A47F9D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683D-1618-4660-82CF-A917860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354-D450-48EE-9830-C7263B9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925-9D54-4216-BD95-830A727D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8001-26AA-4E02-8B43-2622132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D551-D72A-4D76-8CC9-1B1FD36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555B-B7E5-4A01-850C-1E98FB68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C4C0-981D-4815-A379-DB781261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A70E-AF26-4BE0-8510-9F71109D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745-9693-4439-8119-C6AB403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E8D-FBC6-4201-B11E-B5F8DDF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C17-76AC-47B8-8A71-A56C4958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646-8D94-42D1-82BC-0AE5B98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163-F64F-4FE3-A29E-CD12EED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DE2-05B4-404A-A73F-D42CB22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4AA-EB70-42DF-BF1C-01DAFC32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ff99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DB8-7E62-4DEE-8482-FEEFB1722E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EFB0-7164-4D49-BFE6-02D276880E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200400" y="3429000"/>
            <a:ext cx="2666880" cy="1600200"/>
            <a:chOff x="3200400" y="3429000"/>
            <a:chExt cx="2666880" cy="1600200"/>
          </a:xfrm>
        </p:grpSpPr>
        <p:sp>
          <p:nvSpPr>
            <p:cNvPr id="96" name=""/>
            <p:cNvSpPr/>
            <p:nvPr/>
          </p:nvSpPr>
          <p:spPr>
            <a:xfrm>
              <a:off x="3200400" y="3429000"/>
              <a:ext cx="2666880" cy="1600200"/>
            </a:xfrm>
            <a:prstGeom prst="rect">
              <a:avLst/>
            </a:prstGeom>
            <a:solidFill>
              <a:srgbClr val="50a5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276360" y="3581280"/>
              <a:ext cx="242100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hapt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613960" y="45720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2514600"/>
            <a:ext cx="71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tkowsk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g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omp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4920" y="6248520"/>
            <a:ext cx="58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cGraw_logo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Assisting</a:t>
            </a:r>
            <a:br>
              <a:rPr sz="4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1120" y="1905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8E8-E257-4F69-95DD-CA25D504DBEF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Body Langua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al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ny instances, people’s body language conveys their true feelings, even when their words may say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hap02_04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2260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DE1-9B0D-4F3C-BF7A-2D2196439E48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Communication Ski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uin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 and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hap02_05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41972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88E-6B91-4A4A-95E1-50748CDCDD96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rtive – people who are firm and   stand by your principles while still showing respect for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ssive – people who try to impose their position on others or try to manipul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18F-C6CA-4E6A-8642-E95D434E6F55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apeutic Communicatio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 broad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general 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obser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828800"/>
            <a:ext cx="419112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713-210A-451A-B47C-900287793EAD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effective Therapeutic Commun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8288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ing a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tereotype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CE2-6114-4DC2-A704-D67C85024425}" type="slidenum">
              <a:t>14</a:t>
            </a:fld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may displ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d09264_" descr=""/>
          <p:cNvPicPr/>
          <p:nvPr/>
        </p:nvPicPr>
        <p:blipFill>
          <a:blip r:embed="rId1"/>
          <a:stretch/>
        </p:blipFill>
        <p:spPr>
          <a:xfrm>
            <a:off x="4892760" y="2514600"/>
            <a:ext cx="326052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AF5-DC8D-4CF5-B6DF-15CF1B27AC52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in Speci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st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ous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for tense appearance, increased blood pressure and breathing, irritability and ag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r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express their anger constru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refocus toward solv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 c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0AE-7A11-4C43-8BCE-2361864F31FE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tients with Other Culture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 and per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ll patients of all cultures and ethnic groups with equal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pen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hrough an interpreter to gather and convey information or to discuss sensitive issues with a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2C4-3BE9-4805-828C-AC3C51AD9654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Visual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arge-print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dequate lighting in al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rmal speaking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directly and hone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talk down to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the patient’s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C35-FA50-468B-8711-B1E9FA9394CD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Hearing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quiet area to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background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yourself close to and facing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at elderly patients lose the ability to hear high-pitched sound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0D2-A501-4CFE-A532-5EB415573EF4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3400" y="167652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362320"/>
            <a:ext cx="8229600" cy="3933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1 Identify elements of the communicati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2 Give examples of positive and negativ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3 List ways to improve listening and interpers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4 Explain the difference between assertiveness and aggress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5 Give examples of effective communication strategies with patients in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7F1-BB1D-40CE-ACF5-81794A32577C}" type="slidenum">
              <a:t>2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0EB-2465-4FA4-A78A-FF45CA11BC58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429000"/>
            <a:ext cx="82296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large-print materials, adequate lighting in all areas and a normal speaking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 directly and honestly, but not down to the patient; preserve the patient’s dig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283-DC7B-4E8D-89BA-0779624F0965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tally or Emotionally Disturb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level of communication the patient can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mportant to remain calm if the patient becomes agitated or con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h01631j" descr=""/>
          <p:cNvPicPr/>
          <p:nvPr/>
        </p:nvPicPr>
        <p:blipFill>
          <a:blip r:embed="rId1"/>
          <a:stretch/>
        </p:blipFill>
        <p:spPr>
          <a:xfrm>
            <a:off x="5767560" y="1752480"/>
            <a:ext cx="28749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FDF-3B12-45FC-97D5-EA8244ACF3B3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lderly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al or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as if you expect the patient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ple questions and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patient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points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j0101864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E52-65EE-45AF-9617-40DB11AB05E1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Young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gnize and accept their fear and anx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any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tell children that a procedure will not hurt if it will or you will lose their 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DE9-DAD0-4BFF-8737-E0A97599C378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tient with AIDS/HIV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7524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019240"/>
            <a:ext cx="3733920" cy="372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accurate information about the disease and the risk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need to answer as many question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bd06608_" descr=""/>
          <p:cNvPicPr/>
          <p:nvPr/>
        </p:nvPicPr>
        <p:blipFill>
          <a:blip r:embed="rId1"/>
          <a:stretch/>
        </p:blipFill>
        <p:spPr>
          <a:xfrm>
            <a:off x="5029200" y="229536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65B-5C2F-4DBC-A5AD-10F0B27FD550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ally Ill Patient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ubler-Ross’ Stages of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B18-6591-4391-8CB5-06CBA961F106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with Cowor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191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elop ra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oper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proper at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 appropriate time for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h01628j" descr=""/>
          <p:cNvPicPr/>
          <p:nvPr/>
        </p:nvPicPr>
        <p:blipFill>
          <a:blip r:embed="rId1"/>
          <a:stretch/>
        </p:blipFill>
        <p:spPr>
          <a:xfrm>
            <a:off x="4572000" y="2635200"/>
            <a:ext cx="419112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B81-D09D-471B-B5F3-8569D7968221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mmunicating with Superior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0512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ep superiors in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imize inter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w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040-7B91-4636-A2A3-A0BC42F7A545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aling with Conflic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“feed into” others negative attitu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ble and suppor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rain from passing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goss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jump to conc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06600_" descr=""/>
          <p:cNvPicPr/>
          <p:nvPr/>
        </p:nvPicPr>
        <p:blipFill>
          <a:blip r:embed="rId1"/>
          <a:stretch/>
        </p:blipFill>
        <p:spPr>
          <a:xfrm>
            <a:off x="609480" y="2533680"/>
            <a:ext cx="38862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3AE4-1630-4028-9E38-A6B222A81DE4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7652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481120"/>
            <a:ext cx="8305920" cy="3080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6 Discuss ways to establish positive communication with coworkers and super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7 Explain how stress relates to communication and identify strategies to reduce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8 Describe how the office policy and procedures manual are used as a communication tool in the medic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67E-1F6A-40B7-83C9-D77EC66EB3A1}" type="slidenum">
              <a:t>3</a:t>
            </a:fld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motivat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be overwhelming and affect you phys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manage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alistic about how much you can handle at work and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2133720"/>
            <a:ext cx="4038480" cy="2966760"/>
            <a:chOff x="457200" y="2133720"/>
            <a:chExt cx="4038480" cy="2966760"/>
          </a:xfrm>
        </p:grpSpPr>
        <p:graphicFrame>
          <p:nvGraphicFramePr>
            <p:cNvPr id="203" name=""/>
            <p:cNvGraphicFramePr/>
            <p:nvPr/>
          </p:nvGraphicFramePr>
          <p:xfrm>
            <a:off x="457200" y="3809880"/>
            <a:ext cx="4038480" cy="129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988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457200" y="2133720"/>
            <a:ext cx="4038480" cy="12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AC3-46FF-4E9E-9665-8E7559B9B85A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result of prolonged periods of stress without rel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riven, perfectionist-typ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usceptible to bur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B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xed, calm, “laid back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rone to burn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D28-8773-4803-83E3-A1B2AEFE0C59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ges to 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82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ney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-scale bur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enix phenome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CFB-5CD7-4EAB-95E8-2193B39CBE33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icy and Procedures Manual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ritten communic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e the day-to-day workings of a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chain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nstructions for specif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d05501_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387828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EF3-DA6F-47B2-8F0D-0EC011F1D505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tion and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3DD-9479-47C4-BBBD-954D092FF3A6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men required and coll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ents, standards, controls, and medi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356-4EF6-4ED2-926D-A46F4B1949DD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velopment of Manual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format an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updat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ational Committee for Clinical Laboratory Standards (NCCLS) for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C27-89E5-485F-90CB-689425097CF0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752480"/>
            <a:ext cx="73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86200" y="3429000"/>
            <a:ext cx="38088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86200"/>
            <a:ext cx="411480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, interpersonal and asser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429000"/>
            <a:ext cx="45720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86200"/>
            <a:ext cx="426708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with Special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xious, angry, elderly, hearing and visual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0280" y="2900520"/>
            <a:ext cx="75438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between the office and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7400"/>
            <a:ext cx="853452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working relationships and help office run smooth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F93-286C-4A9C-8692-086DD54D4D09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BA0-B6A0-42E1-A39A-87ACBE447760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42900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0552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5B3-5A62-4A20-B93E-764E41FD278E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communicator between the physician and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interaction sets the tone for the office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ing strong communication skills just as important as mastering administrative and cli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257800"/>
            <a:ext cx="82296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will influence how comfortabl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ent feels in your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125-4D27-481D-B849-B3D583F3D839}" type="slidenum">
              <a:t>4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657600" y="274320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chap02_0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035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D0E-C275-4F0B-AD65-96FEB5290995}" type="slidenum">
              <a:t>40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 of Customer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or responding to telephon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ing procedures to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with bill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warm and reass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10584_" descr=""/>
          <p:cNvPicPr/>
          <p:nvPr/>
        </p:nvPicPr>
        <p:blipFill>
          <a:blip r:embed="rId1"/>
          <a:stretch/>
        </p:blipFill>
        <p:spPr>
          <a:xfrm>
            <a:off x="4919760" y="1828800"/>
            <a:ext cx="349416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238-B189-4A83-B387-1D7A7848F186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ommunication Circl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unication cycle involves an exchange of messages through verbal and nonverb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971800"/>
            <a:ext cx="2550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2552760"/>
            <a:ext cx="26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380988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7920" y="3200400"/>
            <a:ext cx="2133720" cy="34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9520" y="38098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09680"/>
            <a:ext cx="6705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0840" y="2857680"/>
            <a:ext cx="195588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857680"/>
            <a:ext cx="195552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8B-0A34-41A1-94C9-A84872E4F011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slow’s Hierarch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8006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114800"/>
            <a:ext cx="67816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29000"/>
            <a:ext cx="594360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743200"/>
            <a:ext cx="49528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133720"/>
            <a:ext cx="39625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2701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796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56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2512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029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913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ency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5AF-A7DC-4BBB-9F79-41200379569D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si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038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motes patient’s comfort an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ge for positiv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patients to ask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828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hap02_0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784600" cy="42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A5F-0615-457D-B1A7-4EEF56811644}" type="slidenum">
              <a:t>8</a:t>
            </a:fld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and ask for feedback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urb negative communication ha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aking brusqu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ing eye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ing patients as they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hing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etting common courte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wing bor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patient impers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d06600_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04776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3C5-8068-48C5-B2CE-C3B4BF40AB48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</dc:creator>
  <dc:description/>
  <dc:language>en-US</dc:language>
  <cp:lastModifiedBy>Kathryn A. Booth</cp:lastModifiedBy>
  <dcterms:modified xsi:type="dcterms:W3CDTF">2004-05-03T18:43:03Z</dcterms:modified>
  <cp:revision>151</cp:revision>
  <dc:subject>Medical Assisting 2ed.</dc:subject>
  <dc:title>Communicating with Patients Families and Coworkers</dc:title>
</cp:coreProperties>
</file>