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2.wmf" ContentType="image/x-wmf"/>
  <Override PartName="/ppt/media/image8.jpeg" ContentType="image/jpeg"/>
  <Override PartName="/ppt/media/image9.png" ContentType="image/png"/>
  <Override PartName="/ppt/media/image13.wmf" ContentType="image/x-wmf"/>
  <Override PartName="/ppt/media/image10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C843-848B-4EB8-8A27-3B09BAA6D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6A91-B1A0-4B51-8E00-C98301FB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B28-6877-41EE-8E24-D29EC6AE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74F-4946-4E76-A92E-BFE52DFF0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1142-49CD-4346-9E37-88F17F81C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FBE5F-6EED-4F93-9709-2403DB9D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DF484-26EC-43E8-95E4-47426431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325E-7CFC-4BF6-B57C-81230DFB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FA63F-4A48-4346-881A-84CC1635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FD81-05BD-4A13-A8A6-EA3AFC934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06D66-F8A2-41E9-B40C-7F3B8DAB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B00-1202-48DC-B40E-1B00AD4F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51E6-66FF-4126-A523-C87F7A6E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66F2-6B1B-4F31-9275-89DCC1E6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6CFF-6D49-428E-9B15-B0969EE3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65213-AB43-4D05-BC85-95705C79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28BD9-4D02-49FD-909C-E8E230B6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5C7E-5D09-4A82-A903-C98A2EA7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3069-E560-416E-B783-B127A2BA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5C71-D381-4ADF-B73A-5E3F8B53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80E-478A-4E21-8A4A-EBF4C49A4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8FD-D620-4557-8AC7-0542B698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5B6A-86EB-43BE-9230-A20BD89FE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B65-2162-4D18-BDA6-3BF0FFCB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99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ff99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9F888-2AD3-43BD-9C39-B9C2972C0F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280F-9BD7-42BF-92D9-627975F4D33D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50a52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3200400" y="3429000"/>
            <a:ext cx="2666880" cy="1600200"/>
            <a:chOff x="3200400" y="3429000"/>
            <a:chExt cx="2666880" cy="1600200"/>
          </a:xfrm>
        </p:grpSpPr>
        <p:sp>
          <p:nvSpPr>
            <p:cNvPr id="96" name=""/>
            <p:cNvSpPr/>
            <p:nvPr/>
          </p:nvSpPr>
          <p:spPr>
            <a:xfrm>
              <a:off x="3200400" y="3429000"/>
              <a:ext cx="2666880" cy="1600200"/>
            </a:xfrm>
            <a:prstGeom prst="rect">
              <a:avLst/>
            </a:prstGeom>
            <a:solidFill>
              <a:srgbClr val="50a5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 txBox="1"/>
            <p:nvPr/>
          </p:nvSpPr>
          <p:spPr>
            <a:xfrm>
              <a:off x="3276360" y="3581280"/>
              <a:ext cx="2421000" cy="1295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Chapte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4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613960" y="457200"/>
            <a:ext cx="38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73440" y="2514600"/>
            <a:ext cx="71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utkowsk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o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ug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omps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54920" y="6248520"/>
            <a:ext cx="588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The McGraw-Hill Companies, Inc. Permission required for reproduction or displa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McGraw_logo" descr=""/>
          <p:cNvPicPr/>
          <p:nvPr/>
        </p:nvPicPr>
        <p:blipFill>
          <a:blip r:embed="rId1"/>
          <a:stretch/>
        </p:blipFill>
        <p:spPr>
          <a:xfrm>
            <a:off x="4267080" y="563868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edical Assisting</a:t>
            </a:r>
            <a:br>
              <a:rPr sz="4800"/>
            </a:b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Chapter 4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1120" y="1905120"/>
            <a:ext cx="191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E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E5B-5CF5-4A64-97F9-5BBA2F0BDFA5}" type="slidenum">
              <a:t>1</a:t>
            </a:fld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Body Languag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cial Expre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s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o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rsonal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5410080"/>
            <a:ext cx="83059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ny instances, people’s body language conveys their true feelings, even when their words may say other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chap02_04" descr=""/>
          <p:cNvPicPr/>
          <p:nvPr/>
        </p:nvPicPr>
        <p:blipFill>
          <a:blip r:embed="rId1"/>
          <a:stretch/>
        </p:blipFill>
        <p:spPr>
          <a:xfrm>
            <a:off x="5410080" y="1219320"/>
            <a:ext cx="2622600" cy="394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B4A1-18B1-4AC2-8A0C-C1974619F79B}" type="slidenum">
              <a:t>10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mproving Communication Ski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ning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 liste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-282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erson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m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at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uin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8600" indent="-28296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ation and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2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chap02_05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4419720" cy="296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932-52C1-4566-BE3F-4F87691A788E}" type="slidenum">
              <a:t>11</a:t>
            </a:fld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ssertiveness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Skill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7696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sertive – people who are firm and   stand by your principles while still showing respect for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ggressive – people who try to impose their position on others or try to manipulate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7CA-903A-4ACD-B1C9-6F49016BD1B2}" type="slidenum">
              <a:t>12</a:t>
            </a:fld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rapeutic Communication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114800" cy="4724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l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ep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recog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ing 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a broad op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ering general l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observ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828800"/>
            <a:ext cx="4191120" cy="4724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ol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ing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rr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lec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iz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C7C-A0D5-44A1-AF26-5284E741EB7D}" type="slidenum">
              <a:t>13</a:t>
            </a:fld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696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effective Therapeutic Communica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35816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dblock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s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approv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ppro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ee/disag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i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95680" y="182880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adbloc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ing an Expla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ing fee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stereotyped com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447-B52C-4B04-B1B7-FC9C15F07CAC}" type="slidenum">
              <a:t>14</a:t>
            </a:fld>
          </a:p>
        </p:txBody>
      </p:sp>
    </p:spTree>
  </p:cSld>
  <p:transition>
    <p:wipe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fense Mechanism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tients may displa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en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n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plac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ssoc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j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bd09264_" descr=""/>
          <p:cNvPicPr/>
          <p:nvPr/>
        </p:nvPicPr>
        <p:blipFill>
          <a:blip r:embed="rId1"/>
          <a:stretch/>
        </p:blipFill>
        <p:spPr>
          <a:xfrm>
            <a:off x="4892760" y="2514600"/>
            <a:ext cx="326052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0529-A769-4880-93D0-6615BFFAE75D}" type="slidenum">
              <a:t>15</a:t>
            </a:fld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 in Speci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mstan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xious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ch for tense appearance, increased blood pressure and breathing, irritability and agit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ry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hem express their anger constru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n’t take it pers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them refocus toward solving 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 c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E356-6E1C-435E-8019-5AC0318AE31E}" type="slidenum">
              <a:t>16</a:t>
            </a:fld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atients with Other Culture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 views and per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 all patients of all cultures and ethnic groups with equal resp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open mi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through an interpreter to gather and convey information or to discuss sensitive issues with a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B9FE-7367-44C4-B3A6-DECC2B21263A}" type="slidenum">
              <a:t>17</a:t>
            </a:fld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7621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tients with Visual Impai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large-print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dequate lighting in all 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normal speaking 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lk directly and hones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not talk down to the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rve the patient’s dig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591-D283-4967-82C2-8241B12671E7}" type="slidenum">
              <a:t>18</a:t>
            </a:fld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tients with Hearing Impairmen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 quiet area to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background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ition yourself close to and facing the pat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ak slow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at elderly patients lose the ability to hear high-pitched sounds fir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04D-4F21-42DD-92D5-5361DE10EBD6}" type="slidenum">
              <a:t>19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83400" y="1676520"/>
            <a:ext cx="246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362320"/>
            <a:ext cx="8229600" cy="3933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1 Identify elements of the communication circ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2 Give examples of positive and negative commun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3 List ways to improve listening and interpersonal sk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4 Explain the difference between assertiveness and aggressive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5 Give examples of effective communication strategies with patients in special circumstan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mmunication with Patients, Families, and Coworkers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25BF-AFE9-4611-93F1-535F80E21BC0}" type="slidenum">
              <a:t>2</a:t>
            </a:fld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" y="533520"/>
            <a:ext cx="7696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1905120"/>
            <a:ext cx="830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you do to promote communication with someone who is visually impa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91C-34CD-45B2-89E5-664DB7222259}" type="slidenum">
              <a:t>20</a:t>
            </a:fld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-</a:t>
            </a:r>
            <a:r>
              <a:rPr b="1" lang="en-US" sz="4800" spc="-1" strike="noStrike">
                <a:solidFill>
                  <a:srgbClr val="50a521"/>
                </a:solidFill>
                <a:latin typeface="Times New Roman"/>
              </a:rPr>
              <a:t>Answ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905120"/>
            <a:ext cx="83059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can you do to promote communication with someone who is visually impai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3429000"/>
            <a:ext cx="8229600" cy="180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large-print materials, adequate lighting in all areas and a normal speaking vo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lk directly and honestly, but not down to the patient; preserve the patient’s dig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8D2D-4A7B-4124-8C77-CE81214CA9D2}" type="slidenum">
              <a:t>21</a:t>
            </a:fld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ntally or Emotionally Disturbe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8769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what level of communication the patient can under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important to remain calm if the patient becomes agitated or confu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h01631j" descr=""/>
          <p:cNvPicPr/>
          <p:nvPr/>
        </p:nvPicPr>
        <p:blipFill>
          <a:blip r:embed="rId1"/>
          <a:stretch/>
        </p:blipFill>
        <p:spPr>
          <a:xfrm>
            <a:off x="5767560" y="1752480"/>
            <a:ext cx="287496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B7A8-11CF-4B1A-853A-826A16A4F5DE}" type="slidenum">
              <a:t>22</a:t>
            </a:fld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Elderly Patien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al or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 as if you expect the patient to underst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mple questions and te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k the patient to rel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slow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points slowly and cl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j0101864" descr=""/>
          <p:cNvPicPr/>
          <p:nvPr/>
        </p:nvPicPr>
        <p:blipFill>
          <a:blip r:embed="rId1"/>
          <a:stretch/>
        </p:blipFill>
        <p:spPr>
          <a:xfrm>
            <a:off x="5486400" y="2286000"/>
            <a:ext cx="297180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2063-DBEC-4A3C-968D-3ABB5C92753F}" type="slidenum">
              <a:t>23</a:t>
            </a:fld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3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Young Patien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gnize and accept their fear and anxie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plain any proced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e pra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 not tell children that a procedure will not hurt if it will or you will lose their tru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16D-4EA7-496D-A0DE-BF15B7C97781}" type="slidenum">
              <a:t>24</a:t>
            </a:fld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atient with AIDS/HIV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1752480"/>
            <a:ext cx="0" cy="5105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019240"/>
            <a:ext cx="3733920" cy="372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need accurate information about the disease and the risks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will need to answer as many questions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bd06608_" descr=""/>
          <p:cNvPicPr/>
          <p:nvPr/>
        </p:nvPicPr>
        <p:blipFill>
          <a:blip r:embed="rId1"/>
          <a:stretch/>
        </p:blipFill>
        <p:spPr>
          <a:xfrm>
            <a:off x="5029200" y="2295360"/>
            <a:ext cx="3200400" cy="31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A1EF-A80A-452C-8C78-2AA3F782ECD7}" type="slidenum">
              <a:t>25</a:t>
            </a:fld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erminally Ill Patient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4582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ubler-Ross’ Stages of Dy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n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rg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cept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6448-FE52-4454-A03C-467F0FD44A76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munication with Cowork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41911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elop ra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roper chann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 proper attitu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 an appropriate time for commun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h01628j" descr=""/>
          <p:cNvPicPr/>
          <p:nvPr/>
        </p:nvPicPr>
        <p:blipFill>
          <a:blip r:embed="rId1"/>
          <a:stretch/>
        </p:blipFill>
        <p:spPr>
          <a:xfrm>
            <a:off x="4572000" y="2635200"/>
            <a:ext cx="4191120" cy="2774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0658-FAA5-47B9-916B-0EF0F20EC8A1}" type="slidenum">
              <a:t>27</a:t>
            </a:fld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66"/>
                </a:solidFill>
                <a:latin typeface="Times New Roman"/>
              </a:rPr>
              <a:t>Communicating with Superiors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05120"/>
            <a:ext cx="79250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Keep superiors inform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k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nimize interru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28560" indent="-628560">
              <a:lnSpc>
                <a:spcPct val="100000"/>
              </a:lnSpc>
              <a:spcBef>
                <a:spcPts val="2251"/>
              </a:spcBef>
              <a:buClr>
                <a:srgbClr val="50a52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how initia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609B-E888-4690-BA3D-2F05728A8723}" type="slidenum">
              <a:t>28</a:t>
            </a:fld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aling with Conflic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“feed into” others negative attitud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personable and supporti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rain from passing judg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goss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not jump to conclu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d06600_" descr=""/>
          <p:cNvPicPr/>
          <p:nvPr/>
        </p:nvPicPr>
        <p:blipFill>
          <a:blip r:embed="rId1"/>
          <a:stretch/>
        </p:blipFill>
        <p:spPr>
          <a:xfrm>
            <a:off x="609480" y="2533680"/>
            <a:ext cx="3886200" cy="289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07DB-B044-4CDC-9873-0371D735E0B8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676520"/>
            <a:ext cx="5240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MS Mincho"/>
              </a:rPr>
              <a:t>Objectives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  <a:ea typeface="MS Mincho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MS Mincho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481120"/>
            <a:ext cx="8305920" cy="3080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6 Discuss ways to establish positive communication with coworkers and superi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7 Explain how stress relates to communication and identify strategies to reduce st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8 Describe how the office policy and procedures manual are used as a communication tool in the medical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8380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MS Mincho"/>
              </a:rPr>
              <a:t>Communication with Patients, Families, and Cowork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173-41AC-4894-B0A6-45477FAD86F2}" type="slidenum">
              <a:t>3</a:t>
            </a:fld>
          </a:p>
        </p:txBody>
      </p:sp>
    </p:spTree>
  </p:cSld>
  <p:transition>
    <p:wipe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anaging Stres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can motivate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ss can be overwhelming and affect you physic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 to manage stres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realistic about how much you can handle at work and in your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57200" y="2133720"/>
            <a:ext cx="4038480" cy="2966760"/>
            <a:chOff x="457200" y="2133720"/>
            <a:chExt cx="4038480" cy="2966760"/>
          </a:xfrm>
        </p:grpSpPr>
        <p:graphicFrame>
          <p:nvGraphicFramePr>
            <p:cNvPr id="203" name=""/>
            <p:cNvGraphicFramePr/>
            <p:nvPr/>
          </p:nvGraphicFramePr>
          <p:xfrm>
            <a:off x="457200" y="3809880"/>
            <a:ext cx="4038480" cy="1290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809880"/>
                      <a:ext cx="4038480" cy="12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5" name=""/>
            <p:cNvGraphicFramePr/>
            <p:nvPr/>
          </p:nvGraphicFramePr>
          <p:xfrm>
            <a:off x="457200" y="2133720"/>
            <a:ext cx="4038480" cy="1290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2133720"/>
                      <a:ext cx="4038480" cy="1290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6343-9F6B-41FC-B7FF-FD1DBE1FA1E3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Burnou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 result of prolonged periods of stress without relie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A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y driven, perfectionist-typ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usceptible to burn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4760" indent="-46476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B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relaxed, calm, “laid back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prone to burn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7B2C-8092-4D6B-BBAB-34B58B198440}" type="slidenum">
              <a:t>31</a:t>
            </a:fld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tages to Burnou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67820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neymo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ke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own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ll-scale burn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1001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hoenix phenomen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722-DC2F-4C87-848B-3A66738E675A}" type="slidenum">
              <a:t>32</a:t>
            </a:fld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olicy and Procedures Manual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written communication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tate the day-to-day workings of an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bes chain of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 instructions for specific proced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bd05501_" descr=""/>
          <p:cNvPicPr/>
          <p:nvPr/>
        </p:nvPicPr>
        <p:blipFill>
          <a:blip r:embed="rId1"/>
          <a:stretch/>
        </p:blipFill>
        <p:spPr>
          <a:xfrm>
            <a:off x="536400" y="1828800"/>
            <a:ext cx="3878280" cy="43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FB5-0AD9-4CC5-9E88-141F1AF3B36A}" type="slidenum">
              <a:t>33</a:t>
            </a:fld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licie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purpo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s and reg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b descri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 hou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ess 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cation and sick le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enance of equi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l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kee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ing appoin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3F5F-0C18-4330-84AA-D8FA8E5A457B}" type="slidenum">
              <a:t>34</a:t>
            </a:fld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 of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men required and collec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gents, standards, controls, and media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-by-step dir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ed val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ations of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723E-873B-48CC-9AA5-5176FCE7947D}" type="slidenum">
              <a:t>35</a:t>
            </a:fld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evelopment of Manual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 format and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n ou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 and updat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National Committee for Clinical Laboratory Standards (NCCLS) for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168D-081D-4F78-98A1-68C450E94D4D}" type="slidenum">
              <a:t>36</a:t>
            </a:fld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752480"/>
            <a:ext cx="735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Medical Assist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886200" y="3429000"/>
            <a:ext cx="380880" cy="45720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3886200"/>
            <a:ext cx="4114800" cy="1252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munication Ski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ening, interpersonal and assertiven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800600" y="3429000"/>
            <a:ext cx="457200" cy="457200"/>
          </a:xfrm>
          <a:prstGeom prst="line">
            <a:avLst/>
          </a:prstGeom>
          <a:ln w="76320">
            <a:solidFill>
              <a:srgbClr val="66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0" y="3886200"/>
            <a:ext cx="4267080" cy="1252080"/>
          </a:xfrm>
          <a:prstGeom prst="rect">
            <a:avLst/>
          </a:prstGeom>
          <a:solidFill>
            <a:srgbClr val="ccff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eople with Special Nee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xious, angry, elderly, hearing and visual im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0280" y="2900520"/>
            <a:ext cx="754380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are the key between the office and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5567400"/>
            <a:ext cx="8534520" cy="520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working relationships and help office run smooth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786-E279-4CF4-9B69-DC5DEE89B026}" type="slidenum">
              <a:t>37</a:t>
            </a:fld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905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communication skills for the medical office is as important as mastering administrative or clinical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communication requires patient feedback at every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Times New Roman"/>
              </a:rPr>
              <a:t>True or 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463-75A0-44E5-BA4D-055BD1F03769}" type="slidenum">
              <a:t>38</a:t>
            </a:fld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pply Your Knowledge</a:t>
            </a: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 -</a:t>
            </a:r>
            <a:r>
              <a:rPr b="1" lang="en-US" sz="4800" spc="-1" strike="noStrike">
                <a:solidFill>
                  <a:srgbClr val="50a521"/>
                </a:solidFill>
                <a:latin typeface="Times New Roman"/>
              </a:rPr>
              <a:t>Answer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905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ing communication skills for the medical office is as important as mastering administrative or clinical tas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communication requires patient feedback at every ste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880" y="342900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0880" y="5105520"/>
            <a:ext cx="158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50a5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99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59B-950F-4B43-9A46-0F71C8555F2D}" type="slidenum">
              <a:t>39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r>
              <a:rPr b="0" lang="en-U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4038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are the key communicator between the physician and pati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r interaction sets the tone for the office vis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0" y="1828800"/>
            <a:ext cx="41148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veloping strong communication skills just as important as mastering administrative and clinical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5257800"/>
            <a:ext cx="822960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munication will influence how comfortable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ient feels in your pract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6334-42DA-43C1-B48A-E590A06E8BCF}" type="slidenum">
              <a:t>4</a:t>
            </a:fld>
          </a:p>
        </p:txBody>
      </p:sp>
    </p:spTree>
  </p:cSld>
  <p:transition>
    <p:wipe dir="d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657600" y="2743200"/>
            <a:ext cx="5105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End of Chapter</a:t>
            </a:r>
            <a:br>
              <a:rPr sz="800"/>
            </a:b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8" name="chap02_02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3035160" cy="461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5E2E-F27F-4D3D-9BFE-BCE6860420B8}" type="slidenum">
              <a:t>40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xamples of Customer Servic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or responding to telephon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ing procedures to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ing with billing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 warm and reassur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bd10584_" descr=""/>
          <p:cNvPicPr/>
          <p:nvPr/>
        </p:nvPicPr>
        <p:blipFill>
          <a:blip r:embed="rId1"/>
          <a:stretch/>
        </p:blipFill>
        <p:spPr>
          <a:xfrm>
            <a:off x="4919760" y="1828800"/>
            <a:ext cx="3494160" cy="430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53E-A5C9-465A-B544-33E9E81D5DB8}" type="slidenum">
              <a:t>5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The Communication Circle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3059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mmunication cycle involves an exchange of messages through verbal and nonverbal me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9520" y="2971800"/>
            <a:ext cx="25509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38560" y="2552760"/>
            <a:ext cx="26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43480" y="3809880"/>
            <a:ext cx="26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17920" y="3200400"/>
            <a:ext cx="2133720" cy="343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809520" y="3809880"/>
            <a:ext cx="2514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2209680"/>
            <a:ext cx="670536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320840" y="2857680"/>
            <a:ext cx="1955880" cy="10285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91320" y="2857680"/>
            <a:ext cx="1955520" cy="1028520"/>
          </a:xfrm>
          <a:prstGeom prst="ellipse">
            <a:avLst/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cc00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248-4D53-4C55-B563-57DD4F145567}" type="slidenum">
              <a:t>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aslow’s Hierarchy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4800600"/>
            <a:ext cx="7772400" cy="838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114800"/>
            <a:ext cx="678168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3429000"/>
            <a:ext cx="594360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57400" y="2743200"/>
            <a:ext cx="4952880" cy="6858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2133720"/>
            <a:ext cx="3962520" cy="609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2270160"/>
            <a:ext cx="30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f-Actu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287964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eem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356544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ve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95480" y="425124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fety 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502920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ysiological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79132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ciency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B44F-A2DF-4C38-A6D3-C372E8140114}" type="slidenum">
              <a:t>7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ositive Communicatio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724280" cy="4038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promotes patient’s comfort and well-be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the stage for positive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urage patients to ask ques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99960" indent="-399960">
              <a:spcBef>
                <a:spcPts val="700"/>
              </a:spcBef>
              <a:buClr>
                <a:srgbClr val="cc0099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ak slowly and cl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18288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chap02_02" descr=""/>
          <p:cNvPicPr/>
          <p:nvPr/>
        </p:nvPicPr>
        <p:blipFill>
          <a:blip r:embed="rId1"/>
          <a:stretch/>
        </p:blipFill>
        <p:spPr>
          <a:xfrm>
            <a:off x="5410080" y="1905120"/>
            <a:ext cx="2784600" cy="423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0BC-6C99-4B41-AE3E-5BF4FFECBEE1}" type="slidenum">
              <a:t>8</a:t>
            </a:fld>
          </a:p>
        </p:txBody>
      </p:sp>
    </p:spTree>
  </p:cSld>
  <p:transition>
    <p:wipe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Negative Communication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ok for and ask for feedback to hel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urb negative communication hab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mb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peaking brusqu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oiding eye conta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rupting patients as they spe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shing explan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getting common courtes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owing bore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eating patient impers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bd06600_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047760" cy="26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365-93A1-4B82-BE04-8B3BF191920A}" type="slidenum">
              <a:t>9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</dc:creator>
  <dc:description/>
  <dc:language>en-US</dc:language>
  <cp:lastModifiedBy>Kathryn A. Booth</cp:lastModifiedBy>
  <dcterms:modified xsi:type="dcterms:W3CDTF">2004-05-03T18:43:03Z</dcterms:modified>
  <cp:revision>151</cp:revision>
  <dc:subject>Medical Assisting 2ed.</dc:subject>
  <dc:title>Communicating with Patients Families and Coworkers</dc:title>
</cp:coreProperties>
</file>