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E1F-5982-4A97-A7F2-ADCDAFDE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491-A6E8-4B31-82F3-815C0C5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6FF-696B-4448-BC15-45430D68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DC1-768C-47D7-8DC0-AFFFB460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4E7-71AE-46D5-86ED-533A0332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F3AD-1699-4E17-B78D-67D4EE2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232-6D40-4593-9DFE-4283F6E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AC7-0B56-4E28-8771-ACE24583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3AFC-C762-455F-8290-A9B1011F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45DB-E017-4473-AFDE-6F84882B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1D7F-0C0C-4458-8F87-BA9A361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FC8-7044-4AEB-93AC-90223DF2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311B-FD90-494E-8FEC-F5AA621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F98B-F8F9-4453-8686-6A96AF8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F858-873C-4CF6-AC3E-1A03D2BC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774-36EF-4444-B462-2AED8065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FEBD-EC08-4F32-A224-801DF3D7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605-A892-4830-8A96-E3765F5D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000-C845-4964-9E56-3A9DE022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FB0-7899-42E6-9A39-FD00428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3AE-24CF-4270-967E-0742871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C9C-7C18-4AF5-9C02-7EEB340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2A7-DE23-4C5A-8194-D05AD60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89E-754C-4BB8-BA7B-C1254FE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ff99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3D66-EAAF-4EFA-99F3-51C4477FF1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252-AD90-425B-8DF2-5AE8D2FD4F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200400" y="3429000"/>
            <a:ext cx="2666880" cy="1600200"/>
            <a:chOff x="3200400" y="3429000"/>
            <a:chExt cx="2666880" cy="1600200"/>
          </a:xfrm>
        </p:grpSpPr>
        <p:sp>
          <p:nvSpPr>
            <p:cNvPr id="96" name=""/>
            <p:cNvSpPr/>
            <p:nvPr/>
          </p:nvSpPr>
          <p:spPr>
            <a:xfrm>
              <a:off x="3200400" y="3429000"/>
              <a:ext cx="2666880" cy="1600200"/>
            </a:xfrm>
            <a:prstGeom prst="rect">
              <a:avLst/>
            </a:prstGeom>
            <a:solidFill>
              <a:srgbClr val="50a5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276360" y="3581280"/>
              <a:ext cx="242100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hapt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613960" y="45720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2514600"/>
            <a:ext cx="71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tkowsk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g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omp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4920" y="6248520"/>
            <a:ext cx="58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cGraw_logo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Assisting</a:t>
            </a:r>
            <a:br>
              <a:rPr sz="4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1120" y="1905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FD6-4E32-4B19-B9D8-7F8EFE2E94D3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Body Langua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al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ny instances, people’s body language conveys their true feelings, even when their words may say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hap02_04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2260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615-F30F-44D5-8ECF-5FE51444FF88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Communication Ski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uin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 and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hap02_05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41972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1DA-1E3C-41AF-B965-DD48241B0539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rtive – people who are firm and   stand by your principles while still showing respect for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ssive – people who try to impose their position on others or try to manipul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17B-1DB4-4174-A2D7-B69DEE5CAA3C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apeutic Communicatio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 broad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general 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obser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828800"/>
            <a:ext cx="419112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C2B-02BD-40F4-B230-C05C33E6B8DD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effective Therapeutic Commun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8288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ing a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tereotype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778-6810-48F4-BD85-6FD2DF1E4FC0}" type="slidenum">
              <a:t>14</a:t>
            </a:fld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may displ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d09264_" descr=""/>
          <p:cNvPicPr/>
          <p:nvPr/>
        </p:nvPicPr>
        <p:blipFill>
          <a:blip r:embed="rId1"/>
          <a:stretch/>
        </p:blipFill>
        <p:spPr>
          <a:xfrm>
            <a:off x="4892760" y="2514600"/>
            <a:ext cx="326052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256-71E5-44A6-8604-FB3B051A6A25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in Speci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st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ous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for tense appearance, increased blood pressure and breathing, irritability and ag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r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express their anger constru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refocus toward solv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 c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C28-693D-4F3A-93CD-B0D1F6188C53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tients with Other Culture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 and per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ll patients of all cultures and ethnic groups with equal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pen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hrough an interpreter to gather and convey information or to discuss sensitive issues with a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BFF-82F4-4D5A-A4CB-49F183F4501E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Visual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arge-print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dequate lighting in al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rmal speaking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directly and hone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talk down to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the patient’s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50E-4387-4CD1-A861-1B99C68A4F75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Hearing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quiet area to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background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yourself close to and facing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at elderly patients lose the ability to hear high-pitched sound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1E6-BF66-478F-B87C-7A21087F42DA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3400" y="167652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362320"/>
            <a:ext cx="8229600" cy="3933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1 Identify elements of the communicati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2 Give examples of positive and negativ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3 List ways to improve listening and interpers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4 Explain the difference between assertiveness and aggress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5 Give examples of effective communication strategies with patients in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EB4-9D01-40AA-AE88-796DFB81E37F}" type="slidenum">
              <a:t>2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45D-0CD4-4234-9677-AF1147EE025C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429000"/>
            <a:ext cx="82296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large-print materials, adequate lighting in all areas and a normal speaking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 directly and honestly, but not down to the patient; preserve the patient’s dig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B49-63F3-4453-99AD-FAA2634979D3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tally or Emotionally Disturb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level of communication the patient can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mportant to remain calm if the patient becomes agitated or con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h01631j" descr=""/>
          <p:cNvPicPr/>
          <p:nvPr/>
        </p:nvPicPr>
        <p:blipFill>
          <a:blip r:embed="rId1"/>
          <a:stretch/>
        </p:blipFill>
        <p:spPr>
          <a:xfrm>
            <a:off x="5767560" y="1752480"/>
            <a:ext cx="28749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6FE-5B24-4722-8818-38BEE4C267EF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lderly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al or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as if you expect the patient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ple questions and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patient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points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j0101864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81F-B641-4476-86A0-B455E00543B8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Young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gnize and accept their fear and anx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any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tell children that a procedure will not hurt if it will or you will lose their 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80F-9CCA-4C1B-B92F-5BEFD9EDB609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tient with AIDS/HIV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7524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019240"/>
            <a:ext cx="3733920" cy="372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accurate information about the disease and the risk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need to answer as many question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bd06608_" descr=""/>
          <p:cNvPicPr/>
          <p:nvPr/>
        </p:nvPicPr>
        <p:blipFill>
          <a:blip r:embed="rId1"/>
          <a:stretch/>
        </p:blipFill>
        <p:spPr>
          <a:xfrm>
            <a:off x="5029200" y="229536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2CC-CC04-4466-ACE3-AE0F36A2D53F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ally Ill Patient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ubler-Ross’ Stages of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4C5-06D9-41D2-82B1-A223BA4F0628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with Cowor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191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elop ra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oper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proper at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 appropriate time for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h01628j" descr=""/>
          <p:cNvPicPr/>
          <p:nvPr/>
        </p:nvPicPr>
        <p:blipFill>
          <a:blip r:embed="rId1"/>
          <a:stretch/>
        </p:blipFill>
        <p:spPr>
          <a:xfrm>
            <a:off x="4572000" y="2635200"/>
            <a:ext cx="419112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B5C-43CD-417C-A319-C861E53CEF6C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mmunicating with Superior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0512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ep superiors in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imize inter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w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93F-2225-4F66-98BC-347A1F5067FF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aling with Conflic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“feed into” others negative attitu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ble and suppor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rain from passing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goss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jump to conc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06600_" descr=""/>
          <p:cNvPicPr/>
          <p:nvPr/>
        </p:nvPicPr>
        <p:blipFill>
          <a:blip r:embed="rId1"/>
          <a:stretch/>
        </p:blipFill>
        <p:spPr>
          <a:xfrm>
            <a:off x="609480" y="2533680"/>
            <a:ext cx="38862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B6C-9540-422B-AD2F-BF9F88A339D5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7652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481120"/>
            <a:ext cx="8305920" cy="3080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6 Discuss ways to establish positive communication with coworkers and super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7 Explain how stress relates to communication and identify strategies to reduce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8 Describe how the office policy and procedures manual are used as a communication tool in the medic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8D0-D64A-4F48-9BB2-E7CFDC99E5BC}" type="slidenum">
              <a:t>3</a:t>
            </a:fld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motivat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be overwhelming and affect you phys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manage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alistic about how much you can handle at work and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2133720"/>
            <a:ext cx="4038480" cy="2966760"/>
            <a:chOff x="457200" y="2133720"/>
            <a:chExt cx="4038480" cy="2966760"/>
          </a:xfrm>
        </p:grpSpPr>
        <p:graphicFrame>
          <p:nvGraphicFramePr>
            <p:cNvPr id="203" name=""/>
            <p:cNvGraphicFramePr/>
            <p:nvPr/>
          </p:nvGraphicFramePr>
          <p:xfrm>
            <a:off x="457200" y="3809880"/>
            <a:ext cx="4038480" cy="129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988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457200" y="2133720"/>
            <a:ext cx="4038480" cy="12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BF5-698F-4B01-ADCE-CB5AA8472558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result of prolonged periods of stress without rel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riven, perfectionist-typ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usceptible to bur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B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xed, calm, “laid back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rone to burn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329-A367-408F-9382-5730CFF1BA9F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ges to 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82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ney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-scale bur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enix phenome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199-3943-4205-9424-EA6F5BA58E60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icy and Procedures Manual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ritten communic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e the day-to-day workings of a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chain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nstructions for specif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d05501_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387828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E12-7BEC-4E61-8C23-03189A91E36B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tion and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70A-079F-4B7F-BB7E-5B3F3864A627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men required and coll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ents, standards, controls, and medi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761-53B3-4EFB-8218-208D93B846E2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velopment of Manual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format an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updat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ational Committee for Clinical Laboratory Standards (NCCLS) for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0E1-5766-4F2E-8AFA-C5AA1952F648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752480"/>
            <a:ext cx="73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86200" y="3429000"/>
            <a:ext cx="38088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86200"/>
            <a:ext cx="411480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, interpersonal and asser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429000"/>
            <a:ext cx="45720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86200"/>
            <a:ext cx="426708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with Special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xious, angry, elderly, hearing and visual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0280" y="2900520"/>
            <a:ext cx="75438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between the office and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7400"/>
            <a:ext cx="853452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working relationships and help office run smooth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3AE-3AE2-4768-96F7-EB44EE519181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51D-0047-4100-B2EA-B86B7CB6BEDA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42900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0552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596-B389-47CF-9EE3-A1EE140858E7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communicator between the physician and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interaction sets the tone for the office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ing strong communication skills just as important as mastering administrative and cli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257800"/>
            <a:ext cx="82296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will influence how comfortabl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ent feels in your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614-0A0C-45F3-8753-BF8C48A58A69}" type="slidenum">
              <a:t>4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657600" y="274320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chap02_0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035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ECA-D9BB-46AE-9157-1BC1D87D010C}" type="slidenum">
              <a:t>40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 of Customer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or responding to telephon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ing procedures to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with bill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warm and reass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10584_" descr=""/>
          <p:cNvPicPr/>
          <p:nvPr/>
        </p:nvPicPr>
        <p:blipFill>
          <a:blip r:embed="rId1"/>
          <a:stretch/>
        </p:blipFill>
        <p:spPr>
          <a:xfrm>
            <a:off x="4919760" y="1828800"/>
            <a:ext cx="349416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907-6561-4777-8D23-45AA21564555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ommunication Circl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unication cycle involves an exchange of messages through verbal and nonverb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971800"/>
            <a:ext cx="2550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2552760"/>
            <a:ext cx="26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380988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7920" y="3200400"/>
            <a:ext cx="2133720" cy="34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9520" y="38098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09680"/>
            <a:ext cx="6705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0840" y="2857680"/>
            <a:ext cx="195588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857680"/>
            <a:ext cx="195552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E73-1C91-410F-B6BC-E7CFC03885B0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slow’s Hierarch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8006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114800"/>
            <a:ext cx="67816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29000"/>
            <a:ext cx="594360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743200"/>
            <a:ext cx="49528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133720"/>
            <a:ext cx="39625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2701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796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56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2512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029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913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ency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1ED-1981-4E32-A6DF-9B548FDF74C0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si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038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motes patient’s comfort an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ge for positiv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patients to ask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828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hap02_0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784600" cy="42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84C-205F-41F4-B093-0F3C341F7D79}" type="slidenum">
              <a:t>8</a:t>
            </a:fld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and ask for feedback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urb negative communication ha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aking brusqu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ing eye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ing patients as they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hing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etting common courte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wing bor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patient impers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d06600_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04776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F27-F071-4636-A426-2B3A966E6028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</dc:creator>
  <dc:description/>
  <dc:language>en-US</dc:language>
  <cp:lastModifiedBy>Kathryn A. Booth</cp:lastModifiedBy>
  <dcterms:modified xsi:type="dcterms:W3CDTF">2004-05-03T18:43:03Z</dcterms:modified>
  <cp:revision>151</cp:revision>
  <dc:subject>Medical Assisting 2ed.</dc:subject>
  <dc:title>Communicating with Patients Families and Coworkers</dc:title>
</cp:coreProperties>
</file>