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8.jpeg" ContentType="image/jpeg"/>
  <Override PartName="/ppt/media/image9.png" ContentType="image/png"/>
  <Override PartName="/ppt/media/image13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EBE-ABF2-472F-A949-16C7A6EBD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D65C-6164-47AD-94AD-434FC535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3E4-D25B-41D5-A9EA-DC8197A2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E15F-54C9-4F3A-A457-6133FE64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BE28B-8CB6-428B-A441-5D9D79576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21C3B-3176-466C-9DBF-C7A75D8E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A4613-8459-40D4-9A88-C053E77C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7566-A7F3-4BDD-B3E5-EA412A97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B3FC-C162-482B-9CB8-EF66D4A0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59ED-E2BF-4D24-9FED-AA6B4342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7247D-3550-4EB7-9B3F-6FFF4799C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DCB4-0C23-4C8C-B962-EF89649BD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3064-D50B-45C3-8836-0CE9AB94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E437-7E71-4065-B0D3-DC434E04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800A1-C13F-4C6B-A252-C16B4714B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938C-66F8-434A-84F7-00A9907C0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DD41A-6A18-4EC2-9054-9DB010A7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80C0-A364-477F-93E1-4ED4CA5E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3644-F4FD-4717-BA5F-ABCD8F49D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BF8-BD94-482E-AA8E-79E0EE284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C966-D824-40A6-8F14-65B30A68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5ED-56FA-4998-911A-F1E71BD0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CF72-2CDE-4B0C-8A1A-E62FA5E3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6116-BB3F-43DD-8C9A-D62E40A5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ff99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47E5C-D137-4F1E-986B-9CA1464A61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50a5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50a5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8BB2-924E-45D3-83F1-EDBFFF4B029B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50a5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50a5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3200400" y="3429000"/>
            <a:ext cx="2666880" cy="1600200"/>
            <a:chOff x="3200400" y="3429000"/>
            <a:chExt cx="2666880" cy="1600200"/>
          </a:xfrm>
        </p:grpSpPr>
        <p:sp>
          <p:nvSpPr>
            <p:cNvPr id="96" name=""/>
            <p:cNvSpPr/>
            <p:nvPr/>
          </p:nvSpPr>
          <p:spPr>
            <a:xfrm>
              <a:off x="3200400" y="3429000"/>
              <a:ext cx="2666880" cy="1600200"/>
            </a:xfrm>
            <a:prstGeom prst="rect">
              <a:avLst/>
            </a:prstGeom>
            <a:solidFill>
              <a:srgbClr val="50a5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3276360" y="3581280"/>
              <a:ext cx="2421000" cy="12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Chapte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613960" y="45720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3440" y="2514600"/>
            <a:ext cx="71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utkowsk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ot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g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omps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54920" y="6248520"/>
            <a:ext cx="588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McGraw_logo" descr=""/>
          <p:cNvPicPr/>
          <p:nvPr/>
        </p:nvPicPr>
        <p:blipFill>
          <a:blip r:embed="rId1"/>
          <a:stretch/>
        </p:blipFill>
        <p:spPr>
          <a:xfrm>
            <a:off x="4267080" y="56386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dical Assisting</a:t>
            </a:r>
            <a:br>
              <a:rPr sz="48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1120" y="1905120"/>
            <a:ext cx="19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A44D-0D27-41C1-8A3A-AD8FBEF9485D}" type="slidenum">
              <a:t>1</a:t>
            </a:fld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Body Languag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ial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onal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410080"/>
            <a:ext cx="830592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ny instances, people’s body language conveys their true feelings, even when their words may say otherw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chap02_04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2622600" cy="39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554E-724C-4C5A-8331-27957997C2A9}" type="slidenum">
              <a:t>10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ing Communication Ski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ening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lis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is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m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a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uin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ation and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chap02_05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4419720" cy="29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9A7-06CA-41A2-A408-3891AC46F4A4}" type="slidenum">
              <a:t>11</a:t>
            </a:fld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sertiveness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 Skill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ertive – people who are firm and   stand by your principles while still showing respect for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gressive – people who try to impose their position on others or try to manipulat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E1C2-7AF9-4658-A845-65A798712285}" type="slidenum">
              <a:t>12</a:t>
            </a:fld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apeutic Communication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4724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p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ing 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a broad op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ing general l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observ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1828800"/>
            <a:ext cx="4191120" cy="4724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ing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rr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101-C00B-41EA-B610-FC06D33169F2}" type="slidenum">
              <a:t>13</a:t>
            </a:fld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effective Therapeutic Communic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3581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adbloc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approv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p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/dis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82880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adblo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ing an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ing 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stereotyped com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837-51E8-4035-BEA8-8D78E88B7F69}" type="slidenum">
              <a:t>14</a:t>
            </a:fld>
          </a:p>
        </p:txBody>
      </p:sp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fense Mechanism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tients may displ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n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so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bd09264_" descr=""/>
          <p:cNvPicPr/>
          <p:nvPr/>
        </p:nvPicPr>
        <p:blipFill>
          <a:blip r:embed="rId1"/>
          <a:stretch/>
        </p:blipFill>
        <p:spPr>
          <a:xfrm>
            <a:off x="4892760" y="2514600"/>
            <a:ext cx="326052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6208-29F9-4A4C-9D28-83CC298EC946}" type="slidenum">
              <a:t>15</a:t>
            </a:fld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unication in Speci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umsta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xious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ch for tense appearance, increased blood pressure and breathing, irritability and agi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ry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them express their anger constru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take it pers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them refocus toward solving 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 c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3B7D-4DC6-4DD3-B65B-1DA8244974FC}" type="slidenum">
              <a:t>16</a:t>
            </a:fld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tients with Other Culture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views and per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all patients of all cultures and ethnic groups with equal res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open m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 through an interpreter to gather and convey information or to discuss sensitive issues with a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9645-120D-4EFB-980A-6F9B508458F4}" type="slidenum">
              <a:t>17</a:t>
            </a:fld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tients with Visual Impair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large-print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dequate lighting in al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normal speaking 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k directly and hone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talk down to the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e the patient’s dig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094A-F140-455F-A965-D47B5BB0D9B4}" type="slidenum">
              <a:t>18</a:t>
            </a:fld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tients with Hearing Impair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quiet area to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background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 yourself close to and facing the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ak slow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hat elderly patients lose the ability to hear high-pitched sounds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91B9-F44F-484A-8E8E-E85BC086D541}" type="slidenum">
              <a:t>19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3400" y="1676520"/>
            <a:ext cx="24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362320"/>
            <a:ext cx="8229600" cy="3933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1 Identify elements of the communicatio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2 Give examples of positive and negative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3 List ways to improve listening and interpersonal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4 Explain the difference between assertiveness and aggressive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5 Give examples of effective communication strategies with patients in special circum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mmunication with Patients, Families, and Coworkers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763D-5E4C-4410-97F0-8E8AACA8CB5B}" type="slidenum">
              <a:t>2</a:t>
            </a:fld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53352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pply Your Knowledg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905120"/>
            <a:ext cx="8305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an you do to promote communication with someone who is visually impai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3A2-5352-44D0-B9E3-A115CF5EA90B}" type="slidenum">
              <a:t>20</a:t>
            </a:fld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y Your Knowledge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50a521"/>
                </a:solidFill>
                <a:latin typeface="Times New Roman"/>
              </a:rPr>
              <a:t>Answer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905120"/>
            <a:ext cx="8305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an you do to promote communication with someone who is visually impai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429000"/>
            <a:ext cx="8229600" cy="18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large-print materials, adequate lighting in all areas and a normal speaking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k directly and honestly, but not down to the patient; preserve the patient’s dig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11CA-82AE-4C34-B2EE-824AEA0C4F32}" type="slidenum">
              <a:t>21</a:t>
            </a:fld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ntally or Emotionally Disturb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8769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at level of communication the patient can under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important to remain calm if the patient becomes agitated or conf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h01631j" descr=""/>
          <p:cNvPicPr/>
          <p:nvPr/>
        </p:nvPicPr>
        <p:blipFill>
          <a:blip r:embed="rId1"/>
          <a:stretch/>
        </p:blipFill>
        <p:spPr>
          <a:xfrm>
            <a:off x="5767560" y="1752480"/>
            <a:ext cx="287496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C021-09D4-424D-B44C-DB35D9845039}" type="slidenum">
              <a:t>22</a:t>
            </a:fld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Elderly Patien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al or con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 as if you expect the patient to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mple questions and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the patient to rel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 slow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points slowly and cl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j0101864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971800" cy="22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D958-D21E-47B5-BE25-7987F43BD7C7}" type="slidenum">
              <a:t>23</a:t>
            </a:fld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Young Patien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gnize and accept their fear and anxie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in any proced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pra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not tell children that a procedure will not hurt if it will or you will lose their tr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62FA-38FD-4C04-A42C-498762C69044}" type="slidenum">
              <a:t>24</a:t>
            </a:fld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atient with AIDS/HIV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752480"/>
            <a:ext cx="0" cy="5105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019240"/>
            <a:ext cx="3733920" cy="3728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need accurate information about the disease and the risk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need to answer as many questions as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bd06608_" descr=""/>
          <p:cNvPicPr/>
          <p:nvPr/>
        </p:nvPicPr>
        <p:blipFill>
          <a:blip r:embed="rId1"/>
          <a:stretch/>
        </p:blipFill>
        <p:spPr>
          <a:xfrm>
            <a:off x="5029200" y="2295360"/>
            <a:ext cx="3200400" cy="31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59C-AB92-404E-A7C5-FED32B3B2DD7}" type="slidenum">
              <a:t>25</a:t>
            </a:fld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erminally Ill Patient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ubler-Ross’ Stages of D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ept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56CA-31E9-4081-A244-B3C1C42EFF36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unication with Cowork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1911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elop ra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proper chann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proper attitu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an appropriate time for commun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h01628j" descr=""/>
          <p:cNvPicPr/>
          <p:nvPr/>
        </p:nvPicPr>
        <p:blipFill>
          <a:blip r:embed="rId1"/>
          <a:stretch/>
        </p:blipFill>
        <p:spPr>
          <a:xfrm>
            <a:off x="4572000" y="2635200"/>
            <a:ext cx="4191120" cy="277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0D8E-1CA8-494A-899B-BA3E00CBF7E4}" type="slidenum">
              <a:t>27</a:t>
            </a:fld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Communicating with Superior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05120"/>
            <a:ext cx="79250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2251"/>
              </a:spcBef>
              <a:buClr>
                <a:srgbClr val="50a5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ep superiors infor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2251"/>
              </a:spcBef>
              <a:buClr>
                <a:srgbClr val="50a5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k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2251"/>
              </a:spcBef>
              <a:buClr>
                <a:srgbClr val="50a5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nimize interru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2251"/>
              </a:spcBef>
              <a:buClr>
                <a:srgbClr val="50a5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ow 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CAD-4C53-4B00-8481-2E5B5958391F}" type="slidenum">
              <a:t>28</a:t>
            </a:fld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aling with Conflic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“feed into” others negative attitu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personable and suppor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rain from passing judg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goss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jump to conclu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d06600_" descr=""/>
          <p:cNvPicPr/>
          <p:nvPr/>
        </p:nvPicPr>
        <p:blipFill>
          <a:blip r:embed="rId1"/>
          <a:stretch/>
        </p:blipFill>
        <p:spPr>
          <a:xfrm>
            <a:off x="609480" y="2533680"/>
            <a:ext cx="3886200" cy="289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D9E-A58C-4586-A25A-71ACFBB3E65F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1676520"/>
            <a:ext cx="52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Objectives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MS Mincho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481120"/>
            <a:ext cx="8305920" cy="3080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6 Discuss ways to establish positive communication with coworkers and super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7 Explain how stress relates to communication and identify strategies to reduce st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8 Describe how the office policy and procedures manual are used as a communication tool in the medical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mmunication with Patients, Families, and Coworker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E781-2EEE-4EA1-82B8-0BC9FCB65E9D}" type="slidenum">
              <a:t>3</a:t>
            </a:fld>
          </a:p>
        </p:txBody>
      </p:sp>
    </p:spTree>
  </p:cSld>
  <p:transition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anaging Stres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ss can motivate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ss can be overwhelming and affect you phys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to manage st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realistic about how much you can handle at work and in your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" y="2133720"/>
            <a:ext cx="4038480" cy="2966760"/>
            <a:chOff x="457200" y="2133720"/>
            <a:chExt cx="4038480" cy="2966760"/>
          </a:xfrm>
        </p:grpSpPr>
        <p:graphicFrame>
          <p:nvGraphicFramePr>
            <p:cNvPr id="203" name=""/>
            <p:cNvGraphicFramePr/>
            <p:nvPr/>
          </p:nvGraphicFramePr>
          <p:xfrm>
            <a:off x="457200" y="3809880"/>
            <a:ext cx="4038480" cy="1290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809880"/>
                      <a:ext cx="4038480" cy="12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"/>
            <p:cNvGraphicFramePr/>
            <p:nvPr/>
          </p:nvGraphicFramePr>
          <p:xfrm>
            <a:off x="457200" y="2133720"/>
            <a:ext cx="4038480" cy="129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2133720"/>
                      <a:ext cx="4038480" cy="12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F04-3AD1-43A1-866B-82881F576A22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urnou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 result of prolonged periods of stress without relie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A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y driven, perfectionist-typ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usceptible to burn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B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elaxed, calm, “laid back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prone to burn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70F6-E136-49E4-985F-574D9165AC0A}" type="slidenum">
              <a:t>31</a:t>
            </a:fld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ges to Burnou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67820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neym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wake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own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ll-scale burn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enix phenomen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D2CD-E8E1-45A6-88E2-DEDAFAD312F4}" type="slidenum">
              <a:t>32</a:t>
            </a:fld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licy and Procedures Manual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written communication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ate the day-to-day workings of an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chain of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instructions for specific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bd05501_" descr=""/>
          <p:cNvPicPr/>
          <p:nvPr/>
        </p:nvPicPr>
        <p:blipFill>
          <a:blip r:embed="rId1"/>
          <a:stretch/>
        </p:blipFill>
        <p:spPr>
          <a:xfrm>
            <a:off x="536400" y="1828800"/>
            <a:ext cx="3878280" cy="430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482-9339-4D17-BA9A-3CAB31D8BA81}" type="slidenum">
              <a:t>33</a:t>
            </a:fld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olicie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and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ess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cation and sick 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enance of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l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appoin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E79-948F-4692-B566-025E16C99784}" type="slidenum">
              <a:t>34</a:t>
            </a:fld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 of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men required and collec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gents, standards, controls, and media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-by-step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ed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 of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D23C-FDD6-450A-BDB0-20BB1CD4FBDE}" type="slidenum">
              <a:t>35</a:t>
            </a:fld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velopment of Manual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format and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nd updat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National Committee for Clinical Laboratory Standards (NCCLS) for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0F9A-4A18-4353-99A8-06BE9ADEB8FE}" type="slidenum">
              <a:t>36</a:t>
            </a:fld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752480"/>
            <a:ext cx="735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edical Assist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886200" y="3429000"/>
            <a:ext cx="380880" cy="457200"/>
          </a:xfrm>
          <a:prstGeom prst="line">
            <a:avLst/>
          </a:prstGeom>
          <a:ln w="7632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3886200"/>
            <a:ext cx="4114800" cy="1252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cation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ening, interpersonal and assertiv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3429000"/>
            <a:ext cx="457200" cy="457200"/>
          </a:xfrm>
          <a:prstGeom prst="line">
            <a:avLst/>
          </a:prstGeom>
          <a:ln w="7632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3886200"/>
            <a:ext cx="4267080" cy="1252080"/>
          </a:xfrm>
          <a:prstGeom prst="rect">
            <a:avLst/>
          </a:prstGeom>
          <a:solidFill>
            <a:srgbClr val="ccff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with Special Nee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xious, angry, elderly, hearing and visual im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0280" y="2900520"/>
            <a:ext cx="754380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are the key between the office and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567400"/>
            <a:ext cx="853452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 working relationships and help office run smooth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BE1D-8CA5-41B3-832A-4ED69E37747B}" type="slidenum">
              <a:t>37</a:t>
            </a:fld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pply Your Knowledg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1905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communication skills for the medical office is as important as mastering administrative or clinical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communication requires patient feedback at every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4346-A2B9-436A-A0BC-14E33BB23A47}" type="slidenum">
              <a:t>38</a:t>
            </a:fld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y Your Knowledge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-</a:t>
            </a:r>
            <a:r>
              <a:rPr b="1" lang="en-US" sz="4800" spc="-1" strike="noStrike">
                <a:solidFill>
                  <a:srgbClr val="50a521"/>
                </a:solidFill>
                <a:latin typeface="Times New Roman"/>
              </a:rPr>
              <a:t>Answer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05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communication skills for the medical office is as important as mastering administrative or clinical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communication requires patient feedback at every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3429000"/>
            <a:ext cx="15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5105520"/>
            <a:ext cx="15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576-33F2-4A8C-9759-5BCD6435EF1A}" type="slidenum">
              <a:t>39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4038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are the key communicator between the physician and pat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r interaction sets the tone for the office vis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0" y="1828800"/>
            <a:ext cx="4114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ing strong communication skills just as important as mastering administrative and clinic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5257800"/>
            <a:ext cx="822960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 will influence how comfortabl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ient feels in your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2B47-2F3B-4561-ADB6-7151611A9B97}" type="slidenum">
              <a:t>4</a:t>
            </a:fld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657600" y="274320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End of Chapter</a:t>
            </a:r>
            <a:br>
              <a:rPr sz="800"/>
            </a:b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8" name="chap02_02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035160" cy="461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578D-DC82-42BC-83C4-0A629FB23A6C}" type="slidenum">
              <a:t>40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amples of Customer Servi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phone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or responding to telephon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ing procedures to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ing with billing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 warm and reassur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d10584_" descr=""/>
          <p:cNvPicPr/>
          <p:nvPr/>
        </p:nvPicPr>
        <p:blipFill>
          <a:blip r:embed="rId1"/>
          <a:stretch/>
        </p:blipFill>
        <p:spPr>
          <a:xfrm>
            <a:off x="4919760" y="1828800"/>
            <a:ext cx="3494160" cy="430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B315-CA04-4668-BE3A-27A084DA307F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Communication Circl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30592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mmunication cycle involves an exchange of messages through verbal and nonverbal m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2971800"/>
            <a:ext cx="25509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38560" y="2552760"/>
            <a:ext cx="26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43480" y="3809880"/>
            <a:ext cx="26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17920" y="3200400"/>
            <a:ext cx="2133720" cy="343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809520" y="3809880"/>
            <a:ext cx="2514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2209680"/>
            <a:ext cx="670536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20840" y="2857680"/>
            <a:ext cx="1955880" cy="10285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2857680"/>
            <a:ext cx="1955520" cy="10285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790-5E6E-4162-AFE4-887B45E3927D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aslow’s Hierarchy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800600"/>
            <a:ext cx="7772400" cy="838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4114800"/>
            <a:ext cx="6781680" cy="685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3429000"/>
            <a:ext cx="5943600" cy="685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2743200"/>
            <a:ext cx="4952880" cy="685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2133720"/>
            <a:ext cx="3962520" cy="609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227016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Act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287964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eem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35654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v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425124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ty 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50292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ological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7913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ciency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3756-9AC2-471F-A95E-C9F9946B663D}" type="slidenum">
              <a:t>7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ositive Communication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724280" cy="4038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promotes patient’s comfort and well-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he stage for positive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patients to ask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 slowly and cl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18288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hap02_02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2784600" cy="423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D8F-B61E-4FE7-AFFC-679CA8BC620C}" type="slidenum">
              <a:t>8</a:t>
            </a:fld>
          </a:p>
        </p:txBody>
      </p:sp>
    </p:spTree>
  </p:cSld>
  <p:transition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Communication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and ask for feedback to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urb negative communication ha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mb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aking brusque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oiding eye cont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rupting patients as they 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shing explan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getting common courtes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wing bor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ing patient impers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bd06600_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047760" cy="26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4750-3D41-4842-9F21-B3C370113C9D}" type="slidenum">
              <a:t>9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</dc:creator>
  <dc:description/>
  <dc:language>en-US</dc:language>
  <cp:lastModifiedBy>Kathryn A. Booth</cp:lastModifiedBy>
  <dcterms:modified xsi:type="dcterms:W3CDTF">2004-05-03T18:43:03Z</dcterms:modified>
  <cp:revision>151</cp:revision>
  <dc:subject>Medical Assisting 2ed.</dc:subject>
  <dc:title>Communicating with Patients Families and Coworkers</dc:title>
</cp:coreProperties>
</file>