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10.gif" ContentType="image/gif"/>
  <Override PartName="/ppt/media/image9.wmf" ContentType="image/x-wmf"/>
  <Override PartName="/ppt/media/image11.wmf" ContentType="image/x-wmf"/>
  <Override PartName="/ppt/media/image6.wmf" ContentType="image/x-wmf"/>
  <Override PartName="/ppt/media/image7.jpeg" ContentType="image/jpeg"/>
  <Override PartName="/ppt/media/image5.wmf" ContentType="image/x-wmf"/>
  <Override PartName="/ppt/media/image3.wmf" ContentType="image/x-wmf"/>
  <Override PartName="/ppt/media/image24.png" ContentType="image/png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5.wmf" ContentType="image/x-wmf"/>
  <Override PartName="/ppt/media/image14.jpeg" ContentType="image/jpeg"/>
  <Override PartName="/ppt/media/image16.wmf" ContentType="image/x-wmf"/>
  <Override PartName="/ppt/media/image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5620D-046B-4F9C-BC29-64AADB59E3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73DE2-4E93-4C94-A4C7-70BFDE7ADC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CAAC6-72F6-4260-B4BD-814A8B5D72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8A706-2A89-4C72-8ECA-9A0E9B387E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3A165C-548B-41AD-BF23-1E5A6405DC8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8A3933-FCB7-4C06-946E-2CAC4AED282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390DED-E970-40A3-8EC2-E03E65180D6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8F8E43-D675-4B68-9208-74F0D2C2628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F584FA-54F4-471A-A161-F2D51C61D5C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A48951-AA1E-41B7-8264-C16C5F7A65D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421372-8DDC-4145-99C2-B4C859FD578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6720B-9192-4E8F-BA65-CC1552946A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2C32D1-87CC-407E-B4DC-8794020B9A0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2E12E2-BB92-48CA-B59D-EDAA759CACA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94DAD5-783B-41B7-8ECC-57D96F95357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F3B4D1-F1EA-415A-8BD6-752513F40A4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8AEB98-644B-4631-8A79-76259931F9C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00691-62A6-4CF5-9999-BABBB50654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6942E-B95E-4276-B605-FC9D26A011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C958A-1E7A-4860-94C7-53F1F0F76C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77658-473A-40F0-B341-B93F267ED0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475CB-45B6-4E1F-83F7-C9DCEE44D4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1C4BF-D959-4671-8A1C-01161D0B2C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21FFD-BB17-4D9C-8301-2578397E57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af5fa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5f00ff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af5fa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fff0a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Times New Roman"/>
              </a:rPr>
              <a:t>2-</a:t>
            </a:r>
            <a:fld id="{2075DC30-4322-48A8-88FB-2BB6F21C8536}" type="slidenum">
              <a:rPr b="1" lang="en-US" sz="1200" spc="-1" strike="noStrike">
                <a:solidFill>
                  <a:srgbClr val="0000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04920" y="228600"/>
            <a:ext cx="8686800" cy="1600200"/>
            <a:chOff x="304920" y="228600"/>
            <a:chExt cx="8686800" cy="1600200"/>
          </a:xfrm>
        </p:grpSpPr>
        <p:sp>
          <p:nvSpPr>
            <p:cNvPr id="4" name=""/>
            <p:cNvSpPr/>
            <p:nvPr/>
          </p:nvSpPr>
          <p:spPr>
            <a:xfrm flipH="1">
              <a:off x="482760" y="1828800"/>
              <a:ext cx="8305920" cy="0"/>
            </a:xfrm>
            <a:prstGeom prst="line">
              <a:avLst/>
            </a:prstGeom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763120" y="228600"/>
              <a:ext cx="228600" cy="228600"/>
            </a:xfrm>
            <a:prstGeom prst="rect">
              <a:avLst/>
            </a:prstGeom>
            <a:solidFill>
              <a:srgbClr val="5f00ff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04920" y="228600"/>
              <a:ext cx="8454960" cy="228600"/>
            </a:xfrm>
            <a:prstGeom prst="rect">
              <a:avLst/>
            </a:prstGeom>
            <a:solidFill>
              <a:srgbClr val="af5faf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04920" y="457200"/>
              <a:ext cx="8454960" cy="139680"/>
            </a:xfrm>
            <a:prstGeom prst="rect">
              <a:avLst/>
            </a:prstGeom>
            <a:solidFill>
              <a:srgbClr val="5f00ff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763120" y="459000"/>
              <a:ext cx="228600" cy="136440"/>
            </a:xfrm>
            <a:prstGeom prst="rect">
              <a:avLst/>
            </a:prstGeom>
            <a:solidFill>
              <a:srgbClr val="af5faf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</p:grpSp>
      <p:sp>
        <p:nvSpPr>
          <p:cNvPr id="9" name=""/>
          <p:cNvSpPr/>
          <p:nvPr/>
        </p:nvSpPr>
        <p:spPr>
          <a:xfrm>
            <a:off x="0" y="662940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33"/>
                </a:solidFill>
                <a:latin typeface="Book Antiqua"/>
              </a:rPr>
              <a:t>© 2009 The McGraw-Hill Companies, Inc. All rights reserved</a:t>
            </a:r>
            <a:endParaRPr b="0" lang="en-US" sz="1200" spc="-1" strike="noStrike">
              <a:solidFill>
                <a:srgbClr val="0000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5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49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5f00ff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af5faf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5f00ff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af5faf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0" y="662940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33"/>
                </a:solidFill>
                <a:latin typeface="Book Antiqua"/>
              </a:rPr>
              <a:t>© 2009 The McGraw-Hill Companies, Inc. All rights reserved</a:t>
            </a:r>
            <a:endParaRPr b="0" lang="en-US" sz="12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ldNum" idx="2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Times New Roman"/>
              </a:rPr>
              <a:t>2-</a:t>
            </a:r>
            <a:fld id="{7A3F995E-B427-40E5-AA18-1C2105F282EE}" type="slidenum">
              <a:rPr b="1" lang="en-US" sz="1200" spc="-1" strike="noStrike">
                <a:solidFill>
                  <a:srgbClr val="0000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5f00ff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af5faf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33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0a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33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33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33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2971800" y="1295280"/>
            <a:ext cx="31240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solidFill>
                  <a:srgbClr val="af5fa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Chapter 2</a:t>
            </a:r>
            <a:endParaRPr b="1" lang="en-US" sz="4000" spc="1" strike="noStrike">
              <a:ln w="0">
                <a:noFill/>
              </a:ln>
              <a:solidFill>
                <a:srgbClr val="af5fa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752480" y="2666880"/>
            <a:ext cx="525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2590920"/>
            <a:ext cx="8305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33"/>
                </a:solidFill>
                <a:latin typeface="Times New Roman"/>
              </a:rPr>
              <a:t>Types of Medical Practice</a:t>
            </a:r>
            <a:endParaRPr b="0" lang="en-US" sz="4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762120" y="3765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33"/>
                </a:solidFill>
                <a:latin typeface="Arial"/>
              </a:rPr>
              <a:t>PowerPoint® presentation to accompany:</a:t>
            </a:r>
            <a:endParaRPr b="0" lang="en-US" sz="1000" spc="-1" strike="noStrike">
              <a:solidFill>
                <a:srgbClr val="000033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33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33"/>
                </a:solidFill>
                <a:latin typeface="Arial"/>
              </a:rPr>
              <a:t>Medical Assisting</a:t>
            </a:r>
            <a:endParaRPr b="0" lang="en-US" sz="3200" spc="-1" strike="noStrike">
              <a:solidFill>
                <a:srgbClr val="000033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3"/>
                </a:solidFill>
                <a:latin typeface="Arial"/>
              </a:rPr>
              <a:t>Third Edition</a:t>
            </a:r>
            <a:endParaRPr b="0" lang="en-US" sz="2000" spc="-1" strike="noStrike">
              <a:solidFill>
                <a:srgbClr val="000033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33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33"/>
                </a:solidFill>
                <a:latin typeface="Arial"/>
              </a:rPr>
              <a:t>Booth, Whicker, Wyman, Pugh, Thompson</a:t>
            </a:r>
            <a:endParaRPr b="0" lang="en-US" sz="20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3C398-B156-4363-A976-4306C6250974}" type="slidenum">
              <a:t>1</a:t>
            </a:fld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520" y="5331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edical Specialists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457200" y="1828800"/>
          <a:ext cx="8457840" cy="3816360"/>
        </p:xfrm>
        <a:graphic>
          <a:graphicData uri="http://schemas.openxmlformats.org/drawingml/2006/table">
            <a:tbl>
              <a:tblPr/>
              <a:tblGrid>
                <a:gridCol w="2405520"/>
                <a:gridCol w="6052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Specialist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s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Nephrolog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Studies, manages, and diagnoses diseases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of the kidney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Neurolog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agnoses and treats disorders and diseases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of the nervous system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Obstetrician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Studies pregnancy, labor and delivery, and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postpartum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Oncolog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Identifies and treats patients with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cancer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53085-8A66-48F9-8817-92335BA4099B}" type="slidenum">
              <a:t>10</a:t>
            </a:fld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edical Specialists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457200" y="1828800"/>
          <a:ext cx="8381520" cy="3859200"/>
        </p:xfrm>
        <a:graphic>
          <a:graphicData uri="http://schemas.openxmlformats.org/drawingml/2006/table">
            <a:tbl>
              <a:tblPr/>
              <a:tblGrid>
                <a:gridCol w="2998800"/>
                <a:gridCol w="5382720"/>
              </a:tblGrid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Specialist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Ophthalmolog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agnoses and treats diseases and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disorders of the eye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Orthoped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agnoses and treats diseases and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disorders of muscles and bones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Otorhinolaryngolog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agnoses and treats ear, nose, and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throat disorders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Patholog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Studies bodily changes produced by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disease processes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55B02-7B6E-45A8-B895-FA4B7BE09C5F}" type="slidenum">
              <a:t>11</a:t>
            </a:fld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edical Specialists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457200" y="1828800"/>
          <a:ext cx="8381520" cy="4190760"/>
        </p:xfrm>
        <a:graphic>
          <a:graphicData uri="http://schemas.openxmlformats.org/drawingml/2006/table">
            <a:tbl>
              <a:tblPr/>
              <a:tblGrid>
                <a:gridCol w="2537280"/>
                <a:gridCol w="5844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Specialist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54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Pediatrician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agnoses and treats childhood disease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76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Physiatr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agnoses and treats diseases and disorders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with physical therapy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Podiatr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Treats disorders of the foot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91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Plastic Surgeon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Performs reconstruction, correction, and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improvement of body structure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91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Radiologist/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Nuclear Medicine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Uses x-rays and radioactive substances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to diagnose and treat diseases 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88FCA-7482-4E43-818E-57271C80A738}" type="slidenum">
              <a:t>12</a:t>
            </a:fld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edical Specialists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457200" y="1828800"/>
          <a:ext cx="8305920" cy="3921120"/>
        </p:xfrm>
        <a:graphic>
          <a:graphicData uri="http://schemas.openxmlformats.org/drawingml/2006/table">
            <a:tbl>
              <a:tblPr/>
              <a:tblGrid>
                <a:gridCol w="3146400"/>
                <a:gridCol w="5159520"/>
              </a:tblGrid>
              <a:tr h="529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Specialist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Sports Medicine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Subspecialty of medicine dealing with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treatment and preventative care of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athletes 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Surgeon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Uses hands and instruments to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diagnose, correct, and treat injuries,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diseases, and deformities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Urolog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agnoses and treats diseases of the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kidneys, bladder, and urinary system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92240-303D-44DB-99D6-DA7E982911A6}" type="slidenum">
              <a:t>13</a:t>
            </a:fld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pply Your Knowledg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960" y="1980720"/>
            <a:ext cx="876276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Name the medical specialists who would be involved in the care of a </a:t>
            </a:r>
            <a:r>
              <a:rPr b="1" i="1" lang="en-US" sz="2400" spc="-1" strike="noStrike">
                <a:solidFill>
                  <a:srgbClr val="5f00e1"/>
                </a:solidFill>
                <a:latin typeface="Times New Roman"/>
              </a:rPr>
              <a:t>6-month-old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 infant with </a:t>
            </a:r>
            <a:r>
              <a:rPr b="1" i="1" lang="en-US" sz="2400" spc="-1" strike="noStrike">
                <a:solidFill>
                  <a:srgbClr val="5f00e1"/>
                </a:solidFill>
                <a:latin typeface="Times New Roman"/>
              </a:rPr>
              <a:t>massive burns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 over 90% of the body and indicate how each specialist will contribute to the care for this situation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33520" y="3429000"/>
            <a:ext cx="8305560" cy="2558520"/>
          </a:xfrm>
          <a:prstGeom prst="rect">
            <a:avLst/>
          </a:prstGeom>
          <a:solidFill>
            <a:srgbClr val="fff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33"/>
                </a:solidFill>
                <a:uFillTx/>
                <a:latin typeface="Times New Roman"/>
              </a:rPr>
              <a:t>ANSWER:</a:t>
            </a:r>
            <a:r>
              <a:rPr b="0" lang="en-US" sz="2000" spc="-1" strike="noStrike">
                <a:solidFill>
                  <a:srgbClr val="000033"/>
                </a:solidFill>
                <a:latin typeface="Times New Roman"/>
              </a:rPr>
              <a:t> The following specialists would be involved in the care of this patient:</a:t>
            </a:r>
            <a:endParaRPr b="0" lang="en-US" sz="2000" spc="-1" strike="noStrike">
              <a:solidFill>
                <a:srgbClr val="0000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33"/>
                </a:solidFill>
                <a:latin typeface="Times New Roman"/>
              </a:rPr>
              <a:t>Pediatrician because of the age of the infant</a:t>
            </a:r>
            <a:endParaRPr b="0" lang="en-US" sz="2000" spc="-1" strike="noStrike">
              <a:solidFill>
                <a:srgbClr val="0000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33"/>
                </a:solidFill>
                <a:latin typeface="Times New Roman"/>
              </a:rPr>
              <a:t>Plastic surgeon to perform skin grafting</a:t>
            </a:r>
            <a:endParaRPr b="0" lang="en-US" sz="2000" spc="-1" strike="noStrike">
              <a:solidFill>
                <a:srgbClr val="0000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33"/>
                </a:solidFill>
                <a:latin typeface="Times New Roman"/>
              </a:rPr>
              <a:t>Dermatologist for skin, hair, and nail repair</a:t>
            </a:r>
            <a:endParaRPr b="0" lang="en-US" sz="2000" spc="-1" strike="noStrike">
              <a:solidFill>
                <a:srgbClr val="0000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33"/>
                </a:solidFill>
                <a:latin typeface="Times New Roman"/>
              </a:rPr>
              <a:t>Emergency medicine for treatment during medical crisis</a:t>
            </a:r>
            <a:endParaRPr b="0" lang="en-US" sz="20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553080" y="4191120"/>
            <a:ext cx="2210040" cy="1523880"/>
          </a:xfrm>
          <a:prstGeom prst="star5">
            <a:avLst/>
          </a:prstGeom>
          <a:solidFill>
            <a:srgbClr val="af5faf"/>
          </a:solidFill>
          <a:ln w="93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086600" y="48006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33"/>
                </a:solidFill>
                <a:latin typeface="Times New Roman"/>
              </a:rPr>
              <a:t>Correct!</a:t>
            </a:r>
            <a:endParaRPr b="0" lang="en-US" sz="2000" spc="-1" strike="noStrike">
              <a:solidFill>
                <a:srgbClr val="000033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7848720" y="838080"/>
            <a:ext cx="244440" cy="24444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7696080" y="609480"/>
            <a:ext cx="882720" cy="1447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A3519-45E4-471A-A549-481FE4BD437F}" type="slidenum">
              <a:t>14</a:t>
            </a:fld>
          </a:p>
        </p:txBody>
      </p:sp>
    </p:spTree>
  </p:cSld>
  <p:transition>
    <p:random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21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2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74" dur="15649" fill="hold"/>
                                        <p:tgtEl>
                                          <p:spTgt spid="1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7586640" y="762120"/>
            <a:ext cx="1557360" cy="22860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2819520" y="2666880"/>
            <a:ext cx="3124080" cy="1143000"/>
          </a:xfrm>
          <a:prstGeom prst="ellipse">
            <a:avLst/>
          </a:prstGeom>
          <a:solidFill>
            <a:srgbClr val="fff0a0"/>
          </a:solidFill>
          <a:ln w="5724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33"/>
                </a:solidFill>
                <a:latin typeface="Times New Roman"/>
              </a:rPr>
              <a:t>PATIENT</a:t>
            </a:r>
            <a:endParaRPr b="0" lang="en-US" sz="32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8200" y="4267080"/>
            <a:ext cx="3269880" cy="581400"/>
          </a:xfrm>
          <a:prstGeom prst="rect">
            <a:avLst/>
          </a:prstGeom>
          <a:noFill/>
          <a:ln w="9360">
            <a:solidFill>
              <a:srgbClr val="5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Medical Assistants</a:t>
            </a:r>
            <a:endParaRPr b="0" lang="en-US" sz="32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842760" y="2057400"/>
            <a:ext cx="1471680" cy="581400"/>
          </a:xfrm>
          <a:prstGeom prst="rect">
            <a:avLst/>
          </a:prstGeom>
          <a:noFill/>
          <a:ln w="9360">
            <a:solidFill>
              <a:srgbClr val="5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Doctors</a:t>
            </a:r>
            <a:endParaRPr b="0" lang="en-US" sz="32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025320" y="4191120"/>
            <a:ext cx="1922760" cy="581400"/>
          </a:xfrm>
          <a:prstGeom prst="rect">
            <a:avLst/>
          </a:prstGeom>
          <a:noFill/>
          <a:ln w="9360">
            <a:solidFill>
              <a:srgbClr val="5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pecialists</a:t>
            </a:r>
            <a:endParaRPr b="0" lang="en-US" sz="32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558480" y="2209680"/>
            <a:ext cx="1312920" cy="581400"/>
          </a:xfrm>
          <a:prstGeom prst="rect">
            <a:avLst/>
          </a:prstGeom>
          <a:noFill/>
          <a:ln w="9360">
            <a:solidFill>
              <a:srgbClr val="5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Nurses</a:t>
            </a:r>
            <a:endParaRPr b="0" lang="en-US" sz="32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ealth-Care Team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5257800"/>
            <a:ext cx="8458200" cy="947160"/>
          </a:xfrm>
          <a:prstGeom prst="rect">
            <a:avLst/>
          </a:prstGeom>
          <a:solidFill>
            <a:srgbClr val="af5f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nowing the duties of other health-care team members will help you be a more effective team member.</a:t>
            </a: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73A1F-9F45-4134-B37A-44897E1524D7}" type="slidenum">
              <a:t>15</a:t>
            </a:fld>
          </a:p>
        </p:txBody>
      </p:sp>
    </p:spTree>
  </p:cSld>
  <p:transition>
    <p:random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500"/>
                            </p:stCondLst>
                            <p:childTnLst>
                              <p:par>
                                <p:cTn id="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llied Health Professionals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457200" y="1828800"/>
          <a:ext cx="8381520" cy="4114800"/>
        </p:xfrm>
        <a:graphic>
          <a:graphicData uri="http://schemas.openxmlformats.org/drawingml/2006/table">
            <a:tbl>
              <a:tblPr/>
              <a:tblGrid>
                <a:gridCol w="3570120"/>
                <a:gridCol w="481140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scipline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350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Acupuncturist 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Treats pain or discomfort by 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inserting thin, hollow needles under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the skin to balance the opposing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forces of yin and yang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Based on Chinese beliefs 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295280" y="2971800"/>
            <a:ext cx="1940040" cy="291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D6DBC-C3FC-453F-BDA4-EBEA9B0B2FA3}" type="slidenum">
              <a:t>16</a:t>
            </a:fld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llied Health Professionals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457200" y="1828800"/>
          <a:ext cx="8305920" cy="4414680"/>
        </p:xfrm>
        <a:graphic>
          <a:graphicData uri="http://schemas.openxmlformats.org/drawingml/2006/table">
            <a:tbl>
              <a:tblPr/>
              <a:tblGrid>
                <a:gridCol w="3276720"/>
                <a:gridCol w="5029200"/>
              </a:tblGrid>
              <a:tr h="53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scipline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160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Chiropractor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Treats disorders without drugs or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surgery by making adjustments to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realign the vertebrae in the spine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5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Is an independent practitioner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22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Electroencephalographic (EEG) Technologist / Technician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Electroencephalography is the study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and recording of the brain’s electrical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activity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4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EEG technicians work in hospitals,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physicians’ offices, and clinic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A8C75-2E32-4105-B4C5-6BEC0B667AAD}" type="slidenum">
              <a:t>17</a:t>
            </a:fld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llied Health Professionals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457200" y="1828800"/>
          <a:ext cx="8381520" cy="4000680"/>
        </p:xfrm>
        <a:graphic>
          <a:graphicData uri="http://schemas.openxmlformats.org/drawingml/2006/table">
            <a:tbl>
              <a:tblPr/>
              <a:tblGrid>
                <a:gridCol w="3337200"/>
                <a:gridCol w="504432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scipline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339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Electrocardiograph (ECG)</a:t>
                      </a:r>
                      <a:r>
                        <a:rPr b="1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Technician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ECG technicians operate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electrocardiograph machines that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record the heart’s electrical impulses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ECG technicians work in hospitals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7" name=""/>
          <p:cNvSpPr/>
          <p:nvPr/>
        </p:nvSpPr>
        <p:spPr>
          <a:xfrm>
            <a:off x="593640" y="2303640"/>
            <a:ext cx="18432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685800" y="3505320"/>
            <a:ext cx="2666880" cy="198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831E2-1B57-4847-86E3-A059D321843A}" type="slidenum">
              <a:t>18</a:t>
            </a:fld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llied Health Professionals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457200" y="1828800"/>
          <a:ext cx="8381520" cy="4275000"/>
        </p:xfrm>
        <a:graphic>
          <a:graphicData uri="http://schemas.openxmlformats.org/drawingml/2006/table">
            <a:tbl>
              <a:tblPr/>
              <a:tblGrid>
                <a:gridCol w="2561040"/>
                <a:gridCol w="5820480"/>
              </a:tblGrid>
              <a:tr h="60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scipline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166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Massage Therap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Promotes muscle and full body relaxation;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increases circulation and lymph flow 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One of the oldest methods to promote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healing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200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Medical Administrative Assistant 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Provides administrative support to medical,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professional, and technical personnel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Transcribing dictation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Composing correspondence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Works in hospitals, clinics, etc.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295280" y="2895480"/>
            <a:ext cx="901800" cy="106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7D273-FB90-4422-B718-53CA600309CC}" type="slidenum">
              <a:t>19</a:t>
            </a:fld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57200" y="1981080"/>
            <a:ext cx="8381880" cy="41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7800" indent="-577800">
              <a:lnSpc>
                <a:spcPct val="100000"/>
              </a:lnSpc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2.1 Describe medical specialties and specialists.</a:t>
            </a: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  <a:p>
            <a:pPr marL="577800" indent="-577800">
              <a:lnSpc>
                <a:spcPct val="50000"/>
              </a:lnSpc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  <a:p>
            <a:pPr marL="577800" indent="-577800">
              <a:lnSpc>
                <a:spcPct val="100000"/>
              </a:lnSpc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2.2 Explain the purpose of the American Board of Medical Specialties.</a:t>
            </a: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  <a:p>
            <a:pPr marL="577800" indent="-577800">
              <a:lnSpc>
                <a:spcPct val="50000"/>
              </a:lnSpc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  <a:p>
            <a:pPr marL="577800" indent="-577800">
              <a:lnSpc>
                <a:spcPct val="100000"/>
              </a:lnSpc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2.3 Describe the duties of several types of allied health professionals with whom medical assistants may work.</a:t>
            </a: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  <a:p>
            <a:pPr marL="577800" indent="-577800">
              <a:lnSpc>
                <a:spcPct val="50000"/>
              </a:lnSpc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  <a:p>
            <a:pPr marL="577800" indent="-577800">
              <a:lnSpc>
                <a:spcPct val="100000"/>
              </a:lnSpc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2.4 Name professional associations that may help advance a medical assistant’s career.</a:t>
            </a: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Learning Outcom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D888A-AAC0-40EE-8F03-051D86093DFB}" type="slidenum">
              <a:t>2</a:t>
            </a:fld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2" dur="50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llied Health Professionals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457200" y="1828800"/>
          <a:ext cx="8381520" cy="4357800"/>
        </p:xfrm>
        <a:graphic>
          <a:graphicData uri="http://schemas.openxmlformats.org/drawingml/2006/table">
            <a:tbl>
              <a:tblPr/>
              <a:tblGrid>
                <a:gridCol w="2172960"/>
                <a:gridCol w="6208560"/>
              </a:tblGrid>
              <a:tr h="672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scipline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175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Medical Billing and Coding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Extraction and coding of medical information from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patient records 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Preparation of insurance claims to maximize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reimbursement and ensure ethical standards in the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profession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192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Medical Records Technolog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Organizes, analyzes, and evaluates medical records 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Compiles administrative and health statistics, code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symptoms, and inputs and retrieves computerized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health data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Registered Records Administrator (RRA)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and Accredited Records Technician (ART)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4" name=""/>
          <p:cNvSpPr txBox="1"/>
          <p:nvPr/>
        </p:nvSpPr>
        <p:spPr>
          <a:xfrm>
            <a:off x="685800" y="3657600"/>
            <a:ext cx="38088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80408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CPT</a:t>
            </a:r>
            <a:endParaRPr b="0" i="1" lang="en-US" sz="1800" spc="1" strike="noStrike">
              <a:ln w="6480">
                <a:solidFill>
                  <a:srgbClr val="000000"/>
                </a:solidFill>
                <a:miter/>
              </a:ln>
              <a:solidFill>
                <a:srgbClr val="80408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752480" y="3657600"/>
            <a:ext cx="60984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5f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ICD-9</a:t>
            </a:r>
            <a:endParaRPr b="0" i="1" lang="en-US" sz="1800" spc="1" strike="noStrike">
              <a:ln w="6480">
                <a:solidFill>
                  <a:srgbClr val="000000"/>
                </a:solidFill>
                <a:miter/>
              </a:ln>
              <a:solidFill>
                <a:srgbClr val="5f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990720" y="3352680"/>
            <a:ext cx="838080" cy="1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fff0a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HCPCS</a:t>
            </a:r>
            <a:endParaRPr b="0" i="1" lang="en-US" sz="1800" spc="1" strike="noStrike">
              <a:ln w="6480">
                <a:solidFill>
                  <a:srgbClr val="000000"/>
                </a:solidFill>
                <a:miter/>
              </a:ln>
              <a:solidFill>
                <a:srgbClr val="fff0a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4CBE1-EC08-4F46-964E-5E0E9D0B10F8}" type="slidenum">
              <a:t>20</a:t>
            </a:fld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llied Health Professionals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457200" y="1828800"/>
          <a:ext cx="8381520" cy="4156200"/>
        </p:xfrm>
        <a:graphic>
          <a:graphicData uri="http://schemas.openxmlformats.org/drawingml/2006/table">
            <a:tbl>
              <a:tblPr/>
              <a:tblGrid>
                <a:gridCol w="2172960"/>
                <a:gridCol w="6208560"/>
              </a:tblGrid>
              <a:tr h="65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scipline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350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Medical Office Administrator / Manager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Manages the practice of a physician or a group practice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Coordinates records and filing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Oversees office staff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May also greet patients, make appointments, and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perform general secretarial task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Requires knowledge of 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Computer application software</a:t>
                      </a:r>
                      <a:endParaRPr b="0" lang="en-US" sz="1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Advanced document processing skills</a:t>
                      </a:r>
                      <a:endParaRPr b="0" lang="en-US" sz="1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Accounting </a:t>
                      </a:r>
                      <a:endParaRPr b="0" lang="en-US" sz="1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307F4-00B8-4131-86BB-7FAB1196BCF6}" type="slidenum">
              <a:t>21</a:t>
            </a:fld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llied Health Professionals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533520" y="1828800"/>
          <a:ext cx="8305560" cy="4173480"/>
        </p:xfrm>
        <a:graphic>
          <a:graphicData uri="http://schemas.openxmlformats.org/drawingml/2006/table">
            <a:tbl>
              <a:tblPr/>
              <a:tblGrid>
                <a:gridCol w="216000"/>
                <a:gridCol w="2268000"/>
                <a:gridCol w="5821560"/>
              </a:tblGrid>
              <a:tr h="520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scipline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>
                      <a:noFill/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4080"/>
                          </a:solidFill>
                          <a:latin typeface="Times New Roman"/>
                        </a:rPr>
                        <a:t>Medical Technology – includes:</a:t>
                      </a:r>
                      <a:r>
                        <a:rPr b="1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403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Clinical Laboratory Technician (CLT)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Performs lab tests under supervision of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physicians or medical technologist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1- or 2-year degree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Works in hospital labs, clinics, etc.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1745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Medical Technolog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Performs lab tests and procedures such as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examining body fluids and tissue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Has a 4-year degree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Works in  clinics, industry, hospitals,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 research, etc.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1BDD6-050A-4EF5-899A-1E9DF56F9956}" type="slidenum">
              <a:t>22</a:t>
            </a:fld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llied Health Professionals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457200" y="1828800"/>
          <a:ext cx="8381520" cy="4421160"/>
        </p:xfrm>
        <a:graphic>
          <a:graphicData uri="http://schemas.openxmlformats.org/drawingml/2006/table">
            <a:tbl>
              <a:tblPr/>
              <a:tblGrid>
                <a:gridCol w="2250360"/>
                <a:gridCol w="6131160"/>
              </a:tblGrid>
              <a:tr h="62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scipline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143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Medical Transcription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Translates a physician’s dictation into comprehensive,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 typed record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Works in attorney offices, insurance companies,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hospitals, physician offices, clinics, and laboratorie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235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Mental Health Technician </a:t>
                      </a:r>
                      <a:r>
                        <a:rPr b="0" lang="en-US" sz="18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(Psychiatric Aide or Counselor)</a:t>
                      </a:r>
                      <a:endParaRPr b="0" lang="en-US" sz="1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Participates in supervising group therapy and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counseling sessions 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Works with emotionally disturbed and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 mentally challenged patients 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Work settings include psychiatric clinics, crisis centers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and shelters, hospital psychiatric units, and specialized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nursing home setting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467CF-BDFE-4B51-9CB8-681F6EEC9BBE}" type="slidenum">
              <a:t>23</a:t>
            </a:fld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llied Health Professionals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457200" y="1828800"/>
          <a:ext cx="8457840" cy="4295880"/>
        </p:xfrm>
        <a:graphic>
          <a:graphicData uri="http://schemas.openxmlformats.org/drawingml/2006/table">
            <a:tbl>
              <a:tblPr/>
              <a:tblGrid>
                <a:gridCol w="2270880"/>
                <a:gridCol w="61869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scipline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391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Nuclear Medicine Technolog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Completes either a 2-year or 4-year program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Works in hospitals, physician offices, or public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 health institutions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uties include: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Overseeing quality control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Preparing and administering radioactive drug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Operating radiation detection instrument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Positioning patient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Performing imaging procedure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609480" y="4114800"/>
            <a:ext cx="1866960" cy="1428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72E50-B814-44D0-838B-C44E1BCEFBFC}" type="slidenum">
              <a:t>24</a:t>
            </a:fld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llied Health Professionals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457200" y="1828800"/>
          <a:ext cx="8381520" cy="4302000"/>
        </p:xfrm>
        <a:graphic>
          <a:graphicData uri="http://schemas.openxmlformats.org/drawingml/2006/table">
            <a:tbl>
              <a:tblPr/>
              <a:tblGrid>
                <a:gridCol w="2250360"/>
                <a:gridCol w="6131160"/>
              </a:tblGrid>
              <a:tr h="70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scipline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360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Occupational Therap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Helps patients attain maximum physical and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mental health through the use of educational,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vocational, and rehabilitation activities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Has a 4-year degree plus 9- to 12-month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internship at an accredited hospital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Work settings include: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Hospital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Government agency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Rehabilitation hospital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DC9B9-D2E7-4B41-8693-4A12DC2E40BB}" type="slidenum">
              <a:t>25</a:t>
            </a:fld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llied Health Professionals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380880" y="1828800"/>
          <a:ext cx="8534520" cy="3962520"/>
        </p:xfrm>
        <a:graphic>
          <a:graphicData uri="http://schemas.openxmlformats.org/drawingml/2006/table">
            <a:tbl>
              <a:tblPr/>
              <a:tblGrid>
                <a:gridCol w="2292480"/>
                <a:gridCol w="6242040"/>
              </a:tblGrid>
              <a:tr h="70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scipline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326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Pharmacy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spensing of medications and health supplies 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Employment in hospitals, clinics, nursing homes,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pharmaceutical companies, or private or chain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pharmacies 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Three levels of educational training for pharmacy</a:t>
                      </a:r>
                      <a:r>
                        <a:rPr b="1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career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Pharmacist Technician (CPhT) -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2 year programs 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R</a:t>
                      </a:r>
                      <a:r>
                        <a:rPr b="1" lang="en-US" sz="1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egistered Pharmacist (RPh) -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5 years of college </a:t>
                      </a:r>
                      <a:r>
                        <a:rPr b="0" lang="en-US" sz="1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octor of Pharmacy (PharmD) - </a:t>
                      </a:r>
                      <a:r>
                        <a:rPr b="1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6 to 7 years of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college with residency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685800" y="3657600"/>
            <a:ext cx="1819440" cy="1689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AD5EA-BE79-4C31-AAFC-B64C5EB346C8}" type="slidenum">
              <a:t>26</a:t>
            </a:fld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llied Health Professionals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457200" y="1828800"/>
          <a:ext cx="8381520" cy="4302000"/>
        </p:xfrm>
        <a:graphic>
          <a:graphicData uri="http://schemas.openxmlformats.org/drawingml/2006/table">
            <a:tbl>
              <a:tblPr/>
              <a:tblGrid>
                <a:gridCol w="2250360"/>
                <a:gridCol w="6131160"/>
              </a:tblGrid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scipline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35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Phlebotom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raws blood for diagnostic laboratory testing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Receives advanced phlebotomy training that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allows him/her to draw blood under difficult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circumstances 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 lvl="4" marL="182880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fff0a0"/>
                        </a:buClr>
                        <a:buSzPct val="50000"/>
                        <a:buFont typeface="Wingdings" charset="2"/>
                        <a:buChar char=""/>
                        <a:tabLst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Most states require phlebotomists to be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certified by the National Phlebotomy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Association or registered by the American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Society of Clinical Pathologists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609480" y="3581280"/>
            <a:ext cx="1816200" cy="1425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216F0-9A98-4A25-ADDF-568C2DB53A23}" type="slidenum">
              <a:t>27</a:t>
            </a:fld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llied Health Professionals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457200" y="1828800"/>
          <a:ext cx="8381520" cy="4343400"/>
        </p:xfrm>
        <a:graphic>
          <a:graphicData uri="http://schemas.openxmlformats.org/drawingml/2006/table">
            <a:tbl>
              <a:tblPr/>
              <a:tblGrid>
                <a:gridCol w="2250360"/>
                <a:gridCol w="6131160"/>
              </a:tblGrid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scipline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358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Physical Therapist</a:t>
                      </a:r>
                      <a:r>
                        <a:rPr b="0" lang="en-US" sz="28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(PT)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Has a bachelor’s degree in physical therapy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and must pass a state board examination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May work in hospitals, rehabilitation centers,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outpatient clinics, private practice, or sports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medicine center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Improves patient functioning by using: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Electricity, heat, and cold 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Ultrasound and massage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Exercise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762120" y="3581280"/>
            <a:ext cx="1520640" cy="2486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193BE-2DA5-4D90-8875-913157471E32}" type="slidenum">
              <a:t>28</a:t>
            </a:fld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llied Health Professionals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457200" y="1828800"/>
          <a:ext cx="8381520" cy="4302000"/>
        </p:xfrm>
        <a:graphic>
          <a:graphicData uri="http://schemas.openxmlformats.org/drawingml/2006/table">
            <a:tbl>
              <a:tblPr/>
              <a:tblGrid>
                <a:gridCol w="2250360"/>
                <a:gridCol w="6131160"/>
              </a:tblGrid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scipline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354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Physician Assistant (PA)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Provides direct patient care under the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supervision of  a licensed physician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Training requirements vary; many states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 require certification and registration with the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 state medical board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Works in a variety of settings: private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 practice, nursing homes, hospitals, etc.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Some states allow PAs to write prescriptions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762120" y="3505320"/>
            <a:ext cx="1554120" cy="2341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5F930-D6F5-442D-ADD2-84746596919C}" type="slidenum">
              <a:t>29</a:t>
            </a:fld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50292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Medical assistants are an integral part of the health-care team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A working knowledge of specialties and allied health professionals enables the MA to function better as a member of the health-care team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773680" y="1905120"/>
            <a:ext cx="2776680" cy="3716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8241A-6B55-4959-B022-A8A327A11EE7}" type="slidenum">
              <a:t>3</a:t>
            </a:fld>
          </a:p>
        </p:txBody>
      </p:sp>
    </p:spTree>
  </p:cSld>
  <p:transition>
    <p:random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llied Health Professionals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457200" y="1828800"/>
          <a:ext cx="8381520" cy="4351320"/>
        </p:xfrm>
        <a:graphic>
          <a:graphicData uri="http://schemas.openxmlformats.org/drawingml/2006/table">
            <a:tbl>
              <a:tblPr/>
              <a:tblGrid>
                <a:gridCol w="2250360"/>
                <a:gridCol w="6131160"/>
              </a:tblGrid>
              <a:tr h="73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scipline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119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Radiographer </a:t>
                      </a:r>
                      <a:r>
                        <a:rPr b="0" lang="en-US" sz="20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(</a:t>
                      </a:r>
                      <a:r>
                        <a:rPr b="0" lang="en-US" sz="18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X-ray Technician)</a:t>
                      </a:r>
                      <a:endParaRPr b="0" lang="en-US" sz="1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Assists a radiologist in taking x-ray films 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May be employed in hospitals, physicians’ offices,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clinics, government agencies, etc.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241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Radiographic Technolog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Trained in x-ray theory and practical applications as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well as radioactive materials 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May specialize in radiation therapy, radiography, or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nuclear medicine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Works in hospitals, clinics, medical laboratories, and 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medical practice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762120" y="4648320"/>
            <a:ext cx="1447560" cy="1425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75D63-18C1-4410-BBA9-FB7E76BEE79D}" type="slidenum">
              <a:t>30</a:t>
            </a:fld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llied Health Professionals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457200" y="1828800"/>
          <a:ext cx="8381520" cy="4302000"/>
        </p:xfrm>
        <a:graphic>
          <a:graphicData uri="http://schemas.openxmlformats.org/drawingml/2006/table">
            <a:tbl>
              <a:tblPr/>
              <a:tblGrid>
                <a:gridCol w="2250360"/>
                <a:gridCol w="6131160"/>
              </a:tblGrid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scipline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354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Registered Dietitian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Also called </a:t>
                      </a:r>
                      <a:r>
                        <a:rPr b="1" lang="en-US" sz="20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nutritionist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Assists patients and family with nutrition planning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May prepare and serve food to group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Work settings include: 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Community health agencies </a:t>
                      </a:r>
                      <a:endParaRPr b="0" lang="en-US" sz="1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Hospitals</a:t>
                      </a:r>
                      <a:endParaRPr b="0" lang="en-US" sz="1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Clinics </a:t>
                      </a:r>
                      <a:endParaRPr b="0" lang="en-US" sz="1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Private practices </a:t>
                      </a:r>
                      <a:endParaRPr b="0" lang="en-US" sz="1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Teaching and consulting</a:t>
                      </a:r>
                      <a:endParaRPr b="0" lang="en-US" sz="1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5800" y="3886200"/>
            <a:ext cx="1698480" cy="1830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1C942-1353-4302-8572-B33A37756319}" type="slidenum">
              <a:t>31</a:t>
            </a:fld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llied Health Professionals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457200" y="1828800"/>
          <a:ext cx="8381880" cy="4641840"/>
        </p:xfrm>
        <a:graphic>
          <a:graphicData uri="http://schemas.openxmlformats.org/drawingml/2006/table">
            <a:tbl>
              <a:tblPr/>
              <a:tblGrid>
                <a:gridCol w="2251080"/>
                <a:gridCol w="6130800"/>
              </a:tblGrid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scipline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38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Respiratory Therap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Works under the supervision of a physician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Works in hospitals, physicians’ offices,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 nursing homes, and commercial companies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Evaluates, treats, and cares for patients with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 respiratory problems such as: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Asthma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Emphysema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Pneumonia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Bronchiti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C99EC-1CF5-4035-92DC-FB9C177F05AE}" type="slidenum">
              <a:t>32</a:t>
            </a:fld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Nursing Career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457200" y="1828800"/>
          <a:ext cx="8305920" cy="4267080"/>
        </p:xfrm>
        <a:graphic>
          <a:graphicData uri="http://schemas.openxmlformats.org/drawingml/2006/table">
            <a:tbl>
              <a:tblPr/>
              <a:tblGrid>
                <a:gridCol w="2133720"/>
                <a:gridCol w="1752480"/>
                <a:gridCol w="441972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Training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Sample Duties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Nursing Aide/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Assistan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1 week to 3 months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Bed making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Vital signs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Bathing patients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222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Practical/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Vocational Nurse </a:t>
                      </a: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(LPN, LVN)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1 year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Vital signs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Medication administration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ressing changes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Assists registered nurses and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 physicians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F2AAB-F9FA-41EF-9ECE-E24D0D561C05}" type="slidenum">
              <a:t>33</a:t>
            </a:fld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gistered Nurse (RN)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457200" y="1828800"/>
          <a:ext cx="8305920" cy="3886200"/>
        </p:xfrm>
        <a:graphic>
          <a:graphicData uri="http://schemas.openxmlformats.org/drawingml/2006/table">
            <a:tbl>
              <a:tblPr/>
              <a:tblGrid>
                <a:gridCol w="5003640"/>
                <a:gridCol w="3302280"/>
              </a:tblGrid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Title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Training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101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Associate Degree RN </a:t>
                      </a: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(ADN)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2 years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Diploma RN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3 years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Baccalaureate RN </a:t>
                      </a: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(BSN)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4 years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0F523-7420-452E-A70F-94A6E960A733}" type="slidenum">
              <a:t>34</a:t>
            </a:fld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Nursing Career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457200" y="1828800"/>
          <a:ext cx="8305560" cy="4267080"/>
        </p:xfrm>
        <a:graphic>
          <a:graphicData uri="http://schemas.openxmlformats.org/drawingml/2006/table">
            <a:tbl>
              <a:tblPr/>
              <a:tblGrid>
                <a:gridCol w="2229840"/>
                <a:gridCol w="6075720"/>
              </a:tblGrid>
              <a:tr h="74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Title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352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Registered Nurse (RN)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RN designation once state boards are passed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 lvl="4" marL="182880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fff0a0"/>
                        </a:buClr>
                        <a:buSzPct val="50000"/>
                        <a:buFont typeface="Wingdings" charset="2"/>
                        <a:buChar char=""/>
                        <a:tabLst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Responsible for planning, providing, and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supervising bedside care of patients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 lvl="4" marL="182880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fff0a0"/>
                        </a:buClr>
                        <a:buSzPct val="50000"/>
                        <a:buFont typeface="Wingdings" charset="2"/>
                        <a:buChar char=""/>
                        <a:tabLst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Work settings include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804080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Hospitals, nursing homes, and physicians’ office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804080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Public health agencies and government agencie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804080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Educational setting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0FAD1-3C2F-4F44-A4EF-CDE4C3941664}" type="slidenum">
              <a:t>35</a:t>
            </a:fld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Nursing Careers </a:t>
            </a: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457200" y="1828800"/>
          <a:ext cx="8381520" cy="4302000"/>
        </p:xfrm>
        <a:graphic>
          <a:graphicData uri="http://schemas.openxmlformats.org/drawingml/2006/table">
            <a:tbl>
              <a:tblPr/>
              <a:tblGrid>
                <a:gridCol w="2250360"/>
                <a:gridCol w="6131160"/>
              </a:tblGrid>
              <a:tr h="74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Title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355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Nurse Practitioner (NP)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An RN that functions in an expanded role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Requires a minimum of a Master’s degree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and 4 to 12 months of formal training or an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apprenticeship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uties include: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Physical examination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Treating common illnesses and injurie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Many states allow NPs to write prescription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Patient education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3CCAE-FB60-451B-99E7-CD821A7A5717}" type="slidenum">
              <a:t>36</a:t>
            </a:fld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pply Your Knowledg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41360" y="3851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41360" y="18954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57200" y="1981080"/>
            <a:ext cx="8305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If you had to choose other health-care team members to plan the care for a 68-year-old patient recently diagnosed with a stroke, who has a history of seizure disorders, which would you choose, and why? </a:t>
            </a:r>
            <a:endParaRPr b="0" lang="en-US" sz="24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09480" y="3633840"/>
            <a:ext cx="8229600" cy="2716200"/>
          </a:xfrm>
          <a:prstGeom prst="rect">
            <a:avLst/>
          </a:prstGeom>
          <a:solidFill>
            <a:srgbClr val="fff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33"/>
                </a:solidFill>
                <a:uFillTx/>
                <a:latin typeface="Times New Roman"/>
              </a:rPr>
              <a:t>ANSWER:</a:t>
            </a:r>
            <a:r>
              <a:rPr b="0" lang="en-US" sz="1800" spc="-1" strike="noStrike">
                <a:solidFill>
                  <a:srgbClr val="000033"/>
                </a:solidFill>
                <a:latin typeface="Times New Roman"/>
              </a:rPr>
              <a:t> The health-care team members that might participate in this patient’s care are: </a:t>
            </a:r>
            <a:endParaRPr b="0" lang="en-US" sz="1800" spc="-1" strike="noStrike">
              <a:solidFill>
                <a:srgbClr val="0000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00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33"/>
                </a:solidFill>
                <a:latin typeface="Times New Roman"/>
              </a:rPr>
              <a:t>Physical therapist for decreased mobility due to stroke</a:t>
            </a:r>
            <a:endParaRPr b="0" lang="en-US" sz="1800" spc="-1" strike="noStrike">
              <a:solidFill>
                <a:srgbClr val="0000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00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33"/>
                </a:solidFill>
                <a:latin typeface="Times New Roman"/>
              </a:rPr>
              <a:t>Pharmacist to review medications</a:t>
            </a:r>
            <a:endParaRPr b="0" lang="en-US" sz="1800" spc="-1" strike="noStrike">
              <a:solidFill>
                <a:srgbClr val="0000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00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33"/>
                </a:solidFill>
                <a:latin typeface="Times New Roman"/>
              </a:rPr>
              <a:t>Nutritionist for dietary evaluation and possible modifications</a:t>
            </a:r>
            <a:endParaRPr b="0" lang="en-US" sz="1800" spc="-1" strike="noStrike">
              <a:solidFill>
                <a:srgbClr val="0000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00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33"/>
                </a:solidFill>
                <a:latin typeface="Times New Roman"/>
              </a:rPr>
              <a:t>EEG technician to perform EEG for brain electrical activity</a:t>
            </a:r>
            <a:endParaRPr b="0" lang="en-US" sz="1800" spc="-1" strike="noStrike">
              <a:solidFill>
                <a:srgbClr val="0000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00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33"/>
                </a:solidFill>
                <a:latin typeface="Times New Roman"/>
              </a:rPr>
              <a:t>Nursing staff (RN, LPN, CNA)</a:t>
            </a:r>
            <a:endParaRPr b="0" lang="en-US" sz="1800" spc="-1" strike="noStrike">
              <a:solidFill>
                <a:srgbClr val="0000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00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33"/>
                </a:solidFill>
                <a:latin typeface="Times New Roman"/>
              </a:rPr>
              <a:t>Other health-care professionals will also be part of the team!</a:t>
            </a:r>
            <a:endParaRPr b="0" lang="en-US" sz="1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705720" y="4572000"/>
            <a:ext cx="1676160" cy="762120"/>
          </a:xfrm>
          <a:prstGeom prst="flowChartOnlineStorage">
            <a:avLst/>
          </a:prstGeom>
          <a:solidFill>
            <a:srgbClr val="af5faf"/>
          </a:solidFill>
          <a:ln w="93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Good </a:t>
            </a:r>
            <a:br>
              <a:rPr sz="2400"/>
            </a:b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Job!</a:t>
            </a:r>
            <a:endParaRPr b="0" lang="en-US" sz="2400" spc="-1" strike="noStrike">
              <a:solidFill>
                <a:srgbClr val="000033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7543800" y="838080"/>
            <a:ext cx="244440" cy="24444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7467480" y="609480"/>
            <a:ext cx="882720" cy="1447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0E4CC-E862-499D-BE9C-BC4C7180DB02}" type="slidenum">
              <a:t>37</a:t>
            </a:fld>
          </a:p>
        </p:txBody>
      </p:sp>
    </p:spTree>
  </p:cSld>
  <p:transition>
    <p:random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1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1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3" dur="5761" fill="hold"/>
                                        <p:tgtEl>
                                          <p:spTgt spid="2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pecialty Career Options for MA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Require additional education or training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Many options available – check: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af5fa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Local and medical college librarie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af5fa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State employment agencie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af5fa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Health career opportunities in local newspaper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af5fa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Directly with companies where you might seek employment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54645-5256-42D4-9732-2DFDF5764D1D}" type="slidenum">
              <a:t>38</a:t>
            </a:fld>
          </a:p>
        </p:txBody>
      </p:sp>
    </p:spTree>
  </p:cSld>
  <p:transition>
    <p:random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pecialty Career Options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457200" y="1828800"/>
          <a:ext cx="8381520" cy="4392720"/>
        </p:xfrm>
        <a:graphic>
          <a:graphicData uri="http://schemas.openxmlformats.org/drawingml/2006/table">
            <a:tbl>
              <a:tblPr/>
              <a:tblGrid>
                <a:gridCol w="2250360"/>
                <a:gridCol w="61311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Specialty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145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Anesthetist’s Assistan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Provides anesthetic care under direct supervision of the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 anesthetist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Works in hospitals and high-technology surgical center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Assists in evaluating patient mental and physical statu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241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Certified Laboratory Assistan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Performs lab procedures such as bacteriology,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chemistry, hematology, parasitology, serology, and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urinalysi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Supervised by medical technologists or hospital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pathologist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Works in labs, clinics, physicians’ offices, etc.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7793B-85CC-44BA-8DD4-90D9C501FC19}" type="slidenum">
              <a:t>39</a:t>
            </a:fld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edical Specialties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Approximately 22 major medical specialties exist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Specialized medical care is driven by advances in diagnosing and treating various disease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5029200" y="4038480"/>
          <a:ext cx="3090960" cy="206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4038480"/>
                    <a:ext cx="3090960" cy="20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7" name=""/>
          <p:cNvGrpSpPr/>
          <p:nvPr/>
        </p:nvGrpSpPr>
        <p:grpSpPr>
          <a:xfrm>
            <a:off x="4267080" y="1828800"/>
            <a:ext cx="4572000" cy="3200400"/>
            <a:chOff x="4267080" y="1828800"/>
            <a:chExt cx="4572000" cy="3200400"/>
          </a:xfrm>
        </p:grpSpPr>
        <p:graphicFrame>
          <p:nvGraphicFramePr>
            <p:cNvPr id="108" name=""/>
            <p:cNvGraphicFramePr/>
            <p:nvPr/>
          </p:nvGraphicFramePr>
          <p:xfrm>
            <a:off x="5562720" y="1828800"/>
            <a:ext cx="1946160" cy="2075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562720" y="1828800"/>
                      <a:ext cx="1946160" cy="2075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0" name=""/>
            <p:cNvSpPr/>
            <p:nvPr/>
          </p:nvSpPr>
          <p:spPr>
            <a:xfrm>
              <a:off x="5410080" y="1981080"/>
              <a:ext cx="2210040" cy="914400"/>
            </a:xfrm>
            <a:prstGeom prst="flowChartAlternateProcess">
              <a:avLst/>
            </a:prstGeom>
            <a:solidFill>
              <a:srgbClr val="fff0a0"/>
            </a:solidFill>
            <a:ln w="5724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33"/>
                  </a:solidFill>
                  <a:latin typeface="Times New Roman"/>
                </a:rPr>
                <a:t>Cardiology</a:t>
              </a:r>
              <a:endParaRPr b="0" lang="en-US" sz="2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553080" y="2895480"/>
              <a:ext cx="0" cy="533520"/>
            </a:xfrm>
            <a:prstGeom prst="line">
              <a:avLst/>
            </a:prstGeom>
            <a:ln w="5724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257800" y="3429000"/>
              <a:ext cx="2666880" cy="0"/>
            </a:xfrm>
            <a:prstGeom prst="line">
              <a:avLst/>
            </a:prstGeom>
            <a:ln w="3816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57800" y="3429000"/>
              <a:ext cx="0" cy="609480"/>
            </a:xfrm>
            <a:prstGeom prst="line">
              <a:avLst/>
            </a:prstGeom>
            <a:ln w="5724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924680" y="3429000"/>
              <a:ext cx="0" cy="609480"/>
            </a:xfrm>
            <a:prstGeom prst="line">
              <a:avLst/>
            </a:prstGeom>
            <a:ln w="5724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267080" y="4038480"/>
              <a:ext cx="1905120" cy="990720"/>
            </a:xfrm>
            <a:prstGeom prst="roundRect">
              <a:avLst>
                <a:gd name="adj" fmla="val 16667"/>
              </a:avLst>
            </a:prstGeom>
            <a:solidFill>
              <a:srgbClr val="fff0a0"/>
            </a:solidFill>
            <a:ln w="5724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33"/>
                  </a:solidFill>
                  <a:latin typeface="Times New Roman"/>
                </a:rPr>
                <a:t>Pediatrics</a:t>
              </a:r>
              <a:endParaRPr b="0" lang="en-US" sz="2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858000" y="4038480"/>
              <a:ext cx="1981080" cy="990720"/>
            </a:xfrm>
            <a:prstGeom prst="roundRect">
              <a:avLst>
                <a:gd name="adj" fmla="val 16667"/>
              </a:avLst>
            </a:prstGeom>
            <a:solidFill>
              <a:srgbClr val="fff0a0"/>
            </a:solidFill>
            <a:ln w="5724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33"/>
                  </a:solidFill>
                  <a:latin typeface="Times New Roman"/>
                </a:rPr>
                <a:t>Adult</a:t>
              </a:r>
              <a:endParaRPr b="0" lang="en-US" sz="2800" spc="-1" strike="noStrike">
                <a:solidFill>
                  <a:srgbClr val="000033"/>
                </a:solidFill>
                <a:latin typeface="Arial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4338720" y="5334120"/>
            <a:ext cx="4444920" cy="703800"/>
          </a:xfrm>
          <a:prstGeom prst="rect">
            <a:avLst/>
          </a:pr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3"/>
                </a:solidFill>
                <a:latin typeface="Times New Roman"/>
              </a:rPr>
              <a:t>Note</a:t>
            </a:r>
            <a:r>
              <a:rPr b="0" lang="en-US" sz="2000" spc="-1" strike="noStrike">
                <a:solidFill>
                  <a:srgbClr val="000033"/>
                </a:solidFill>
                <a:latin typeface="Times New Roman"/>
              </a:rPr>
              <a:t>: Cardiology = </a:t>
            </a:r>
            <a:r>
              <a:rPr b="1" i="1" lang="en-US" sz="2000" spc="-1" strike="noStrike">
                <a:solidFill>
                  <a:srgbClr val="000033"/>
                </a:solidFill>
                <a:latin typeface="Times New Roman"/>
              </a:rPr>
              <a:t>specialty</a:t>
            </a:r>
            <a:endParaRPr b="0" lang="en-US" sz="2000" spc="-1" strike="noStrike">
              <a:solidFill>
                <a:srgbClr val="0000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33"/>
                </a:solidFill>
                <a:latin typeface="Times New Roman"/>
              </a:rPr>
              <a:t>          </a:t>
            </a:r>
            <a:r>
              <a:rPr b="0" lang="en-US" sz="2000" spc="-1" strike="noStrike">
                <a:solidFill>
                  <a:srgbClr val="000033"/>
                </a:solidFill>
                <a:latin typeface="Times New Roman"/>
              </a:rPr>
              <a:t>Pediatrics and Adult = </a:t>
            </a:r>
            <a:r>
              <a:rPr b="1" i="1" lang="en-US" sz="2000" spc="-1" strike="noStrike">
                <a:solidFill>
                  <a:srgbClr val="000033"/>
                </a:solidFill>
                <a:latin typeface="Times New Roman"/>
              </a:rPr>
              <a:t>subspecialty</a:t>
            </a:r>
            <a:endParaRPr b="0" lang="en-US" sz="20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353F0-494F-4A75-A83F-E360546F0163}" type="slidenum">
              <a:t>4</a:t>
            </a:fld>
          </a:p>
        </p:txBody>
      </p:sp>
    </p:spTree>
  </p:cSld>
  <p:transition>
    <p:random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pecialty Career Options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457200" y="1828800"/>
          <a:ext cx="8381520" cy="4245120"/>
        </p:xfrm>
        <a:graphic>
          <a:graphicData uri="http://schemas.openxmlformats.org/drawingml/2006/table">
            <a:tbl>
              <a:tblPr/>
              <a:tblGrid>
                <a:gridCol w="2250360"/>
                <a:gridCol w="61311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Specialty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180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Dental Assistan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Can practice without formal education or training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Performs both administrative and lab function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Works in private practice, clinics, schools, local health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agencies, and for insurance companie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211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Emergency Medical Technician / Paramedic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Referred to as an EMT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Trained to triage patients and follow instructions from a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physician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Works for an ambulance service or in fire department,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hospital emergency room, or private industry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990720" y="2819520"/>
            <a:ext cx="934920" cy="981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D20BE-E20A-452B-9FEB-D1BEDBED65CE}" type="slidenum">
              <a:t>40</a:t>
            </a:fld>
          </a:p>
        </p:txBody>
      </p:sp>
    </p:spTree>
  </p:cSld>
  <p:transition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pecialty Career Options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457200" y="1828800"/>
          <a:ext cx="8305560" cy="4302000"/>
        </p:xfrm>
        <a:graphic>
          <a:graphicData uri="http://schemas.openxmlformats.org/drawingml/2006/table">
            <a:tbl>
              <a:tblPr/>
              <a:tblGrid>
                <a:gridCol w="2229840"/>
                <a:gridCol w="6075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Specialty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144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Occupational Therapist Assistan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Supervised by occupational therapist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Teaches fine motor skills, occupations, and the arts to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patients with mental and physical disabilitie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Earns a 2-year degree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234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Ophthalmic Assistan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Assists ophthalmologist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Performs simple vision testing and other procedure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Three ophthalmic career levels: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Technologist</a:t>
                      </a:r>
                      <a:endParaRPr b="0" lang="en-US" sz="1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Technician</a:t>
                      </a:r>
                      <a:endParaRPr b="0" lang="en-US" sz="1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Assistant</a:t>
                      </a:r>
                      <a:endParaRPr b="0" lang="en-US" sz="1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38080" y="4724280"/>
            <a:ext cx="1219320" cy="1117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109A7-F23C-4192-B160-5CDEFD1F9805}" type="slidenum">
              <a:t>41</a:t>
            </a:fld>
          </a:p>
        </p:txBody>
      </p:sp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pecialty Career Options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457200" y="1828800"/>
          <a:ext cx="8305560" cy="4351320"/>
        </p:xfrm>
        <a:graphic>
          <a:graphicData uri="http://schemas.openxmlformats.org/drawingml/2006/table">
            <a:tbl>
              <a:tblPr/>
              <a:tblGrid>
                <a:gridCol w="2537640"/>
                <a:gridCol w="5767920"/>
              </a:tblGrid>
              <a:tr h="76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Specialty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174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Pathologist Assistan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Supervised by a pathologist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Some work with forensic and/or anatomic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pathologist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Performs laboratory duties and some administrative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function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184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Pediatric Medical Assistan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Assists the pediatrician with administrative and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clinical duties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Works in private practice, hospitals, and clinic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1676520" y="4876920"/>
            <a:ext cx="974520" cy="1066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8E2AA-C676-4AD6-BBA1-7E4000F9A2D8}" type="slidenum">
              <a:t>42</a:t>
            </a:fld>
          </a:p>
        </p:txBody>
      </p:sp>
    </p:spTree>
  </p:cSld>
  <p:transition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pecialty Career Options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457200" y="1828800"/>
          <a:ext cx="8381520" cy="4262400"/>
        </p:xfrm>
        <a:graphic>
          <a:graphicData uri="http://schemas.openxmlformats.org/drawingml/2006/table">
            <a:tbl>
              <a:tblPr/>
              <a:tblGrid>
                <a:gridCol w="2017440"/>
                <a:gridCol w="6364080"/>
              </a:tblGrid>
              <a:tr h="627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Specialty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173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Pharmacy Technician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Performs routine tasks related to record keeping and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preparing and dispensing medication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Works in hospitals, pharmaceutical firms, and wholesale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pharmacie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190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Physical Therapy Assistan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Works directly under the physical therapist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Performs tests and treatment procedure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Observes and documents patient responses to therapy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Works in hospitals, rehabilitation centers, nursing homes,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 etc.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838080" y="3200400"/>
            <a:ext cx="1332000" cy="90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D5ACC-262B-47D3-BC0D-D2D2062AB65F}" type="slidenum">
              <a:t>43</a:t>
            </a:fld>
          </a:p>
        </p:txBody>
      </p:sp>
    </p:spTree>
  </p:cSld>
  <p:transition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pecialty Career Options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457200" y="1828800"/>
          <a:ext cx="8305560" cy="4413240"/>
        </p:xfrm>
        <a:graphic>
          <a:graphicData uri="http://schemas.openxmlformats.org/drawingml/2006/table">
            <a:tbl>
              <a:tblPr/>
              <a:tblGrid>
                <a:gridCol w="2229840"/>
                <a:gridCol w="6075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Specialty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187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Radiation Therapy Technolog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Assists the radiologist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Maintains radiation treatment equipment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Completes a 2-or 4-year education program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Works in hospitals, labs, clinics, and physicians’ office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 lvl="4" marL="18288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fff0a0"/>
                        </a:buClr>
                        <a:buSzPct val="50000"/>
                        <a:buFont typeface="Wingdings" charset="2"/>
                        <a:buChar char=""/>
                        <a:tabLst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205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Respiratory Therapy Technician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Works under supervision of physician and respiratory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therapist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Performs artificial ventilation and maintains respiratory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equipment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Works in hospitals, physician offices, nursing homes,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 etc.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572E4-2DEF-4C5A-BF05-F212C3248BC8}" type="slidenum">
              <a:t>44</a:t>
            </a:fld>
          </a:p>
        </p:txBody>
      </p:sp>
    </p:spTree>
  </p:cSld>
  <p:transition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pecialty Career Options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457200" y="1828800"/>
          <a:ext cx="8381520" cy="4338720"/>
        </p:xfrm>
        <a:graphic>
          <a:graphicData uri="http://schemas.openxmlformats.org/drawingml/2006/table">
            <a:tbl>
              <a:tblPr/>
              <a:tblGrid>
                <a:gridCol w="2250360"/>
                <a:gridCol w="6131160"/>
              </a:tblGrid>
              <a:tr h="627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Specialty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181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Speech / Language Patholog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Evaluates, diagnoses, and  counsels patients with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communication problems like stuttering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Usually has a Master’s Degree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Works in schools, hospitals, research settings, or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private practice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190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Surgical Technician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Completes a 2-year or 4-year degree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Provides patient services under direct supervision of a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surgeon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Performs diagnostic and therapeutic procedure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Works primarily in hospital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1143000" y="5105520"/>
            <a:ext cx="981000" cy="987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12B55-A22C-4667-8D3B-084903560308}" type="slidenum">
              <a:t>45</a:t>
            </a:fld>
          </a:p>
        </p:txBody>
      </p:sp>
    </p:spTree>
  </p:cSld>
  <p:transition>
    <p:random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ofessional Associatio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Involvement in issues and activities relevant to your profession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Opportunities for continuing</a:t>
            </a:r>
            <a:br>
              <a:rPr sz="3200"/>
            </a:b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education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6019920" y="3505320"/>
            <a:ext cx="2516040" cy="21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7AD74-A45B-4A8E-A020-9B2634A063BA}" type="slidenum">
              <a:t>46</a:t>
            </a:fld>
          </a:p>
        </p:txBody>
      </p:sp>
    </p:spTree>
  </p:cSld>
  <p:transition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ofessional Associations </a:t>
            </a: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05240" y="2133720"/>
            <a:ext cx="7866360" cy="520560"/>
          </a:xfrm>
          <a:prstGeom prst="rect">
            <a:avLst/>
          </a:prstGeom>
          <a:noFill/>
          <a:ln w="38160">
            <a:solidFill>
              <a:srgbClr val="5f00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American Association of Medical Assistants </a:t>
            </a:r>
            <a:r>
              <a:rPr b="1" i="1" lang="en-US" sz="2800" spc="-1" strike="noStrike">
                <a:solidFill>
                  <a:srgbClr val="000033"/>
                </a:solidFill>
                <a:latin typeface="Times New Roman"/>
              </a:rPr>
              <a:t>(AAMA)</a:t>
            </a: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25440" y="2971800"/>
            <a:ext cx="8439120" cy="520560"/>
          </a:xfrm>
          <a:prstGeom prst="rect">
            <a:avLst/>
          </a:prstGeom>
          <a:noFill/>
          <a:ln w="38160">
            <a:solidFill>
              <a:srgbClr val="8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American Association for Medical Transcription </a:t>
            </a:r>
            <a:r>
              <a:rPr b="1" i="1" lang="en-US" sz="2800" spc="-1" strike="noStrike">
                <a:solidFill>
                  <a:srgbClr val="000033"/>
                </a:solidFill>
                <a:latin typeface="Times New Roman"/>
              </a:rPr>
              <a:t>(AAMT)</a:t>
            </a: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535480" y="3886200"/>
            <a:ext cx="5784480" cy="520560"/>
          </a:xfrm>
          <a:prstGeom prst="rect">
            <a:avLst/>
          </a:prstGeom>
          <a:noFill/>
          <a:ln w="38160">
            <a:solidFill>
              <a:srgbClr val="5f00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American College of Physicians </a:t>
            </a:r>
            <a:r>
              <a:rPr b="1" i="1" lang="en-US" sz="2800" spc="-1" strike="noStrike">
                <a:solidFill>
                  <a:srgbClr val="000033"/>
                </a:solidFill>
                <a:latin typeface="Times New Roman"/>
              </a:rPr>
              <a:t>(ACP)</a:t>
            </a: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29640" y="4724280"/>
            <a:ext cx="5716080" cy="520560"/>
          </a:xfrm>
          <a:prstGeom prst="rect">
            <a:avLst/>
          </a:prstGeom>
          <a:noFill/>
          <a:ln w="38160">
            <a:solidFill>
              <a:srgbClr val="8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American Hospital Association </a:t>
            </a:r>
            <a:r>
              <a:rPr b="1" i="1" lang="en-US" sz="2800" spc="-1" strike="noStrike">
                <a:solidFill>
                  <a:srgbClr val="000033"/>
                </a:solidFill>
                <a:latin typeface="Times New Roman"/>
              </a:rPr>
              <a:t>(AHA)</a:t>
            </a: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773360" y="5638680"/>
            <a:ext cx="5712840" cy="520560"/>
          </a:xfrm>
          <a:prstGeom prst="rect">
            <a:avLst/>
          </a:prstGeom>
          <a:noFill/>
          <a:ln w="38160">
            <a:solidFill>
              <a:srgbClr val="5f00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American Medical Association </a:t>
            </a:r>
            <a:r>
              <a:rPr b="1" i="1" lang="en-US" sz="2800" spc="-1" strike="noStrike">
                <a:solidFill>
                  <a:srgbClr val="000033"/>
                </a:solidFill>
                <a:latin typeface="Times New Roman"/>
              </a:rPr>
              <a:t>(AMA)</a:t>
            </a: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E38C7-E898-4018-80FF-1D2790635C2D}" type="slidenum">
              <a:t>47</a:t>
            </a:fld>
          </a:p>
        </p:txBody>
      </p:sp>
    </p:spTree>
  </p:cSld>
  <p:transition>
    <p:random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ofessional Associations </a:t>
            </a: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78080" y="2133720"/>
            <a:ext cx="5871240" cy="520560"/>
          </a:xfrm>
          <a:prstGeom prst="rect">
            <a:avLst/>
          </a:prstGeom>
          <a:noFill/>
          <a:ln w="38160">
            <a:solidFill>
              <a:srgbClr val="5f00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American Medical Technologist </a:t>
            </a:r>
            <a:r>
              <a:rPr b="1" i="1" lang="en-US" sz="2800" spc="-1" strike="noStrike">
                <a:solidFill>
                  <a:srgbClr val="000033"/>
                </a:solidFill>
                <a:latin typeface="Times New Roman"/>
              </a:rPr>
              <a:t>(AMT)</a:t>
            </a: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850040" y="3124080"/>
            <a:ext cx="6837480" cy="520560"/>
          </a:xfrm>
          <a:prstGeom prst="rect">
            <a:avLst/>
          </a:prstGeom>
          <a:noFill/>
          <a:ln w="38160">
            <a:solidFill>
              <a:srgbClr val="8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American Pharmaceutical Association </a:t>
            </a:r>
            <a:r>
              <a:rPr b="1" i="1" lang="en-US" sz="2800" spc="-1" strike="noStrike">
                <a:solidFill>
                  <a:srgbClr val="000033"/>
                </a:solidFill>
                <a:latin typeface="Times New Roman"/>
              </a:rPr>
              <a:t>(APhA)</a:t>
            </a: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99960" y="4114800"/>
            <a:ext cx="7377120" cy="520560"/>
          </a:xfrm>
          <a:prstGeom prst="rect">
            <a:avLst/>
          </a:prstGeom>
          <a:noFill/>
          <a:ln w="38160">
            <a:solidFill>
              <a:srgbClr val="5f00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American Society of Clinical Pathologists </a:t>
            </a:r>
            <a:r>
              <a:rPr b="1" i="1" lang="en-US" sz="2800" spc="-1" strike="noStrike">
                <a:solidFill>
                  <a:srgbClr val="000033"/>
                </a:solidFill>
                <a:latin typeface="Times New Roman"/>
              </a:rPr>
              <a:t>(ASCP)</a:t>
            </a: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934560" y="5181480"/>
            <a:ext cx="7849440" cy="520560"/>
          </a:xfrm>
          <a:prstGeom prst="rect">
            <a:avLst/>
          </a:prstGeom>
          <a:noFill/>
          <a:ln w="38160">
            <a:solidFill>
              <a:srgbClr val="8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American Society of Phlebotomy Technicians </a:t>
            </a:r>
            <a:r>
              <a:rPr b="1" i="1" lang="en-US" sz="2800" spc="-1" strike="noStrike">
                <a:solidFill>
                  <a:srgbClr val="000033"/>
                </a:solidFill>
                <a:latin typeface="Times New Roman"/>
              </a:rPr>
              <a:t>(ASPI)</a:t>
            </a: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D937F-B533-4602-91C3-1C2DAEDDE33C}" type="slidenum">
              <a:t>48</a:t>
            </a:fld>
          </a:p>
        </p:txBody>
      </p:sp>
    </p:spTree>
  </p:cSld>
  <p:transition>
    <p:random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JCAH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90000"/>
              </a:lnSpc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Non-profit organization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64760" indent="-464760">
              <a:lnSpc>
                <a:spcPct val="90000"/>
              </a:lnSpc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Goal is to maintain and elevate the standards of health-care delivery by health-care organizations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898560" indent="-431640">
              <a:lnSpc>
                <a:spcPct val="90000"/>
              </a:lnSpc>
              <a:spcBef>
                <a:spcPts val="700"/>
              </a:spcBef>
              <a:buClr>
                <a:srgbClr val="af5fa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Evaluation 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898560" indent="-431640">
              <a:lnSpc>
                <a:spcPct val="90000"/>
              </a:lnSpc>
              <a:spcBef>
                <a:spcPts val="700"/>
              </a:spcBef>
              <a:buClr>
                <a:srgbClr val="af5fa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Accreditation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4760" indent="-464760">
              <a:lnSpc>
                <a:spcPct val="90000"/>
              </a:lnSpc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Accreditation is significant factor in gaining reimbursement from Medicare and managed care organizations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44DD1-3D6A-44F1-AC10-6D7BE7ED6389}" type="slidenum">
              <a:t>49</a:t>
            </a:fld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hysician Education and Licensur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2666880" y="1981080"/>
            <a:ext cx="3809880" cy="990360"/>
            <a:chOff x="2666880" y="1981080"/>
            <a:chExt cx="3809880" cy="990360"/>
          </a:xfrm>
        </p:grpSpPr>
        <p:sp>
          <p:nvSpPr>
            <p:cNvPr id="120" name=""/>
            <p:cNvSpPr/>
            <p:nvPr/>
          </p:nvSpPr>
          <p:spPr>
            <a:xfrm>
              <a:off x="2666880" y="1981080"/>
              <a:ext cx="3809880" cy="685800"/>
            </a:xfrm>
            <a:prstGeom prst="rect">
              <a:avLst/>
            </a:prstGeom>
            <a:solidFill>
              <a:srgbClr val="fff0a0"/>
            </a:solidFill>
            <a:ln w="190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33"/>
                  </a:solidFill>
                  <a:latin typeface="Times New Roman"/>
                </a:rPr>
                <a:t>Bachelor’s Degree</a:t>
              </a:r>
              <a:endParaRPr b="0" lang="en-US" sz="2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495680" y="2666880"/>
              <a:ext cx="0" cy="304560"/>
            </a:xfrm>
            <a:prstGeom prst="line">
              <a:avLst/>
            </a:prstGeom>
            <a:ln w="9360">
              <a:solidFill>
                <a:srgbClr val="00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1371600" y="2971800"/>
            <a:ext cx="6705720" cy="1219320"/>
            <a:chOff x="1371600" y="2971800"/>
            <a:chExt cx="6705720" cy="1219320"/>
          </a:xfrm>
        </p:grpSpPr>
        <p:sp>
          <p:nvSpPr>
            <p:cNvPr id="123" name=""/>
            <p:cNvSpPr/>
            <p:nvPr/>
          </p:nvSpPr>
          <p:spPr>
            <a:xfrm>
              <a:off x="1371600" y="2971800"/>
              <a:ext cx="6705720" cy="838080"/>
            </a:xfrm>
            <a:prstGeom prst="rect">
              <a:avLst/>
            </a:prstGeom>
            <a:solidFill>
              <a:srgbClr val="fff0a0"/>
            </a:solidFill>
            <a:ln w="190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33"/>
                  </a:solidFill>
                  <a:latin typeface="Times New Roman"/>
                </a:rPr>
                <a:t>Graduate from  an Accredited Medical School</a:t>
              </a:r>
              <a:endParaRPr b="0" lang="en-US" sz="2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496040" y="3809880"/>
              <a:ext cx="0" cy="381240"/>
            </a:xfrm>
            <a:prstGeom prst="line">
              <a:avLst/>
            </a:prstGeom>
            <a:ln w="19080">
              <a:solidFill>
                <a:srgbClr val="00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1828800" y="4191120"/>
            <a:ext cx="5715000" cy="1143000"/>
            <a:chOff x="1828800" y="4191120"/>
            <a:chExt cx="5715000" cy="1143000"/>
          </a:xfrm>
        </p:grpSpPr>
        <p:sp>
          <p:nvSpPr>
            <p:cNvPr id="126" name=""/>
            <p:cNvSpPr/>
            <p:nvPr/>
          </p:nvSpPr>
          <p:spPr>
            <a:xfrm>
              <a:off x="1828800" y="4191120"/>
              <a:ext cx="5715000" cy="762120"/>
            </a:xfrm>
            <a:prstGeom prst="rect">
              <a:avLst/>
            </a:prstGeom>
            <a:solidFill>
              <a:srgbClr val="fff0a0"/>
            </a:solidFill>
            <a:ln w="190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33"/>
                  </a:solidFill>
                  <a:latin typeface="Times New Roman"/>
                </a:rPr>
                <a:t>Pass the U.S. Medical Licensing Exam</a:t>
              </a:r>
              <a:endParaRPr b="0" lang="en-US" sz="2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496040" y="4953240"/>
              <a:ext cx="0" cy="380880"/>
            </a:xfrm>
            <a:prstGeom prst="line">
              <a:avLst/>
            </a:prstGeom>
            <a:ln w="19080">
              <a:solidFill>
                <a:srgbClr val="00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133720" y="5334120"/>
            <a:ext cx="5181480" cy="838080"/>
          </a:xfrm>
          <a:prstGeom prst="rect">
            <a:avLst/>
          </a:prstGeom>
          <a:solidFill>
            <a:srgbClr val="fff0a0"/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Complete 2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  <a:ea typeface="Times New Roman"/>
              </a:rPr>
              <a:t>–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6 Years of Residency</a:t>
            </a: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A3ACD-A06C-4946-AEC0-E9B4DDA4853F}" type="slidenum">
              <a:t>5</a:t>
            </a:fld>
          </a:p>
        </p:txBody>
      </p:sp>
    </p:spTree>
  </p:cSld>
  <p:transition>
    <p:random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Council of Ethical and Judicial Affairs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(CEJA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53452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Develops policy for the AMA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Addresses timely ethical issues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Maintains and updates </a:t>
            </a:r>
            <a:br>
              <a:rPr sz="3200"/>
            </a:b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the AMA Code of Ethics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af5fa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Comprehensive ethics guide for physician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5791320" y="2590920"/>
            <a:ext cx="2895480" cy="228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DC6AF-791A-4322-BC6F-F9BE99B36DBB}" type="slidenum">
              <a:t>50</a:t>
            </a:fld>
          </a:p>
        </p:txBody>
      </p:sp>
    </p:spTree>
  </p:cSld>
  <p:transition>
    <p:random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80520" y="914400"/>
            <a:ext cx="67820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pply Your Knowledg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57200" y="2092320"/>
            <a:ext cx="830592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Which of the professional organizations listed below are primarily for the role(s) of medical assistants?</a:t>
            </a: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387520" y="3276720"/>
            <a:ext cx="457200" cy="380880"/>
          </a:xfrm>
          <a:prstGeom prst="rect">
            <a:avLst/>
          </a:prstGeom>
          <a:solidFill>
            <a:srgbClr val="fff0a0"/>
          </a:solidFill>
          <a:ln w="93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387520" y="3848040"/>
            <a:ext cx="457200" cy="381240"/>
          </a:xfrm>
          <a:prstGeom prst="rect">
            <a:avLst/>
          </a:prstGeom>
          <a:solidFill>
            <a:srgbClr val="fff0a0"/>
          </a:solidFill>
          <a:ln w="93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387520" y="4419720"/>
            <a:ext cx="457200" cy="380880"/>
          </a:xfrm>
          <a:prstGeom prst="rect">
            <a:avLst/>
          </a:prstGeom>
          <a:solidFill>
            <a:srgbClr val="fff0a0"/>
          </a:solidFill>
          <a:ln w="93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387520" y="4991040"/>
            <a:ext cx="457200" cy="381240"/>
          </a:xfrm>
          <a:prstGeom prst="rect">
            <a:avLst/>
          </a:prstGeom>
          <a:solidFill>
            <a:srgbClr val="fff0a0"/>
          </a:solidFill>
          <a:ln w="93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000240" y="327672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AMA</a:t>
            </a:r>
            <a:endParaRPr b="0" lang="en-US" sz="24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000960" y="3886200"/>
            <a:ext cx="11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AAMA</a:t>
            </a:r>
            <a:endParaRPr b="0" lang="en-US" sz="24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00600" y="4419720"/>
            <a:ext cx="83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AHA</a:t>
            </a:r>
            <a:endParaRPr b="0" lang="en-US" sz="24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999520" y="495288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AMT</a:t>
            </a:r>
            <a:endParaRPr b="0" lang="en-US" sz="24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791320" y="3276720"/>
            <a:ext cx="94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ASCP</a:t>
            </a:r>
            <a:endParaRPr b="0" lang="en-US" sz="24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794200" y="3809880"/>
            <a:ext cx="10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AAMT</a:t>
            </a:r>
            <a:endParaRPr b="0" lang="en-US" sz="24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793840" y="4419720"/>
            <a:ext cx="7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ACP</a:t>
            </a:r>
            <a:endParaRPr b="0" lang="en-US" sz="24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791320" y="4952880"/>
            <a:ext cx="94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APhA</a:t>
            </a:r>
            <a:endParaRPr b="0" lang="en-US" sz="24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81480" y="3276720"/>
            <a:ext cx="457200" cy="380880"/>
          </a:xfrm>
          <a:prstGeom prst="rect">
            <a:avLst/>
          </a:prstGeom>
          <a:solidFill>
            <a:srgbClr val="fff0a0"/>
          </a:solidFill>
          <a:ln w="93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81480" y="3848040"/>
            <a:ext cx="457200" cy="381240"/>
          </a:xfrm>
          <a:prstGeom prst="rect">
            <a:avLst/>
          </a:prstGeom>
          <a:solidFill>
            <a:srgbClr val="fff0a0"/>
          </a:solidFill>
          <a:ln w="93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81480" y="4419720"/>
            <a:ext cx="457200" cy="380880"/>
          </a:xfrm>
          <a:prstGeom prst="rect">
            <a:avLst/>
          </a:prstGeom>
          <a:solidFill>
            <a:srgbClr val="fff0a0"/>
          </a:solidFill>
          <a:ln w="93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81480" y="4991040"/>
            <a:ext cx="457200" cy="381240"/>
          </a:xfrm>
          <a:prstGeom prst="rect">
            <a:avLst/>
          </a:prstGeom>
          <a:solidFill>
            <a:srgbClr val="fff0a0"/>
          </a:solidFill>
          <a:ln w="93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33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467480" y="609480"/>
            <a:ext cx="882720" cy="144792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7010280" y="4876920"/>
            <a:ext cx="1752840" cy="1371600"/>
          </a:xfrm>
          <a:prstGeom prst="irregularSeal1">
            <a:avLst/>
          </a:prstGeom>
          <a:solidFill>
            <a:srgbClr val="af5faf"/>
          </a:solidFill>
          <a:ln w="93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315200" y="5181480"/>
            <a:ext cx="1143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Right Answer!</a:t>
            </a:r>
            <a:endParaRPr b="0" lang="en-US" sz="1600" spc="-1" strike="noStrike">
              <a:solidFill>
                <a:srgbClr val="000033"/>
              </a:solidFill>
              <a:latin typeface="Arial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2"/>
          <a:stretch/>
        </p:blipFill>
        <p:spPr>
          <a:xfrm>
            <a:off x="8381880" y="6019920"/>
            <a:ext cx="304920" cy="304560"/>
          </a:xfrm>
          <a:prstGeom prst="rect">
            <a:avLst/>
          </a:prstGeom>
          <a:ln w="0">
            <a:noFill/>
          </a:ln>
        </p:spPr>
      </p:pic>
      <p:grpSp>
        <p:nvGrpSpPr>
          <p:cNvPr id="286" name=""/>
          <p:cNvGrpSpPr/>
          <p:nvPr/>
        </p:nvGrpSpPr>
        <p:grpSpPr>
          <a:xfrm>
            <a:off x="609480" y="3581280"/>
            <a:ext cx="4952880" cy="1754280"/>
            <a:chOff x="609480" y="3581280"/>
            <a:chExt cx="4952880" cy="1754280"/>
          </a:xfrm>
        </p:grpSpPr>
        <p:grpSp>
          <p:nvGrpSpPr>
            <p:cNvPr id="287" name=""/>
            <p:cNvGrpSpPr/>
            <p:nvPr/>
          </p:nvGrpSpPr>
          <p:grpSpPr>
            <a:xfrm>
              <a:off x="2514240" y="3672000"/>
              <a:ext cx="3048120" cy="1663560"/>
              <a:chOff x="2514240" y="3672000"/>
              <a:chExt cx="3048120" cy="1663560"/>
            </a:xfrm>
          </p:grpSpPr>
          <p:sp>
            <p:nvSpPr>
              <p:cNvPr id="288" name=""/>
              <p:cNvSpPr/>
              <p:nvPr/>
            </p:nvSpPr>
            <p:spPr>
              <a:xfrm>
                <a:off x="2514240" y="3747960"/>
                <a:ext cx="2851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x</a:t>
                </a:r>
                <a:endParaRPr b="0" lang="en-US" sz="2800" spc="-1" strike="noStrike">
                  <a:solidFill>
                    <a:srgbClr val="000033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2514240" y="4815000"/>
                <a:ext cx="2851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x</a:t>
                </a:r>
                <a:endParaRPr b="0" lang="en-US" sz="2800" spc="-1" strike="noStrike">
                  <a:solidFill>
                    <a:srgbClr val="000033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5277240" y="3672000"/>
                <a:ext cx="2851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x</a:t>
                </a:r>
                <a:endParaRPr b="0" lang="en-US" sz="2800" spc="-1" strike="noStrike">
                  <a:solidFill>
                    <a:srgbClr val="000033"/>
                  </a:solidFill>
                  <a:latin typeface="Arial"/>
                </a:endParaRPr>
              </a:p>
            </p:txBody>
          </p:sp>
        </p:grpSp>
        <p:sp>
          <p:nvSpPr>
            <p:cNvPr id="291" name=""/>
            <p:cNvSpPr/>
            <p:nvPr/>
          </p:nvSpPr>
          <p:spPr>
            <a:xfrm>
              <a:off x="609480" y="3581280"/>
              <a:ext cx="1447560" cy="398880"/>
            </a:xfrm>
            <a:prstGeom prst="rect">
              <a:avLst/>
            </a:prstGeom>
            <a:solidFill>
              <a:srgbClr val="fff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33"/>
                  </a:solidFill>
                  <a:uFillTx/>
                  <a:latin typeface="Times New Roman"/>
                </a:rPr>
                <a:t>ANSWER: </a:t>
              </a:r>
              <a:endParaRPr b="0" lang="en-US" sz="2000" spc="-1" strike="noStrike">
                <a:solidFill>
                  <a:srgbClr val="000033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2678B-4261-4EB2-91E3-78F2AE3E8A83}" type="slidenum">
              <a:t>51</a:t>
            </a:fld>
          </a:p>
        </p:txBody>
      </p:sp>
    </p:spTree>
  </p:cSld>
  <p:transition>
    <p:random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0" dur="1043" fill="hold"/>
                                        <p:tgtEl>
                                          <p:spTgt spid="2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Career options for medical assistants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af5fa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Offices of specialists and subspecialist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af5fa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Specialty career option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Professional organizations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af5fa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Information about issues and activities 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601"/>
              </a:spcBef>
              <a:buClr>
                <a:srgbClr val="5f00ff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Medical assisting field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601"/>
              </a:spcBef>
              <a:buClr>
                <a:srgbClr val="5f00ff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Specialty or subspecialty of employer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af5fa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Benefits to member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39CC5-D667-4307-89A5-BCA41819E6B8}" type="slidenum">
              <a:t>52</a:t>
            </a:fld>
          </a:p>
        </p:txBody>
      </p:sp>
    </p:spTree>
  </p:cSld>
  <p:transition>
    <p:random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he End</a:t>
            </a: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990720" y="4191120"/>
            <a:ext cx="2743200" cy="193824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 txBox="1"/>
          <p:nvPr/>
        </p:nvSpPr>
        <p:spPr>
          <a:xfrm>
            <a:off x="2209680" y="1066680"/>
            <a:ext cx="4343400" cy="78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solidFill>
                  <a:srgbClr val="804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End of Chapter 2</a:t>
            </a:r>
            <a:endParaRPr b="0" lang="en-US" sz="4400" spc="1" strike="noStrike">
              <a:ln w="0">
                <a:noFill/>
              </a:ln>
              <a:solidFill>
                <a:srgbClr val="804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" y="2590920"/>
            <a:ext cx="7848720" cy="21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They go the extra mile. They give their hearts, and lead with great minds</a:t>
            </a:r>
            <a:r>
              <a:rPr b="0" lang="en-US" sz="4000" spc="-1" strike="noStrike">
                <a:solidFill>
                  <a:srgbClr val="000033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33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  <a:ea typeface="Times New Roman"/>
              </a:rPr>
              <a:t>—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Sharon Hudacek</a:t>
            </a:r>
            <a:endParaRPr b="0" lang="en-US" sz="2400" spc="-1" strike="noStrike">
              <a:solidFill>
                <a:srgbClr val="000033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33"/>
                </a:solidFill>
                <a:latin typeface="Times New Roman"/>
              </a:rPr>
              <a:t>From </a:t>
            </a:r>
            <a:r>
              <a:rPr b="0" i="1" lang="en-US" sz="1600" spc="-1" strike="noStrike">
                <a:solidFill>
                  <a:srgbClr val="000033"/>
                </a:solidFill>
                <a:latin typeface="Times New Roman"/>
              </a:rPr>
              <a:t>A Daybook for Nurses: Making a Difference Each Day</a:t>
            </a:r>
            <a:endParaRPr b="0" lang="en-US" sz="16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16744-B161-4693-9928-CB7D7006FE20}" type="slidenum">
              <a:t>53</a:t>
            </a:fld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edical Specialist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457200" y="1828800"/>
          <a:ext cx="8381880" cy="4003560"/>
        </p:xfrm>
        <a:graphic>
          <a:graphicData uri="http://schemas.openxmlformats.org/drawingml/2006/table">
            <a:tbl>
              <a:tblPr/>
              <a:tblGrid>
                <a:gridCol w="2514600"/>
                <a:gridCol w="5867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Specialist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s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241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Family Practice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Medical doctors that treat all conditions and age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group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Also called general practitioners or primary care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physicians by insurance companie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Refers patients to specialists for specific diseases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requiring specialized care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106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Allerg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agnoses and treats people with hypersensitivity to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substances such as drugs, chemicals, and elements in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nature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185A4-7918-4506-9312-5F5D5D6A44BA}" type="slidenum">
              <a:t>6</a:t>
            </a:fld>
          </a:p>
        </p:txBody>
      </p:sp>
    </p:spTree>
  </p:cSld>
  <p:transition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edical Specialists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457200" y="1828800"/>
          <a:ext cx="8381880" cy="3860640"/>
        </p:xfrm>
        <a:graphic>
          <a:graphicData uri="http://schemas.openxmlformats.org/drawingml/2006/table">
            <a:tbl>
              <a:tblPr/>
              <a:tblGrid>
                <a:gridCol w="2514600"/>
                <a:gridCol w="586728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Specialist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s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Anesthesiolog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Administers medications that alter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sensation and feelings during surgery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8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Bariatrics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Medical and surgical treatment of obesity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Cardiolog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agnoses and treats diseases of the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heart and blood vessel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Dermatolog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agnoses and treats diseases of the skin,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hair, and nail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C2016-B760-40DA-9CC6-197F033AB524}" type="slidenum">
              <a:t>7</a:t>
            </a:fld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edical Specialists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457200" y="1828800"/>
          <a:ext cx="8305920" cy="4089240"/>
        </p:xfrm>
        <a:graphic>
          <a:graphicData uri="http://schemas.openxmlformats.org/drawingml/2006/table">
            <a:tbl>
              <a:tblPr/>
              <a:tblGrid>
                <a:gridCol w="2490840"/>
                <a:gridCol w="5815080"/>
              </a:tblGrid>
              <a:tr h="62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Specialist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s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108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Doctor of Osteopathy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Uses eyes and hands to identify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structural problems and promote natural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healing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Emergency Medicine Physician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Works in hospital emergency room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agnoses and treats medical crises and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accident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108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Endocrinolog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agnoses and treats disorders of the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endocrine system, which regulates many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body function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54B5D-440A-4D9C-B7E4-98F2D26F46EF}" type="slidenum">
              <a:t>8</a:t>
            </a:fld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edical Specialists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457200" y="1828800"/>
          <a:ext cx="8381520" cy="3862440"/>
        </p:xfrm>
        <a:graphic>
          <a:graphicData uri="http://schemas.openxmlformats.org/drawingml/2006/table">
            <a:tbl>
              <a:tblPr/>
              <a:tblGrid>
                <a:gridCol w="2691000"/>
                <a:gridCol w="5690520"/>
              </a:tblGrid>
              <a:tr h="560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Specialist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s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Gastroenterolog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agnoses and treats disorders related to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the stomach, intestines, and other organs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Gerontolog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agnoses and treats problems and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diseases affecting older adults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Gynecolog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agnoses and treats diseases of the female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reproductive system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Intern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agnoses and treats problems related to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internal organs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B64FA-02EC-4D12-B943-D9737256519A}" type="slidenum">
              <a:t>9</a:t>
            </a:fld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5T18:29:56Z</dcterms:created>
  <dc:creator>Kathryn A. Booth RN-BSN, MS, RMA, RPT</dc:creator>
  <dc:description/>
  <dc:language>en-US</dc:language>
  <cp:lastModifiedBy>Kathryn Booth</cp:lastModifiedBy>
  <dcterms:modified xsi:type="dcterms:W3CDTF">2008-03-27T20:15:13Z</dcterms:modified>
  <cp:revision>145</cp:revision>
  <dc:subject>Medical Assisting 3e</dc:subject>
  <dc:title>Types of Medical Practice</dc:title>
</cp:coreProperties>
</file>