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10.gif" ContentType="image/gif"/>
  <Override PartName="/ppt/media/image9.wmf" ContentType="image/x-wmf"/>
  <Override PartName="/ppt/media/image11.wmf" ContentType="image/x-wmf"/>
  <Override PartName="/ppt/media/image6.wmf" ContentType="image/x-wmf"/>
  <Override PartName="/ppt/media/image7.jpeg" ContentType="image/jpeg"/>
  <Override PartName="/ppt/media/image5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CF10-0F52-4362-B6A6-3D833CFC8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6435-B3DB-469C-8A32-4A2B94A78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DDF7-0971-489A-9253-E0740D78B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E2E9-9C44-48C6-924C-FEB21DC67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DA71D-4DCC-48C9-B2C1-0C706857F6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2A4DC-1350-4077-8B4E-003A1C41ED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0C02-C89F-4DC5-94E3-A91F1B5F25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B48FF-9F42-4180-8154-DB0CCCBC2B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75D0-9327-4C8B-BF67-486480375F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1910C-024F-4D70-9A78-F4974F98E5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49BBD-D81E-41E6-B578-624E96491B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48FA-652D-488D-992A-E21123F50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A4C9-94C8-4232-9C60-56166BB6B2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B391-CB4F-45CF-A23B-13B868D3DE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2572E-2FC6-4359-9F32-BDFB336D46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CB6BE-66B3-4834-910B-F6347B2D82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FB658-6F1C-4F68-8B42-73DF803F2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84E2-FA56-4F60-BA90-FA96C35CC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7DB0-E4C9-4FEB-9B40-3EA8DB84C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9386-39BC-4D5C-9B7F-8A9AB55D2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A6AF-0141-4886-8F4B-28420CCB4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4B27-4B7B-4052-B5E4-33F2323C7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B217-D78A-4235-B2E8-0E0D1EA1C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C798-527E-4D55-8BDA-6D99541D6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2-</a:t>
            </a:r>
            <a:fld id="{F091C8E4-987B-4094-87BC-2DCE75A1F5E3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04920" y="228600"/>
            <a:ext cx="8686800" cy="1600200"/>
            <a:chOff x="304920" y="228600"/>
            <a:chExt cx="8686800" cy="1600200"/>
          </a:xfrm>
        </p:grpSpPr>
        <p:sp>
          <p:nvSpPr>
            <p:cNvPr id="4" name=""/>
            <p:cNvSpPr/>
            <p:nvPr/>
          </p:nvSpPr>
          <p:spPr>
            <a:xfrm flipH="1">
              <a:off x="482760" y="182880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3120" y="228600"/>
              <a:ext cx="22860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8600"/>
              <a:ext cx="845496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457200"/>
              <a:ext cx="8454960" cy="13968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763120" y="459000"/>
              <a:ext cx="228600" cy="13644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2-</a:t>
            </a:r>
            <a:fld id="{AA2C0914-9B24-48EF-889A-70F67FEF238D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971800" y="12952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af5fa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2</a:t>
            </a:r>
            <a:endParaRPr b="1" lang="en-US" sz="4000" spc="1" strike="noStrike">
              <a:ln w="0">
                <a:noFill/>
              </a:ln>
              <a:solidFill>
                <a:srgbClr val="af5fa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590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Types of Medical Practice</a:t>
            </a:r>
            <a:endParaRPr b="0" lang="en-US" sz="4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F82D3-0297-4998-92FF-FDA9AB489B4A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828800"/>
          <a:ext cx="8457840" cy="3816360"/>
        </p:xfrm>
        <a:graphic>
          <a:graphicData uri="http://schemas.openxmlformats.org/drawingml/2006/table">
            <a:tbl>
              <a:tblPr/>
              <a:tblGrid>
                <a:gridCol w="2405520"/>
                <a:gridCol w="605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ph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, manages, and diagnoses diseases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kidne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and disea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nervous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bste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pregnancy, labor and delivery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ostpartu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n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dentifies and treats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anc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493C-261C-4B63-8AC1-12A10C7B93E2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828800"/>
          <a:ext cx="8381520" cy="3859200"/>
        </p:xfrm>
        <a:graphic>
          <a:graphicData uri="http://schemas.openxmlformats.org/drawingml/2006/table">
            <a:tbl>
              <a:tblPr/>
              <a:tblGrid>
                <a:gridCol w="2998800"/>
                <a:gridCol w="53827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hthalm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the ey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rthoped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muscles and bon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torhinolaryng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ear, nose,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roat disorde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bodily changes produced b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 process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D2CD-64A0-4D0E-AD33-716B7724CE8F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828800"/>
          <a:ext cx="8381520" cy="4190760"/>
        </p:xfrm>
        <a:graphic>
          <a:graphicData uri="http://schemas.openxmlformats.org/drawingml/2006/table">
            <a:tbl>
              <a:tblPr/>
              <a:tblGrid>
                <a:gridCol w="2537280"/>
                <a:gridCol w="584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dia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childhood diseas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disord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ith physical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d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of the foo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lastic 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econstruction, correction,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mprovement of body struct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adiologist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clear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x-rays and radioactive substanc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o diagnose and treat diseas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348B-A312-4063-BB0C-21B305F19DF3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828800"/>
          <a:ext cx="8305920" cy="3921120"/>
        </p:xfrm>
        <a:graphic>
          <a:graphicData uri="http://schemas.openxmlformats.org/drawingml/2006/table">
            <a:tbl>
              <a:tblPr/>
              <a:tblGrid>
                <a:gridCol w="3146400"/>
                <a:gridCol w="515952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ports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bspecialty of medicine dealing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reatment and preventative care of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thlet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hands and instruments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agnose, correct, and treat injurie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, and deform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kidneys, bladder, and urinary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1886-5694-4624-B43D-1FC5E12EA8E4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8762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ame the medical specialists who would be involved in the care of a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6-month-old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infant with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massive burns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over 90% of the body and indicate how each specialist will contribute to the care for this situatio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429000"/>
            <a:ext cx="8305560" cy="255852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The following specialists would be involved in the care of this patient: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ian because of the age of the infant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lastic surgeon to perform skin grafting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Dermatologist for skin, hair, and nail repair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Emergency medicine for treatment during medical crisis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4191120"/>
            <a:ext cx="2210040" cy="1523880"/>
          </a:xfrm>
          <a:prstGeom prst="star5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Correct!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84872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6960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F786-6C95-4AB0-8800-0BE9BCDF9C81}" type="slidenum">
              <a:t>14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5649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86640" y="762120"/>
            <a:ext cx="155736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19520" y="2666880"/>
            <a:ext cx="3124080" cy="1143000"/>
          </a:xfrm>
          <a:prstGeom prst="ellipse">
            <a:avLst/>
          </a:prstGeom>
          <a:solidFill>
            <a:srgbClr val="fff0a0"/>
          </a:solidFill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PATIENT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8200" y="4267080"/>
            <a:ext cx="32698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edical Assistant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42760" y="2057400"/>
            <a:ext cx="14716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octor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25320" y="4191120"/>
            <a:ext cx="192276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pecialist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8480" y="2209680"/>
            <a:ext cx="131292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urse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ealth-Care 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257800"/>
            <a:ext cx="8458200" cy="947160"/>
          </a:xfrm>
          <a:prstGeom prst="rect">
            <a:avLst/>
          </a:prstGeom>
          <a:solidFill>
            <a:srgbClr val="af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ing the duties of other health-care team members will help you be a more effective team member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E0F2-C15D-4CD2-98F9-CEFB490B79C9}" type="slidenum">
              <a:t>15</a:t>
            </a:fld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828800"/>
          <a:ext cx="8381520" cy="4114800"/>
        </p:xfrm>
        <a:graphic>
          <a:graphicData uri="http://schemas.openxmlformats.org/drawingml/2006/table">
            <a:tbl>
              <a:tblPr/>
              <a:tblGrid>
                <a:gridCol w="3570120"/>
                <a:gridCol w="48114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cupuncturis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pain or discomfort by 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serting thin, hollow needles under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kin to balance the opposing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orces of yin and ya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sed on Chinese belief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1940040" cy="29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3D62-B7D8-40D3-89C0-C126BC373A1D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828800"/>
          <a:ext cx="8305920" cy="4414680"/>
        </p:xfrm>
        <a:graphic>
          <a:graphicData uri="http://schemas.openxmlformats.org/drawingml/2006/table">
            <a:tbl>
              <a:tblPr/>
              <a:tblGrid>
                <a:gridCol w="3276720"/>
                <a:gridCol w="5029200"/>
              </a:tblGrid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hiropracto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without drugs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ry by making adjustmen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align the vertebrae in the sp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s an independent practitioner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encephalographic (EEG) Technologist /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lectroencephalography is the stud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recording of the brain’s electric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tiv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EG technicians work in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’ office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604E-433B-4DF1-9434-97F7289C84D2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828800"/>
          <a:ext cx="8381520" cy="4000680"/>
        </p:xfrm>
        <a:graphic>
          <a:graphicData uri="http://schemas.openxmlformats.org/drawingml/2006/table">
            <a:tbl>
              <a:tblPr/>
              <a:tblGrid>
                <a:gridCol w="3337200"/>
                <a:gridCol w="5044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3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cardiograph (ECG)</a:t>
                      </a:r>
                      <a:r>
                        <a:rPr b="1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oper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lectrocardiograph machines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cord the heart’s electrical impul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work in hospital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593640" y="2303640"/>
            <a:ext cx="184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2666880" cy="198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B316-1EB8-4A6A-82FD-AD1B8A3A334A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28800"/>
          <a:ext cx="8381520" cy="4275000"/>
        </p:xfrm>
        <a:graphic>
          <a:graphicData uri="http://schemas.openxmlformats.org/drawingml/2006/table">
            <a:tbl>
              <a:tblPr/>
              <a:tblGrid>
                <a:gridCol w="2561040"/>
                <a:gridCol w="5820480"/>
              </a:tblGrid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assage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motes muscle and full body relaxation;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creases circulation and lymph flow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ne of the oldest methods to promot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Administrative Assistan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dministrative support to medical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al, and technical personne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cribing dict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osing corresponden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901800" cy="10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20B1-67EB-4178-ABBB-15B561114630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981080"/>
            <a:ext cx="83818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1 Describe medical specialties and specialist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2 Explain the purpose of the American Board of Medical Specialt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3 Describe the duties of several types of allied health professionals with whom medical assistants may work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4 Name professional associations that may help advance a medical assistant’s career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85CA-934C-4F11-9126-00C2F2E7C735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828800"/>
          <a:ext cx="8381520" cy="4357800"/>
        </p:xfrm>
        <a:graphic>
          <a:graphicData uri="http://schemas.openxmlformats.org/drawingml/2006/table">
            <a:tbl>
              <a:tblPr/>
              <a:tblGrid>
                <a:gridCol w="2172960"/>
                <a:gridCol w="6208560"/>
              </a:tblGrid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Billing and Cod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xtraction and coding of medical information from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eparation of insurance claims to maximiz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imbursement and ensure ethical standards in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Records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rganizes, analyzes, and evaluates medical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iles administrative and health statistics, cod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ymptoms, and inputs and retrieves computerize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th dat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gistered Records Administrator (RRA)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Accredited Records Technician (ART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 txBox="1"/>
          <p:nvPr/>
        </p:nvSpPr>
        <p:spPr>
          <a:xfrm>
            <a:off x="685800" y="3657600"/>
            <a:ext cx="380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804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PT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804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52480" y="3657600"/>
            <a:ext cx="609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5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CD-9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5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90720" y="3352680"/>
            <a:ext cx="8380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0a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CPCS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fff0a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5D2F-1A51-4CB7-BB67-CAA40A6F9AD9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828800"/>
          <a:ext cx="8381520" cy="4156200"/>
        </p:xfrm>
        <a:graphic>
          <a:graphicData uri="http://schemas.openxmlformats.org/drawingml/2006/table">
            <a:tbl>
              <a:tblPr/>
              <a:tblGrid>
                <a:gridCol w="2172960"/>
                <a:gridCol w="620856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Office Administrator / Manag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nages the practice of a physician or a group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ordinates records and fi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versees office staff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also greet patients, make appointments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erform general secretarial task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knowledge of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uter application software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vanced document processing skil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ccounting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9302-EAD8-48BD-B4CF-4BF6B1B27C8A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1828800"/>
          <a:ext cx="8305560" cy="4173480"/>
        </p:xfrm>
        <a:graphic>
          <a:graphicData uri="http://schemas.openxmlformats.org/drawingml/2006/table">
            <a:tbl>
              <a:tblPr/>
              <a:tblGrid>
                <a:gridCol w="216000"/>
                <a:gridCol w="2268000"/>
                <a:gridCol w="58215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>
                      <a:noFill/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4080"/>
                          </a:solidFill>
                          <a:latin typeface="Times New Roman"/>
                        </a:rPr>
                        <a:t>Medical Technology – includes:</a:t>
                      </a:r>
                      <a:r>
                        <a:rPr b="1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al Laboratory Technician (CL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under supervision of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or medical techn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- or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labs, clinic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74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and procedures such as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xamining body fluids and tissu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 clinics, industry,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earch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F716-9613-4CA2-B083-0E9072D2C6DD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828800"/>
          <a:ext cx="8381520" cy="442116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ranscriptio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lates a physician’s dictation into comprehensiv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typed record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ttorney offices, insurance compani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s, physician offices, clinics, and laborato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ntal Health Technician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sychiatric Aide or Counselor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rticipates in supervising group therapy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unseling session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with emotionally disturbed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mentally challenged patient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 psychiatric clinics, crisis cent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shelters, hospital psychiatric units, and specialize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rsing home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57CE-B4EE-4557-B2FD-280A706B2216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828800"/>
          <a:ext cx="8457840" cy="4295880"/>
        </p:xfrm>
        <a:graphic>
          <a:graphicData uri="http://schemas.openxmlformats.org/drawingml/2006/table">
            <a:tbl>
              <a:tblPr/>
              <a:tblGrid>
                <a:gridCol w="2270880"/>
                <a:gridCol w="618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9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clear Medicine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either a 2-year or 4-year progra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or public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health institu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verseeing quality contro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eparing and administering radioactive dru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erating radiation detection instrum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sitioning pati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rforming imaging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186696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3C1B-CD09-4494-AE71-ECF96656ACD8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elps patients attain maximum physical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ntal health through the use of educational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vocational, and rehabilitation activ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 plus 9- to 12-mon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ship at an accredited hospita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overnment ag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ehabilitation 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3630-D842-4C67-B521-A8B19ECDBDAB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80880" y="1828800"/>
          <a:ext cx="8534520" cy="3962520"/>
        </p:xfrm>
        <a:graphic>
          <a:graphicData uri="http://schemas.openxmlformats.org/drawingml/2006/table">
            <a:tbl>
              <a:tblPr/>
              <a:tblGrid>
                <a:gridCol w="2292480"/>
                <a:gridCol w="624204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2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pensing of medications and health suppl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mployment in hospitals, clinic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eutical companies, or private or cha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levels of educational training for pharmacy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care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harmacist Technician (CPhT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 progra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gistered Pharmacist (RPh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5 years of college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octor of Pharmacy (PharmD) -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6 to 7 years of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llege with resid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1819440" cy="16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765C-102D-4F65-B7F9-13687A70275E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lebotom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aws blood for diagnostic laboratory test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ceives advanced phlebotomy training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llows him/her to draw blood under difficul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ircumstanc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states require phlebotomists to b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ertified by the National Phlebotom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ssociation or registered by the American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ociety of Clinical Pathologis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1816200" cy="14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1D07-C056-413F-BAF7-7672EDFFC816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828800"/>
          <a:ext cx="8381520" cy="43434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ist</a:t>
                      </a:r>
                      <a:r>
                        <a:rPr b="0" lang="en-US" sz="2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bachelor’s degree in physical therap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must pass a state board examin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work in hospitals, rehabilitation center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utpatient clinics, private practice, or sport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ine cent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mproves patient functioning by using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icity, heat, and cold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Ultrasound and massag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xercis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1520640" cy="24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8DF0-20EB-4704-B6D4-BC833AFCC1D5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ian Assistant (PA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direct patient care under th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on of  a licensed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 requirements vary; many stat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quire certification and registration with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state medical boar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 variety of settings: priv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ractice, nursing homes, hospital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states allow PAs to write prescrip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EF13-5B88-4E93-ADD3-E5901ABAF141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assistants are an integral part of the health-care tea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working knowledge of specialties and allied health professionals enables the MA to function better as a member of the health-care team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73680" y="1905120"/>
            <a:ext cx="2776680" cy="37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4197-40C3-4A81-A655-C429DC76E880}" type="slidenum">
              <a:t>3</a:t>
            </a:fld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828800"/>
          <a:ext cx="8381520" cy="43513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er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X-ray Technician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a radiologist in taking x-ray fil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be employed in hospitals, physicians’ offic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s, government agenci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ic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in x-ray theory and practical applications a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ell as radioactive material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specialize in radiation therapy, radiography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clear medic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medical laboratories, and 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al pract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62120" y="4648320"/>
            <a:ext cx="1447560" cy="14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7593-3533-4750-9B16-BA0B52C79A65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Dietit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trition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patients and family with nutrition plan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prepare and serve food to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ommunity health agenci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rivate practic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aching and consulting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1698480" cy="183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8A73-2EBD-42F9-9BB2-A251A994AFD8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828800"/>
          <a:ext cx="8381880" cy="464184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the supervision of a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s’ offices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nursing homes, and commercial compan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treats, and cares for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piratory problems such as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th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physe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neumoni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ronchit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1E70-4787-4637-8CF8-ECE82785F6D7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828800"/>
          <a:ext cx="8305920" cy="4267080"/>
        </p:xfrm>
        <a:graphic>
          <a:graphicData uri="http://schemas.openxmlformats.org/drawingml/2006/table">
            <a:tbl>
              <a:tblPr/>
              <a:tblGrid>
                <a:gridCol w="2133720"/>
                <a:gridCol w="1752480"/>
                <a:gridCol w="4419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ample Dutie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rsing Aide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week to 3 mont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ed mak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thing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actical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Vocational Nurse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LPN, LV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tion administr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essing chang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registered nur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hysici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0A05-7245-481C-A1EF-6501718507B6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stered Nurse (R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828800"/>
          <a:ext cx="8305920" cy="3886200"/>
        </p:xfrm>
        <a:graphic>
          <a:graphicData uri="http://schemas.openxmlformats.org/drawingml/2006/table">
            <a:tbl>
              <a:tblPr/>
              <a:tblGrid>
                <a:gridCol w="5003640"/>
                <a:gridCol w="33022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ociate Degre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AD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iploma R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ccalaureat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BS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3491-C4D7-4331-8629-9706B992E5CA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828800"/>
          <a:ext cx="8305560" cy="426708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Nurse (RN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N designation once state boards are pass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sponsible for planning, providing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ng bedside care of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, nursing home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ublic health agencies and government agen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ducational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912D-F292-4E61-AB69-6467988EBE91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rse Practitioner (NP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n RN that functions in an expanded ro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a minimum of a Master’s degre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4 to 12 months of formal training or an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pprenticeship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cal examin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Treating common illnesses and inju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Many states allow NPs to write prescrip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ient educ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74D4-0494-4BE2-BC4D-DC985007CD95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3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1360" y="1895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you had to choose other health-care team members to plan the care for a 68-year-old patient recently diagnosed with a stroke, who has a history of seizure disorders, which would you choose, and why? 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3633840"/>
            <a:ext cx="8229600" cy="271620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 The health-care team members that might participate in this patient’s care are: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ysical therapist for decreased mobility due to stroke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armacist to review medication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tritionist for dietary evaluation and possible modification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EEG technician to perform EEG for brain electrical activity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rsing staff (RN, LPN, CNA)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Other health-care professionals will also be part of the team!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4572000"/>
            <a:ext cx="1676160" cy="762120"/>
          </a:xfrm>
          <a:prstGeom prst="flowChartOnlineStorage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oo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Job!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4380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5A01-49D8-4707-956A-86CB7AAA9BC5}" type="slidenum">
              <a:t>37</a:t>
            </a:fld>
          </a:p>
        </p:txBody>
      </p:sp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76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for 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quire additional education or train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ny options available – check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ocal and medical college librar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e employment agenc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ealth career opportunities in local newspap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rectly with companies where you might seek employ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E768-3E3C-4A07-9A69-9FDF5215BF68}" type="slidenum">
              <a:t>38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828800"/>
          <a:ext cx="8381520" cy="43927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Anesthetist’s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nesthetic care under direct supervision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anesthet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 and high-technology surgical cent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in evaluating patient mental and physical statu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ertified Laborator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procedures such as bacteriology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hemistry, hematology, parasitology, serology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urinalys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medical technologists or hospit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labs, clinics, physicians’ offic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AED4-5F25-4CBD-871A-E691F1EC1527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ti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roximately 22 major medical specialties exi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ized medical care is driven by advances in diagnosing and treating various diseas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29200" y="4038480"/>
          <a:ext cx="3090960" cy="20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038480"/>
                    <a:ext cx="309096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4267080" y="1828800"/>
            <a:ext cx="4572000" cy="3200400"/>
            <a:chOff x="4267080" y="1828800"/>
            <a:chExt cx="4572000" cy="3200400"/>
          </a:xfrm>
        </p:grpSpPr>
        <p:graphicFrame>
          <p:nvGraphicFramePr>
            <p:cNvPr id="108" name=""/>
            <p:cNvGraphicFramePr/>
            <p:nvPr/>
          </p:nvGraphicFramePr>
          <p:xfrm>
            <a:off x="5562720" y="1828800"/>
            <a:ext cx="1946160" cy="207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1828800"/>
                      <a:ext cx="1946160" cy="207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5410080" y="1981080"/>
              <a:ext cx="2210040" cy="914400"/>
            </a:xfrm>
            <a:prstGeom prst="flowChartAlternateProcess">
              <a:avLst/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ardiology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2895480"/>
              <a:ext cx="0" cy="53352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7800" y="3429000"/>
              <a:ext cx="2666880" cy="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5780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2468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4038480"/>
              <a:ext cx="190512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ediatric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4038480"/>
              <a:ext cx="198108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Adult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338720" y="5334120"/>
            <a:ext cx="4444920" cy="7038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Note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: Cardiology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pecialty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s and Adult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ubspecialty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E454-FF52-4FBC-8F65-906F0B2629CC}" type="slidenum">
              <a:t>4</a:t>
            </a:fld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828800"/>
          <a:ext cx="8381520" cy="42451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Dent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an practice without formal education or trai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both administrative and lab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clinics, schools, local health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gencies, and for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1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mergency Medical Technician / Paramedic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red to as an EM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to triage patients and follow instructions from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for an ambulance service or in fire department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 emergency room, or private indust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934920" cy="98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ED45-3E8E-4B65-AA5F-895CFF791E8B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1828800"/>
          <a:ext cx="8305560" cy="430200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occupational therap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aches fine motor skills, occupations, and the ar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s with mental and physical disabilit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arns a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phthalmic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ophthalm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simple vision testing and other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ophthalmic career levels: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ologis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ician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an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8080" y="4724280"/>
            <a:ext cx="1219320" cy="11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335D-8C13-42EE-BD61-DF704906B56B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828800"/>
          <a:ext cx="8305560" cy="4351320"/>
        </p:xfrm>
        <a:graphic>
          <a:graphicData uri="http://schemas.openxmlformats.org/drawingml/2006/table">
            <a:tbl>
              <a:tblPr/>
              <a:tblGrid>
                <a:gridCol w="2537640"/>
                <a:gridCol w="576792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atholog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a path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work with forensic and/or anatomic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oratory duties and some administrativ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8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ediatric Medic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pediatrician with administrative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al duti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hospital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76520" y="4876920"/>
            <a:ext cx="97452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28DC-163D-4818-AEFB-14197DD99419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1828800"/>
          <a:ext cx="8381520" cy="4262400"/>
        </p:xfrm>
        <a:graphic>
          <a:graphicData uri="http://schemas.openxmlformats.org/drawingml/2006/table">
            <a:tbl>
              <a:tblPr/>
              <a:tblGrid>
                <a:gridCol w="2017440"/>
                <a:gridCol w="63640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outine tasks related to record keeping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eparing and dispensing medic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armaceutical firms, and wholesal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directly under the physical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tests and treatment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bserves and documents patient responses to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rehabilitation center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1332000" cy="9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90A7-D534-4F00-9F80-7E615DB03CF0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1828800"/>
          <a:ext cx="8305560" cy="441324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ation Therapy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radi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intains radiation treatment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or 4-year education program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labs, clinic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supervision of physician and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artificial ventilation and maintains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B008-33EC-4CAB-9D4A-A22C754A0FE0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828800"/>
          <a:ext cx="8381520" cy="43387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peech / Language 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diagnoses, and  counsels patients with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mmunication problems like stutter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ually has a Master’s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schools, hospitals, research settings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ivate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urgical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year or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patient services under direct supervision of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diagnostic and therapeutic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primarily in hospita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98100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64D5-7DA6-46DF-BFCF-8D2A468CD3F9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olvement in issues and activities relevant to your profess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pportunities for continuing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2516040" cy="21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A82A-4425-454A-BCEB-FE5EBE9D7FBE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5240" y="2133720"/>
            <a:ext cx="786636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of Medical Assistan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5440" y="2971800"/>
            <a:ext cx="843912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for Medical Transcrip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T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5480" y="3886200"/>
            <a:ext cx="578448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College of Phys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CP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9640" y="4724280"/>
            <a:ext cx="57160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Hospit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H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73360" y="5638680"/>
            <a:ext cx="57128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ACE6-DC54-46B5-86E0-E6754500C07C}" type="slidenum">
              <a:t>47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080" y="2133720"/>
            <a:ext cx="58712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Technologist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T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50040" y="3124080"/>
            <a:ext cx="68374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Pharmaceut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Ph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960" y="4114800"/>
            <a:ext cx="737712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Clinical Pathologis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CP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34560" y="5181480"/>
            <a:ext cx="784944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Phlebotomy Techn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PI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E77D-E401-4538-AB33-8DD8863905A2}" type="slidenum">
              <a:t>48</a:t>
            </a:fld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CAH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on-profit organiz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Goal is to maintain and elevate the standards of health-care delivery by health-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valuation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redi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ccreditation is significant factor in gaining reimbursement from Medicare and managed 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D39E-7214-478A-B7BA-E3338B09FCAA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ysician Education and Licen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66880" y="1981080"/>
            <a:ext cx="3809880" cy="990360"/>
            <a:chOff x="2666880" y="1981080"/>
            <a:chExt cx="3809880" cy="990360"/>
          </a:xfrm>
        </p:grpSpPr>
        <p:sp>
          <p:nvSpPr>
            <p:cNvPr id="120" name=""/>
            <p:cNvSpPr/>
            <p:nvPr/>
          </p:nvSpPr>
          <p:spPr>
            <a:xfrm>
              <a:off x="2666880" y="1981080"/>
              <a:ext cx="3809880" cy="68580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Bachelor’s Degree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95680" y="2666880"/>
              <a:ext cx="0" cy="30456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371600" y="2971800"/>
            <a:ext cx="6705720" cy="1219320"/>
            <a:chOff x="1371600" y="2971800"/>
            <a:chExt cx="6705720" cy="1219320"/>
          </a:xfrm>
        </p:grpSpPr>
        <p:sp>
          <p:nvSpPr>
            <p:cNvPr id="123" name=""/>
            <p:cNvSpPr/>
            <p:nvPr/>
          </p:nvSpPr>
          <p:spPr>
            <a:xfrm>
              <a:off x="1371600" y="2971800"/>
              <a:ext cx="6705720" cy="83808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Graduate from  an Accredited Medical School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6040" y="3809880"/>
              <a:ext cx="0" cy="38124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28800" y="4191120"/>
            <a:ext cx="5715000" cy="1143000"/>
            <a:chOff x="1828800" y="4191120"/>
            <a:chExt cx="5715000" cy="1143000"/>
          </a:xfrm>
        </p:grpSpPr>
        <p:sp>
          <p:nvSpPr>
            <p:cNvPr id="126" name=""/>
            <p:cNvSpPr/>
            <p:nvPr/>
          </p:nvSpPr>
          <p:spPr>
            <a:xfrm>
              <a:off x="1828800" y="4191120"/>
              <a:ext cx="5715000" cy="76212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ass the U.S. Medical Licensing Exam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6040" y="4953240"/>
              <a:ext cx="0" cy="38088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133720" y="5334120"/>
            <a:ext cx="5181480" cy="838080"/>
          </a:xfrm>
          <a:prstGeom prst="rect">
            <a:avLst/>
          </a:prstGeom>
          <a:solidFill>
            <a:srgbClr val="fff0a0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lete 2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6 Years of Residenc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7E91-2BEA-491F-8B8D-D3238EEED713}" type="slidenum">
              <a:t>5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ouncil of Ethical and Judicial Affair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EJ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evelops policy for the AMA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ddresses timely ethical issu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intains and updates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 AMA Code of Ethic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rehensive ethics guide for physicia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D210-C31D-4E69-8035-0AAD30FCBAF5}" type="slidenum">
              <a:t>50</a:t>
            </a:fld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92320"/>
            <a:ext cx="8305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ich of the professional organizations listed below are primarily for the role(s) of medical assistants?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8752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8752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8752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8752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00240" y="3276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00960" y="388620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00600" y="44197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H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99520" y="4952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T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327672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SCP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4200" y="3809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T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93840" y="44197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CP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1320" y="495288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h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010280" y="4876920"/>
            <a:ext cx="1752840" cy="1371600"/>
          </a:xfrm>
          <a:prstGeom prst="irregularSeal1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15200" y="51814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ight Answer!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609480" y="3581280"/>
            <a:ext cx="4952880" cy="1754280"/>
            <a:chOff x="609480" y="3581280"/>
            <a:chExt cx="4952880" cy="1754280"/>
          </a:xfrm>
        </p:grpSpPr>
        <p:grpSp>
          <p:nvGrpSpPr>
            <p:cNvPr id="287" name=""/>
            <p:cNvGrpSpPr/>
            <p:nvPr/>
          </p:nvGrpSpPr>
          <p:grpSpPr>
            <a:xfrm>
              <a:off x="2514240" y="3672000"/>
              <a:ext cx="3048120" cy="1663560"/>
              <a:chOff x="2514240" y="3672000"/>
              <a:chExt cx="3048120" cy="1663560"/>
            </a:xfrm>
          </p:grpSpPr>
          <p:sp>
            <p:nvSpPr>
              <p:cNvPr id="288" name=""/>
              <p:cNvSpPr/>
              <p:nvPr/>
            </p:nvSpPr>
            <p:spPr>
              <a:xfrm>
                <a:off x="2514240" y="374796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514240" y="4815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77240" y="3672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609480" y="3581280"/>
              <a:ext cx="1447560" cy="398880"/>
            </a:xfrm>
            <a:prstGeom prst="rect">
              <a:avLst/>
            </a:prstGeom>
            <a:solidFill>
              <a:srgbClr val="fff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33"/>
                  </a:solidFill>
                  <a:uFillTx/>
                  <a:latin typeface="Times New Roman"/>
                </a:rPr>
                <a:t>ANSWER: </a:t>
              </a:r>
              <a:endParaRPr b="0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5F2B-6878-44BE-9573-8440FD30B000}" type="slidenum">
              <a:t>51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04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areer options for medical assista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ffices of specialists and subspecialis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cialty career op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fessional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formation about issues and activiti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edical assisting fiel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ty or subspecialty of employ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nefits to memb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413B-25F6-4062-AB1F-312BA3E19027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2743200" cy="1938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2209680" y="1066680"/>
            <a:ext cx="43434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2</a:t>
            </a:r>
            <a:endParaRPr b="0" lang="en-US" sz="44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590920"/>
            <a:ext cx="784872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y go the extra mile. They give their hearts, and lead with great minds</a:t>
            </a: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—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haron Hudacek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From </a:t>
            </a:r>
            <a:r>
              <a:rPr b="0" i="1" lang="en-US" sz="1600" spc="-1" strike="noStrike">
                <a:solidFill>
                  <a:srgbClr val="000033"/>
                </a:solidFill>
                <a:latin typeface="Times New Roman"/>
              </a:rPr>
              <a:t>A Daybook for Nurses: Making a Difference Each Day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0F8D-5F60-4F59-A2FB-F882B74187F0}" type="slidenum">
              <a:t>53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828800"/>
          <a:ext cx="8381880" cy="400356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Family Pract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doctors that treat all conditions and ag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general practitioners or primary car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by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s patients to specialists for specific diseas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quiring specialized ca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ller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eople with hypersensitivity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bstances such as drugs, chemicals, and elements 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atu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FDCD-DF00-4E0C-B7E4-F4F3CA3CDC0F}" type="slidenum">
              <a:t>6</a:t>
            </a:fld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828800"/>
          <a:ext cx="8381880" cy="386064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nesthes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ministers medications that al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ensation and feelings during surge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riatric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and surgical treatment of obes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Card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rt and blood vesse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erma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skin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air, and nai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AAA7-0609-4044-8976-FCBBCA34E157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828800"/>
          <a:ext cx="8305920" cy="4089240"/>
        </p:xfrm>
        <a:graphic>
          <a:graphicData uri="http://schemas.openxmlformats.org/drawingml/2006/table">
            <a:tbl>
              <a:tblPr/>
              <a:tblGrid>
                <a:gridCol w="2490840"/>
                <a:gridCol w="58150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octor of Osteopath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eyes and hands to identify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tructural problems and promote natur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ergency Medicine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emergency room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medical cris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cid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ndocri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of th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ndocrine system, which regulates man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body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7C9B-64CA-4E4F-9698-F778F32EFB73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828800"/>
          <a:ext cx="8381520" cy="3862440"/>
        </p:xfrm>
        <a:graphic>
          <a:graphicData uri="http://schemas.openxmlformats.org/drawingml/2006/table">
            <a:tbl>
              <a:tblPr/>
              <a:tblGrid>
                <a:gridCol w="2691000"/>
                <a:gridCol w="569052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astroente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tomach, intestines, and other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eron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 affecting older adul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yne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fema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productive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Inter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al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02A4-2758-4572-8108-8CF8330B7D8F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 RN-BSN, MS, RMA, RPT</dc:creator>
  <dc:description/>
  <dc:language>en-US</dc:language>
  <cp:lastModifiedBy>Kathryn Booth</cp:lastModifiedBy>
  <dcterms:modified xsi:type="dcterms:W3CDTF">2008-03-27T20:15:13Z</dcterms:modified>
  <cp:revision>145</cp:revision>
  <dc:subject>Medical Assisting 3e</dc:subject>
  <dc:title>Types of Medical Practice</dc:title>
</cp:coreProperties>
</file>