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21.jpeg" ContentType="image/jpeg"/>
  <Override PartName="/ppt/media/image20.png" ContentType="image/png"/>
  <Override PartName="/ppt/media/image19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17.wmf" ContentType="image/x-wmf"/>
  <Override PartName="/ppt/media/image14.jpeg" ContentType="image/jpeg"/>
  <Override PartName="/ppt/media/image16.wmf" ContentType="image/x-wmf"/>
  <Override PartName="/ppt/media/image13.jpeg" ContentType="image/jpeg"/>
  <Override PartName="/ppt/media/image3.wmf" ContentType="image/x-wmf"/>
  <Override PartName="/ppt/media/image15.wmf" ContentType="image/x-wmf"/>
  <Override PartName="/ppt/media/image1.jpeg" ContentType="image/jpeg"/>
  <Override PartName="/ppt/media/j0214098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F72F-4ACF-41BD-A559-85720FC0E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DC5A-6706-42BD-B847-AC655882B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7BCE-8DDE-418B-8447-DDDF3BC2C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142E-2224-4B37-91D0-2490ECB5E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86B9-BBAF-47B1-9E12-7DBA9F3C6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4599-8985-43A7-8C25-75BB16972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F1BE-79F4-4BC3-8695-23F73F72A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85C9-77BC-4C60-9A2D-43BDCE43A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6C79-7E78-400C-AD7A-70456C951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51F-7274-4971-95B4-1188D2EFF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0015-9415-4B1E-93DF-A61250E72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DEF2-ACFD-4F6F-A028-F1C3D1A8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8B9A-FD9F-454D-B691-518F8718E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2835-647D-472D-9A36-E78C042F2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8FA6-BE46-4BA5-8713-DC8C6CC0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F55E-73F2-42D6-90EC-D8BF7D366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C3C2-391F-4979-9BB6-F891F2C74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7F61-12C2-4494-ABB3-EFE3445F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D1ED-83C5-46C7-9DFC-4636FC4EC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3E4B-7E25-4C9C-AE13-E3D907272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6108-752E-4D57-A611-AD6BC5185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6C13-21C2-44E1-BDC5-E37D9958B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389-3CC9-4767-A609-BF323A40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C4F9-2D63-4FB8-B203-5B2192A8B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4DBD-F973-4A19-9196-FF0693191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0DDE-DB4D-4F84-A3EB-5576C43AD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89A2-A1B4-4D75-9BA2-37FE321DE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6C39-0381-41D8-ACF7-650356586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43A2-7E02-4ED7-BBAE-8C3C19F44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27E-C1DC-4BC1-B3F1-6E7DBE17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3037-D72E-4478-AB57-7D01DED9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CD8C-0B88-4E9B-A7B3-259890569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CC40-F5A3-4D1C-953F-00F19049E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BDFC-7D0F-478A-9C6F-4BCA9743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DACA-C313-43FB-A07C-6F13A9171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C01C-B0CE-47F6-8ADC-FDE17268E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38C7-F78A-4D10-B784-B93EF2794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4CD-01E3-43C2-895B-19F796E1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0BC5-049F-4C73-BE53-932D37B3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8C30-1D2F-4DE0-A2BD-0443DDACD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A5F2-E7AF-4A4B-9E3E-59EF5C1D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5D6A-1BB6-4444-AD3B-91451F4D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E56C-DC9E-4667-9D4F-D551060A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132D-5721-4684-9485-5399D7956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E1FA-C920-4CAA-A256-6A5899626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CC48-D7CD-4751-BC70-D3C66330F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55AE-4C55-4387-BDE2-69012E215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F8DE-7DC1-48EF-B4C0-D565F2117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07DD-03D6-48B0-96DF-D003B5F7B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D6F1-2C19-431D-BD48-53BD950D3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1CCF-EADE-477A-92BC-1FF9537E7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6181-5978-4951-A017-19E64C094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2422-7DBB-4052-9E63-4A47D35D9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44F7-520F-4EFF-9BAD-B4ED48D75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9DD8-2822-403B-86BA-792BCEE45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1F26-E416-4092-8CBC-70026F764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B93A-44E1-4690-BE76-769A99A55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7200" y="914400"/>
            <a:ext cx="438120" cy="474840"/>
          </a:xfrm>
          <a:prstGeom prst="rect">
            <a:avLst/>
          </a:prstGeom>
          <a:solidFill>
            <a:srgbClr val="ffd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38080" y="91440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1295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38080" y="129528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28600" y="1219320"/>
            <a:ext cx="560520" cy="422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7621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15238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FA1AA1A-DB9C-4289-A9BF-099A8426D5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4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Text Box 17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9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1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33520" y="243828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fession of Medical Assis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822960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960D30B-5E70-4D30-A7FB-177D7BD798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islative monito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5520" y="278424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discou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national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467480" y="914400"/>
            <a:ext cx="1295640" cy="1295280"/>
          </a:xfrm>
          <a:prstGeom prst="plus">
            <a:avLst>
              <a:gd name="adj" fmla="val 25000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62120" y="17524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the needs of medical assistants by provi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D307DBC-CE05-4E1A-AD87-FC1B659E76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8288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Code of Ethic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of Ethics of AAMA sets forth principles of ethical and moral conduct as they relate to the medical profession and the particular practice of Medical Assi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of AAMA are dedicated to the conscientious pursuit of their prof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BE1BF54-0F01-4BB4-9149-783510835C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6980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four ways the AAMA serves the needs of the medical assi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048120"/>
            <a:ext cx="8229600" cy="3319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AAMA serves the needs of the medical assistant by providing the following servi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a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red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rtifi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ing Edu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islative Monito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mber Discoun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Insura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ual National Conven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ing Opportun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934320" y="3352680"/>
            <a:ext cx="1904760" cy="1600200"/>
          </a:xfrm>
          <a:prstGeom prst="pie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391520" y="3886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j0299125"/>
          <p:cNvPicPr/>
          <p:nvPr/>
        </p:nvPicPr>
        <p:blipFill>
          <a:blip r:embed="rId2"/>
          <a:stretch/>
        </p:blipFill>
        <p:spPr>
          <a:xfrm>
            <a:off x="7543800" y="0"/>
            <a:ext cx="97488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1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93A5B14-D162-4518-B46F-965261E8B6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Credential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credentialed personnel or staff will lessen the likelihood of legal challenges of the quality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 Care Organizations (M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great importance in credentials for employe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477A243-1FBD-49E5-98BE-7F5013D136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rtifi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A credential is awarded by the Certifying Board of the A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ination evaluates mastery of medical assisting compete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7" descr="chap01_namepin"/>
          <p:cNvPicPr/>
          <p:nvPr/>
        </p:nvPicPr>
        <p:blipFill>
          <a:blip r:embed="rId1">
            <a:lum bright="20000"/>
          </a:blip>
          <a:srcRect l="10819" t="16036" r="52398" b="15324"/>
          <a:stretch/>
        </p:blipFill>
        <p:spPr>
          <a:xfrm>
            <a:off x="6553080" y="1828800"/>
            <a:ext cx="1752840" cy="2206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1120" y="4343040"/>
            <a:ext cx="381492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y eve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9725782-23E5-4BAF-9B04-2C89E8704D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gister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ential is given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Med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ists (AM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ification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and experienti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chool graduate or acceptabl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 from accredited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he AMT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7" descr="chap01_namepin"/>
          <p:cNvPicPr/>
          <p:nvPr/>
        </p:nvPicPr>
        <p:blipFill>
          <a:blip r:embed="rId1">
            <a:lum bright="20000"/>
          </a:blip>
          <a:srcRect l="41119" t="0" r="9111" b="7011"/>
          <a:stretch/>
        </p:blipFill>
        <p:spPr>
          <a:xfrm>
            <a:off x="6705720" y="182880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AF0B8F9-DDB3-4961-B8AD-7B59E24D76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68120"/>
            <a:ext cx="38149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d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tomy and phys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12"/>
          <p:cNvSpPr txBox="1"/>
          <p:nvPr/>
        </p:nvSpPr>
        <p:spPr>
          <a:xfrm>
            <a:off x="5486400" y="2590920"/>
            <a:ext cx="19335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emato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0" name="WordArt 13"/>
          <p:cNvSpPr txBox="1"/>
          <p:nvPr/>
        </p:nvSpPr>
        <p:spPr>
          <a:xfrm rot="20258400">
            <a:off x="4782600" y="3654000"/>
            <a:ext cx="9716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0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B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0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4"/>
          <p:cNvSpPr txBox="1"/>
          <p:nvPr/>
        </p:nvSpPr>
        <p:spPr>
          <a:xfrm>
            <a:off x="5334120" y="5486400"/>
            <a:ext cx="215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ypertension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6095880" y="4114800"/>
            <a:ext cx="2238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e4a8"/>
                    </a:gs>
                    <a:gs pos="100000">
                      <a:srgbClr val="ffcf01"/>
                    </a:gs>
                  </a:gsLst>
                  <a:lin ang="5400000"/>
                </a:gradFill>
                <a:latin typeface="Impact"/>
              </a:rPr>
              <a:t>intrader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e4a8"/>
                  </a:gs>
                  <a:gs pos="100000">
                    <a:srgbClr val="ffcf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7238880" y="3124080"/>
            <a:ext cx="124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ER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5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3E8A4F3-B593-4185-91E7-EF50665219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dical Assistant Associ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standards for quality and perform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asks and functions for an 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opportunities for member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the profession and assist members to achieve career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AADFCAF-D6A8-4ACD-AEDF-D8F935CC84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mber Benefit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(C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v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T (R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T Institute fo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80AD279-BBB9-4218-B6DC-93C63001B7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recor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373392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 room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paration and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men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Cj02902720000[1]"/>
          <p:cNvPicPr/>
          <p:nvPr/>
        </p:nvPicPr>
        <p:blipFill>
          <a:blip r:embed="rId1"/>
          <a:stretch/>
        </p:blipFill>
        <p:spPr>
          <a:xfrm>
            <a:off x="5816520" y="1749600"/>
            <a:ext cx="1649520" cy="1660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j0404233"/>
          <p:cNvPicPr/>
          <p:nvPr/>
        </p:nvPicPr>
        <p:blipFill>
          <a:blip r:embed="rId2"/>
          <a:stretch/>
        </p:blipFill>
        <p:spPr>
          <a:xfrm>
            <a:off x="2514600" y="4267080"/>
            <a:ext cx="15937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F3E484A-74C0-4784-9021-7AF37C2507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62120" y="1981080"/>
            <a:ext cx="8001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  Describe the job responsibilities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  Discuss the professional training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  Identify the personal characteristics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 nee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  Define multiskilled health profess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BDD5ED7-E001-4768-82FC-7066F51359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895400"/>
            <a:ext cx="71964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wo reasons why credentia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m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" y="3352680"/>
            <a:ext cx="8229600" cy="155700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likelihood of a legal challenge to quality of care decreases when employees are certified, and Managed Care Organizations place importance on credentials for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943600" y="5029200"/>
            <a:ext cx="2438280" cy="1219320"/>
          </a:xfrm>
          <a:custGeom>
            <a:avLst/>
            <a:gdLst>
              <a:gd name="textAreaLeft" fmla="*/ 0 w 2438280"/>
              <a:gd name="textAreaRight" fmla="*/ 2438640 w 243828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9588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V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j0074662.wav" descr=""/>
          <p:cNvPicPr/>
          <p:nvPr/>
        </p:nvPicPr>
        <p:blipFill>
          <a:blip r:embed="rId1"/>
          <a:stretch/>
        </p:blipFill>
        <p:spPr>
          <a:xfrm>
            <a:off x="76201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j0299125"/>
          <p:cNvPicPr/>
          <p:nvPr/>
        </p:nvPicPr>
        <p:blipFill>
          <a:blip r:embed="rId2"/>
          <a:stretch/>
        </p:blipFill>
        <p:spPr>
          <a:xfrm>
            <a:off x="7391520" y="22860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893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F6C14A0-D6C8-4108-8319-625A90D26B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9540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ree things professio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assistant associations do or pro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j0299125"/>
          <p:cNvPicPr/>
          <p:nvPr/>
        </p:nvPicPr>
        <p:blipFill>
          <a:blip r:embed="rId1"/>
          <a:stretch/>
        </p:blipFill>
        <p:spPr>
          <a:xfrm>
            <a:off x="6705720" y="228600"/>
            <a:ext cx="774720" cy="1271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"/>
          <p:cNvSpPr/>
          <p:nvPr/>
        </p:nvSpPr>
        <p:spPr>
          <a:xfrm>
            <a:off x="609480" y="3352680"/>
            <a:ext cx="8229600" cy="2501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edical Assistant Associ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standards for quality and performance fo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prof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 tasks and functions for an occu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opportunities for member net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ist members to achieve career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13"/>
          <p:cNvSpPr/>
          <p:nvPr/>
        </p:nvSpPr>
        <p:spPr>
          <a:xfrm>
            <a:off x="7543800" y="1676520"/>
            <a:ext cx="1600200" cy="533160"/>
          </a:xfrm>
          <a:prstGeom prst="wedgeRoundRectCallout">
            <a:avLst>
              <a:gd name="adj1" fmla="val -67856"/>
              <a:gd name="adj2" fmla="val -122620"/>
              <a:gd name="adj3" fmla="val 16667"/>
            </a:avLst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7696080" y="1676520"/>
            <a:ext cx="1219320" cy="4597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C58D9D8-D0B1-46BA-B1ED-FB43ABC070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a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by which progra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officially author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ecognized entiti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ing MA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AHE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ation ensures that the program meets nationally accepted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chap01_lookatmagazine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38C1ADD-814C-4177-B374-67B16979F0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ed Program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areer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ion of a program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s national 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recognition of your edu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professional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you eligible for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5" descr="MPj04011210000[1]"/>
          <p:cNvPicPr/>
          <p:nvPr/>
        </p:nvPicPr>
        <p:blipFill>
          <a:blip r:embed="rId1"/>
          <a:stretch/>
        </p:blipFill>
        <p:spPr>
          <a:xfrm>
            <a:off x="7256520" y="1749600"/>
            <a:ext cx="1552680" cy="196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3A090E3-FF2E-487D-A918-0C8A9B0EA7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ternship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practical wor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ies will be plann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eet your program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s you the opportunity to acquire a good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66680" y="4300200"/>
            <a:ext cx="770112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7" descr="computer"/>
          <p:cNvPicPr/>
          <p:nvPr/>
        </p:nvPicPr>
        <p:blipFill>
          <a:blip r:embed="rId1"/>
          <a:stretch/>
        </p:blipFill>
        <p:spPr>
          <a:xfrm>
            <a:off x="5943600" y="2514600"/>
            <a:ext cx="26510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F287099-3472-46C2-8CBB-A2B2ED2519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ational Healthcare Associa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s for other health-care occupations, such as phlebotomy and ECG technic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, career advancement, and networking services for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y of certified profess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BF421E5-DFF5-4CCB-9DB2-CD9C73E7C7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Volunteer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640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in a variety of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you make care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 résum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MCj02975830000[1]"/>
          <p:cNvPicPr/>
          <p:nvPr/>
        </p:nvPicPr>
        <p:blipFill>
          <a:blip r:embed="rId1"/>
          <a:stretch/>
        </p:blipFill>
        <p:spPr>
          <a:xfrm>
            <a:off x="6019920" y="2819520"/>
            <a:ext cx="1890720" cy="259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BF28341-350A-469C-A114-A2F3FE4054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skill Train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health car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re cross-trained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on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s your care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ed Office Laboratory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b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b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 admission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4" descr="MCj03980190000[1]"/>
          <p:cNvPicPr/>
          <p:nvPr/>
        </p:nvPicPr>
        <p:blipFill>
          <a:blip r:embed="rId1"/>
          <a:stretch/>
        </p:blipFill>
        <p:spPr>
          <a:xfrm>
            <a:off x="6708600" y="1749600"/>
            <a:ext cx="1711440" cy="174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2CDB1CB-180F-4A7D-B094-145F0687D6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urpose of accreditation for medical assistant progr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wo advantages of multiskill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9" name="Picture 8" descr="j0299125"/>
          <p:cNvPicPr/>
          <p:nvPr/>
        </p:nvPicPr>
        <p:blipFill>
          <a:blip r:embed="rId1"/>
          <a:stretch/>
        </p:blipFill>
        <p:spPr>
          <a:xfrm>
            <a:off x="7586640" y="22860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9"/>
          <p:cNvSpPr/>
          <p:nvPr/>
        </p:nvSpPr>
        <p:spPr>
          <a:xfrm>
            <a:off x="457200" y="3048120"/>
            <a:ext cx="800100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creditation ensures that the program meets nationally accepted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" y="4876920"/>
            <a:ext cx="792468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ultiskill training reduces healthcare costs and expands your career opportun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6705720" y="5410080"/>
            <a:ext cx="1600200" cy="1219320"/>
          </a:xfrm>
          <a:prstGeom prst="irregularSeal1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69343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6089A6D-B112-4336-B3EE-C576F021EB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 –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, laboratory, and clinical duties are all part of the duties of a medical assi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appoin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ing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nd maintaining patient medica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88BA8D4-819D-4916-9C24-651C401BDD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  Explain the importance of continuing education for a medical 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6  Describe the process and benefits of certification and regis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  List the benefits of becoming a member of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assoc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F1BFE2D-A025-4FFF-B500-D7992EB8C3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: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3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ests such as a urine pregnancy test on the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ng, preparing, and transmitting laboratory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patients to collect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2452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ing the doctor during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epsis and infec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ing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EC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treatments to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B2D504D-8F53-4D4F-BF55-43B16A4759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Duti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ing an IV and administering me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te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g as a patient adv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as an OSHA compliance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more complex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0">
              <a:lnSpc>
                <a:spcPts val="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9A9E7B9-DEC9-45BC-B129-6D526C5FF3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sonal Qualific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hink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tion to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ness to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060" descr="chap01_professional"/>
          <p:cNvPicPr/>
          <p:nvPr/>
        </p:nvPicPr>
        <p:blipFill>
          <a:blip r:embed="rId1"/>
          <a:stretch/>
        </p:blipFill>
        <p:spPr>
          <a:xfrm>
            <a:off x="5029200" y="19810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B7B3EFE-A2DE-40BD-ADB1-644570BE3E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earance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s comfortable, clean, and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irstyle clean and pu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ils short, pale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acrylic 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jewe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3372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93FE841-8A7D-407C-B378-400885E769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nd c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 to criticism as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direction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without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s a vital member of a medical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9" descr="MCj02975230000[1]"/>
          <p:cNvPicPr/>
          <p:nvPr/>
        </p:nvPicPr>
        <p:blipFill>
          <a:blip r:embed="rId1"/>
          <a:stretch/>
        </p:blipFill>
        <p:spPr>
          <a:xfrm>
            <a:off x="6153120" y="1968480"/>
            <a:ext cx="2644920" cy="284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799AEA0-BB90-449A-929D-D6783E96F7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hange Your 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3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can answer “yes” to an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s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repeated conflicts with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I had a conflict at work that has resulted in termin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conflicts with authority fig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people make comments about my attitu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MCj02934900000[1]"/>
          <p:cNvPicPr/>
          <p:nvPr/>
        </p:nvPicPr>
        <p:blipFill>
          <a:blip r:embed="rId1"/>
          <a:stretch/>
        </p:blipFill>
        <p:spPr>
          <a:xfrm>
            <a:off x="6477120" y="457200"/>
            <a:ext cx="2441520" cy="150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DFB6E69-EF6B-45EC-9E14-E375797302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egrity and Honest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you do and every task you complete should be performed with a goal of excel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and honesty are key in providing superior customer service to your pat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office staff and physician must be able to trust you and the decisions you mak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9141B05-23E0-4C1D-BD79-8E25D1A6BE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Attribut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lo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calm in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bd05503_"/>
          <p:cNvPicPr/>
          <p:nvPr/>
        </p:nvPicPr>
        <p:blipFill>
          <a:blip r:embed="rId1"/>
          <a:stretch/>
        </p:blipFill>
        <p:spPr>
          <a:xfrm>
            <a:off x="5029200" y="2590920"/>
            <a:ext cx="3568680" cy="340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6CC6CAF-1FE3-4EE1-A743-CB4040A213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orking As a Team Member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 each other with required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interpersonal conflict with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extra responsibilities without questioning or compl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onsiderate of other team members’ duties and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F03B21E-F3E4-4AB8-B0F6-C51F2DEB40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Role Delineation Stud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57240" y="1828800"/>
            <a:ext cx="5181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s of competence for entry-level medical assi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Delineation Chart found in Appendix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the basis for medical assisting education a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1" descr="bd20072_"/>
          <p:cNvPicPr/>
          <p:nvPr/>
        </p:nvPicPr>
        <p:blipFill>
          <a:blip r:embed="rId1"/>
          <a:stretch/>
        </p:blipFill>
        <p:spPr>
          <a:xfrm>
            <a:off x="533520" y="2133720"/>
            <a:ext cx="3136680" cy="349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8290B01-D738-4591-A5B3-82FCD71093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-growing occu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rain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epartments of the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of accredited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ask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3520" y="5181480"/>
            <a:ext cx="8305560" cy="825480"/>
          </a:xfrm>
          <a:prstGeom prst="rect">
            <a:avLst/>
          </a:prstGeom>
          <a:solidFill>
            <a:srgbClr val="ffd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tasking professional is someone who is able to work in the administrative area, the clinical areas, and the financial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70CEFCC-D1C6-44C5-B855-7E91A8BE6E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cope of Practic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’s scope of practice (AA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cies of the organization or facility where you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MCj0326960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2666880" cy="17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AAD3D63-71F6-48E7-9BF9-644ED30F35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804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y four personal qualifications you sh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be an effective medical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j0299125"/>
          <p:cNvPicPr/>
          <p:nvPr/>
        </p:nvPicPr>
        <p:blipFill>
          <a:blip r:embed="rId1"/>
          <a:stretch/>
        </p:blipFill>
        <p:spPr>
          <a:xfrm>
            <a:off x="7696080" y="228600"/>
            <a:ext cx="820800" cy="13478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33520" y="2895480"/>
            <a:ext cx="8153280" cy="2288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List any four of these personal qualifications that medical assistants should displ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thinking skill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ingness to lea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f mo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essiona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5562720" y="5334120"/>
            <a:ext cx="2514600" cy="761760"/>
          </a:xfrm>
          <a:prstGeom prst="flowChartPreparation">
            <a:avLst/>
          </a:prstGeom>
          <a:solidFill>
            <a:srgbClr val="5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 Answ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612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EE50664-B4EA-4A0E-BCBC-AB8A276396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0112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ould you take action to chan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our at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32"/>
          <p:cNvSpPr/>
          <p:nvPr/>
        </p:nvSpPr>
        <p:spPr>
          <a:xfrm>
            <a:off x="685800" y="2895480"/>
            <a:ext cx="7696080" cy="26906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you can answer “yes” to any of the following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repeated conflicts with peop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I had a conflict at work that has resulted i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ermin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conflicts with authority figu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people make comments about my attitu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AutoShape 1035"/>
          <p:cNvSpPr/>
          <p:nvPr/>
        </p:nvSpPr>
        <p:spPr>
          <a:xfrm>
            <a:off x="2057400" y="5638680"/>
            <a:ext cx="1371600" cy="990720"/>
          </a:xfrm>
          <a:prstGeom prst="flowChartPunchedTap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1041" descr="j0299125"/>
          <p:cNvPicPr/>
          <p:nvPr/>
        </p:nvPicPr>
        <p:blipFill>
          <a:blip r:embed="rId1"/>
          <a:stretch/>
        </p:blipFill>
        <p:spPr>
          <a:xfrm>
            <a:off x="7315200" y="228600"/>
            <a:ext cx="696960" cy="1143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42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3584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43329D1-3CFF-4D2C-9CFD-C514906535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Text Box 2051"/>
          <p:cNvSpPr/>
          <p:nvPr/>
        </p:nvSpPr>
        <p:spPr>
          <a:xfrm>
            <a:off x="1676520" y="1981080"/>
            <a:ext cx="5562360" cy="764280"/>
          </a:xfrm>
          <a:prstGeom prst="rect">
            <a:avLst/>
          </a:prstGeom>
          <a:noFill/>
          <a:ln cap="rnd" w="5724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l Assista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052"/>
          <p:cNvSpPr/>
          <p:nvPr/>
        </p:nvSpPr>
        <p:spPr>
          <a:xfrm flipH="1">
            <a:off x="3962160" y="35053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2053"/>
          <p:cNvSpPr/>
          <p:nvPr/>
        </p:nvSpPr>
        <p:spPr>
          <a:xfrm>
            <a:off x="609480" y="4419720"/>
            <a:ext cx="365760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s and duties according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Role Delineation Ch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2055"/>
          <p:cNvSpPr/>
          <p:nvPr/>
        </p:nvSpPr>
        <p:spPr>
          <a:xfrm>
            <a:off x="4572000" y="3581280"/>
            <a:ext cx="83808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2056"/>
          <p:cNvSpPr/>
          <p:nvPr/>
        </p:nvSpPr>
        <p:spPr>
          <a:xfrm>
            <a:off x="4800600" y="4419720"/>
            <a:ext cx="380988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abreast of changes in technology, procedures, and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58"/>
          <p:cNvSpPr/>
          <p:nvPr/>
        </p:nvSpPr>
        <p:spPr>
          <a:xfrm>
            <a:off x="838080" y="3124080"/>
            <a:ext cx="7543800" cy="520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on-the-job versus training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F26243E-1704-4BB5-8AC5-877270C13D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WordArt 2"/>
          <p:cNvSpPr txBox="1"/>
          <p:nvPr/>
        </p:nvSpPr>
        <p:spPr>
          <a:xfrm>
            <a:off x="2666880" y="685800"/>
            <a:ext cx="3962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1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nd of Chapter</a:t>
            </a:r>
            <a:br>
              <a:rPr sz="800"/>
            </a:br>
            <a:endParaRPr b="0" lang="en-US" sz="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5" name="Picture 4" descr="chap01_end"/>
          <p:cNvPicPr/>
          <p:nvPr/>
        </p:nvPicPr>
        <p:blipFill>
          <a:blip r:embed="rId1"/>
          <a:stretch/>
        </p:blipFill>
        <p:spPr>
          <a:xfrm>
            <a:off x="533520" y="2057400"/>
            <a:ext cx="2206440" cy="33163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971800" y="251460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ng in any aspect of healing is an awe-inspiring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Jackso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Healer’s 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62DF8A2-4CB3-44FA-86D6-8A997286F3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wth of the MA Profess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87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U.S. Department of Labor - Bureau of Statistics, medical assistants held 365,000 jobs in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 in physicians’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% in 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in nursing homes and offices of other health-care practitio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der in outpatient care centers, laboratories, and other health-care-rel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2801293-BBFC-4523-95C0-506305B76F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ve and clinic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surance product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ance (OSHA, CLIA and HIPA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4B207A5-4C83-4FFD-932F-AC47162989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H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Safety and Health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Laboratory Improvement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A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Insurance Portability and Accountability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C8CCD68-E85A-4DFA-8209-B44BDA0F79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exceptional customer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patient treatments and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7E2E46D-FED0-48C0-A282-8E710E68E8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merican Association of Medical Assistants (AAMA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To raise the standard of medical assisting to a more profess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ASSOCI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MEDICAL ASSIST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. WACKER DR., Ste. 157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AGO, IL 606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12) 899-15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aama-ntl.org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9" descr="chap01_attable"/>
          <p:cNvPicPr/>
          <p:nvPr/>
        </p:nvPicPr>
        <p:blipFill>
          <a:blip r:embed="rId1"/>
          <a:stretch/>
        </p:blipFill>
        <p:spPr>
          <a:xfrm>
            <a:off x="5181480" y="2743200"/>
            <a:ext cx="3633840" cy="246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4:34Z</dcterms:modified>
  <cp:revision>203</cp:revision>
  <dc:subject>Medical Assisting 3e</dc:subject>
  <dc:title>The Profession of Medical Assisting</dc:title>
</cp:coreProperties>
</file>