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j021409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7B01-818E-47E1-B6EA-D1075D234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0588-54F2-416D-BDD9-B57408DB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E6B5-CCF4-4176-BCDC-7E5FC5FD7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8911-C6B3-4DAA-8446-D0D799971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9C41-6844-4F3F-8F10-4F1154FB7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8187-58DA-4486-9E5B-23DA28469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D9C0-451B-4439-B464-CCC22CAB9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BFD3-0647-4E56-AADD-06EB9BF7E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B7CF-BC08-40BA-A49C-9F1EE995E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398A-5F89-41EA-8BC7-DE5256FA4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F00A-5081-4134-8C0D-EC1D01606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5801-1EA2-4C0C-97AF-6B47F9D87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8A7-A371-4106-852E-DF7EBC792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9BCF-D2D0-490D-85B1-E563F2C14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8CA4-D366-4F39-9C40-BC17698AD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AB703-6118-4043-8665-356E3E502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2844-BFA7-4148-B726-22B13FDE7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7375-2BC1-4468-9DF7-67ECB3EAE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A599-086B-4D9E-B593-144DB877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FE051-C73C-4E75-9449-AF95A9CD4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31C1-17EC-4F1B-A6FF-947E7850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63B3-F675-48F4-B09F-41B0FFC11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6E5-8971-4585-8724-A6A942FCD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904E-5D19-4C31-83E7-E119B300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6FAC-93F6-4917-947B-761BDF2A6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8D4B-FBEC-4F1F-9D4E-D3FA32803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502F-B86A-4A91-BF4F-C85A4523EE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8AA0-0E45-45D3-A4BB-2AECC9F91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04507-4039-47F8-B17B-A3F29F8E7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0BE2-78E3-4EB6-B35A-442CB0045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40D7-A63D-448B-B2EA-92D1B280B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7476-2AF7-4E28-BF35-5E78AC7D0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4179-6FB0-40FE-8744-8A76E3E885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3FF8-1F74-4487-839B-922A3DF80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D9BE-9E88-4AF1-8464-A2B96CF26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06FDB-9A1E-41D5-8D99-9E8471F9C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3576-A272-47AB-9B58-6CE3CBA43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B11A-8012-4B4E-B563-D6C1E3837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2AF9-0720-43DE-ADC7-55E52C8B7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BCF1-97AD-4354-A1F2-FE8A0DCA4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D214-8800-40CE-A14B-FA214C6CD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4251-0E6D-4DF1-80D5-57C09B33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5133-295E-481A-8A9C-A6FEBC36E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AB22-8616-402E-BCFA-213E4882C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BC4E-9574-4F0C-8DED-C21F80298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99F5-BFE8-405D-BBD9-086096B756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5A419-876D-49F6-BB76-79413DAF7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AA956-80E1-449B-A4B6-A633FC8167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74028-FC3F-4F2F-B556-4DB4852E3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681CA-CE78-441B-880E-50E67CB4B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FEE20-098B-4355-A732-4924E12EFC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A8CC1-059B-4929-95D7-86E45BDC6D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DD588-38C4-41CE-A61D-9D78707FD7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8453-9BB3-4084-BE56-0C75464769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118E-349F-43A3-B746-1E0D01143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2678-6ED3-4559-9E0A-595262A2E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DC02-7415-4CE4-9B3C-A248279B7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438120" cy="474840"/>
          </a:xfrm>
          <a:prstGeom prst="rect">
            <a:avLst/>
          </a:prstGeom>
          <a:solidFill>
            <a:srgbClr val="ffd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8080" y="91440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295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1295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8600" y="1219320"/>
            <a:ext cx="560520" cy="42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5238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C9EDE53-E3A3-41F5-A5FC-866FEDB8CD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9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1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33520" y="24382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fession of Medical Assi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822960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8C0984A-4C0F-43A8-BCF2-9DE88678C2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27842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discou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ational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467480" y="914400"/>
            <a:ext cx="1295640" cy="1295280"/>
          </a:xfrm>
          <a:prstGeom prst="plus">
            <a:avLst>
              <a:gd name="adj" fmla="val 25000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62120" y="1752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the needs of medical assistants by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C9C5B8A-FE35-40A9-8631-677FB5E1FB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8288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Code of Ethic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of Ethics of AAMA sets forth principles of ethical and moral conduct as they relate to the medical profession and the particular practice of Medical Ass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of AAMA are dedicated to the conscientious pursuit of their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0486209-230D-40F2-BC29-4BDE5F15C9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8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four ways the AAMA serves the needs of the medical ass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048120"/>
            <a:ext cx="8229600" cy="3319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AAMA serves the needs of the medical assistant by providing the following ser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red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rtifi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ing Edu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tive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ber Discou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Insur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 National Conven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 Opport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934320" y="3352680"/>
            <a:ext cx="1904760" cy="1600200"/>
          </a:xfrm>
          <a:prstGeom prst="pie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39152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j0299125"/>
          <p:cNvPicPr/>
          <p:nvPr/>
        </p:nvPicPr>
        <p:blipFill>
          <a:blip r:embed="rId2"/>
          <a:stretch/>
        </p:blipFill>
        <p:spPr>
          <a:xfrm>
            <a:off x="7543800" y="0"/>
            <a:ext cx="97488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14C1E93-E5A0-4CC7-8A1F-E2CA42FB6C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Credential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credentialed personnel or staff will lessen the likelihood of legal challenges of the quality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Organizations (M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great importance in credentials for employe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6943540-5129-420C-A1F5-95F597B1FF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rtifi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A credential is awarded by the Certifying Board of the A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ination evaluates mastery of medical assisting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7" descr="chap01_namepin"/>
          <p:cNvPicPr/>
          <p:nvPr/>
        </p:nvPicPr>
        <p:blipFill>
          <a:blip r:embed="rId1">
            <a:lum bright="20000"/>
          </a:blip>
          <a:srcRect l="10819" t="16036" r="52398" b="15324"/>
          <a:stretch/>
        </p:blipFill>
        <p:spPr>
          <a:xfrm>
            <a:off x="6553080" y="1828800"/>
            <a:ext cx="1752840" cy="2206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4343040"/>
            <a:ext cx="38149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y e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1FC6B1F-AD95-491C-9ACB-07476CAC36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gister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ential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ed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s (AM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ification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and experienti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chool graduate or acceptabl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from accredi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he AMT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7" descr="chap01_namepin"/>
          <p:cNvPicPr/>
          <p:nvPr/>
        </p:nvPicPr>
        <p:blipFill>
          <a:blip r:embed="rId1">
            <a:lum bright="20000"/>
          </a:blip>
          <a:srcRect l="41119" t="0" r="9111" b="7011"/>
          <a:stretch/>
        </p:blipFill>
        <p:spPr>
          <a:xfrm>
            <a:off x="6705720" y="18288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C72DB5A-476B-4778-B7B5-3F78F426CA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68120"/>
            <a:ext cx="38149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d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y and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2"/>
          <p:cNvSpPr txBox="1"/>
          <p:nvPr/>
        </p:nvSpPr>
        <p:spPr>
          <a:xfrm>
            <a:off x="5486400" y="2590920"/>
            <a:ext cx="1933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mat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0" name="WordArt 13"/>
          <p:cNvSpPr txBox="1"/>
          <p:nvPr/>
        </p:nvSpPr>
        <p:spPr>
          <a:xfrm rot="20258400">
            <a:off x="4782600" y="3654000"/>
            <a:ext cx="97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B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334120" y="5486400"/>
            <a:ext cx="215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pertension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6095880" y="411480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ffcf01"/>
                    </a:gs>
                  </a:gsLst>
                  <a:lin ang="5400000"/>
                </a:gradFill>
                <a:latin typeface="Impact"/>
              </a:rPr>
              <a:t>intrade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ffcf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238880" y="31240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R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8F9C985-BF92-4F73-A9D2-34DA8E2DEA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dical Assistant Associ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tandards for quality and perform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sks and functions for an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opportunities for memb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the profession and assist members to achieve caree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D93BBAD-444C-46BB-B83B-028A8C02F6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mber Benefi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(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T (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T Institute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E91B578-3002-4FD2-8329-771CE56DC9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recor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7339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room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paration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m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Cj02902720000[1]"/>
          <p:cNvPicPr/>
          <p:nvPr/>
        </p:nvPicPr>
        <p:blipFill>
          <a:blip r:embed="rId1"/>
          <a:stretch/>
        </p:blipFill>
        <p:spPr>
          <a:xfrm>
            <a:off x="5816520" y="1749600"/>
            <a:ext cx="164952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j0404233"/>
          <p:cNvPicPr/>
          <p:nvPr/>
        </p:nvPicPr>
        <p:blipFill>
          <a:blip r:embed="rId2"/>
          <a:stretch/>
        </p:blipFill>
        <p:spPr>
          <a:xfrm>
            <a:off x="2514600" y="4267080"/>
            <a:ext cx="15937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A3FF143-49AD-4F4D-975A-28E8678586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62120" y="198108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  Describe the job responsibilities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  Discuss the professional training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  Identify the personal characteristics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  Define multiskilled health profes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306597-547E-421A-9879-0508089A6A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895400"/>
            <a:ext cx="7196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reasons why credenti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3352680"/>
            <a:ext cx="8229600" cy="155700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ikelihood of a legal challenge to quality of care decreases when employees are certified, and Managed Care Organizations place importance on credentials for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943600" y="5029200"/>
            <a:ext cx="2438280" cy="1219320"/>
          </a:xfrm>
          <a:custGeom>
            <a:avLst/>
            <a:gdLst>
              <a:gd name="textAreaLeft" fmla="*/ 0 w 2438280"/>
              <a:gd name="textAreaRight" fmla="*/ 2438640 w 24382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958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j0074662.wav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299125"/>
          <p:cNvPicPr/>
          <p:nvPr/>
        </p:nvPicPr>
        <p:blipFill>
          <a:blip r:embed="rId2"/>
          <a:stretch/>
        </p:blipFill>
        <p:spPr>
          <a:xfrm>
            <a:off x="7391520" y="22860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893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760B765-7246-4BC0-BD80-EFAD1B843B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9540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ree things professio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assistant associations do or pro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j0299125"/>
          <p:cNvPicPr/>
          <p:nvPr/>
        </p:nvPicPr>
        <p:blipFill>
          <a:blip r:embed="rId1"/>
          <a:stretch/>
        </p:blipFill>
        <p:spPr>
          <a:xfrm>
            <a:off x="6705720" y="22860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609480" y="3352680"/>
            <a:ext cx="8229600" cy="2501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dical Assistant Associ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standards for quality and performance fo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prof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asks and functions for an occu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opportunities for member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 members to achieve career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7543800" y="1676520"/>
            <a:ext cx="1600200" cy="533160"/>
          </a:xfrm>
          <a:prstGeom prst="wedgeRoundRectCallout">
            <a:avLst>
              <a:gd name="adj1" fmla="val -67856"/>
              <a:gd name="adj2" fmla="val -122620"/>
              <a:gd name="adj3" fmla="val 16667"/>
            </a:avLst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7696080" y="1676520"/>
            <a:ext cx="1219320" cy="4597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1B0EE1A-3554-4116-B961-17DA79AA0D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by which progr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icially author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cognized entiti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ng M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AH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ensures that the program meets nationally accepte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chap01_lookatmagazine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74F1296-C9CD-48A0-A67F-251B2CA2DA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ed Program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aree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a program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na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ecognition of your edu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professional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you eligible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MPj04011210000[1]"/>
          <p:cNvPicPr/>
          <p:nvPr/>
        </p:nvPicPr>
        <p:blipFill>
          <a:blip r:embed="rId1"/>
          <a:stretch/>
        </p:blipFill>
        <p:spPr>
          <a:xfrm>
            <a:off x="7256520" y="1749600"/>
            <a:ext cx="1552680" cy="19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A4FC503-2D4D-4067-8A74-A0F5B553F4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ternship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ractical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ies will be plan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your program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s you the opportunity to acquire a good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300200"/>
            <a:ext cx="770112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computer"/>
          <p:cNvPicPr/>
          <p:nvPr/>
        </p:nvPicPr>
        <p:blipFill>
          <a:blip r:embed="rId1"/>
          <a:stretch/>
        </p:blipFill>
        <p:spPr>
          <a:xfrm>
            <a:off x="5943600" y="2514600"/>
            <a:ext cx="26510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5D85C74-85FD-4786-B298-5E3B8B3EDA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ational Healthcare Associa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s for other health-care occupations, such as phlebotomy and ECG techn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, career advancement, and networking services fo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of certifie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2C39EE-B3DE-49A5-A83A-5C55989DFD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olunteer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in a variety of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you make care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 résu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MCj02975830000[1]"/>
          <p:cNvPicPr/>
          <p:nvPr/>
        </p:nvPicPr>
        <p:blipFill>
          <a:blip r:embed="rId1"/>
          <a:stretch/>
        </p:blipFill>
        <p:spPr>
          <a:xfrm>
            <a:off x="6019920" y="2819520"/>
            <a:ext cx="1890720" cy="259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8F67404-C5C6-42DC-AB2E-30D7BEECCD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kill Train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health c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re cross-trained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on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s your care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Office Laboratory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b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 admission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4" descr="MCj03980190000[1]"/>
          <p:cNvPicPr/>
          <p:nvPr/>
        </p:nvPicPr>
        <p:blipFill>
          <a:blip r:embed="rId1"/>
          <a:stretch/>
        </p:blipFill>
        <p:spPr>
          <a:xfrm>
            <a:off x="6708600" y="1749600"/>
            <a:ext cx="1711440" cy="174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FF4A4D0-2A84-49CF-AB4B-CA363B5AA6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ccreditation for medical assistant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wo advantages of multiskill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Picture 8" descr="j0299125"/>
          <p:cNvPicPr/>
          <p:nvPr/>
        </p:nvPicPr>
        <p:blipFill>
          <a:blip r:embed="rId1"/>
          <a:stretch/>
        </p:blipFill>
        <p:spPr>
          <a:xfrm>
            <a:off x="7586640" y="22860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457200" y="3048120"/>
            <a:ext cx="800100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reditation ensures that the program meets nationally accepted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ultiskill training reduces healthcare costs and expands your career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705720" y="5410080"/>
            <a:ext cx="1600200" cy="1219320"/>
          </a:xfrm>
          <a:prstGeom prst="irregularSeal1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9343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FFADE4-1F5C-4C07-9A77-1F45CBBF3C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 –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, laboratory, and clinical duties are all part of the duties of a medical ass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ing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aintaining patient medica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A0B06B6-61A1-4ABE-BE33-489498DFE7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 Explain the importance of continuing education for a medical 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  Describe the process and benefits of certification and reg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 List the benefits of becoming a member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8A5C5C2-B5AF-46CB-B752-656730F676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: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3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ests such as a urine pregnancy test on the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ng, preparing, and transmitting laboratory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atients to collect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2452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the doctor during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psis and 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ing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EC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treatments to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EFE45A-6929-4440-8C85-D2B3D15A92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Dut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n IV and administering me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g as a patient adv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as an OSHA compliance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more complex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ts val="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041A8A9-4A82-45CC-9006-F910C0C486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sonal Qualific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060" descr="chap01_professional"/>
          <p:cNvPicPr/>
          <p:nvPr/>
        </p:nvPicPr>
        <p:blipFill>
          <a:blip r:embed="rId1"/>
          <a:stretch/>
        </p:blipFill>
        <p:spPr>
          <a:xfrm>
            <a:off x="5029200" y="19810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39FB3B-023B-455B-9076-C35900A4CA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earance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 comfortable, clean, and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style clean and pu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ils short, pal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crylic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jewe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3372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F282538-72C8-4B19-9069-71CE82803B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nd c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riticism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direct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withou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s a vital member of a medica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MCj02975230000[1]"/>
          <p:cNvPicPr/>
          <p:nvPr/>
        </p:nvPicPr>
        <p:blipFill>
          <a:blip r:embed="rId1"/>
          <a:stretch/>
        </p:blipFill>
        <p:spPr>
          <a:xfrm>
            <a:off x="6153120" y="1968480"/>
            <a:ext cx="264492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CB7FD38-786C-406A-AADF-E54F315F93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ge Your 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answer “yes” to an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s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repeated conflicts with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had a conflict at work that has resulted in term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conflicts with authority fig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eople make comments about my at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MCj02934900000[1]"/>
          <p:cNvPicPr/>
          <p:nvPr/>
        </p:nvPicPr>
        <p:blipFill>
          <a:blip r:embed="rId1"/>
          <a:stretch/>
        </p:blipFill>
        <p:spPr>
          <a:xfrm>
            <a:off x="6477120" y="457200"/>
            <a:ext cx="244152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B482187-FE19-473F-A5BF-B891A53A3A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grity and Honest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you do and every task you complete should be performed with a goal of excel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and honesty are key in providing superior customer service to your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office staff and physician must be able to trust you and the decisions you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26F13BC-F0FA-4A65-AA7A-EE78DC625E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ttribut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calm in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bd05503_"/>
          <p:cNvPicPr/>
          <p:nvPr/>
        </p:nvPicPr>
        <p:blipFill>
          <a:blip r:embed="rId1"/>
          <a:stretch/>
        </p:blipFill>
        <p:spPr>
          <a:xfrm>
            <a:off x="5029200" y="2590920"/>
            <a:ext cx="3568680" cy="34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A8B3F91-6D56-4A2F-AD63-2AFFE35827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 a Team Member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each other with required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nterpersonal conflict with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tra responsibilities without questioning or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onsiderate of other team members’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9A0264D-D1F3-4F69-B1BF-285E41D55C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Role Delineation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competence for entry-level medical ass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lineation Chart found in Appendi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basis for medical assisting education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bd20072_"/>
          <p:cNvPicPr/>
          <p:nvPr/>
        </p:nvPicPr>
        <p:blipFill>
          <a:blip r:embed="rId1"/>
          <a:stretch/>
        </p:blipFill>
        <p:spPr>
          <a:xfrm>
            <a:off x="533520" y="2133720"/>
            <a:ext cx="3136680" cy="349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5A2818-38AF-4A5F-8604-EE6081CEA1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-growing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ra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partments of the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of accredited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as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5181480"/>
            <a:ext cx="8305560" cy="825480"/>
          </a:xfrm>
          <a:prstGeom prst="rect">
            <a:avLst/>
          </a:prstGeom>
          <a:solidFill>
            <a:srgbClr val="ffd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tasking professional is someone who is able to work in the administrative area, the clinical areas, and the financi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5835984-9A32-40A0-B71A-C445D8DFDB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cope of Practi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’s scope of practice (A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ies of the organization or facility where you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MCj0326960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61DFEF6-46E2-4C9B-9FF9-1B264573F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804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y four personal qualifications you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be an effective medical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j0299125"/>
          <p:cNvPicPr/>
          <p:nvPr/>
        </p:nvPicPr>
        <p:blipFill>
          <a:blip r:embed="rId1"/>
          <a:stretch/>
        </p:blipFill>
        <p:spPr>
          <a:xfrm>
            <a:off x="7696080" y="228600"/>
            <a:ext cx="820800" cy="1347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ist any four of these personal qualifications that medical assistants should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thinking skill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ngness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 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ion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5334120"/>
            <a:ext cx="2514600" cy="761760"/>
          </a:xfrm>
          <a:prstGeom prst="flowChartPreparation">
            <a:avLst/>
          </a:prstGeom>
          <a:solidFill>
            <a:srgbClr val="5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Answ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12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18E9A64-34B8-4F59-902D-79E4BE4D1F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0112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you take action to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r at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32"/>
          <p:cNvSpPr/>
          <p:nvPr/>
        </p:nvSpPr>
        <p:spPr>
          <a:xfrm>
            <a:off x="685800" y="2895480"/>
            <a:ext cx="7696080" cy="26906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you can answer “yes” to any of the following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repeated conflicts with peop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I had a conflict at work that has resulted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erm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conflicts with authority figu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people make comments about my attitu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1035"/>
          <p:cNvSpPr/>
          <p:nvPr/>
        </p:nvSpPr>
        <p:spPr>
          <a:xfrm>
            <a:off x="2057400" y="5638680"/>
            <a:ext cx="1371600" cy="990720"/>
          </a:xfrm>
          <a:prstGeom prst="flowChartPunchedTap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1041" descr="j0299125"/>
          <p:cNvPicPr/>
          <p:nvPr/>
        </p:nvPicPr>
        <p:blipFill>
          <a:blip r:embed="rId1"/>
          <a:stretch/>
        </p:blipFill>
        <p:spPr>
          <a:xfrm>
            <a:off x="7315200" y="2286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42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358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5158A3A-7B74-4B57-9E7B-44384FC773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Text Box 2051"/>
          <p:cNvSpPr/>
          <p:nvPr/>
        </p:nvSpPr>
        <p:spPr>
          <a:xfrm>
            <a:off x="1676520" y="1981080"/>
            <a:ext cx="5562360" cy="764280"/>
          </a:xfrm>
          <a:prstGeom prst="rect">
            <a:avLst/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052"/>
          <p:cNvSpPr/>
          <p:nvPr/>
        </p:nvSpPr>
        <p:spPr>
          <a:xfrm flipH="1">
            <a:off x="3962160" y="35053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053"/>
          <p:cNvSpPr/>
          <p:nvPr/>
        </p:nvSpPr>
        <p:spPr>
          <a:xfrm>
            <a:off x="609480" y="4419720"/>
            <a:ext cx="365760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duties according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Role Delineation Ch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055"/>
          <p:cNvSpPr/>
          <p:nvPr/>
        </p:nvSpPr>
        <p:spPr>
          <a:xfrm>
            <a:off x="4572000" y="3581280"/>
            <a:ext cx="8380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056"/>
          <p:cNvSpPr/>
          <p:nvPr/>
        </p:nvSpPr>
        <p:spPr>
          <a:xfrm>
            <a:off x="4800600" y="4419720"/>
            <a:ext cx="380988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breast of changes in technology, procedures,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58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on-the-job versus training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59ED6F1-3301-4FD8-A65D-20453927D6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WordArt 2"/>
          <p:cNvSpPr txBox="1"/>
          <p:nvPr/>
        </p:nvSpPr>
        <p:spPr>
          <a:xfrm>
            <a:off x="2666880" y="68580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5" name="Picture 4" descr="chap01_end"/>
          <p:cNvPicPr/>
          <p:nvPr/>
        </p:nvPicPr>
        <p:blipFill>
          <a:blip r:embed="rId1"/>
          <a:stretch/>
        </p:blipFill>
        <p:spPr>
          <a:xfrm>
            <a:off x="533520" y="2057400"/>
            <a:ext cx="2206440" cy="3316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971800" y="25146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in any aspect of healing is an awe-inspiring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Jack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Healer’s 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3BFF007-3C16-4C7B-9E8A-0E47CCBE1F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wth of the MA Profess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7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U.S. Department of Labor - Bureau of Statistics, medical assistants held 365,000 jobs in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in physicians’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% in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in nursing homes and offices of other health-care 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in outpatient care centers, laboratories, and other health-care-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CBBA851-5E3F-4580-841F-75D7C70037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and clin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surance produc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(OSHA, CLIA and HIPA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46C4B5-749A-46C5-84DC-E174EAC3FD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H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Laboratory Improvement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A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6EAF49-8A29-42BE-B1B8-C3C9240129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exceptional custom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tient treatments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9763F6D-BD93-4ED9-B5CA-E4E0641381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merican Association of Medical Assistants (AAMA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raise the standard of medical assisting to a more profess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ASSOCI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EDICAL ASSI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. WACKER DR., Ste. 15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, IL 606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12) 899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ama-ntl.org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chap01_attable"/>
          <p:cNvPicPr/>
          <p:nvPr/>
        </p:nvPicPr>
        <p:blipFill>
          <a:blip r:embed="rId1"/>
          <a:stretch/>
        </p:blipFill>
        <p:spPr>
          <a:xfrm>
            <a:off x="5181480" y="2743200"/>
            <a:ext cx="363384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4:34Z</dcterms:modified>
  <cp:revision>203</cp:revision>
  <dc:subject>Medical Assisting 3e</dc:subject>
  <dc:title>The Profession of Medical Assisting</dc:title>
</cp:coreProperties>
</file>