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image13.jpeg" ContentType="image/jpeg"/>
  <Override PartName="/ppt/media/image3.wmf" ContentType="image/x-wmf"/>
  <Override PartName="/ppt/media/image15.wmf" ContentType="image/x-wmf"/>
  <Override PartName="/ppt/media/image1.jpeg" ContentType="image/jpeg"/>
  <Override PartName="/ppt/media/j0214098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5370-8A11-48E2-B759-DD0FF613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89D-B64D-4691-9C7D-6C08EDA4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2C5E-B9E6-4693-8116-0E8D597F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0A27-B1F0-4B6F-B5C7-F0BB8F8B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AD3D-2891-4192-AD17-96E0E89D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4C93-1BFF-458B-83B2-69AAAAE9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CE8A-C617-4F2C-AFDB-CB199299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030E-3532-4DB9-A79A-C089C54F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7330-804E-4938-AD46-9CDF86EC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9D1A-7E15-4C23-82AA-E113D479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F12-59E5-4C05-A908-790A7187E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1A6E-6492-47FC-BD33-2281DF1B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21B9-9F88-4757-9827-A07B68C6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515C-9EEB-417C-B88F-A36130DA2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28C0-83EA-40D9-AC94-6F20973EB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E58-9CCF-4812-A3A9-5E91DEC6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9C63-F3BC-4DD5-871A-60B07C42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EF7-744A-4B1D-ADE8-17944524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E299-B2E8-4F5E-A2EC-66DB7C47D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F3C-0F92-4592-92C5-788D0AD7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9C93-5CE0-4DEB-82C2-FEF7D269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4D8A-9BAB-4689-AFF9-6C3BB2A86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C197-01E7-4A88-8B8E-AE44007B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31A5-CB08-4A24-8F09-CD95F8A2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93CC-7D2E-48B0-A803-F74898700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706A-13D9-4F3D-B42F-D66F3590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9208-30D4-4C4A-9086-C21AC99C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3D27-D0F8-474C-BCA3-F52CB1DA9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7750-D244-4FA0-8E76-582E92AD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97E8-887B-44DA-AA37-DBD4B42C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976E-8898-4F15-A037-0413E4D4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F4F2-BE66-4248-B445-B7D6A5A6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0C6D-78C2-4B5D-9C37-0FE07EBA1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8A2-90B0-4175-B5D7-F6FC475F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DA1-6BD2-43B3-8539-ACD8D7B5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6C6A-57A1-4682-8972-374B1E0D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F334-D291-4785-8A11-25E2B1C7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7B96-2841-4E12-AB26-4E2F4574D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739-0278-44D3-B687-6A1BA333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3E28-B545-406A-AF63-0B866FBD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9B16-20AB-496F-A269-6C3A8B0E9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F5CA-CB69-487E-BF0E-1CC40F6C8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565-9874-4A9C-A68F-AFEBE9DA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C8A-AEF3-489B-AC09-60B064AC3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FFD6-6083-4ECB-869B-BC7D5D1E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A098-268D-4455-98D5-CC55FB072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25EF-24AC-4D81-8A5E-F073AF764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AA60-74AE-41D3-BA0C-8B04E4D38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F377-34B7-4E81-A103-BF045392B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409C-A6A1-43EA-8257-619303023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7485-2A4F-434F-8CB8-8349A2450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BDAE-403B-48EB-9B56-BE983FD8E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74B3-A4F5-4A25-BC24-AC2BF2ADD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BA1F-E6CF-4F67-9387-70AC84FF8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AE7D-4236-4ADA-9B45-2255685E3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29C2-0240-4DB0-9085-8C712A1D6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4449-87A0-4C21-8416-BA328DE5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914400"/>
            <a:ext cx="438120" cy="474840"/>
          </a:xfrm>
          <a:prstGeom prst="rect">
            <a:avLst/>
          </a:prstGeom>
          <a:solidFill>
            <a:srgbClr val="ffd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38080" y="91440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1295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129528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8600" y="1219320"/>
            <a:ext cx="560520" cy="422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7621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15238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09789A-157B-44B5-A374-6B747844A8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4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9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1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33520" y="24382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fession of Medical Assis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822960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41A8584-004D-4E52-A727-6C786A3DAB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27842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discou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national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467480" y="914400"/>
            <a:ext cx="1295640" cy="1295280"/>
          </a:xfrm>
          <a:prstGeom prst="plus">
            <a:avLst>
              <a:gd name="adj" fmla="val 25000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62120" y="1752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the needs of medical assistants by provi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05CF903-F5EB-41DA-9811-1A6DBDF0F5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8288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Code of Ethic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of Ethics of AAMA sets forth principles of ethical and moral conduct as they relate to the medical profession and the particular practice of Medical Ass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of AAMA are dedicated to the conscientious pursuit of their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4860E42-A371-499C-BE34-65F6E4D6A0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98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four ways the AAMA serves the needs of the medical ass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048120"/>
            <a:ext cx="8229600" cy="3319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AAMA serves the needs of the medical assistant by providing the following serv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red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rtifi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ing Edu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islative Monit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ber Discoun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Insura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 National Conven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 Opport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934320" y="3352680"/>
            <a:ext cx="1904760" cy="1600200"/>
          </a:xfrm>
          <a:prstGeom prst="pie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39152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j0299125"/>
          <p:cNvPicPr/>
          <p:nvPr/>
        </p:nvPicPr>
        <p:blipFill>
          <a:blip r:embed="rId2"/>
          <a:stretch/>
        </p:blipFill>
        <p:spPr>
          <a:xfrm>
            <a:off x="7543800" y="0"/>
            <a:ext cx="97488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60943AA-70ED-49B6-8715-CC9D4740BE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Credential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credentialed personnel or staff will lessen the likelihood of legal challenges of the quality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Organizations (M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great importance in credentials for employe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5DE3DDE-8E95-4B77-A103-A17C013183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rtifi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A credential is awarded by the Certifying Board of the A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ination evaluates mastery of medical assisting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7" descr="chap01_namepin"/>
          <p:cNvPicPr/>
          <p:nvPr/>
        </p:nvPicPr>
        <p:blipFill>
          <a:blip r:embed="rId1">
            <a:lum bright="20000"/>
          </a:blip>
          <a:srcRect l="10819" t="16036" r="52398" b="15324"/>
          <a:stretch/>
        </p:blipFill>
        <p:spPr>
          <a:xfrm>
            <a:off x="6553080" y="1828800"/>
            <a:ext cx="1752840" cy="2206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1120" y="4343040"/>
            <a:ext cx="381492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y eve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43F590E-8942-47E2-B564-4FBD342BA9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gister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ential is give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ed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ts (AM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ification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and experienti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chool graduate or acceptabl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from accredi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he AMT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7" descr="chap01_namepin"/>
          <p:cNvPicPr/>
          <p:nvPr/>
        </p:nvPicPr>
        <p:blipFill>
          <a:blip r:embed="rId1">
            <a:lum bright="20000"/>
          </a:blip>
          <a:srcRect l="41119" t="0" r="9111" b="7011"/>
          <a:stretch/>
        </p:blipFill>
        <p:spPr>
          <a:xfrm>
            <a:off x="6705720" y="18288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C0D401D-3FF3-4FA5-B3B6-9C090F501D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68120"/>
            <a:ext cx="38149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d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y and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12"/>
          <p:cNvSpPr txBox="1"/>
          <p:nvPr/>
        </p:nvSpPr>
        <p:spPr>
          <a:xfrm>
            <a:off x="5486400" y="2590920"/>
            <a:ext cx="1933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mat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0" name="WordArt 13"/>
          <p:cNvSpPr txBox="1"/>
          <p:nvPr/>
        </p:nvSpPr>
        <p:spPr>
          <a:xfrm rot="20258400">
            <a:off x="4782600" y="3654000"/>
            <a:ext cx="97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0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B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0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334120" y="5486400"/>
            <a:ext cx="215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pertension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6095880" y="4114800"/>
            <a:ext cx="22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100000">
                      <a:srgbClr val="ffcf01"/>
                    </a:gs>
                  </a:gsLst>
                  <a:lin ang="5400000"/>
                </a:gradFill>
                <a:latin typeface="Impact"/>
              </a:rPr>
              <a:t>intrader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100000">
                    <a:srgbClr val="ffcf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7238880" y="31240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R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540401A-1458-4504-A2D3-0420F739A6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dical Assistant Associ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tandards for quality and perform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asks and functions for an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opportunities for memb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the profession and assist members to achieve caree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5E02473-0BE5-40BB-93E8-682823860F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mber Benefi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(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T (R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T Institute fo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823832-AEBE-49DD-B3E7-5DCE5DA1E6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recor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73392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room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paration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men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Cj02902720000[1]"/>
          <p:cNvPicPr/>
          <p:nvPr/>
        </p:nvPicPr>
        <p:blipFill>
          <a:blip r:embed="rId1"/>
          <a:stretch/>
        </p:blipFill>
        <p:spPr>
          <a:xfrm>
            <a:off x="5816520" y="1749600"/>
            <a:ext cx="1649520" cy="166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j0404233"/>
          <p:cNvPicPr/>
          <p:nvPr/>
        </p:nvPicPr>
        <p:blipFill>
          <a:blip r:embed="rId2"/>
          <a:stretch/>
        </p:blipFill>
        <p:spPr>
          <a:xfrm>
            <a:off x="2514600" y="4267080"/>
            <a:ext cx="15937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5FDF200-77BE-4871-A899-BEE1DC0845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62120" y="1981080"/>
            <a:ext cx="8001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  Describe the job responsibilities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  Discuss the professional training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  Identify the personal characteristics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  Define multiskilled health profes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52F1A13-ABC9-437D-8781-E43D56D0FC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895400"/>
            <a:ext cx="7196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reasons why credenti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" y="3352680"/>
            <a:ext cx="8229600" cy="155700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ikelihood of a legal challenge to quality of care decreases when employees are certified, and Managed Care Organizations place importance on credentials for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943600" y="5029200"/>
            <a:ext cx="2438280" cy="1219320"/>
          </a:xfrm>
          <a:custGeom>
            <a:avLst/>
            <a:gdLst>
              <a:gd name="textAreaLeft" fmla="*/ 0 w 2438280"/>
              <a:gd name="textAreaRight" fmla="*/ 2438640 w 24382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958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j0074662.wav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0299125"/>
          <p:cNvPicPr/>
          <p:nvPr/>
        </p:nvPicPr>
        <p:blipFill>
          <a:blip r:embed="rId2"/>
          <a:stretch/>
        </p:blipFill>
        <p:spPr>
          <a:xfrm>
            <a:off x="7391520" y="22860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893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C85B5F3-A46B-429C-A2BD-1B3F154554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9540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ree things professio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assistant associations do or pro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j0299125"/>
          <p:cNvPicPr/>
          <p:nvPr/>
        </p:nvPicPr>
        <p:blipFill>
          <a:blip r:embed="rId1"/>
          <a:stretch/>
        </p:blipFill>
        <p:spPr>
          <a:xfrm>
            <a:off x="6705720" y="22860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609480" y="3352680"/>
            <a:ext cx="8229600" cy="2501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edical Assistant Associ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standards for quality and performance fo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prof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 tasks and functions for an occu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opportunities for member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 members to achieve career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7543800" y="1676520"/>
            <a:ext cx="1600200" cy="533160"/>
          </a:xfrm>
          <a:prstGeom prst="wedgeRoundRectCallout">
            <a:avLst>
              <a:gd name="adj1" fmla="val -67856"/>
              <a:gd name="adj2" fmla="val -122620"/>
              <a:gd name="adj3" fmla="val 16667"/>
            </a:avLst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7696080" y="1676520"/>
            <a:ext cx="1219320" cy="4597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9D3A083-FDA4-4F4F-85F3-0370D75BCF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by which progr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icially author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cognized entiti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ing MA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AH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ation ensures that the program meets nationally accepte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chap01_lookatmagazine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126D601-8C7E-45CE-A91D-2272FE1D2A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ed Program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areer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a program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na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ecognition of your edu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professional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you eligible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5" descr="MPj04011210000[1]"/>
          <p:cNvPicPr/>
          <p:nvPr/>
        </p:nvPicPr>
        <p:blipFill>
          <a:blip r:embed="rId1"/>
          <a:stretch/>
        </p:blipFill>
        <p:spPr>
          <a:xfrm>
            <a:off x="7256520" y="1749600"/>
            <a:ext cx="1552680" cy="19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671C071-3824-47F7-93CF-44CBCA07A8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ternship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ractical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ies will be plan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your program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s you the opportunity to acquire a good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6680" y="4300200"/>
            <a:ext cx="770112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7" descr="computer"/>
          <p:cNvPicPr/>
          <p:nvPr/>
        </p:nvPicPr>
        <p:blipFill>
          <a:blip r:embed="rId1"/>
          <a:stretch/>
        </p:blipFill>
        <p:spPr>
          <a:xfrm>
            <a:off x="5943600" y="2514600"/>
            <a:ext cx="26510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5DE10C0-19E6-4387-9CB9-8035735D6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ational Healthcare Associa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s for other health-care occupations, such as phlebotomy and ECG techn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, career advancement, and networking services fo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y of certifie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A09CE73-3183-4B69-8E08-A40D17731E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Volunteer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40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in a variety of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you make care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 résum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MCj02975830000[1]"/>
          <p:cNvPicPr/>
          <p:nvPr/>
        </p:nvPicPr>
        <p:blipFill>
          <a:blip r:embed="rId1"/>
          <a:stretch/>
        </p:blipFill>
        <p:spPr>
          <a:xfrm>
            <a:off x="6019920" y="2819520"/>
            <a:ext cx="1890720" cy="259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7AD7B47-FB80-4E42-BAFD-EA85D0AFC9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kill Train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health c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re cross-trained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on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s your care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Office Laboratory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b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 admission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4" descr="MCj03980190000[1]"/>
          <p:cNvPicPr/>
          <p:nvPr/>
        </p:nvPicPr>
        <p:blipFill>
          <a:blip r:embed="rId1"/>
          <a:stretch/>
        </p:blipFill>
        <p:spPr>
          <a:xfrm>
            <a:off x="6708600" y="1749600"/>
            <a:ext cx="1711440" cy="174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B4AFD30-322A-4C98-9240-C8472AF3EC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urpose of accreditation for medical assistant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wo advantages of multiskill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Picture 8" descr="j0299125"/>
          <p:cNvPicPr/>
          <p:nvPr/>
        </p:nvPicPr>
        <p:blipFill>
          <a:blip r:embed="rId1"/>
          <a:stretch/>
        </p:blipFill>
        <p:spPr>
          <a:xfrm>
            <a:off x="7586640" y="22860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457200" y="3048120"/>
            <a:ext cx="800100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creditation ensures that the program meets nationally accepted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ultiskill training reduces healthcare costs and expands your career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6705720" y="5410080"/>
            <a:ext cx="1600200" cy="1219320"/>
          </a:xfrm>
          <a:prstGeom prst="irregularSeal1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9343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753749C-F7CC-416B-B240-3E78C57029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 –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, laboratory, and clinical duties are all part of the duties of a medical ass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ing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maintaining patient medica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8B4AF17-1019-481D-8029-755EA6B8B5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 Explain the importance of continuing education for a medical 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  Describe the process and benefits of certification and regi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 List the benefits of becoming a member of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B3985DC-2EBC-46C3-9186-A876EC789F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: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3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ests such as a urine pregnancy test on the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ng, preparing, and transmitting laboratory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atients to collect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2452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the doctor during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psis and infec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ing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EC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treatments to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A0D056E-DEC3-43FD-8E6C-25010211D2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Duti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ng an IV and administering me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g as a patient adv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as an OSHA compliance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more complex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ts val="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E21D0DB-D4DB-4BD1-A8D5-B2059D27A3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sonal Qualific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to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060" descr="chap01_professional"/>
          <p:cNvPicPr/>
          <p:nvPr/>
        </p:nvPicPr>
        <p:blipFill>
          <a:blip r:embed="rId1"/>
          <a:stretch/>
        </p:blipFill>
        <p:spPr>
          <a:xfrm>
            <a:off x="5029200" y="19810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EF327C3-93EC-4FCB-8FCB-615EA52429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earance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s comfortable, clean, and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style clean and pu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ils short, pal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crylic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jewe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3372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A119888-417F-447D-909E-FD6779D67D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nd c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 to criticism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direction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withou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s a vital member of a medical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9" descr="MCj02975230000[1]"/>
          <p:cNvPicPr/>
          <p:nvPr/>
        </p:nvPicPr>
        <p:blipFill>
          <a:blip r:embed="rId1"/>
          <a:stretch/>
        </p:blipFill>
        <p:spPr>
          <a:xfrm>
            <a:off x="6153120" y="1968480"/>
            <a:ext cx="264492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D5AEACB-592B-4572-99F3-3286600B90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ge Your 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3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answer “yes” to an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s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repeated conflicts with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I had a conflict at work that has resulted in term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conflicts with authority fig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eople make comments about my at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MCj02934900000[1]"/>
          <p:cNvPicPr/>
          <p:nvPr/>
        </p:nvPicPr>
        <p:blipFill>
          <a:blip r:embed="rId1"/>
          <a:stretch/>
        </p:blipFill>
        <p:spPr>
          <a:xfrm>
            <a:off x="6477120" y="457200"/>
            <a:ext cx="2441520" cy="150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8B54817-BCCE-4CED-83B9-B7250CD943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egrity and Honest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you do and every task you complete should be performed with a goal of excel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and honesty are key in providing superior customer service to your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office staff and physician must be able to trust you and the decisions you ma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BDA4D21-B742-4832-A6D1-0478B74CF3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ttribut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calm in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bd05503_"/>
          <p:cNvPicPr/>
          <p:nvPr/>
        </p:nvPicPr>
        <p:blipFill>
          <a:blip r:embed="rId1"/>
          <a:stretch/>
        </p:blipFill>
        <p:spPr>
          <a:xfrm>
            <a:off x="5029200" y="2590920"/>
            <a:ext cx="3568680" cy="34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EA5CEDB-973D-4246-A135-B4EBEB3ABE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orking As a Team Member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 each other with required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interpersonal conflict with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extra responsibilities without questioning or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onsiderate of other team members’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009BCFD-7753-47D5-B757-722E496DE8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Role Delineation Stud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724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of competence for entry-level medical ass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Delineation Chart found in Appendi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he basis for medical assisting education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bd20072_"/>
          <p:cNvPicPr/>
          <p:nvPr/>
        </p:nvPicPr>
        <p:blipFill>
          <a:blip r:embed="rId1"/>
          <a:stretch/>
        </p:blipFill>
        <p:spPr>
          <a:xfrm>
            <a:off x="533520" y="2133720"/>
            <a:ext cx="3136680" cy="349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8CD28B1-FAC9-462F-B5EB-DDA9F7F81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-growing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ra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partments of the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of accredited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as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5181480"/>
            <a:ext cx="8305560" cy="825480"/>
          </a:xfrm>
          <a:prstGeom prst="rect">
            <a:avLst/>
          </a:prstGeom>
          <a:solidFill>
            <a:srgbClr val="ffd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tasking professional is someone who is able to work in the administrative area, the clinical areas, and the financi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05DF197-497D-4007-ADAF-CE1181C7D6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cope of Practi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’s scope of practice (A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ies of the organization or facility where you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MCj0326960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2666880" cy="17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BA1A91-9009-43E8-BE82-C89935B70E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804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y four personal qualifications you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be an effective medical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j0299125"/>
          <p:cNvPicPr/>
          <p:nvPr/>
        </p:nvPicPr>
        <p:blipFill>
          <a:blip r:embed="rId1"/>
          <a:stretch/>
        </p:blipFill>
        <p:spPr>
          <a:xfrm>
            <a:off x="7696080" y="228600"/>
            <a:ext cx="820800" cy="1347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ist any four of these personal qualifications that medical assistants should displ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thinking skill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ngness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 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siona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5334120"/>
            <a:ext cx="2514600" cy="761760"/>
          </a:xfrm>
          <a:prstGeom prst="flowChartPreparation">
            <a:avLst/>
          </a:prstGeom>
          <a:solidFill>
            <a:srgbClr val="5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Answ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12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E5990BE-169A-4A7E-A4C3-E67FBA9E89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0112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you take action to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r at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32"/>
          <p:cNvSpPr/>
          <p:nvPr/>
        </p:nvSpPr>
        <p:spPr>
          <a:xfrm>
            <a:off x="685800" y="2895480"/>
            <a:ext cx="7696080" cy="26906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you can answer “yes” to any of the following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repeated conflicts with peop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I had a conflict at work that has resulted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ermin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conflicts with authority figu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people make comments about my attitu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1035"/>
          <p:cNvSpPr/>
          <p:nvPr/>
        </p:nvSpPr>
        <p:spPr>
          <a:xfrm>
            <a:off x="2057400" y="5638680"/>
            <a:ext cx="1371600" cy="990720"/>
          </a:xfrm>
          <a:prstGeom prst="flowChartPunchedTap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1041" descr="j0299125"/>
          <p:cNvPicPr/>
          <p:nvPr/>
        </p:nvPicPr>
        <p:blipFill>
          <a:blip r:embed="rId1"/>
          <a:stretch/>
        </p:blipFill>
        <p:spPr>
          <a:xfrm>
            <a:off x="7315200" y="2286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42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3584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88769E2-9FDF-4858-A22B-01D8DD3637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Text Box 2051"/>
          <p:cNvSpPr/>
          <p:nvPr/>
        </p:nvSpPr>
        <p:spPr>
          <a:xfrm>
            <a:off x="1676520" y="1981080"/>
            <a:ext cx="5562360" cy="764280"/>
          </a:xfrm>
          <a:prstGeom prst="rect">
            <a:avLst/>
          </a:prstGeom>
          <a:noFill/>
          <a:ln cap="rnd" w="5724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052"/>
          <p:cNvSpPr/>
          <p:nvPr/>
        </p:nvSpPr>
        <p:spPr>
          <a:xfrm flipH="1">
            <a:off x="3962160" y="35053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053"/>
          <p:cNvSpPr/>
          <p:nvPr/>
        </p:nvSpPr>
        <p:spPr>
          <a:xfrm>
            <a:off x="609480" y="4419720"/>
            <a:ext cx="365760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duties according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Role Delineation Ch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055"/>
          <p:cNvSpPr/>
          <p:nvPr/>
        </p:nvSpPr>
        <p:spPr>
          <a:xfrm>
            <a:off x="4572000" y="3581280"/>
            <a:ext cx="8380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056"/>
          <p:cNvSpPr/>
          <p:nvPr/>
        </p:nvSpPr>
        <p:spPr>
          <a:xfrm>
            <a:off x="4800600" y="4419720"/>
            <a:ext cx="380988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breast of changes in technology, procedures,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58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on-the-job versus training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F7E71E2-2D2D-4999-9125-78A8B0FFC9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WordArt 2"/>
          <p:cNvSpPr txBox="1"/>
          <p:nvPr/>
        </p:nvSpPr>
        <p:spPr>
          <a:xfrm>
            <a:off x="2666880" y="68580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5" name="Picture 4" descr="chap01_end"/>
          <p:cNvPicPr/>
          <p:nvPr/>
        </p:nvPicPr>
        <p:blipFill>
          <a:blip r:embed="rId1"/>
          <a:stretch/>
        </p:blipFill>
        <p:spPr>
          <a:xfrm>
            <a:off x="533520" y="2057400"/>
            <a:ext cx="2206440" cy="3316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971800" y="25146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ng in any aspect of healing is an awe-inspiring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Jack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Healer’s 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24AC4C-8860-43B0-BAC7-15018E8F6C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wth of the MA Profess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87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U.S. Department of Labor - Bureau of Statistics, medical assistants held 365,000 jobs in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in physicians’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% in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in nursing homes and offices of other health-care practit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in outpatient care centers, laboratories, and other health-care-rel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2146C2F-8D6A-485E-9FC8-D5627AEBAA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and clin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surance product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 (OSHA, CLIA and HIPA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0C61B40-FB24-4151-9E1A-B0A5BF129C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H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Laboratory Improvement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A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3B3C6AA-7571-49BA-9DCC-F334E1C9EF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exceptional custom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atient treatments and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C7F3C67-9B4A-48B8-B88C-D5D4DD9BC2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merican Association of Medical Assistants (AAMA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raise the standard of medical assisting to a more profess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ASSOCI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EDICAL ASSI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. WACKER DR., Ste. 157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, IL 606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12) 899-1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aama-ntl.org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chap01_attable"/>
          <p:cNvPicPr/>
          <p:nvPr/>
        </p:nvPicPr>
        <p:blipFill>
          <a:blip r:embed="rId1"/>
          <a:stretch/>
        </p:blipFill>
        <p:spPr>
          <a:xfrm>
            <a:off x="5181480" y="2743200"/>
            <a:ext cx="363384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4:34Z</dcterms:modified>
  <cp:revision>203</cp:revision>
  <dc:subject>Medical Assisting 3e</dc:subject>
  <dc:title>The Profession of Medical Assisting</dc:title>
</cp:coreProperties>
</file>