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jpeg" ContentType="image/jpeg"/>
  <Override PartName="/ppt/media/image8.jpeg" ContentType="image/jpeg"/>
  <Override PartName="/ppt/media/image5.jpeg" ContentType="image/jpeg"/>
  <Override PartName="/ppt/media/image18.wmf" ContentType="image/x-wmf"/>
  <Override PartName="/ppt/media/image21.jpeg" ContentType="image/jpeg"/>
  <Override PartName="/ppt/media/image20.png" ContentType="image/png"/>
  <Override PartName="/ppt/media/image19.wmf" ContentType="image/x-wmf"/>
  <Override PartName="/ppt/media/image9.jpeg" ContentType="image/jpeg"/>
  <Override PartName="/ppt/media/image4.jpeg" ContentType="image/jpeg"/>
  <Override PartName="/ppt/media/image2.png" ContentType="image/png"/>
  <Override PartName="/ppt/media/image17.wmf" ContentType="image/x-wmf"/>
  <Override PartName="/ppt/media/image14.jpeg" ContentType="image/jpeg"/>
  <Override PartName="/ppt/media/image16.wmf" ContentType="image/x-wmf"/>
  <Override PartName="/ppt/media/image13.jpeg" ContentType="image/jpeg"/>
  <Override PartName="/ppt/media/image3.wmf" ContentType="image/x-wmf"/>
  <Override PartName="/ppt/media/image15.wmf" ContentType="image/x-wmf"/>
  <Override PartName="/ppt/media/image1.jpeg" ContentType="image/jpeg"/>
  <Override PartName="/ppt/media/j0214098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1EB39-B422-436B-BCE9-3E8684DF1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4DBA-93DD-4335-8305-6EABDF4B9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404B-141B-4131-85BA-9F450224E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C9B0-ED13-4A95-B96C-19BF1CB26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6F69-D723-4F55-9E9B-3DF481A634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7BBD-FFAA-4542-AFE2-46245ED63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F555-BC72-4683-AEDB-FFEC01B71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C74D-F5DA-409C-B364-6B64451B5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052D-FFDE-4112-81B7-6B1D3E048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1F66B-117D-46DB-8FB1-B85905F3F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81CCC-C32E-46B8-A350-D481CEFBD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B790-77F6-4EB4-AE73-FDDE4AC4B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8393-6EBB-429B-AA33-FA87EBA75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7BB7-4BCB-46A4-ADB3-ABA9F1D1FA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857B-AD72-4CB6-9B38-6988DEA91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8C75B-0C5E-46C6-9223-6BEA81C0E7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610ED-64C7-4C75-A73F-3F9C903C3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A135-4FC5-4707-81F0-89B4ADCBE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96A5-0B37-43BB-9102-9342996F1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5F5D-D5CD-47F4-AD83-A1B1109B5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9A39-2366-474F-A868-76B9B402A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B5E7F-629B-49F7-A48F-4D174486C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14F1-9044-49C2-836E-9FEAC8A140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1289-4AB0-40FE-BC5A-741B98ED4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E5202-E5B7-465B-A276-A03C41842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9FC1-C7DF-420C-B095-F843E7494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A380-DA02-4AB6-9BAE-256D32B1D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9741-6EBC-4F14-8250-1F7B4EF4C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E4A6-24A2-4FEE-A4AC-EF7E27D5C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230C-CA34-451C-88BF-6F3BA0C68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BD91-EB4D-44CB-A100-86CE757E3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4C22-57A4-4581-8E0F-AB7A51A0DA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BFF0-30FB-4E88-BBE8-5B806A43A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CCCD-F600-4880-BB78-C387934F8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BC92-AA87-400E-8B4A-73A53128D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3C2E-C7A4-4DFA-A0DC-69109FCE7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3C3A-23E9-40C8-A9E6-44957E52B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A706-A64A-4DB1-9D43-389AC1A35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44EA-5807-4C6D-93BD-88FBFAABF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65F1-C3CA-4A8C-B10F-67DD90846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B6D0-D851-4AC0-B323-CBE532770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2290-8BA4-4C04-A379-FA4755983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DFBA-548B-4751-9E1B-B048DF9A4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ACB3-8717-446D-B50D-92AE89CD8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A81E9-87E1-4AC1-88F3-CF6E1EC70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C12B4-E1FA-449D-9DD3-77A18098EC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BA3A6-1807-4096-A173-6EDAF79E59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56D87-6657-49F0-B4B6-9C6F16255B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DA692-B312-4E37-B290-B5D65C9DE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42640" y="-360"/>
            <a:ext cx="779292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05CA2-83C4-4C4E-95E1-E256EC2B84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B2D23-A660-426B-B5AF-C9C8CD47B2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67932-72D2-4358-A59A-460E572B97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4FDD6-8862-4D59-A83B-A479BC8820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2640" y="-360"/>
            <a:ext cx="779292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48C8E-D8E2-4086-875B-79EBAA2BC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48187-3496-47B3-9F12-44502260FF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5F54A-E646-4D76-8F5F-5600AD621E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262EA-31CF-4146-BABD-8D84497597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57200" y="914400"/>
            <a:ext cx="438120" cy="474840"/>
          </a:xfrm>
          <a:prstGeom prst="rect">
            <a:avLst/>
          </a:prstGeom>
          <a:solidFill>
            <a:srgbClr val="ffd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38080" y="914400"/>
            <a:ext cx="32868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33520" y="129528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838080" y="129528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228600" y="1219320"/>
            <a:ext cx="560520" cy="4222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7621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57200" y="1523880"/>
            <a:ext cx="8226360" cy="3204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da3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9A454EC-6FBE-488D-9302-27DCBFD621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4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Text Box 17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da3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j0214098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j0214098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0.png"/><Relationship Id="rId3" Type="http://schemas.openxmlformats.org/officeDocument/2006/relationships/audio" Target="../media/j0214098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9"/>
          <p:cNvSpPr txBox="1"/>
          <p:nvPr/>
        </p:nvSpPr>
        <p:spPr>
          <a:xfrm>
            <a:off x="2971800" y="1295280"/>
            <a:ext cx="3124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hapter 1</a:t>
            </a:r>
            <a:endParaRPr b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752480" y="2666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22"/>
          <p:cNvSpPr/>
          <p:nvPr/>
        </p:nvSpPr>
        <p:spPr>
          <a:xfrm>
            <a:off x="533520" y="2438280"/>
            <a:ext cx="830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Profession of Medical Assist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werPoint® presentation to accompan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dical Assis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th, Whicker, Wyman, Pugh, Thomp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5"/>
          <p:cNvSpPr/>
          <p:nvPr/>
        </p:nvSpPr>
        <p:spPr>
          <a:xfrm>
            <a:off x="8229600" y="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-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4174A37-DE5C-4577-9A16-7A6AAEC535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AMA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40388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red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r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islative monito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05520" y="2784240"/>
            <a:ext cx="4038480" cy="31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discou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insur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ual national conven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ing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7467480" y="914400"/>
            <a:ext cx="1295640" cy="1295280"/>
          </a:xfrm>
          <a:prstGeom prst="plus">
            <a:avLst>
              <a:gd name="adj" fmla="val 25000"/>
            </a:avLst>
          </a:pr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762120" y="175248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s the needs of medical assistants by provi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94EC12E-6BEB-48A2-B1AE-0E9A871800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762120" y="1828800"/>
            <a:ext cx="8001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AMA Code of Ethic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9246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de of Ethics of AAMA sets forth principles of ethical and moral conduct as they relate to the medical profession and the particular practice of Medical Assis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bers of AAMA are dedicated to the conscientious pursuit of their prof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DDEC62C1-FD2C-4639-8F12-6B69A0CB9B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698040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four ways the AAMA serves the needs of the medical assi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609480" y="3048120"/>
            <a:ext cx="8229600" cy="33199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The AAMA serves the needs of the medical assistant by providing the following servi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cati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credi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rtific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cer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inuing Educ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gislative Monito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mber Discount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oup Insuran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nual National Conven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tworking Opportuniti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6934320" y="3352680"/>
            <a:ext cx="1904760" cy="1600200"/>
          </a:xfrm>
          <a:prstGeom prst="pie">
            <a:avLst/>
          </a:prstGeom>
          <a:solidFill>
            <a:srgbClr val="ffda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7391520" y="3886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ood Jo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12" descr=""/>
          <p:cNvPicPr/>
          <p:nvPr/>
        </p:nvPicPr>
        <p:blipFill>
          <a:blip r:embed="rId1"/>
          <a:stretch/>
        </p:blipFill>
        <p:spPr>
          <a:xfrm>
            <a:off x="7772400" y="990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j0299125"/>
          <p:cNvPicPr/>
          <p:nvPr/>
        </p:nvPicPr>
        <p:blipFill>
          <a:blip r:embed="rId2"/>
          <a:stretch/>
        </p:blipFill>
        <p:spPr>
          <a:xfrm>
            <a:off x="7543800" y="0"/>
            <a:ext cx="974880" cy="1600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4716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2948DA2-173F-4D84-AB27-E26B7D4BC0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mportance of Credentialing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l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ing credentialed personnel or staff will lessen the likelihood of legal challenges of the quality of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d Care Organizations (MC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 great importance in credentials for employe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49AA6F1-639E-4395-BFBE-CC5D9EABC77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ertified Medical Assistan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446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A credential is awarded by the Certifying Board of the A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ion examination evaluates mastery of medical assisting competenc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7" descr="chap01_namepin"/>
          <p:cNvPicPr/>
          <p:nvPr/>
        </p:nvPicPr>
        <p:blipFill>
          <a:blip r:embed="rId1">
            <a:lum bright="20000"/>
          </a:blip>
          <a:srcRect l="10819" t="16036" r="52398" b="15324"/>
          <a:stretch/>
        </p:blipFill>
        <p:spPr>
          <a:xfrm>
            <a:off x="6553080" y="1828800"/>
            <a:ext cx="1752840" cy="22068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81120" y="4343040"/>
            <a:ext cx="381492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rtify ever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ing edu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9486F5D-62DF-42CF-BC99-960F886C18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egistered Medical Assistan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197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dential is given b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erican Medic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ologists (AM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rtification ex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ional and experiential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school graduate or acceptable equiva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duate from accredited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the AMT ex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7" descr="chap01_namepin"/>
          <p:cNvPicPr/>
          <p:nvPr/>
        </p:nvPicPr>
        <p:blipFill>
          <a:blip r:embed="rId1">
            <a:lum bright="20000"/>
          </a:blip>
          <a:srcRect l="41119" t="0" r="9111" b="7011"/>
          <a:stretch/>
        </p:blipFill>
        <p:spPr>
          <a:xfrm>
            <a:off x="6705720" y="1828800"/>
            <a:ext cx="1752480" cy="2209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92D8552-DD3A-4683-B428-0F4D7B7030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2640" y="61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MA/CMA Examination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68120"/>
            <a:ext cx="381492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medical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tomy and phys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al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WordArt 12"/>
          <p:cNvSpPr txBox="1"/>
          <p:nvPr/>
        </p:nvSpPr>
        <p:spPr>
          <a:xfrm>
            <a:off x="5486400" y="2590920"/>
            <a:ext cx="19335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hematolo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70" name="WordArt 13"/>
          <p:cNvSpPr txBox="1"/>
          <p:nvPr/>
        </p:nvSpPr>
        <p:spPr>
          <a:xfrm rot="20258400">
            <a:off x="4782600" y="3654000"/>
            <a:ext cx="97164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806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BC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806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WordArt 14"/>
          <p:cNvSpPr txBox="1"/>
          <p:nvPr/>
        </p:nvSpPr>
        <p:spPr>
          <a:xfrm>
            <a:off x="5334120" y="5486400"/>
            <a:ext cx="21524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ypertension</a:t>
            </a:r>
            <a:endParaRPr b="0" lang="en-US" sz="2400" spc="1" strike="noStrike">
              <a:ln w="12600">
                <a:solidFill>
                  <a:srgbClr val="ff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2" name="WordArt 15"/>
          <p:cNvSpPr txBox="1"/>
          <p:nvPr/>
        </p:nvSpPr>
        <p:spPr>
          <a:xfrm>
            <a:off x="6095880" y="4114800"/>
            <a:ext cx="22384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e4a8"/>
                    </a:gs>
                    <a:gs pos="100000">
                      <a:srgbClr val="ffcf01"/>
                    </a:gs>
                  </a:gsLst>
                  <a:lin ang="5400000"/>
                </a:gradFill>
                <a:latin typeface="Impact"/>
              </a:rPr>
              <a:t>intraderm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e4a8"/>
                  </a:gs>
                  <a:gs pos="100000">
                    <a:srgbClr val="ffcf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3" name="WordArt 16"/>
          <p:cNvSpPr txBox="1"/>
          <p:nvPr/>
        </p:nvSpPr>
        <p:spPr>
          <a:xfrm>
            <a:off x="7238880" y="3124080"/>
            <a:ext cx="1247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ER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ipe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500" autoRev="1" fill="hold"/>
                                        <p:tgtEl>
                                          <p:spTgt spid="1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500" autoRev="1" fill="hold"/>
                                        <p:tgtEl>
                                          <p:spTgt spid="1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500" autoRev="1" fill="hold"/>
                                        <p:tgtEl>
                                          <p:spTgt spid="1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500"/>
                            </p:stCondLst>
                            <p:childTnLst>
                              <p:par>
                                <p:cTn id="172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500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500" autoRev="1" fill="hold"/>
                                        <p:tgtEl>
                                          <p:spTgt spid="1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3519686-0B22-4F6D-95AB-D7B01F8162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edical Assistant Association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standards for quality and performanc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prof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tasks and functions for an occu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opportunities for member net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 the profession and assist members to achieve career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DD907E59-834C-4A31-8052-D3990AB9A8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ember Benefit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AMA (C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pub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in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islative moni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2452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T (R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pub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T Institute for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in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memb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B12E710-10AD-48C6-8B32-9E90292AF2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MA/CMA Examination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ve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 record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ranc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P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373392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nical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 room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tion preparation and 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men coll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5" descr="MCj02902720000[1]"/>
          <p:cNvPicPr/>
          <p:nvPr/>
        </p:nvPicPr>
        <p:blipFill>
          <a:blip r:embed="rId1"/>
          <a:stretch/>
        </p:blipFill>
        <p:spPr>
          <a:xfrm>
            <a:off x="5816520" y="1749600"/>
            <a:ext cx="1649520" cy="1660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j0404233"/>
          <p:cNvPicPr/>
          <p:nvPr/>
        </p:nvPicPr>
        <p:blipFill>
          <a:blip r:embed="rId2"/>
          <a:stretch/>
        </p:blipFill>
        <p:spPr>
          <a:xfrm>
            <a:off x="2514600" y="4267080"/>
            <a:ext cx="1593720" cy="1905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F9607D2-1242-4A38-AA49-1151AF310F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762120" y="1981080"/>
            <a:ext cx="8001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  Describe the job responsibilities of a medic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sis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  Discuss the professional training of a medic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sis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3  Identify the personal characteristics a medic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sistant nee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4  Define multiskilled health profession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earning Outcome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F259B14-3F5C-43F7-833A-62776CE1FB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1895400"/>
            <a:ext cx="7196400" cy="38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wo reasons why credential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mporta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57200" y="3352680"/>
            <a:ext cx="8229600" cy="155700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e likelihood of a legal challenge to quality of care decreases when employees are certified, and Managed Care Organizations place importance on credentials for employe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5943600" y="5029200"/>
            <a:ext cx="2438280" cy="1219320"/>
          </a:xfrm>
          <a:custGeom>
            <a:avLst/>
            <a:gdLst>
              <a:gd name="textAreaLeft" fmla="*/ 0 w 2438280"/>
              <a:gd name="textAreaRight" fmla="*/ 2438640 w 2438280"/>
              <a:gd name="textAreaTop" fmla="*/ 158040 h 1219320"/>
              <a:gd name="textAreaBottom" fmla="*/ 10612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da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095880" y="53341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AVO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j0074662.wav" descr=""/>
          <p:cNvPicPr/>
          <p:nvPr/>
        </p:nvPicPr>
        <p:blipFill>
          <a:blip r:embed="rId1"/>
          <a:stretch/>
        </p:blipFill>
        <p:spPr>
          <a:xfrm>
            <a:off x="7620120" y="990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j0299125"/>
          <p:cNvPicPr/>
          <p:nvPr/>
        </p:nvPicPr>
        <p:blipFill>
          <a:blip r:embed="rId2"/>
          <a:stretch/>
        </p:blipFill>
        <p:spPr>
          <a:xfrm>
            <a:off x="7391520" y="228600"/>
            <a:ext cx="836640" cy="1371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28938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BEE7269-6670-48FA-9451-B712962875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895400"/>
            <a:ext cx="8229600" cy="12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three things profession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al assistant associations do or prov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9" descr="j0299125"/>
          <p:cNvPicPr/>
          <p:nvPr/>
        </p:nvPicPr>
        <p:blipFill>
          <a:blip r:embed="rId1"/>
          <a:stretch/>
        </p:blipFill>
        <p:spPr>
          <a:xfrm>
            <a:off x="6705720" y="228600"/>
            <a:ext cx="774720" cy="12715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2"/>
          <p:cNvSpPr/>
          <p:nvPr/>
        </p:nvSpPr>
        <p:spPr>
          <a:xfrm>
            <a:off x="609480" y="3352680"/>
            <a:ext cx="8229600" cy="25012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Medical Assistant Associa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t standards for quality and performance for th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prof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fine tasks and functions for an occup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e opportunities for member networ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ssist members to achieve career go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AutoShape 13"/>
          <p:cNvSpPr/>
          <p:nvPr/>
        </p:nvSpPr>
        <p:spPr>
          <a:xfrm>
            <a:off x="7543800" y="1676520"/>
            <a:ext cx="1600200" cy="533160"/>
          </a:xfrm>
          <a:prstGeom prst="wedgeRoundRectCallout">
            <a:avLst>
              <a:gd name="adj1" fmla="val -67856"/>
              <a:gd name="adj2" fmla="val -122620"/>
              <a:gd name="adj3" fmla="val 16667"/>
            </a:avLst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7696080" y="1676520"/>
            <a:ext cx="1219320" cy="45972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021409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DFFEDB36-E98A-45D0-8ABC-DE4CF7F8D3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ccreditation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cess by which program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officially authoriz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recognized entities f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editing MA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AHE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H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editation ensures that the program meets nationally accepted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9" descr="chap01_lookatmagazine"/>
          <p:cNvPicPr/>
          <p:nvPr/>
        </p:nvPicPr>
        <p:blipFill>
          <a:blip r:embed="rId1"/>
          <a:stretch/>
        </p:blipFill>
        <p:spPr>
          <a:xfrm>
            <a:off x="5257800" y="1981080"/>
            <a:ext cx="3581280" cy="2390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0D8FCEE-7682-4AE9-B17E-697EFF90BC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ccredited Program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0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career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ion of a program th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s national standar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recognition of your educ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professional pe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you eligible for reg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5" descr="MPj04011210000[1]"/>
          <p:cNvPicPr/>
          <p:nvPr/>
        </p:nvPicPr>
        <p:blipFill>
          <a:blip r:embed="rId1"/>
          <a:stretch/>
        </p:blipFill>
        <p:spPr>
          <a:xfrm>
            <a:off x="7256520" y="1749600"/>
            <a:ext cx="1552680" cy="1966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EE857EB-6A6F-4829-8C2B-D849837F32B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xternship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tain practical work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ties will be plann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eet your program’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ers you the opportunity to acquire a good re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066680" y="4300200"/>
            <a:ext cx="770112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7" descr="computer"/>
          <p:cNvPicPr/>
          <p:nvPr/>
        </p:nvPicPr>
        <p:blipFill>
          <a:blip r:embed="rId1"/>
          <a:stretch/>
        </p:blipFill>
        <p:spPr>
          <a:xfrm>
            <a:off x="5943600" y="2514600"/>
            <a:ext cx="265104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3A64BA2A-9E14-4EDD-B047-E47691DBD1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National Healthcare Association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ion exams for other health-care occupations, such as phlebotomy and ECG technic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, career advancement, and networking services for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ry of certified profess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6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3211291D-9948-42A7-925D-5B19EC814D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Volunteering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6405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ence in a variety of set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tical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you make care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on résum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12" descr="MCj02975830000[1]"/>
          <p:cNvPicPr/>
          <p:nvPr/>
        </p:nvPicPr>
        <p:blipFill>
          <a:blip r:embed="rId1"/>
          <a:stretch/>
        </p:blipFill>
        <p:spPr>
          <a:xfrm>
            <a:off x="6019920" y="2819520"/>
            <a:ext cx="1890720" cy="2590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1F57A8C-72FA-4004-82F5-F70A2A3C72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ultiskill Training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0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s health car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nel are cross-trained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 one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ands your career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tified Office Laboratory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 lab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 bi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pital admission coord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24" descr="MCj03980190000[1]"/>
          <p:cNvPicPr/>
          <p:nvPr/>
        </p:nvPicPr>
        <p:blipFill>
          <a:blip r:embed="rId1"/>
          <a:stretch/>
        </p:blipFill>
        <p:spPr>
          <a:xfrm>
            <a:off x="6708600" y="1749600"/>
            <a:ext cx="1711440" cy="1749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2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4FD276F-943B-4E7A-8ED0-D65DB72F07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808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purpose of accreditation for medical assistant progra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two advantages of multiskill trai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29" name="Picture 8" descr="j0299125"/>
          <p:cNvPicPr/>
          <p:nvPr/>
        </p:nvPicPr>
        <p:blipFill>
          <a:blip r:embed="rId1"/>
          <a:stretch/>
        </p:blipFill>
        <p:spPr>
          <a:xfrm>
            <a:off x="7586640" y="228600"/>
            <a:ext cx="836640" cy="13716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9"/>
          <p:cNvSpPr/>
          <p:nvPr/>
        </p:nvSpPr>
        <p:spPr>
          <a:xfrm>
            <a:off x="457200" y="3048120"/>
            <a:ext cx="8001000" cy="9471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ccreditation ensures that the program meets nationally accepted standar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457200" y="4876920"/>
            <a:ext cx="7924680" cy="9471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Multiskill training reduces healthcare costs and expands your career opportunit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AutoShape 11"/>
          <p:cNvSpPr/>
          <p:nvPr/>
        </p:nvSpPr>
        <p:spPr>
          <a:xfrm>
            <a:off x="6705720" y="5410080"/>
            <a:ext cx="1600200" cy="1219320"/>
          </a:xfrm>
          <a:prstGeom prst="irregularSeal1">
            <a:avLst/>
          </a:prstGeom>
          <a:solidFill>
            <a:srgbClr val="ffda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6934320" y="5715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021409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7633EF4-ED31-405D-B7E7-06DE45D48D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aily Duties of MAs –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Entry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54380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ve, laboratory, and clinical duties are all part of the duties of a medical assi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ting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ing correspo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ing appoin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ing tele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and maintaining patient medical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6DC05F4-8ADD-4152-9A79-8309B7D02E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earning Outcomes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5  Explain the importance of continuing education for a medical  assis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6  Describe the process and benefits of certification and regist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7  List the benefits of becoming a member of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ional associ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F93B55D-F495-47F8-A33D-DCE330E569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aily Duties of MAs: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Entry Level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30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ing tests such as a urine pregnancy test on the prem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ng, preparing, and transmitting laboratory speci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 patients to collect speci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2452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sting the doctor during exa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epsis and infect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ing med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ing EC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treatments to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B5D4651-6E69-4C92-8A9F-AF5A8223DE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Other Dutie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ting an IV and administering med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ing test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ng as a patient advo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ing as an OSHA compliance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ing more complex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0">
              <a:lnSpc>
                <a:spcPts val="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740CC5C-F776-4066-974A-2CFB848EEB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ersonal Qualification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ical thinking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ntion to 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a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ingness to le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02452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mo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ion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2060" descr="chap01_professional"/>
          <p:cNvPicPr/>
          <p:nvPr/>
        </p:nvPicPr>
        <p:blipFill>
          <a:blip r:embed="rId1"/>
          <a:stretch/>
        </p:blipFill>
        <p:spPr>
          <a:xfrm>
            <a:off x="5029200" y="1981080"/>
            <a:ext cx="3759120" cy="2819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5C37458-FAFB-4CF9-BA97-87F28435F3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earance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 clean and 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es comfortable, clean, and wh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irstyle clean and pulled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ils short, pale 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acrylic n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2452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of jewel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181480" y="1752480"/>
            <a:ext cx="3337200" cy="3429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6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7B57071-61BB-4CB9-950F-99F9F2B949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ttitu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0010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ve and c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d to criticism as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direction fro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ity without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as a vital member of a medical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9" descr="MCj02975230000[1]"/>
          <p:cNvPicPr/>
          <p:nvPr/>
        </p:nvPicPr>
        <p:blipFill>
          <a:blip r:embed="rId1"/>
          <a:stretch/>
        </p:blipFill>
        <p:spPr>
          <a:xfrm>
            <a:off x="6153120" y="1968480"/>
            <a:ext cx="2644920" cy="2841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6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8730974-9C97-4C6F-A370-87B537B800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hange Your Attitu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93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can answer “yes” to an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se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I have repeated conflicts with peop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I had a conflict at work that has resulted in termin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I have conflicts with authority figu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people make comments about my attitu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7" descr="MCj02934900000[1]"/>
          <p:cNvPicPr/>
          <p:nvPr/>
        </p:nvPicPr>
        <p:blipFill>
          <a:blip r:embed="rId1"/>
          <a:stretch/>
        </p:blipFill>
        <p:spPr>
          <a:xfrm>
            <a:off x="6477120" y="457200"/>
            <a:ext cx="2441520" cy="150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89B51BA-F34D-48C7-835F-7016194EE3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ntegrity and Honesty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you do and every task you complete should be performed with a goal of excell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ity and honesty are key in providing superior customer service to your pati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office staff and physician must be able to trust you and the decisions you mak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98CA991-1002-4015-B68E-D3B052DAC9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Other Attribute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41907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plom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 ju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aining calm in a cr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hical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7" descr="bd05503_"/>
          <p:cNvPicPr/>
          <p:nvPr/>
        </p:nvPicPr>
        <p:blipFill>
          <a:blip r:embed="rId1"/>
          <a:stretch/>
        </p:blipFill>
        <p:spPr>
          <a:xfrm>
            <a:off x="5029200" y="2590920"/>
            <a:ext cx="3568680" cy="3403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ACCE047-6601-405F-9592-C9D89F5D2C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Working As a Team Member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m dynam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st each other with required du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interpersonal conflict with team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 extra responsibilities without questioning or compl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considerate of other team members’ duties and responsi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FCE497C-0375-45F1-AED7-595240F651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AMA Role Delineation Study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657240" y="1828800"/>
            <a:ext cx="5181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as of competence for entry-level medical assis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 Delineation Chart found in Appendix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the basis for medical assisting education and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are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11" descr="bd20072_"/>
          <p:cNvPicPr/>
          <p:nvPr/>
        </p:nvPicPr>
        <p:blipFill>
          <a:blip r:embed="rId1"/>
          <a:stretch/>
        </p:blipFill>
        <p:spPr>
          <a:xfrm>
            <a:off x="533520" y="2133720"/>
            <a:ext cx="3136680" cy="3497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86CC250-8F4C-4798-8B0D-E2717855CD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ntroduction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-growing occu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one trained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epartments of the fac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24280" y="1828800"/>
            <a:ext cx="4246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assista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uate of accredited 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tasking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533520" y="5181480"/>
            <a:ext cx="8305560" cy="825480"/>
          </a:xfrm>
          <a:prstGeom prst="rect">
            <a:avLst/>
          </a:prstGeom>
          <a:solidFill>
            <a:srgbClr val="ffd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ultitasking professional is someone who is able to work in the administrative area, the clinical areas, and the financial are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62B4DE8-78C1-4685-B8C9-E2FC11CB510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cope of Practic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0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ted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ion’s scope of practice (AA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of pract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licies of the organization or facility where you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4" descr="MCj03269600000[1]"/>
          <p:cNvPicPr/>
          <p:nvPr/>
        </p:nvPicPr>
        <p:blipFill>
          <a:blip r:embed="rId1"/>
          <a:stretch/>
        </p:blipFill>
        <p:spPr>
          <a:xfrm>
            <a:off x="6019920" y="380880"/>
            <a:ext cx="2666880" cy="1771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6D28CB0-C33F-4240-95EB-E5954B81D2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62804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any four personal qualifications you shoul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to be an effective medical assis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4" descr="j0299125"/>
          <p:cNvPicPr/>
          <p:nvPr/>
        </p:nvPicPr>
        <p:blipFill>
          <a:blip r:embed="rId1"/>
          <a:stretch/>
        </p:blipFill>
        <p:spPr>
          <a:xfrm>
            <a:off x="7696080" y="228600"/>
            <a:ext cx="820800" cy="134784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6"/>
          <p:cNvSpPr/>
          <p:nvPr/>
        </p:nvSpPr>
        <p:spPr>
          <a:xfrm>
            <a:off x="533520" y="2895480"/>
            <a:ext cx="8153280" cy="22885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List any four of these personal qualifications that medical assistants should displ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itical thinking skills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ttention to det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mpath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llingness to lea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lexibilit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lf mot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fessional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AutoShape 7"/>
          <p:cNvSpPr/>
          <p:nvPr/>
        </p:nvSpPr>
        <p:spPr>
          <a:xfrm>
            <a:off x="5562720" y="5334120"/>
            <a:ext cx="2514600" cy="761760"/>
          </a:xfrm>
          <a:prstGeom prst="flowChartPreparation">
            <a:avLst/>
          </a:prstGeom>
          <a:solidFill>
            <a:srgbClr val="5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ood Answer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6" name="Picture 8" descr=""/>
          <p:cNvPicPr/>
          <p:nvPr/>
        </p:nvPicPr>
        <p:blipFill>
          <a:blip r:embed="rId2"/>
          <a:stretch/>
        </p:blipFill>
        <p:spPr>
          <a:xfrm>
            <a:off x="8153280" y="58672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021409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6124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3D9021B-68A4-4E61-8332-E0B133EB30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01120" cy="87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hould you take action to chang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our attitu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032"/>
          <p:cNvSpPr/>
          <p:nvPr/>
        </p:nvSpPr>
        <p:spPr>
          <a:xfrm>
            <a:off x="685800" y="2895480"/>
            <a:ext cx="7696080" cy="269064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hen you can answer “yes” to any of the following ques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 I have repeated conflicts with peop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ve I had a conflict at work that has resulted i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termin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 I have conflicts with authority figur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 people make comments about my attitu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AutoShape 1035"/>
          <p:cNvSpPr/>
          <p:nvPr/>
        </p:nvSpPr>
        <p:spPr>
          <a:xfrm>
            <a:off x="2057400" y="5638680"/>
            <a:ext cx="1371600" cy="990720"/>
          </a:xfrm>
          <a:prstGeom prst="flowChartPunchedTap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rrec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2" name="Picture 1041" descr="j0299125"/>
          <p:cNvPicPr/>
          <p:nvPr/>
        </p:nvPicPr>
        <p:blipFill>
          <a:blip r:embed="rId1"/>
          <a:stretch/>
        </p:blipFill>
        <p:spPr>
          <a:xfrm>
            <a:off x="7315200" y="228600"/>
            <a:ext cx="696960" cy="11430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42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3" dur="3584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2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69C8ED8-7496-4DD7-9EEB-259D606CD0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95280" y="7621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6" name="Text Box 2051"/>
          <p:cNvSpPr/>
          <p:nvPr/>
        </p:nvSpPr>
        <p:spPr>
          <a:xfrm>
            <a:off x="1676520" y="1981080"/>
            <a:ext cx="5562360" cy="764280"/>
          </a:xfrm>
          <a:prstGeom prst="rect">
            <a:avLst/>
          </a:prstGeom>
          <a:noFill/>
          <a:ln cap="rnd" w="5724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l Assista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Line 2052"/>
          <p:cNvSpPr/>
          <p:nvPr/>
        </p:nvSpPr>
        <p:spPr>
          <a:xfrm flipH="1">
            <a:off x="3962160" y="35053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2053"/>
          <p:cNvSpPr/>
          <p:nvPr/>
        </p:nvSpPr>
        <p:spPr>
          <a:xfrm>
            <a:off x="609480" y="4419720"/>
            <a:ext cx="3657600" cy="1800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ills and duties according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AMA Role Delineation Ch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Line 2055"/>
          <p:cNvSpPr/>
          <p:nvPr/>
        </p:nvSpPr>
        <p:spPr>
          <a:xfrm>
            <a:off x="4572000" y="3581280"/>
            <a:ext cx="83808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2056"/>
          <p:cNvSpPr/>
          <p:nvPr/>
        </p:nvSpPr>
        <p:spPr>
          <a:xfrm>
            <a:off x="4800600" y="4419720"/>
            <a:ext cx="3809880" cy="1800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y abreast of changes in technology, procedures, and regu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Text Box 2058"/>
          <p:cNvSpPr/>
          <p:nvPr/>
        </p:nvSpPr>
        <p:spPr>
          <a:xfrm>
            <a:off x="838080" y="3124080"/>
            <a:ext cx="7543800" cy="5205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on-the-job versus training progra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2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4149C51-C0F3-426A-82AF-1761DA67FD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WordArt 2"/>
          <p:cNvSpPr txBox="1"/>
          <p:nvPr/>
        </p:nvSpPr>
        <p:spPr>
          <a:xfrm>
            <a:off x="2666880" y="685800"/>
            <a:ext cx="3962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d of Chapter 1</a:t>
            </a:r>
            <a:endParaRPr b="0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End of Chapter</a:t>
            </a:r>
            <a:br>
              <a:rPr sz="800"/>
            </a:br>
            <a:endParaRPr b="0" lang="en-US" sz="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05" name="Picture 4" descr="chap01_end"/>
          <p:cNvPicPr/>
          <p:nvPr/>
        </p:nvPicPr>
        <p:blipFill>
          <a:blip r:embed="rId1"/>
          <a:stretch/>
        </p:blipFill>
        <p:spPr>
          <a:xfrm>
            <a:off x="533520" y="2057400"/>
            <a:ext cx="2206440" cy="331632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5"/>
          <p:cNvSpPr/>
          <p:nvPr/>
        </p:nvSpPr>
        <p:spPr>
          <a:xfrm>
            <a:off x="2971800" y="2514600"/>
            <a:ext cx="5715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ipating in any aspect of healing is an awe-inspiring experie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rol Jackson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Healer’s 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DB6945B-A63E-4D12-A4CD-A578161EC6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Growth of the MA Profession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8702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rding to U.S. Department of Labor - Bureau of Statistics, medical assistants held 365,000 jobs in 200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 in physicians’ off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 % in hosp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in nursing homes and offices of other health-care practitio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ainder in outpatient care centers, laboratories, and other health-care-relat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05A142A-2592-43AD-8A22-7B7FD7B614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Knowledge Base Needed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istrative and clinical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ent insurance product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iance (OSHA, CLIA and HIPA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64A2588-ED1E-4AC4-B182-87F63BFC76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61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Knowledge Base Needed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SHA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pational Safety and Health Admin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A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nical Laboratory Improvements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PAA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lth Insurance Portability and Accountability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BFF6C9F-4B9C-4799-8099-D8310C4AED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61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Knowledge Base Needed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ing exceptional customer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patient treatments and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35126D48-7A62-4466-B912-37E9602980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merican Association of Medical Assistants (AAMA)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648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: To raise the standard of medical assisting to a more professiona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ERICAN ASSOCIA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MEDICAL ASSISTA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N. WACKER DR., Ste. 157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CAGO, IL 6060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12) 899-15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aama-ntl.org/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19" descr="chap01_attable"/>
          <p:cNvPicPr/>
          <p:nvPr/>
        </p:nvPicPr>
        <p:blipFill>
          <a:blip r:embed="rId1"/>
          <a:stretch/>
        </p:blipFill>
        <p:spPr>
          <a:xfrm>
            <a:off x="5181480" y="2743200"/>
            <a:ext cx="3633840" cy="2465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18:29:56Z</dcterms:created>
  <dc:creator>Kathryn A. Booth RN-BSN, MS, RMA, RPT</dc:creator>
  <dc:description/>
  <dc:language>en-US</dc:language>
  <cp:lastModifiedBy>Kathryn Booth</cp:lastModifiedBy>
  <dcterms:modified xsi:type="dcterms:W3CDTF">2008-03-27T20:14:34Z</dcterms:modified>
  <cp:revision>203</cp:revision>
  <dc:subject>Medical Assisting 3e</dc:subject>
  <dc:title>The Profession of Medical Assisting</dc:title>
</cp:coreProperties>
</file>