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8F20-CC76-437D-A60D-965341D9F1E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2EFCB-6299-4199-ACA7-9FAAC998EF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D912-D126-462F-AC98-32A16BDB05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3FD3-7479-40F4-88D4-A4023FDDF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087C-F87A-48B8-AECB-70D333774F4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F017B-B602-4F2D-9CE0-F12E17BE16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62BB-D037-4AD6-8252-4DFFE75924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C049-5D3A-4D9E-83DC-F292A499508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4455E-BFCE-492C-A7D8-5B8399A2DB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EB0C-AF04-4B18-AE50-F45B7328DF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FC6B3-D66F-4384-B9DD-19BA29DBC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847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4749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847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4749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54ED0-2B05-4270-BCF3-4DB8F1F94B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020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020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660066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9-</a:t>
            </a:r>
            <a:fld id="{3D398623-AC6C-4FF3-BB5E-2064A98AC851}" type="slidenum">
              <a:rPr b="1" lang="en-US" sz="12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ldNum" idx="1"/>
          </p:nvPr>
        </p:nvSpPr>
        <p:spPr>
          <a:xfrm>
            <a:off x="7238880" y="-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9-</a:t>
            </a:r>
            <a:fld id="{0BCB231D-72F3-40BB-9622-1EF4A73FB9AB}" type="slidenum">
              <a:rPr b="1" lang="en-US" sz="12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662940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Book Antiqua"/>
              </a:rPr>
              <a:t>© 2009 The McGraw-Hill Companies, Inc.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j0214098.wav" TargetMode="External"/><Relationship Id="rId3" Type="http://schemas.microsoft.com/office/2007/relationships/media" Target="file:///tmp/home/.config/libreoffice/4/user/gallery/j0214098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file:///tmp/home/.config/libreoffice/4/user/gallery/SN00255A.wav" TargetMode="External"/><Relationship Id="rId3" Type="http://schemas.microsoft.com/office/2007/relationships/media" Target="file:///tmp/home/.config/libreoffice/4/user/gallery/SN00255A.wav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89.wav" TargetMode="External"/><Relationship Id="rId2" Type="http://schemas.microsoft.com/office/2007/relationships/media" Target="file:///tmp/home/.config/libreoffice/4/user/gallery/j0074689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690.wav" TargetMode="External"/><Relationship Id="rId2" Type="http://schemas.microsoft.com/office/2007/relationships/media" Target="file:///tmp/home/.config/libreoffice/4/user/gallery/j0074690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SN00524A.wav" TargetMode="External"/><Relationship Id="rId2" Type="http://schemas.microsoft.com/office/2007/relationships/media" Target="file:///tmp/home/.config/libreoffice/4/user/gallery/SN00524A.wav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048120" y="1066680"/>
            <a:ext cx="31240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0">
                  <a:noFill/>
                </a:ln>
                <a:solidFill>
                  <a:srgbClr val="3333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hapter 9</a:t>
            </a:r>
            <a:endParaRPr b="1" lang="en-US" sz="4000" spc="1" strike="noStrike">
              <a:ln w="0">
                <a:noFill/>
              </a:ln>
              <a:solidFill>
                <a:srgbClr val="3333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6668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23623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0066"/>
                </a:solidFill>
                <a:latin typeface="Times New Roman"/>
              </a:rPr>
              <a:t>Maintaining Patient Record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2120" y="373356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Point® presentation to accompan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dical Assi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E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th, Whicker, Wyman, Pugh, Thomp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0617-EAB8-49F3-A7FF-F3F2934A50C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2286000"/>
            <a:ext cx="83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purpose of documentation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429000"/>
            <a:ext cx="746748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Documentation in the medical record provides evidence of appropriate care. If a procedure is not documented, it is considered not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5288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ood Job!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848720" y="541008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474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33"/>
                </p:tgtEl>
              </p:cMediaNode>
            </p:audio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35" name="Document"/>
          <p:cNvSpPr/>
          <p:nvPr/>
        </p:nvSpPr>
        <p:spPr>
          <a:xfrm rot="10800000">
            <a:off x="1676160" y="1981080"/>
            <a:ext cx="5127480" cy="4572000"/>
          </a:xfrm>
          <a:prstGeom prst="pi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2057400"/>
            <a:ext cx="494820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tient Registration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tient demographic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e, D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urance / financi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mergency cont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t medical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llnesses, surgeries, allergies, and current med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mily medic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cial history (diet, exercise, smoking, use of drugs and alcoh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cupational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4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patient complaint recorded in patient’s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142640" y="1905120"/>
            <a:ext cx="4800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examination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of laboratory and other te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from other physicians or hospit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e a copy of the patient consent authorizing release of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294480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95280" y="190512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tor’s diagnosis and treatment p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options and final treatment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to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tion prescri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nts or impre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ive reports, follow-up visits, and telephone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part of the continuous patient reco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calls made to and from the 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400" y="19051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ed consent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ify that the patient understands procedures, outcomes, and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may withdraw consent at an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spital discharge summary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summarizing the patient’s hospit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for follow-up c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ian 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6094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1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1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10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990720" y="1945800"/>
            <a:ext cx="761976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spondence with or about th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written correspondence regarding the pati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item was received on the actual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received by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est an original copy; if not available, make a photocopy of the f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ing and initi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sure to date and place your initials on everything you place in the ch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44600" y="5842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Chart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 Chart Information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3623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section of the patient record contains information about smoking, alcohol use, and occup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505320"/>
            <a:ext cx="792504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nformation about smoking, alcohol use, and occupation is part of the patient’s past medical his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943600" y="4952880"/>
            <a:ext cx="274320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Times New Roman"/>
              </a:rPr>
              <a:t>Correct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9" dur="2268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2666880"/>
            <a:ext cx="2057400" cy="1600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iti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4920" y="2108160"/>
            <a:ext cx="26665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ing med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y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4191120"/>
            <a:ext cx="205740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2108160"/>
            <a:ext cx="2212920" cy="825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ing 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4114800"/>
            <a:ext cx="236232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ination, preparatio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vital 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600200" y="5486400"/>
            <a:ext cx="624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aintain patient privacy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during interview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9" dur="100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46040" y="20797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-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e notes the doctor dic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 results of laboratory tests and exami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telephone communication with the cli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1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ll medical or discharge instructions given to the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Initiating and Maintain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981080"/>
            <a:ext cx="7924680" cy="37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6360" indent="-576360">
              <a:lnSpc>
                <a:spcPct val="100000"/>
              </a:lnSpc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ain the purpose of compiling patient medical rec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the contents of patient record for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ribe how to create and maintain a patient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2449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describe common approaches to documenting information in medical record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3640" y="512280"/>
            <a:ext cx="71629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19320" y="2127240"/>
            <a:ext cx="777240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transcribing notes the doctor dictates and posting lab results, what are two other follow-up tasks the medical assistant might be required to perform as part of follow-up to a patient appoin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533520" y="4437000"/>
            <a:ext cx="5118120" cy="19227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medical assistant may have to record telephone calls with the patient, as well as medical or discharge instructions given to the pati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ocument"/>
          <p:cNvSpPr/>
          <p:nvPr/>
        </p:nvSpPr>
        <p:spPr>
          <a:xfrm rot="10800000">
            <a:off x="5913360" y="5181480"/>
            <a:ext cx="2438640" cy="1447920"/>
          </a:xfrm>
          <a:prstGeom prst="pi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94360" y="541008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c1c1c"/>
                </a:solidFill>
                <a:latin typeface="Times New Roman"/>
              </a:rPr>
              <a:t>Righ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250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9888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69"/>
                </p:tgtEl>
              </p:cMediaNode>
            </p:audio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578560" y="1457280"/>
            <a:ext cx="950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he Six Cs of Charting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1080" y="2133720"/>
            <a:ext cx="411480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ent’s word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ity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mplet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cisenes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ronological orde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fidentialit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2179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not interpret patient’s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80880" y="1981080"/>
            <a:ext cx="1905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29080" y="2889360"/>
            <a:ext cx="55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cise descriptions / medical termi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80000" y="35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out forms complete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42321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the point / approved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4916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746600" y="56008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 HIPAA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7238880" y="685800"/>
            <a:ext cx="792360" cy="12985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8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33520" y="2286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e six Cs of chart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3276720"/>
            <a:ext cx="8077320" cy="2128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he six C’s of charting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ient’s word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cis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larit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hronological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mpletenes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791320" y="5105520"/>
            <a:ext cx="2514600" cy="13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648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eat!</a:t>
            </a:r>
            <a:endParaRPr b="0" lang="en-US" sz="1800" spc="1" strike="noStrike">
              <a:ln w="648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50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1838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82"/>
                </p:tgtEl>
              </p:cMediaNode>
            </p:audio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23640" y="304920"/>
            <a:ext cx="7310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Types of Medical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57200" y="2081160"/>
          <a:ext cx="8305920" cy="4408560"/>
        </p:xfrm>
        <a:graphic>
          <a:graphicData uri="http://schemas.openxmlformats.org/drawingml/2006/table">
            <a:tbl>
              <a:tblPr/>
              <a:tblGrid>
                <a:gridCol w="4152960"/>
                <a:gridCol w="4152960"/>
              </a:tblGrid>
              <a:tr h="104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urce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blem-Oriented Medical Recor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0066"/>
                    </a:solidFill>
                  </a:tcPr>
                </a:tc>
              </a:tr>
              <a:tr h="335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ventional approa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s arranged  according to who supplied 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d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 and treatments are on the same for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10000"/>
                        </a:lnSpc>
                        <a:spcBef>
                          <a:spcPts val="550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2300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fficult to track progress of specific even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c1c1c"/>
                          </a:solidFill>
                          <a:latin typeface="Times New Roman"/>
                        </a:rPr>
                        <a:t>POMR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records make it easier to track specific illnes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1160" indent="-281160"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3333cc"/>
                        </a:buClr>
                        <a:buSzPct val="6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formation includ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ba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 li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ducational, diagnostic, and</a:t>
                      </a:r>
                      <a:br>
                        <a:rPr sz="2200"/>
                      </a:b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treatment pla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71600" indent="-14400"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660066"/>
                        </a:buClr>
                        <a:buSzPct val="5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gress no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59328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br>
              <a:rPr sz="4400"/>
            </a:b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ly series of steps for dealing with any medical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s the follow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ggested trea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715000" y="2666880"/>
            <a:ext cx="2514600" cy="286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6480">
                  <a:solidFill>
                    <a:srgbClr val="660066"/>
                  </a:solidFill>
                  <a:miter/>
                </a:ln>
                <a:gradFill rotWithShape="0">
                  <a:gsLst>
                    <a:gs pos="0">
                      <a:srgbClr val="ffcf01"/>
                    </a:gs>
                    <a:gs pos="100000">
                      <a:srgbClr val="6600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Times New Roman"/>
              </a:rPr>
              <a:t>SOAP</a:t>
            </a:r>
            <a:endParaRPr b="1" lang="en-US" sz="1800" spc="1" strike="noStrike">
              <a:ln w="6480">
                <a:solidFill>
                  <a:srgbClr val="660066"/>
                </a:solidFill>
                <a:miter/>
              </a:ln>
              <a:gradFill rotWithShape="0">
                <a:gsLst>
                  <a:gs pos="0">
                    <a:srgbClr val="ffcf01"/>
                  </a:gs>
                  <a:gs pos="100000">
                    <a:srgbClr val="6600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" y="533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219320" y="5337000"/>
            <a:ext cx="3733200" cy="1296720"/>
            <a:chOff x="1219320" y="5337000"/>
            <a:chExt cx="3733200" cy="1296720"/>
          </a:xfrm>
        </p:grpSpPr>
        <p:sp>
          <p:nvSpPr>
            <p:cNvPr id="193" name=""/>
            <p:cNvSpPr/>
            <p:nvPr/>
          </p:nvSpPr>
          <p:spPr>
            <a:xfrm flipV="1">
              <a:off x="1219320" y="5337000"/>
              <a:ext cx="0" cy="1295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19320" y="5337000"/>
              <a:ext cx="2043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857600" y="5478120"/>
              <a:ext cx="68112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S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40160" y="6113160"/>
              <a:ext cx="241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u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00400" y="4314960"/>
            <a:ext cx="3236760" cy="1265400"/>
            <a:chOff x="3200400" y="4314960"/>
            <a:chExt cx="3236760" cy="1265400"/>
          </a:xfrm>
        </p:grpSpPr>
        <p:sp>
          <p:nvSpPr>
            <p:cNvPr id="198" name=""/>
            <p:cNvSpPr/>
            <p:nvPr/>
          </p:nvSpPr>
          <p:spPr>
            <a:xfrm flipV="1">
              <a:off x="3241800" y="4314960"/>
              <a:ext cx="1440" cy="1015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00400" y="4314960"/>
              <a:ext cx="21751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>
              <a:off x="3546720" y="4518000"/>
              <a:ext cx="838080" cy="1015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O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10280" y="5059800"/>
              <a:ext cx="21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bjective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334120" y="3400200"/>
            <a:ext cx="2666880" cy="1482840"/>
            <a:chOff x="5334120" y="3400200"/>
            <a:chExt cx="2666880" cy="1482840"/>
          </a:xfrm>
        </p:grpSpPr>
        <p:sp>
          <p:nvSpPr>
            <p:cNvPr id="203" name=""/>
            <p:cNvSpPr/>
            <p:nvPr/>
          </p:nvSpPr>
          <p:spPr>
            <a:xfrm flipV="1">
              <a:off x="5334120" y="3400200"/>
              <a:ext cx="720" cy="914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34120" y="3400560"/>
              <a:ext cx="1444320" cy="14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 txBox="1"/>
            <p:nvPr/>
          </p:nvSpPr>
          <p:spPr>
            <a:xfrm>
              <a:off x="5388120" y="3620880"/>
              <a:ext cx="789120" cy="1103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A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f01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84000" y="4362480"/>
              <a:ext cx="191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sessment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6781680" y="2562120"/>
            <a:ext cx="1447920" cy="1265400"/>
            <a:chOff x="6781680" y="2562120"/>
            <a:chExt cx="1447920" cy="1265400"/>
          </a:xfrm>
        </p:grpSpPr>
        <p:sp>
          <p:nvSpPr>
            <p:cNvPr id="208" name=""/>
            <p:cNvSpPr/>
            <p:nvPr/>
          </p:nvSpPr>
          <p:spPr>
            <a:xfrm flipV="1">
              <a:off x="6781680" y="2562120"/>
              <a:ext cx="0" cy="820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81680" y="2562120"/>
              <a:ext cx="144792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"/>
            <p:cNvGrpSpPr/>
            <p:nvPr/>
          </p:nvGrpSpPr>
          <p:grpSpPr>
            <a:xfrm>
              <a:off x="7046280" y="2638440"/>
              <a:ext cx="1027800" cy="1189080"/>
              <a:chOff x="7046280" y="2638440"/>
              <a:chExt cx="1027800" cy="1189080"/>
            </a:xfrm>
          </p:grpSpPr>
          <p:sp>
            <p:nvSpPr>
              <p:cNvPr id="211" name=""/>
              <p:cNvSpPr txBox="1"/>
              <p:nvPr/>
            </p:nvSpPr>
            <p:spPr>
              <a:xfrm>
                <a:off x="7046280" y="2638440"/>
                <a:ext cx="691560" cy="10033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cf01"/>
                    </a:solidFill>
                    <a:effectLst>
                      <a:outerShdw dist="40186" dir="1096358" blurRad="0" rotWithShape="0">
                        <a:srgbClr val="b2b2b2">
                          <a:alpha val="80000"/>
                        </a:srgbClr>
                      </a:outerShdw>
                    </a:effectLst>
                    <a:latin typeface="Times New Roman"/>
                  </a:rPr>
                  <a:t>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cf01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17800" y="3306960"/>
                <a:ext cx="65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219320" y="4238640"/>
            <a:ext cx="1828800" cy="100872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formation the patient tells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219320" y="3400560"/>
            <a:ext cx="396216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hat the physician observes during the exa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2562120"/>
            <a:ext cx="5410080" cy="7038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impression of the patient’s problem that leads to diagn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1952640"/>
            <a:ext cx="7010280" cy="39888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he treatment plan to correct the illness or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SOAP Documenta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1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5791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380880" y="2057400"/>
            <a:ext cx="845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ype of documentation provides an orderly series of steps for dealing with any medical case, and what are the components of this type of document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3429000"/>
            <a:ext cx="8305920" cy="1937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AP documentation provides an orderly series of steps for dealing with any medical case.  The compon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– Subjective dat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-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– Objective dat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 -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7010280" y="685800"/>
            <a:ext cx="882720" cy="1447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648320" y="548640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0066"/>
                </a:solidFill>
                <a:latin typeface="comic"/>
              </a:rPr>
              <a:t>GOOD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70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4716" fill="hold"/>
                                        <p:tgtEl>
                                          <p:spTgt spid="2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19"/>
                </p:tgtEl>
              </p:cMediaNode>
            </p:audio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720" y="3045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8077320" y="609480"/>
            <a:ext cx="74268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2057400"/>
            <a:ext cx="8458200" cy="38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bel the following items as either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subjective” or  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“objectiv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headache                  ____ pulse 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vomited x 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nau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skin col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respirations 16, la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____ chest p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____ poor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2743200"/>
            <a:ext cx="8153280" cy="3141720"/>
            <a:chOff x="457200" y="2743200"/>
            <a:chExt cx="8153280" cy="3141720"/>
          </a:xfrm>
        </p:grpSpPr>
        <p:sp>
          <p:nvSpPr>
            <p:cNvPr id="228" name=""/>
            <p:cNvSpPr/>
            <p:nvPr/>
          </p:nvSpPr>
          <p:spPr>
            <a:xfrm>
              <a:off x="533520" y="304812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91120" y="304812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7080" y="373392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33520" y="5181480"/>
              <a:ext cx="609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67080" y="5181480"/>
              <a:ext cx="609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191120" y="4495680"/>
              <a:ext cx="761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449568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3733920"/>
              <a:ext cx="762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</a:rPr>
                <a:t>O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477120" y="2743200"/>
              <a:ext cx="2133360" cy="4597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ANSWER: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286000" y="0"/>
            <a:ext cx="5486400" cy="1143000"/>
            <a:chOff x="2286000" y="0"/>
            <a:chExt cx="5486400" cy="1143000"/>
          </a:xfrm>
        </p:grpSpPr>
        <p:sp>
          <p:nvSpPr>
            <p:cNvPr id="238" name=""/>
            <p:cNvSpPr/>
            <p:nvPr/>
          </p:nvSpPr>
          <p:spPr>
            <a:xfrm>
              <a:off x="2286000" y="0"/>
              <a:ext cx="5486400" cy="1143000"/>
            </a:xfrm>
            <a:custGeom>
              <a:avLst/>
              <a:gdLst>
                <a:gd name="textAreaLeft" fmla="*/ 857160 w 5486400"/>
                <a:gd name="textAreaRight" fmla="*/ 4800600 w 5486400"/>
                <a:gd name="textAreaTop" fmla="*/ 285840 h 1143000"/>
                <a:gd name="textAreaBottom" fmla="*/ 85752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66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581280" y="304920"/>
              <a:ext cx="25146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Good Job!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8494560" y="56023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3269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2400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atness and legi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good-quality 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lue ink is preferred (differentiates original from cop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critical items such as aller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dwriting must be leg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corrections prope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316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56386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l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all findings as soon as they are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ate entries, record bo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date and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date and time of telephone calls and information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ieve file quickly in event of an eme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32880" y="384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629400" y="2971800"/>
            <a:ext cx="2017800" cy="20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0780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Learning Outcome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200320"/>
            <a:ext cx="845820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79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5 Discuss the need for neatness, timeliness, accuracy, and professional tone in patient recor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6 Discuss tips for performing accurate transcrip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7 Explain how to correct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8 Explain how to update a medical rec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520" indent="0">
              <a:lnSpc>
                <a:spcPct val="90000"/>
              </a:lnSpc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9 Identify when and how a medical record may be releas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r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information carefu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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ver guess or assu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-check accuracy findings and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sure most recent information is recor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2409840"/>
            <a:ext cx="29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08840" y="3314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609480"/>
            <a:ext cx="7696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essional attitude and 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patient comments in his or her own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 record your personal or subjective comments, judgments, opinions, or specu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90720" y="4876920"/>
            <a:ext cx="7010280" cy="11912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call attention to problems or observations by attaching a note to the chart, but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ch comments part of medical re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160" y="1980720"/>
            <a:ext cx="70102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rec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uracy is also important with electronic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accessed by more than o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used in teleco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ful for tickler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ect patient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286000" cy="20988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200240" y="58428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ppearance, Timeliness, and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Accuracy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58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00100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7315200" y="762120"/>
            <a:ext cx="884160" cy="145260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22096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important to remember when you are documenting in the medical recor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3505320"/>
            <a:ext cx="792504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important that medical records be neat and legible, timely, accurate, and maintain a professional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257800" y="5029200"/>
            <a:ext cx="31179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ffcf01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Very Good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660066"/>
                  </a:gs>
                  <a:gs pos="100000">
                    <a:srgbClr val="ffcf01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637" nodeType="afterEffect" fill="hold" presetClass="entr" presetID="1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3500"/>
                            </p:stCondLst>
                            <p:childTnLst>
                              <p:par>
                                <p:cTn id="6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2" dur="9888" fill="hold"/>
                                        <p:tgtEl>
                                          <p:spTgt spid="2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58"/>
                </p:tgtEl>
              </p:cMediaNode>
            </p:audio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3640" y="5932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42640" y="1945800"/>
            <a:ext cx="746748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Transcrip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eans transforming spoken words into written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ctated information is part of the medical record and must be kept confident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each transcription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ve for ultimate accuracy and completeness of transcribed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9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4" dur="500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9" dur="500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142640" y="1945800"/>
            <a:ext cx="80010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bing direct dic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 writing pad and pen that will not sm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complete sentences and phrases to keep up with physician’s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4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abbrevi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for clarification immediately if something is un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the dictation back to verify accu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er notes into patient record, date, and ini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2819520"/>
            <a:ext cx="2666880" cy="2666880"/>
          </a:xfrm>
          <a:prstGeom prst="ellipse">
            <a:avLst/>
          </a:prstGeom>
          <a:solidFill>
            <a:srgbClr val="ffcf01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crip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58280" y="2209680"/>
            <a:ext cx="24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ference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90240" y="2209680"/>
            <a:ext cx="286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ology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41360" y="4791240"/>
            <a:ext cx="199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ret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45400" y="4800600"/>
            <a:ext cx="27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24000" y="274680"/>
            <a:ext cx="741996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Medical Transcription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33520" y="22096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aking direct dictation, when should you clarify information if you do not understand someth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3581280"/>
            <a:ext cx="784836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You should immediately clarify information that you do not understand when taking direct dic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5486400" y="5257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66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cellent!</a:t>
            </a:r>
            <a:endParaRPr b="0" lang="en-US" sz="1800" spc="1" strike="noStrike">
              <a:ln w="9360">
                <a:solidFill>
                  <a:srgbClr val="660066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1532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45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4000"/>
                            </p:stCondLst>
                            <p:childTnLst>
                              <p:par>
                                <p:cTn id="7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8" dur="5760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55320" y="380880"/>
            <a:ext cx="7924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and Updat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945800"/>
            <a:ext cx="8229600" cy="43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dical records are created in</a:t>
            </a: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</a:rPr>
              <a:t>due  course</a:t>
            </a:r>
            <a:r>
              <a:rPr b="1" i="1" lang="en-US" sz="3200" spc="-1" strike="noStrike">
                <a:solidFill>
                  <a:srgbClr val="1c1c1c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gal term meaning information is to be entered at the time of occur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corrected or added after patient’s visit is regarded as 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“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convenient</a:t>
            </a:r>
            <a:r>
              <a:rPr b="1" i="1" lang="en-US" sz="2800" spc="-1" strike="noStrike">
                <a:solidFill>
                  <a:srgbClr val="1c1c1c"/>
                </a:solidFill>
                <a:latin typeface="Times New Roman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care with cor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more difficult to explain a chart that has been altered after something was docu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5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0" dur="500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Correc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613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istakes happen, correct them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must remain le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rt correct information abov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below original line or in mar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ve a witness, if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5880" y="3124080"/>
            <a:ext cx="2560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4" name=""/>
          <p:cNvSpPr/>
          <p:nvPr/>
        </p:nvSpPr>
        <p:spPr>
          <a:xfrm>
            <a:off x="5867280" y="3352680"/>
            <a:ext cx="2819520" cy="0"/>
          </a:xfrm>
          <a:prstGeom prst="line">
            <a:avLst/>
          </a:prstGeom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35812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/d/yyyy 00:00pm </a:t>
            </a:r>
            <a:br>
              <a:rPr sz="1400"/>
            </a:br>
            <a:r>
              <a:rPr b="1" lang="en-US" sz="1400" spc="-1" strike="noStrike">
                <a:solidFill>
                  <a:srgbClr val="000099"/>
                </a:solidFill>
                <a:latin typeface="Lucida Handwriting"/>
              </a:rPr>
              <a:t>misspelled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6095880" y="4191120"/>
            <a:ext cx="243864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Lucida Handwriting"/>
              </a:rPr>
              <a:t>erro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Lucida Handwriting"/>
              <a:ea typeface="Lucida Handwriting"/>
            </a:endParaRPr>
          </a:p>
        </p:txBody>
      </p:sp>
      <p:sp>
        <p:nvSpPr>
          <p:cNvPr id="287" name=""/>
          <p:cNvSpPr/>
          <p:nvPr/>
        </p:nvSpPr>
        <p:spPr>
          <a:xfrm>
            <a:off x="7848720" y="38098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/ch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7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4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89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500"/>
                            </p:stCondLst>
                            <p:childTnLst>
                              <p:par>
                                <p:cTn id="79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8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01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0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500"/>
                            </p:stCondLst>
                            <p:childTnLst>
                              <p:par>
                                <p:cTn id="8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records document the evaluation and treatment of pati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ical to patient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tioned to describe various aspects of patient information and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 has a major role in documenting in and maintaining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Updating Patient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s to record should not appear decep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why late entry is m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e and initial added i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have a third party witness 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Document"/>
          <p:cNvSpPr/>
          <p:nvPr/>
        </p:nvSpPr>
        <p:spPr>
          <a:xfrm rot="10800000">
            <a:off x="5562360" y="2057040"/>
            <a:ext cx="3276360" cy="426708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638680" y="4876920"/>
            <a:ext cx="30481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Addition made to record because patient called back with additional inform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Mm/dd/yyyy – JH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620120" y="586728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Lucida Handwriting"/>
              </a:rPr>
              <a:t>/ ch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pic>
        <p:nvPicPr>
          <p:cNvPr id="294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82296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685800" y="205740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ppropriate way to correct an error in a patient’s medical recor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3048120"/>
            <a:ext cx="822960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correct an error in a patient’s medical recor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raw a line through the origin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t must remain leg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ert correct information above or below original line or in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ocument why correction was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1680" indent="-28728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te, time, and initial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657600" y="380880"/>
            <a:ext cx="3352680" cy="7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660066"/>
                    </a:gs>
                    <a:gs pos="100000">
                      <a:srgbClr val="9900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Super Job!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660066"/>
                  </a:gs>
                  <a:gs pos="100000">
                    <a:srgbClr val="9900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7315200" y="304920"/>
            <a:ext cx="836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4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2500"/>
                            </p:stCondLst>
                            <p:childTnLst>
                              <p:par>
                                <p:cTn id="8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3" dur="726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94"/>
                </p:tgtEl>
              </p:cMediaNode>
            </p:audio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533160"/>
            <a:ext cx="7278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endParaRPr b="0" lang="en-US" sz="40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s are property of physici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confidential patient health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have patient’s written consent to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ptions: cases of contagious disease or court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Document"/>
          <p:cNvSpPr/>
          <p:nvPr/>
        </p:nvSpPr>
        <p:spPr>
          <a:xfrm>
            <a:off x="5562720" y="1981080"/>
            <a:ext cx="3276360" cy="4267440"/>
          </a:xfrm>
          <a:prstGeom prst="pie">
            <a:avLst/>
          </a:prstGeom>
          <a:solidFill>
            <a:srgbClr val="ffeda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38680" y="20574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 of Inform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HMO Insuranc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62720" y="4191120"/>
            <a:ext cx="335268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uthorize Dr. J. Jones to release my healthcare information to the above-named insurance company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Christopher Hansen</a:t>
            </a:r>
            <a:r>
              <a:rPr b="0" lang="en-US" sz="1200" spc="-1" strike="noStrike">
                <a:solidFill>
                  <a:srgbClr val="000099"/>
                </a:solidFill>
                <a:latin typeface="Lucida Handwriting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Handwriting"/>
              </a:rPr>
              <a:t>   </a:t>
            </a:r>
            <a:r>
              <a:rPr b="0" lang="en-US" sz="1200" spc="-1" strike="noStrike" u="sng">
                <a:solidFill>
                  <a:srgbClr val="000099"/>
                </a:solidFill>
                <a:uFillTx/>
                <a:latin typeface="Lucida Handwriting"/>
              </a:rPr>
              <a:t>mm/dd/yyy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ient Signatur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0" dur="10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5" dur="10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0" dur="1000"/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s for releasing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tain a signed and newly dated release form authorizing the transfer of information, and pla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the patient’s re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photocopies of original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py and send only documents covered in the release author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 to confirm receipt of materi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0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5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 guardian of children (may be one or both pa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xt of k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gally authorized represen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unsure, ask super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176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-year-o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ed adults in most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have written consent to release their rec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4724280" y="4419720"/>
            <a:ext cx="3581640" cy="2286000"/>
            <a:chOff x="4724280" y="4419720"/>
            <a:chExt cx="3581640" cy="2286000"/>
          </a:xfrm>
        </p:grpSpPr>
        <p:sp>
          <p:nvSpPr>
            <p:cNvPr id="309" name=""/>
            <p:cNvSpPr/>
            <p:nvPr/>
          </p:nvSpPr>
          <p:spPr>
            <a:xfrm>
              <a:off x="4724280" y="4419720"/>
              <a:ext cx="3581640" cy="2286000"/>
            </a:xfrm>
            <a:prstGeom prst="horizontalScroll">
              <a:avLst>
                <a:gd name="adj" fmla="val 12500"/>
              </a:avLst>
            </a:prstGeom>
            <a:solidFill>
              <a:srgbClr val="990099"/>
            </a:solidFill>
            <a:ln w="1908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29200" y="4800600"/>
              <a:ext cx="3276720" cy="1435320"/>
            </a:xfrm>
            <a:prstGeom prst="rect">
              <a:avLst/>
            </a:pr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Harlow Solid Italic"/>
                </a:rPr>
                <a:t>Legal and ethical principle</a:t>
              </a:r>
              <a:r>
                <a:rPr b="0" lang="en-US" sz="2400" spc="-1" strike="noStrike">
                  <a:solidFill>
                    <a:srgbClr val="ffffff"/>
                  </a:solidFill>
                  <a:latin typeface="Harlow Solid Italic"/>
                </a:rPr>
                <a:t>:</a:t>
              </a:r>
              <a:br>
                <a:rPr sz="2400"/>
              </a:br>
              <a:r>
                <a:rPr b="0" lang="en-US" sz="2000" spc="-1" strike="noStrike">
                  <a:solidFill>
                    <a:srgbClr val="ffffff"/>
                  </a:solidFill>
                  <a:latin typeface="Harlow Solid Italic"/>
                </a:rPr>
                <a:t>Protect patient’s right to privacy at all time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PlaceHolder 3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Release of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Apply Your Knowledge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040" y="2057400"/>
            <a:ext cx="832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edical assistant receives a fax transmittal authorizing transfer of medical record information for a client to another physician’s office. What would you do in this situ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772400" y="571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924680" y="457200"/>
            <a:ext cx="696960" cy="11430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80880" y="3929040"/>
            <a:ext cx="8305920" cy="1557000"/>
          </a:xfrm>
          <a:prstGeom prst="rect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ANSWER: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It is difficult to know the actual originator of a fax transmittal and to verify the signature. The safest solution would be not to release any information based on a fax request and release of informa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5562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AdLib BT"/>
              </a:rPr>
              <a:t>Nice Job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2" presetSubtype="1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1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3850"/>
                            </p:stCondLst>
                            <p:childTnLst>
                              <p:par>
                                <p:cTn id="9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8" dur="5760" fill="hold"/>
                                        <p:tgtEl>
                                          <p:spTgt spid="3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assistants must properly prepare and maintain patient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veral methods for documentation, but regardless of method, records must be complete, legible, current, accurate, and profess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ly maintain, correct, update, and release patient medical rec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676520" y="990720"/>
            <a:ext cx="579096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End of Chapter 9</a:t>
            </a:r>
            <a:endParaRPr b="0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3048120" y="2133720"/>
            <a:ext cx="3352680" cy="228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295280" y="4572000"/>
            <a:ext cx="693432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ganization is the power of the day; without it, nothing is accomplis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 Sophia Pal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 Daybook for Nurses: Making a Difference Each 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58920" y="620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endParaRPr b="0" lang="en-US" sz="44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0720"/>
            <a:ext cx="7053120" cy="40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atient’s </a:t>
            </a:r>
            <a:r>
              <a:rPr b="1" lang="en-US" sz="2800" spc="-1" strike="noStrike">
                <a:solidFill>
                  <a:srgbClr val="1c1c1c"/>
                </a:solidFill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and present medical 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tool for  health-care te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lan to provide for continu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c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ation for billing and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tient education and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al document admissible in cou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467480" y="1828800"/>
            <a:ext cx="1271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3640" y="3086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1440" y="21420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Importance of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Patient Records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30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included in patient reco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 an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ance coverage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son responsib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a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720" y="195264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mpla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 nee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cal treatment p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se to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 and radiology 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620120" y="1219320"/>
            <a:ext cx="127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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2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1" dur="500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Legal Guideline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 of event or proced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docu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is considered not d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gal docu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document complete information about patient c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 if patient is </a:t>
            </a:r>
            <a:r>
              <a:rPr b="1" i="1" lang="en-US" sz="2800" spc="-1" strike="noStrike">
                <a:solidFill>
                  <a:srgbClr val="3333cc"/>
                </a:solidFill>
                <a:latin typeface="Times New Roman"/>
              </a:rPr>
              <a:t>noncomp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1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: </a:t>
            </a:r>
            <a:r>
              <a:rPr b="0" i="1" lang="en-US" sz="2800" spc="-1" strike="noStrike">
                <a:solidFill>
                  <a:srgbClr val="333399"/>
                </a:solidFill>
                <a:latin typeface="Times New Roman"/>
              </a:rPr>
              <a:t>Standards for Records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, accurate, and well-documented records are evidence of appropriate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mplete, inaccurate, altered, or illegible records may imply poor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ryone who documents in the patient record has a responsibility to the patient and employing physic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2720" y="27432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Patient Records</a:t>
            </a: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(cont.)</a:t>
            </a:r>
            <a:endParaRPr b="0" lang="en-US" sz="2800" spc="-1" strike="noStrike">
              <a:solidFill>
                <a:srgbClr val="3333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680" y="2971800"/>
            <a:ext cx="162252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583680" y="2819520"/>
            <a:ext cx="1639080" cy="9471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lity of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35560" y="4038480"/>
            <a:ext cx="1480680" cy="520560"/>
          </a:xfrm>
          <a:prstGeom prst="rect">
            <a:avLst/>
          </a:prstGeom>
          <a:noFill/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2133720"/>
            <a:ext cx="3525840" cy="1295280"/>
          </a:xfrm>
          <a:prstGeom prst="flowChartTerminator">
            <a:avLst/>
          </a:prstGeom>
          <a:solidFill>
            <a:srgbClr val="ffcf01"/>
          </a:solidFill>
          <a:ln w="572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Use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ient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4191120"/>
            <a:ext cx="2346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at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43640" y="3968640"/>
            <a:ext cx="2590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CAHO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lth-c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analysis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policy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4876920"/>
            <a:ext cx="24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2:20:26Z</dcterms:created>
  <dc:creator>Kathryn A. Booth RN-BSN, MS, RMA, RPT</dc:creator>
  <dc:description/>
  <dc:language>en-US</dc:language>
  <cp:lastModifiedBy>Kathryn Booth</cp:lastModifiedBy>
  <dcterms:modified xsi:type="dcterms:W3CDTF">2008-03-29T13:07:21Z</dcterms:modified>
  <cp:revision>61</cp:revision>
  <dc:subject>Medical Assisting 3e</dc:subject>
  <dc:title>Maintaining Patient Records</dc:title>
</cp:coreProperties>
</file>