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jpeg" ContentType="image/jpeg"/>
  <Override PartName="/ppt/media/image1.png" ContentType="image/png"/>
  <Override PartName="/ppt/media/image2.wmf" ContentType="image/x-wmf"/>
  <Override PartName="/ppt/media/image8.gif" ContentType="image/gif"/>
  <Override PartName="/ppt/media/image5.wmf" ContentType="image/x-wmf"/>
  <Override PartName="/ppt/media/image4.jpeg" ContentType="image/jpeg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5807-014A-4CB6-8705-A051B66C8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702A-454A-4C3B-82F7-09C890D58C6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B9F4-038F-45FA-8688-6E42D0ECE54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EF3E-B655-42D2-92D0-525905218A8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A9E6-AE61-40D3-85BB-81292B4175A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92F-A5E8-40DE-96D6-5F3B4C9E08D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D919-3E0E-4AB4-AA0D-FB01C1D614B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A079-3B7D-449B-B85F-AF69C707065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9311-0D7B-42C0-AFE0-B6EA87DB83C0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D233-0172-4A4F-AD77-0610789DE3A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04CE-24CB-4892-9614-2D600F599C6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18BF-CF42-416D-B98E-9DD0784C5AC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AF7-996E-4968-B5E8-AE53CF9EF8B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EB12-2805-4DC1-B72A-42A7EAF64E9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C034-7225-407C-934F-FC77E0E465B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E039-A09B-4408-A04B-65779E832ED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DAF7-5690-48B5-A19B-F287BCA39C8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48EA4-2C26-4F1E-A768-95BA8869C88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0C1-DB86-454F-A058-DF624C7E30F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2180-9B97-45C7-B986-1C877A1C99F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8CF85-3D0C-4383-9085-600506F73B1C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2570-139A-49CA-A822-077D92CE2F9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714E-DE23-44F4-8FF8-B236949485D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2950-A12C-4E1F-B89B-6B20FDA893CE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3172-BD4B-4799-8E54-074F9B46C90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3226-3451-4AC1-A77A-E1D029B7B3F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3352-3944-4916-9997-A61BA86F404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5F80-3179-4ACF-9CAF-272014C611C7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008F-DDFB-4563-8D28-99993096162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48812-73ED-4489-A4F0-7B2A4D88AB8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77BC-581F-4974-87BA-4ECE9345CD8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EB7-31EA-4A2C-813C-0B5C8F3AB953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47DB-5DFD-42B4-86F2-9F0C2694276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4446-0496-4013-B182-FA4D975C1E95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3697-75C0-418D-9BF9-377C4295EAD8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B12D-D9D1-4AC2-A282-6CB99C1B3D6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D8C70-4A5B-4A17-ABD7-088BADE7B6F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A249E-1C57-49E4-B65A-DD305FE75AC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96E1-DE12-49E7-81FF-36AE00AE243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0F84-27F3-4929-B487-9DEB804BEB1F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71D7-146F-4414-89D8-DF8332E3610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A8A2-B0D7-44C6-9CBD-F63CE3303FE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B80E-F02D-4404-84F7-8128DB815AF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27AB-215F-4914-BF71-540B98E2A901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CB307-4A98-4512-B0C2-28D3A27DCC2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D944-B551-4339-9CB5-49E9127D4F3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F9D9-4865-4F0B-A7F1-1EF6BD43031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5C2F-8DDC-4532-A877-3E02393237B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D6642-424E-4E41-ABAA-D1396B2588B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8EEE-2AE2-4863-B6CC-35E68E49C65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3F210-DD25-4D9E-9299-BE804AE4EFC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FA54-27BE-4DE6-A7A4-145B4A5B19B9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5EDD-BBE0-4262-9F61-83653298DDF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7968-8DD0-4CAE-AFBE-424446E81892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EF1E-FA5F-41FC-84F2-76333952CF06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2B41-466E-4A85-B3DA-71FD27829D1B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373BF-9AEA-4782-8DA6-75223DEB05EA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CF31-D297-4715-B2DB-827AD579DE3D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A055-418A-40A1-927B-AF282B339D64}" type="slidenum">
              <a:rPr b="0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529C-177F-43FA-98A9-3A986E159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AD934-FF4F-42B7-A93E-4D4A0E679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150D-2B9D-442B-A1F7-0ABE524DD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CDDBA-B8BD-4C8A-9166-D131027180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F5FA-E472-42CA-B1BA-6D63E642B6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16692-E2D0-4C64-BC47-AEDCB91F79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AC30A-2CE3-44BE-8A11-DFEE4293F3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2CCBB-8452-4738-9CDC-D0F4C119F3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F71E-249F-4B59-8159-7D780433A6E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018F-B261-4418-8361-0114EF0D52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058B-19D6-4F65-A968-9D517F4A3F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6A041-8101-4595-9C9F-D7A6FAF526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6262-FC35-44C7-B2B6-75C2DD677B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C772D-3315-4C60-9939-5153BDD0F5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17202-BBBC-4EA6-91FD-74B4C41AF20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ADFA-109E-4500-B0DF-797D076329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AF460-E535-4696-81A5-CAB54876F4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98445-203C-4A0D-A986-AF390509A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5B50-0404-4AD9-B3D9-9C2DEB1671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B1381-87CD-476B-99B8-A7AD3C9FE0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0352-EC7A-4D62-A3AE-4775BE12C5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E3B9-5C6A-4FBE-BE7A-4D63E34F83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C11C-A36F-4BA2-8C95-A8FD9E7A9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23A6-2F14-44DB-AF85-32A8AA254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-</a:t>
            </a:r>
            <a:fld id="{331E6581-0B23-4DB0-B652-362984F86C80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304920" y="228600"/>
            <a:ext cx="8686800" cy="1600200"/>
            <a:chOff x="304920" y="228600"/>
            <a:chExt cx="8686800" cy="1600200"/>
          </a:xfrm>
        </p:grpSpPr>
        <p:sp>
          <p:nvSpPr>
            <p:cNvPr id="4" name="Line 8"/>
            <p:cNvSpPr/>
            <p:nvPr/>
          </p:nvSpPr>
          <p:spPr>
            <a:xfrm flipH="1">
              <a:off x="482760" y="182880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" name="Rectangle 9"/>
            <p:cNvSpPr/>
            <p:nvPr/>
          </p:nvSpPr>
          <p:spPr>
            <a:xfrm>
              <a:off x="8763120" y="228600"/>
              <a:ext cx="22860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304920" y="228600"/>
              <a:ext cx="845496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7" name="Rectangle 11"/>
            <p:cNvSpPr/>
            <p:nvPr/>
          </p:nvSpPr>
          <p:spPr>
            <a:xfrm>
              <a:off x="304920" y="457200"/>
              <a:ext cx="8454960" cy="13968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8" name="Rectangle 12"/>
            <p:cNvSpPr/>
            <p:nvPr/>
          </p:nvSpPr>
          <p:spPr>
            <a:xfrm>
              <a:off x="8763120" y="459000"/>
              <a:ext cx="228600" cy="1364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9" name="Text Box 13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7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8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2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53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54" name="Text Box 16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3E88FDF-2157-4F9C-AC16-7908D6EA8B4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7010280" y="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55AA6EE-7F04-43E2-A6CB-15D37154410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2" name="WordArt 2"/>
          <p:cNvSpPr txBox="1"/>
          <p:nvPr/>
        </p:nvSpPr>
        <p:spPr>
          <a:xfrm>
            <a:off x="2895480" y="1219320"/>
            <a:ext cx="31244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7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Correspondence and Mail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18CD0B0-C7F3-40E4-836B-0ECAC28A5C4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abel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, computerized address labels can save a large amount of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oices and statement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invoic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statement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uter-generated invoices and statemen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erb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 mail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7905666-52E2-4307-B076-0146585BDFF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457200" y="18954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three things do written materials of a medical office convey or demonstr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533520" y="3124080"/>
            <a:ext cx="77724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Written materials convey the ability of the medical office staff to communicate and to conduct business, as well as demonstrate a professional image that reflects on the entire office staff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0" name="Picture 14" descr="j0299125"/>
          <p:cNvPicPr/>
          <p:nvPr/>
        </p:nvPicPr>
        <p:blipFill>
          <a:blip r:embed="rId1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61" name="WordArt 15"/>
          <p:cNvSpPr txBox="1"/>
          <p:nvPr/>
        </p:nvSpPr>
        <p:spPr>
          <a:xfrm>
            <a:off x="6172200" y="5257800"/>
            <a:ext cx="220968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ight!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2" name="Picture 16" descr=""/>
          <p:cNvPicPr/>
          <p:nvPr/>
        </p:nvPicPr>
        <p:blipFill>
          <a:blip r:embed="rId2"/>
          <a:stretch/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93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1838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10DD149-1B57-4685-ACC3-FB074B00F69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6868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 of communic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pose - to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explain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clarify,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or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provide inform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Referral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Scheduling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report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atient educ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surance/billing information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ver or form lett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1D882D4-027A-451B-A741-C9B7C5C7C65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38088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365040" y="2657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46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rgin - 1 inch is standar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elin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onth, day, and yea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3 lines below letterhead on line 15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side address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cludes information needed for correct delivery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03E9766-08C6-41A0-8ED2-3AFBA0EB815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ttention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when letter is sent to specific person in a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an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alut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greeting such as “</a:t>
            </a:r>
            <a:r>
              <a:rPr b="1" i="1" lang="en-US" sz="2800" spc="-1" strike="noStrike">
                <a:solidFill>
                  <a:srgbClr val="000033"/>
                </a:solidFill>
                <a:latin typeface="Times New Roman"/>
              </a:rPr>
              <a:t>Dea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y use business title or department if name is not know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inside addr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340CCE3-ECCF-4527-AF08-BD6D136C4D1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bject lin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d to bring attention to subject (optional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wo lines below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Body 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gins two lines below salutation or subject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ext is single-spaced and double-spaced between paragraph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056FEFA-462B-403B-AC38-6A0806CC2C2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mplimentary closing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d two lines below bod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ncerely” is commonly us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gnature block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s writer’s name on first line and business title on second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ree to four lines below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329D167-BEB7-4B48-8EF9-8E02984F85A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arts of a Business Letter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ica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writer’s initials followed by a colon or slash mark and the typist’s initials (KB/SF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wo lines below the signature block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741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4760" indent="-46476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y be abbreviated as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l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, or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Enc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py notation (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cc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) appears after the enclosure notation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98560" indent="-43164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cludes information such as number of enclosures an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tter recip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3698870-7246-432F-B9F0-CE0902D0E42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22860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5" name="AutoShape 5"/>
          <p:cNvSpPr/>
          <p:nvPr/>
        </p:nvSpPr>
        <p:spPr>
          <a:xfrm>
            <a:off x="2590920" y="1981080"/>
            <a:ext cx="4038480" cy="19051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unctuation Styles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cxnSp>
        <p:nvCxnSpPr>
          <p:cNvPr id="186" name="AutoShape 7"/>
          <p:cNvCxnSpPr>
            <a:stCxn id="185" idx="3"/>
            <a:endCxn id="187" idx="0"/>
          </p:cNvCxnSpPr>
          <p:nvPr/>
        </p:nvCxnSpPr>
        <p:spPr>
          <a:xfrm>
            <a:off x="6629040" y="2933280"/>
            <a:ext cx="724680" cy="11055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cxnSp>
        <p:nvCxnSpPr>
          <p:cNvPr id="188" name="AutoShape 8"/>
          <p:cNvCxnSpPr>
            <a:stCxn id="185" idx="1"/>
          </p:cNvCxnSpPr>
          <p:nvPr/>
        </p:nvCxnSpPr>
        <p:spPr>
          <a:xfrm flipV="1" rot="10800000">
            <a:off x="1828080" y="2932560"/>
            <a:ext cx="762840" cy="1296360"/>
          </a:xfrm>
          <a:prstGeom prst="bentConnector2">
            <a:avLst/>
          </a:prstGeom>
          <a:ln w="9360">
            <a:solidFill>
              <a:srgbClr val="000033"/>
            </a:solidFill>
            <a:miter/>
          </a:ln>
        </p:spPr>
      </p:cxnSp>
      <p:sp>
        <p:nvSpPr>
          <p:cNvPr id="189" name="AutoShape 9"/>
          <p:cNvSpPr/>
          <p:nvPr/>
        </p:nvSpPr>
        <p:spPr>
          <a:xfrm>
            <a:off x="7621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6248520" y="4038480"/>
            <a:ext cx="2209680" cy="1219320"/>
          </a:xfrm>
          <a:prstGeom prst="roundRect">
            <a:avLst>
              <a:gd name="adj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xed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BED0C63-A99A-4EDC-BCAC-84B5710EAA2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Open punctuation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uses no punctuation after these items in a lett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word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signature bloc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enclosure and copy notation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6E46EB2-94BB-4117-8FF3-804F2B1169E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1981080"/>
            <a:ext cx="7924680" cy="37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1 List the supplies necessary for creating and mailing professional-looking correspondence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2 Identify the types of correspondence used in medical office communication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3 Describe the parts of a letter and the different letter and punctuation styl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4 Compose a business letter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ED9DA58-39E8-4412-AD1B-0ADDBAD8438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Mixed Punctuation</a:t>
            </a:r>
            <a:r>
              <a:rPr b="1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cludes the following: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</a:t>
            </a: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Attention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the attention lin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salu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mma after the complimentary clos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35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or period after the enclosure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4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colon after the copy not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unctuation Styles 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WordArt 8"/>
          <p:cNvSpPr txBox="1"/>
          <p:nvPr/>
        </p:nvSpPr>
        <p:spPr>
          <a:xfrm>
            <a:off x="8077320" y="3657600"/>
            <a:ext cx="38088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,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8" name="WordArt 9"/>
          <p:cNvSpPr txBox="1"/>
          <p:nvPr/>
        </p:nvSpPr>
        <p:spPr>
          <a:xfrm>
            <a:off x="8077320" y="24382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9" name="WordArt 10"/>
          <p:cNvSpPr txBox="1"/>
          <p:nvPr/>
        </p:nvSpPr>
        <p:spPr>
          <a:xfrm>
            <a:off x="8077320" y="4952880"/>
            <a:ext cx="304560" cy="9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: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3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46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7CD96B7-B97B-4552-8DA4-04524BBC9D4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One-inch margins on the left and right for 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 ½-inch paper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 should be centered on the p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ngle-space body of letter and double-space between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hort sentences with no more than 20 words on an aver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A16F88B-1697-431B-A31F-D74B6F42904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tter Format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at least two sentences per paragraph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ivide paragraphs longer than 10 lines into two paragraph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 multi-page letters, use letterhead for first page onl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5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23085E0-87AB-4C22-8D64-AD99975ACA0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380880" y="1752480"/>
          <a:ext cx="8458200" cy="3936960"/>
        </p:xfrm>
        <a:graphic>
          <a:graphicData uri="http://schemas.openxmlformats.org/drawingml/2006/table">
            <a:tbl>
              <a:tblPr/>
              <a:tblGrid>
                <a:gridCol w="2129040"/>
                <a:gridCol w="6329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ull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ines are typed flush lef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commonly used in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ateline, complimentary closing, signature block and notations are aligned at the center of page or to the right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raditional, balanced appearan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025075B3-7E5E-4820-8E74-036308C8401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ritten Correspondence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380880" y="1752480"/>
          <a:ext cx="8305920" cy="3956040"/>
        </p:xfrm>
        <a:graphic>
          <a:graphicData uri="http://schemas.openxmlformats.org/drawingml/2006/table">
            <a:tbl>
              <a:tblPr/>
              <a:tblGrid>
                <a:gridCol w="2362320"/>
                <a:gridCol w="594360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etter Styl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fff0a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ed-Block with Indented Paragraph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ragraphs are indented ½ inch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22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Simplifi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dification of full-block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ost modern letter styl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No salutation, courtesy title, or closing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Has a subject line in all capital letter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Too informal for medical office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CBDD4AC-2F46-480C-95B6-D4CA86E984E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80880" y="1895400"/>
            <a:ext cx="853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the medical assistant do if a mailing is to be sent to an organization to request x-ray films, but no specific name or title is given to address it to? Which of the following would you us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2442960" y="3809880"/>
            <a:ext cx="630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Attention: To Whom It May Concer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Sir/Mada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Dear Radiology Depart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17" name="Group 25"/>
          <p:cNvGrpSpPr/>
          <p:nvPr/>
        </p:nvGrpSpPr>
        <p:grpSpPr>
          <a:xfrm>
            <a:off x="304920" y="4114800"/>
            <a:ext cx="2590560" cy="1447920"/>
            <a:chOff x="304920" y="4114800"/>
            <a:chExt cx="2590560" cy="1447920"/>
          </a:xfrm>
        </p:grpSpPr>
        <p:sp>
          <p:nvSpPr>
            <p:cNvPr id="218" name="Text Box 13"/>
            <p:cNvSpPr/>
            <p:nvPr/>
          </p:nvSpPr>
          <p:spPr>
            <a:xfrm>
              <a:off x="304920" y="4114800"/>
              <a:ext cx="1400040" cy="398880"/>
            </a:xfrm>
            <a:prstGeom prst="rect">
              <a:avLst/>
            </a:prstGeom>
            <a:solidFill>
              <a:srgbClr val="8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</a:t>
              </a:r>
              <a:endParaRPr b="0" lang="en-US" sz="20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362320" y="5181480"/>
              <a:ext cx="533160" cy="38124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220" name="WordArt 22"/>
          <p:cNvSpPr txBox="1"/>
          <p:nvPr/>
        </p:nvSpPr>
        <p:spPr>
          <a:xfrm>
            <a:off x="6172200" y="5334120"/>
            <a:ext cx="16668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Correct!</a:t>
            </a:r>
            <a:endParaRPr b="1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1" name="Picture 23" descr=""/>
          <p:cNvPicPr/>
          <p:nvPr/>
        </p:nvPicPr>
        <p:blipFill>
          <a:blip r:embed="rId1"/>
          <a:stretch/>
        </p:blipFill>
        <p:spPr>
          <a:xfrm>
            <a:off x="8077320" y="6019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4" descr="j0299125"/>
          <p:cNvPicPr/>
          <p:nvPr/>
        </p:nvPicPr>
        <p:blipFill>
          <a:blip r:embed="rId2"/>
          <a:stretch/>
        </p:blipFill>
        <p:spPr>
          <a:xfrm>
            <a:off x="7435800" y="609480"/>
            <a:ext cx="696960" cy="1143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2" dur="20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4" dur="2268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63FC688-FB30-453F-AE5E-DF1D9BF55C6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dentify your reading audienc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of letter (formal or relaxe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now the purpose of the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clear and conci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n’t use unnecessary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essage should be easily understoo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e active voice when possibl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ssive voice is best when relaying negative new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E3070C5-F06B-4A48-9269-88A92A0ED294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ffective Writing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polite and courteou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ccuracy of dates and monetary fig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leaving “widows and orphans” (dangling words and phrases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3243FB2-A24D-4D5C-AD59-DDE5236AF96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31" name="Picture 8" descr="j0299125"/>
          <p:cNvPicPr/>
          <p:nvPr/>
        </p:nvPicPr>
        <p:blipFill>
          <a:blip r:embed="rId1"/>
          <a:stretch/>
        </p:blipFill>
        <p:spPr>
          <a:xfrm>
            <a:off x="7350120" y="6094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1"/>
          <p:cNvSpPr/>
          <p:nvPr/>
        </p:nvSpPr>
        <p:spPr>
          <a:xfrm>
            <a:off x="380880" y="1905120"/>
            <a:ext cx="8229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l professional correspondence must be written in a way that conveys information clearly.  What do you need to know when preparing to write any form of office communication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3" name="Text Box 12"/>
          <p:cNvSpPr/>
          <p:nvPr/>
        </p:nvSpPr>
        <p:spPr>
          <a:xfrm>
            <a:off x="380880" y="3808440"/>
            <a:ext cx="8382240" cy="9471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ou must know who you are writing to, i.e., a physician, patient, vendor, or fellow staff member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4" name="AutoShape 13"/>
          <p:cNvSpPr/>
          <p:nvPr/>
        </p:nvSpPr>
        <p:spPr>
          <a:xfrm rot="10800000">
            <a:off x="6400800" y="4952520"/>
            <a:ext cx="2362320" cy="1600200"/>
          </a:xfrm>
          <a:prstGeom prst="verticalScroll">
            <a:avLst>
              <a:gd name="adj" fmla="val 12500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6781680" y="510552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Good Job!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36" name="Picture 15" descr=""/>
          <p:cNvPicPr/>
          <p:nvPr/>
        </p:nvPicPr>
        <p:blipFill>
          <a:blip r:embed="rId2"/>
          <a:stretch/>
        </p:blipFill>
        <p:spPr>
          <a:xfrm>
            <a:off x="86104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299999982118607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3000"/>
                            </p:stCondLst>
                            <p:childTnLst>
                              <p:par>
                                <p:cTn id="5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6" dur="4716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DCC621D-AB47-4705-848F-718C605FEDD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Edit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ctual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ogical flow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cisenes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ne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495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ck for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rammatical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l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at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ave another person proofread if possib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30492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Text Box 13"/>
          <p:cNvSpPr/>
          <p:nvPr/>
        </p:nvSpPr>
        <p:spPr>
          <a:xfrm>
            <a:off x="609480" y="541008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NEVER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skip editing and proofreading steps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3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8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3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8" dur="500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3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2000"/>
                            </p:stCondLst>
                            <p:childTnLst>
                              <p:par>
                                <p:cTn id="629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58FC884-C76F-49B3-ABE1-18E4CCC4F92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57200" y="198108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38360" indent="-738360"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5 Explain the tasks involved in editing and proofreading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6 Describe the process of handling incoming and outgoing mail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738360" indent="-738360">
              <a:spcBef>
                <a:spcPts val="1749"/>
              </a:spcBef>
              <a:tabLst>
                <a:tab algn="l" pos="0"/>
                <a:tab algn="l" pos="738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7.7 Compare and contrast the services provided by the U.S. Postal Service and other delivery service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EFA2047-58E5-487D-A02F-357FC63EADB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380880" y="1828800"/>
            <a:ext cx="8305920" cy="1066680"/>
          </a:xfrm>
          <a:prstGeom prst="bevel">
            <a:avLst>
              <a:gd name="adj" fmla="val 12500"/>
            </a:avLst>
          </a:prstGeom>
          <a:solidFill>
            <a:srgbClr val="80408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ols for Editing And Proofreading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5" name="Text Box 7"/>
          <p:cNvSpPr/>
          <p:nvPr/>
        </p:nvSpPr>
        <p:spPr>
          <a:xfrm>
            <a:off x="3963240" y="3200400"/>
            <a:ext cx="1701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3276360" y="4191120"/>
            <a:ext cx="28753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dic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380880" y="3429000"/>
            <a:ext cx="24386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33"/>
                </a:solidFill>
                <a:latin typeface="Times New Roman"/>
              </a:rPr>
              <a:t>Physician’s Desk Reference (PDR)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>
            <a:off x="6553080" y="3429000"/>
            <a:ext cx="2210040" cy="13737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glish grammar 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age manu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437200" y="5257800"/>
            <a:ext cx="4554720" cy="52056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ord processing spell check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and Proofreading</a:t>
            </a: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7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4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E9F000A-C1CC-4B25-A599-77FBCA3565E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diting ensures that documents ar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ear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plete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ree of grammatical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ogically organiz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ritten in appropriat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69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4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9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9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3EFDCBFC-3D02-46A1-9CEC-B9A4CBEB119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nguage usag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basic grammar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sk: “Is this the best way to convey what I want to say?”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ropriate to rea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57" name="Picture 8" descr="MPj03877960000[1]"/>
          <p:cNvPicPr/>
          <p:nvPr/>
        </p:nvPicPr>
        <p:blipFill>
          <a:blip r:embed="rId1"/>
          <a:stretch/>
        </p:blipFill>
        <p:spPr>
          <a:xfrm>
            <a:off x="5362560" y="2151000"/>
            <a:ext cx="26100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EB86BB4-297F-40D9-BBFB-4EF37AAE392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dit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ontent - logical flow of though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e purpo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cuss one topic at a tim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ange paragraphs when changing topic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events in chronological ord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ick to subjec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lect words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oofread what you wri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2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2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E4BE018-9031-4FA4-86E2-96F4E3CAFE2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ofread and put asi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Have coworker proofread docum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ree types of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t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at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chanical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2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4FEB9A2-9795-4D37-B847-205BFA7C334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rmatting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itioning parts of a letter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denting, line length, line spa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following office sty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ta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istyping monetary figu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 double-checking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gures or having someone else check th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7" name="WordArt 4"/>
          <p:cNvSpPr txBox="1"/>
          <p:nvPr/>
        </p:nvSpPr>
        <p:spPr>
          <a:xfrm>
            <a:off x="6705720" y="3886200"/>
            <a:ext cx="18288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5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50D36FD-D19E-41F5-864F-E9A5ED23C14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ofreading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echanical erro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lling, punctuation, spacing between words, division of work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oid b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ing basic spelling, punctuation, and word division ru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ing for transposed characters or word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oiding dividing words at the end of a lin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6F50C9B-19A9-4842-A6EA-B389A2A2BEEB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228600" y="18288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etter must be sent to current employees that have exceeded their number of absences according to office policy. Which of the following would be most appropriat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3" name="Text Box 6"/>
          <p:cNvSpPr/>
          <p:nvPr/>
        </p:nvSpPr>
        <p:spPr>
          <a:xfrm>
            <a:off x="370800" y="3352680"/>
            <a:ext cx="84182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The attendance policy of this office requires that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You have violated the attendance policy of this 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buClr>
                <a:srgbClr val="000033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ar _____, Are you aware that you have missed “X” days…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457200" y="4940280"/>
            <a:ext cx="79246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304920" y="4572000"/>
            <a:ext cx="8458200" cy="155700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This correspondence must communicate the facts in a soft manner while getting the point across. The first response begins with identifying the “fact” or policy followed by the individual’s performance and is less subjective or punitive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77" name="Picture 13" descr="j0299125"/>
          <p:cNvPicPr/>
          <p:nvPr/>
        </p:nvPicPr>
        <p:blipFill>
          <a:blip r:embed="rId1"/>
          <a:stretch/>
        </p:blipFill>
        <p:spPr>
          <a:xfrm>
            <a:off x="304920" y="380880"/>
            <a:ext cx="836640" cy="1371600"/>
          </a:xfrm>
          <a:prstGeom prst="rect">
            <a:avLst/>
          </a:prstGeom>
          <a:ln w="0">
            <a:noFill/>
          </a:ln>
        </p:spPr>
      </p:pic>
      <p:sp>
        <p:nvSpPr>
          <p:cNvPr id="278" name="Oval 14"/>
          <p:cNvSpPr/>
          <p:nvPr/>
        </p:nvSpPr>
        <p:spPr>
          <a:xfrm>
            <a:off x="380880" y="3429000"/>
            <a:ext cx="38124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1066680" y="457200"/>
            <a:ext cx="2133720" cy="838080"/>
          </a:xfrm>
          <a:prstGeom prst="wedgeRoundRectCallout">
            <a:avLst>
              <a:gd name="adj1" fmla="val -43518"/>
              <a:gd name="adj2" fmla="val 70074"/>
              <a:gd name="adj3" fmla="val 16667"/>
            </a:avLst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ice Work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0" name="Picture 16" descr=""/>
          <p:cNvPicPr/>
          <p:nvPr/>
        </p:nvPicPr>
        <p:blipFill>
          <a:blip r:embed="rId2"/>
          <a:stretch/>
        </p:blipFill>
        <p:spPr>
          <a:xfrm>
            <a:off x="8305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9" dur="2268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7DC115AC-89C8-4918-BB01-2B72298DB6D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772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gning let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you sign for the doctor, place your initials after the doctor’s signatu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aring the envelop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 USPS guidelines for addressing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placem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dress forma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4" name="Picture 4" descr="MCj03970660000[1]"/>
          <p:cNvPicPr/>
          <p:nvPr/>
        </p:nvPicPr>
        <p:blipFill>
          <a:blip r:embed="rId1"/>
          <a:stretch/>
        </p:blipFill>
        <p:spPr>
          <a:xfrm>
            <a:off x="6248520" y="3429000"/>
            <a:ext cx="2236680" cy="2278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AADEDD4-826D-4DE7-A78D-768A8C834B3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eparing Outgo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50720" indent="-45072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lding and inserting the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 of envelope determines th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y a letter should be fold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Small envelope – fold letter in half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usiness-size envelope – fold in thirds </a:t>
            </a:r>
            <a:br>
              <a:rPr sz="2200"/>
            </a:b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(fold bottom up then top down)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22640" indent="-44928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ndow envelope – accordion fold so address appears in the window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letters are signed and all enclosures are included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871560" indent="-41868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sure address on letter matches envelop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88" name="Picture 4" descr="MCj04315360000[1]"/>
          <p:cNvPicPr/>
          <p:nvPr/>
        </p:nvPicPr>
        <p:blipFill>
          <a:blip r:embed="rId1"/>
          <a:stretch/>
        </p:blipFill>
        <p:spPr>
          <a:xfrm>
            <a:off x="6477120" y="1752480"/>
            <a:ext cx="2171520" cy="2135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655DD2E-8FF6-4F2D-9350-C4EE89D8AAFF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materials demonstrate ability to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mmunicat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nduct busines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rofessional image is conveyed in written correspondence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ritten documents = legal record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52320" y="228600"/>
            <a:ext cx="625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33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9FFDA78-DB23-447E-80F7-22104217272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1" name="Picture 4" descr="j0299125"/>
          <p:cNvPicPr/>
          <p:nvPr/>
        </p:nvPicPr>
        <p:blipFill>
          <a:blip r:embed="rId1"/>
          <a:stretch/>
        </p:blipFill>
        <p:spPr>
          <a:xfrm>
            <a:off x="7620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609480" y="3216240"/>
            <a:ext cx="7848720" cy="8254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When preparing envelopes for mailing office correspondence, you should use USPS guidelines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33520" y="1981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ow should you prepare envelopes for mailing office corresponden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6172200" y="4952880"/>
            <a:ext cx="243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5f00ff"/>
              </a:buClr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Stamp of</a:t>
            </a:r>
            <a:br>
              <a:rPr sz="2800"/>
            </a:b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     Approval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5" name="Picture 9" descr=""/>
          <p:cNvPicPr/>
          <p:nvPr/>
        </p:nvPicPr>
        <p:blipFill>
          <a:blip r:embed="rId2"/>
          <a:stretch/>
        </p:blipFill>
        <p:spPr>
          <a:xfrm>
            <a:off x="838188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858" nodeType="afterEffect" fill="hold" presetClass="entr" presetID="1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3500"/>
                            </p:stCondLst>
                            <p:childTnLst>
                              <p:par>
                                <p:cTn id="8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4716" fill="hold"/>
                                        <p:tgtEl>
                                          <p:spTgt spid="2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FFD08123-C140-4AAC-B8B6-46529C49DDF2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tterhead, blank stationery,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vailable from USPS, private delivery companies, and office supply sto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r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ckag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99" name="Picture 4" descr="MCj01495690000[1]"/>
          <p:cNvPicPr/>
          <p:nvPr/>
        </p:nvPicPr>
        <p:blipFill>
          <a:blip r:embed="rId1"/>
          <a:stretch/>
        </p:blipFill>
        <p:spPr>
          <a:xfrm>
            <a:off x="5715000" y="2971800"/>
            <a:ext cx="26924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D115A4A-579D-46EB-813F-E33B77DDC92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irmai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etters and packages must be </a:t>
            </a:r>
            <a:br>
              <a:rPr sz="2700"/>
            </a:b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labeled “AIRMAIL” on all sid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Available for mail to foreign countries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for Overnight Delivery Serv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USPS and other companies require the use of their own mailing materials for next day delivery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3" name="Picture 5" descr="MMj02970310000[1]"/>
          <p:cNvPicPr/>
          <p:nvPr/>
        </p:nvPicPr>
        <p:blipFill>
          <a:blip r:embed="rId1"/>
          <a:stretch/>
        </p:blipFill>
        <p:spPr>
          <a:xfrm>
            <a:off x="6477120" y="1981080"/>
            <a:ext cx="2247840" cy="1379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1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1C4FDDFD-4428-405E-8EFF-750DDA78B61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iling Equipment and Supplies</a:t>
            </a: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stal rates, scales, and met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75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33"/>
                </a:solidFill>
                <a:latin typeface="Times New Roman"/>
              </a:rPr>
              <a:t>Rates and regulations change periodically, so keep current rates on-hand at the medical office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07" name="Picture 4" descr="j0356853"/>
          <p:cNvPicPr/>
          <p:nvPr/>
        </p:nvPicPr>
        <p:blipFill>
          <a:blip r:embed="rId1"/>
          <a:stretch/>
        </p:blipFill>
        <p:spPr>
          <a:xfrm>
            <a:off x="5638680" y="2666880"/>
            <a:ext cx="2363760" cy="1824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483C412-7726-405C-89E8-1757EBA85A3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4" descr="j0299125"/>
          <p:cNvPicPr/>
          <p:nvPr/>
        </p:nvPicPr>
        <p:blipFill>
          <a:blip r:embed="rId1"/>
          <a:stretch/>
        </p:blipFill>
        <p:spPr>
          <a:xfrm>
            <a:off x="7467480" y="609480"/>
            <a:ext cx="79056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6"/>
          <p:cNvSpPr/>
          <p:nvPr/>
        </p:nvSpPr>
        <p:spPr>
          <a:xfrm>
            <a:off x="533520" y="22096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 addition to letterhead, blank stationary, and envelopes, what other mailing supplies might be needed for a medical office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685800" y="3733920"/>
            <a:ext cx="7467480" cy="1373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medical office may need forms, labels, and packaging supplies for items needing special attention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13" name="Group 104"/>
          <p:cNvGrpSpPr/>
          <p:nvPr/>
        </p:nvGrpSpPr>
        <p:grpSpPr>
          <a:xfrm>
            <a:off x="5867280" y="4952880"/>
            <a:ext cx="2362320" cy="1447920"/>
            <a:chOff x="5867280" y="4952880"/>
            <a:chExt cx="2362320" cy="1447920"/>
          </a:xfrm>
        </p:grpSpPr>
        <p:sp>
          <p:nvSpPr>
            <p:cNvPr id="314" name="AutoShape 105"/>
            <p:cNvSpPr/>
            <p:nvPr/>
          </p:nvSpPr>
          <p:spPr>
            <a:xfrm>
              <a:off x="5867280" y="4952880"/>
              <a:ext cx="2362320" cy="1447920"/>
            </a:xfrm>
            <a:prstGeom prst="cube">
              <a:avLst>
                <a:gd name="adj" fmla="val 25000"/>
              </a:avLst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5" name="Text Box 106"/>
            <p:cNvSpPr/>
            <p:nvPr/>
          </p:nvSpPr>
          <p:spPr>
            <a:xfrm>
              <a:off x="6019560" y="5410080"/>
              <a:ext cx="1752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Good Answer!</a:t>
              </a:r>
              <a:endParaRPr b="0" lang="en-US" sz="24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6" name="Line 107"/>
            <p:cNvSpPr/>
            <p:nvPr/>
          </p:nvSpPr>
          <p:spPr>
            <a:xfrm>
              <a:off x="6019560" y="5105160"/>
              <a:ext cx="2057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7" name="Line 108"/>
            <p:cNvSpPr/>
            <p:nvPr/>
          </p:nvSpPr>
          <p:spPr>
            <a:xfrm>
              <a:off x="8076960" y="5105160"/>
              <a:ext cx="0" cy="1143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8" name="Rectangle 109"/>
            <p:cNvSpPr/>
            <p:nvPr/>
          </p:nvSpPr>
          <p:spPr>
            <a:xfrm>
              <a:off x="647676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19" name="Rectangle 110"/>
            <p:cNvSpPr/>
            <p:nvPr/>
          </p:nvSpPr>
          <p:spPr>
            <a:xfrm>
              <a:off x="6248160" y="4952880"/>
              <a:ext cx="38124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20" name="Rectangle 111"/>
            <p:cNvSpPr/>
            <p:nvPr/>
          </p:nvSpPr>
          <p:spPr>
            <a:xfrm>
              <a:off x="7696080" y="4952880"/>
              <a:ext cx="228600" cy="7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21" name="Picture 112" descr=""/>
          <p:cNvPicPr/>
          <p:nvPr/>
        </p:nvPicPr>
        <p:blipFill>
          <a:blip r:embed="rId2"/>
          <a:stretch/>
        </p:blipFill>
        <p:spPr>
          <a:xfrm>
            <a:off x="85345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fill="hold">
                            <p:stCondLst>
                              <p:cond delay="500"/>
                            </p:stCondLst>
                            <p:childTnLst>
                              <p:par>
                                <p:cTn id="9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5" dur="726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C54ABB4-4B5C-4190-A4EA-8D284A6AE40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228600" y="4648320"/>
            <a:ext cx="39783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5f00ff"/>
              </a:buClr>
              <a:buFont typeface="Wingdings" charset="2"/>
              <a:buChar char="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rst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ust weigh n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than 11 oz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is based on    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forwarded at      no extra co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7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urth-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so called </a:t>
            </a:r>
            <a:r>
              <a:rPr b="1" i="1" lang="en-US" sz="2400" spc="-1" strike="noStrike">
                <a:solidFill>
                  <a:srgbClr val="000033"/>
                </a:solidFill>
                <a:latin typeface="Times New Roman"/>
              </a:rPr>
              <a:t>parcel pos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  and is used for items weighing between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1 lb.     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70 lb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are based on weight and distan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3" dur="5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9" dur="5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22384BFA-DD8D-4803-84A0-7B598A92324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USPS – Regular Mail Service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ful for heavier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requiring faster deliver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a flat rate for any items that can fit into the priority envelop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guarantees delivery within 2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3 day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pre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quickest servic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y service available every da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ates vary with weigh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ems automatically insured against loss or damag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pecial flat rate also availabl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6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49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2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57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0" dur="10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3" dur="1000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6" dur="1000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9" dur="1000"/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72" dur="1000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D226FD4-A29F-4648-82AC-7CCC4F489A9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0292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pecial delive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iveries made before regular mail deliver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imited hours and distance limits availabil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a guarantee that the item has been receiv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ires signature of recipien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4" name="Picture 13" descr="MCj02375120000[1]"/>
          <p:cNvPicPr/>
          <p:nvPr/>
        </p:nvPicPr>
        <p:blipFill>
          <a:blip r:embed="rId1"/>
          <a:stretch/>
        </p:blipFill>
        <p:spPr>
          <a:xfrm>
            <a:off x="5562720" y="2438280"/>
            <a:ext cx="3170160" cy="3200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61B93ADD-7E9C-4348-95F9-2A9040D1D29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7848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turn receipt request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ffers proof of who receiv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item and when they received i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ed to send valuable, important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idence provided of mailing and delivery to sen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irst-class and priority mail can be registe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338" name="Picture 6" descr="MCj02808200000[1]"/>
          <p:cNvPicPr/>
          <p:nvPr/>
        </p:nvPicPr>
        <p:blipFill>
          <a:blip r:embed="rId1"/>
          <a:stretch/>
        </p:blipFill>
        <p:spPr>
          <a:xfrm>
            <a:off x="6172200" y="2057400"/>
            <a:ext cx="2295360" cy="1693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2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5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1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F3B907B-DEE1-4BDD-9A19-3E64AC78D851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USPS – Special Postal Servic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80520" y="2022480"/>
            <a:ext cx="403884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ternational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USPS offers surfac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d airmail services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most foreign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untr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ternational mail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lasses are similar to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mestic mail class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48320" y="202248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racing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 used if a piece of certified or registered mail does not reach its destination on tim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e original receipt must be presented to locate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1F64FA0-2950-4504-AE60-216131B1CB1A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orrespondence and Professionalism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earning t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804080"/>
                </a:solidFill>
                <a:latin typeface="Wingdings"/>
                <a:ea typeface="Wingdings"/>
              </a:rPr>
              <a:t></a:t>
            </a:r>
            <a:r>
              <a:rPr b="0" lang="en-US" sz="60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Create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    </a:t>
            </a:r>
            <a:r>
              <a:rPr b="0" lang="en-US" sz="6600" spc="-1" strike="noStrike">
                <a:solidFill>
                  <a:srgbClr val="804080"/>
                </a:solidFill>
                <a:latin typeface="Wingdings"/>
                <a:ea typeface="Wingdings"/>
              </a:rPr>
              <a:t>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Receiv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5f00ff"/>
                </a:solidFill>
                <a:latin typeface="Times New Roman"/>
              </a:rPr>
              <a:t>Se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properly ensures positive, effective communication between your office and others.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838080" y="20574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33"/>
                </a:solidFill>
                <a:latin typeface="Wingdings"/>
                <a:ea typeface="Wingdings"/>
              </a:rPr>
              <a:t></a:t>
            </a:r>
            <a:endParaRPr b="0" lang="en-US" sz="6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22" name="Picture 13" descr="MCj04316000000[1]"/>
          <p:cNvPicPr/>
          <p:nvPr/>
        </p:nvPicPr>
        <p:blipFill>
          <a:blip r:embed="rId1"/>
          <a:stretch/>
        </p:blipFill>
        <p:spPr>
          <a:xfrm>
            <a:off x="3276720" y="24382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71C438A-660C-4BC6-A6C4-24E199FE3186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33520" y="1828800"/>
          <a:ext cx="8229600" cy="4419720"/>
        </p:xfrm>
        <a:graphic>
          <a:graphicData uri="http://schemas.openxmlformats.org/drawingml/2006/table">
            <a:tbl>
              <a:tblPr/>
              <a:tblGrid>
                <a:gridCol w="3504960"/>
                <a:gridCol w="472464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livery Service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solidFill>
                      <a:srgbClr val="5f00ff"/>
                    </a:solidFill>
                  </a:tcPr>
                </a:tc>
              </a:tr>
              <a:tr h="139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United Parcel Service (UPS)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rovides overnight letter and express service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Packages insured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Express Delivery Service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Federal Express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DHL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112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Messengers or Carriers</a:t>
                      </a:r>
                      <a:endParaRPr b="0" lang="en-US" sz="28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spcBef>
                          <a:spcPts val="601"/>
                        </a:spcBef>
                        <a:buClr>
                          <a:srgbClr val="5f00ff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33"/>
                          </a:solidFill>
                          <a:latin typeface="Times New Roman"/>
                        </a:rPr>
                        <a:t>Local area same-day delivery</a:t>
                      </a:r>
                      <a:endParaRPr b="0" lang="en-US" sz="2400" spc="-1" strike="noStrike">
                        <a:solidFill>
                          <a:srgbClr val="0000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ther Delivery Servic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CFCBB0D0-FB85-4266-988E-40A282AE913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47" name="Group 18"/>
          <p:cNvGrpSpPr/>
          <p:nvPr/>
        </p:nvGrpSpPr>
        <p:grpSpPr>
          <a:xfrm>
            <a:off x="455040" y="2895480"/>
            <a:ext cx="6783840" cy="520560"/>
            <a:chOff x="455040" y="2895480"/>
            <a:chExt cx="6783840" cy="520560"/>
          </a:xfrm>
        </p:grpSpPr>
        <p:sp>
          <p:nvSpPr>
            <p:cNvPr id="348" name="Text Box 5"/>
            <p:cNvSpPr/>
            <p:nvPr/>
          </p:nvSpPr>
          <p:spPr>
            <a:xfrm>
              <a:off x="455040" y="2895480"/>
              <a:ext cx="452880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nfidential laboratory resul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49" name="Line 8"/>
            <p:cNvSpPr/>
            <p:nvPr/>
          </p:nvSpPr>
          <p:spPr>
            <a:xfrm>
              <a:off x="5257800" y="3124080"/>
              <a:ext cx="19810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0" name="Group 19"/>
          <p:cNvGrpSpPr/>
          <p:nvPr/>
        </p:nvGrpSpPr>
        <p:grpSpPr>
          <a:xfrm>
            <a:off x="440640" y="3571920"/>
            <a:ext cx="6798240" cy="520560"/>
            <a:chOff x="440640" y="3571920"/>
            <a:chExt cx="6798240" cy="520560"/>
          </a:xfrm>
        </p:grpSpPr>
        <p:sp>
          <p:nvSpPr>
            <p:cNvPr id="351" name="Text Box 6"/>
            <p:cNvSpPr/>
            <p:nvPr/>
          </p:nvSpPr>
          <p:spPr>
            <a:xfrm>
              <a:off x="440640" y="3571920"/>
              <a:ext cx="525276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Signed and dated contract material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2" name="Line 9"/>
            <p:cNvSpPr/>
            <p:nvPr/>
          </p:nvSpPr>
          <p:spPr>
            <a:xfrm>
              <a:off x="5715000" y="3809880"/>
              <a:ext cx="152388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53" name="Group 20"/>
          <p:cNvGrpSpPr/>
          <p:nvPr/>
        </p:nvGrpSpPr>
        <p:grpSpPr>
          <a:xfrm>
            <a:off x="438480" y="4181400"/>
            <a:ext cx="6800400" cy="520560"/>
            <a:chOff x="438480" y="4181400"/>
            <a:chExt cx="6800400" cy="520560"/>
          </a:xfrm>
        </p:grpSpPr>
        <p:sp>
          <p:nvSpPr>
            <p:cNvPr id="354" name="Text Box 7"/>
            <p:cNvSpPr/>
            <p:nvPr/>
          </p:nvSpPr>
          <p:spPr>
            <a:xfrm>
              <a:off x="438480" y="4181400"/>
              <a:ext cx="55130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Patient invoice and billing statements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55" name="Line 10"/>
            <p:cNvSpPr/>
            <p:nvPr/>
          </p:nvSpPr>
          <p:spPr>
            <a:xfrm>
              <a:off x="6095880" y="4419720"/>
              <a:ext cx="1143000" cy="0"/>
            </a:xfrm>
            <a:prstGeom prst="line">
              <a:avLst/>
            </a:prstGeom>
            <a:ln w="9360">
              <a:solidFill>
                <a:srgbClr val="00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56" name="Text Box 12"/>
          <p:cNvSpPr/>
          <p:nvPr/>
        </p:nvSpPr>
        <p:spPr>
          <a:xfrm>
            <a:off x="380880" y="1752480"/>
            <a:ext cx="847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ich type of mail would you use to send each of the following: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7" name="Text Box 14"/>
          <p:cNvSpPr/>
          <p:nvPr/>
        </p:nvSpPr>
        <p:spPr>
          <a:xfrm>
            <a:off x="7394040" y="342900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8" name="Text Box 15"/>
          <p:cNvSpPr/>
          <p:nvPr/>
        </p:nvSpPr>
        <p:spPr>
          <a:xfrm>
            <a:off x="7530120" y="4029120"/>
            <a:ext cx="43668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2859120" y="4800600"/>
            <a:ext cx="3578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. First Class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. Priority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. Certifi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. Registered M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1" name="Text Box 24"/>
          <p:cNvSpPr/>
          <p:nvPr/>
        </p:nvSpPr>
        <p:spPr>
          <a:xfrm>
            <a:off x="5638680" y="2286000"/>
            <a:ext cx="152424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ANSWER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2" name="Text Box 25"/>
          <p:cNvSpPr/>
          <p:nvPr/>
        </p:nvSpPr>
        <p:spPr>
          <a:xfrm>
            <a:off x="7317720" y="2819520"/>
            <a:ext cx="1146960" cy="52056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 or 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3" name="Text Box 31"/>
          <p:cNvSpPr/>
          <p:nvPr/>
        </p:nvSpPr>
        <p:spPr>
          <a:xfrm>
            <a:off x="6934320" y="5791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Right!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364" name="Group 38"/>
          <p:cNvGrpSpPr/>
          <p:nvPr/>
        </p:nvGrpSpPr>
        <p:grpSpPr>
          <a:xfrm>
            <a:off x="6248520" y="5181480"/>
            <a:ext cx="2514600" cy="1295640"/>
            <a:chOff x="6248520" y="5181480"/>
            <a:chExt cx="2514600" cy="1295640"/>
          </a:xfrm>
        </p:grpSpPr>
        <p:sp>
          <p:nvSpPr>
            <p:cNvPr id="365" name="Rectangle 34"/>
            <p:cNvSpPr/>
            <p:nvPr/>
          </p:nvSpPr>
          <p:spPr>
            <a:xfrm>
              <a:off x="6248520" y="5181480"/>
              <a:ext cx="2514600" cy="129564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6" name="Text Box 36"/>
            <p:cNvSpPr/>
            <p:nvPr/>
          </p:nvSpPr>
          <p:spPr>
            <a:xfrm>
              <a:off x="6324840" y="5257800"/>
              <a:ext cx="685800" cy="324360"/>
            </a:xfrm>
            <a:prstGeom prst="rect">
              <a:avLst/>
            </a:prstGeom>
            <a:noFill/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111 One Drive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33"/>
                  </a:solidFill>
                  <a:latin typeface="Times New Roman"/>
                </a:rPr>
                <a:t>Any,  ST 11111</a:t>
              </a:r>
              <a:endParaRPr b="0" lang="en-US" sz="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67" name="AutoShape 37"/>
            <p:cNvSpPr/>
            <p:nvPr/>
          </p:nvSpPr>
          <p:spPr>
            <a:xfrm>
              <a:off x="8305920" y="5257800"/>
              <a:ext cx="228600" cy="304920"/>
            </a:xfrm>
            <a:custGeom>
              <a:avLst/>
              <a:gdLst>
                <a:gd name="textAreaLeft" fmla="*/ 11160 w 228600"/>
                <a:gd name="textAreaRight" fmla="*/ 217440 w 228600"/>
                <a:gd name="textAreaTop" fmla="*/ 11160 h 304920"/>
                <a:gd name="textAreaBottom" fmla="*/ 293760 h 304920"/>
              </a:gdLst>
              <a:ahLst/>
              <a:rect l="textAreaLeft" t="textAreaTop" r="textAreaRight" b="textAreaBottom"/>
              <a:pathLst>
                <a:path w="21600" h="28800">
                  <a:moveTo>
                    <a:pt x="3600" y="0"/>
                  </a:moveTo>
                  <a:arcTo wR="3600" hR="3600" stAng="16200000" swAng="-5400000"/>
                  <a:lnTo>
                    <a:pt x="0" y="25200"/>
                  </a:lnTo>
                  <a:arcTo wR="3600" hR="3600" stAng="10800000" swAng="-5400000"/>
                  <a:lnTo>
                    <a:pt x="18000" y="288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5f00ff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pic>
        <p:nvPicPr>
          <p:cNvPr id="368" name="j0074691.wav" descr=""/>
          <p:cNvPicPr/>
          <p:nvPr/>
        </p:nvPicPr>
        <p:blipFill>
          <a:blip r:embed="rId1"/>
          <a:stretch/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0" descr="j0299125"/>
          <p:cNvPicPr/>
          <p:nvPr/>
        </p:nvPicPr>
        <p:blipFill>
          <a:blip r:embed="rId2"/>
          <a:stretch/>
        </p:blipFill>
        <p:spPr>
          <a:xfrm>
            <a:off x="7467480" y="457200"/>
            <a:ext cx="790560" cy="129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23269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9959409E-288D-41A7-9449-410D54969F0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1" name="Text Box 34"/>
          <p:cNvSpPr/>
          <p:nvPr/>
        </p:nvSpPr>
        <p:spPr>
          <a:xfrm>
            <a:off x="7889040" y="30492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2" name="Line 5"/>
          <p:cNvSpPr/>
          <p:nvPr/>
        </p:nvSpPr>
        <p:spPr>
          <a:xfrm flipV="1">
            <a:off x="685800" y="5790960"/>
            <a:ext cx="0" cy="10666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3" name="Line 7"/>
          <p:cNvSpPr/>
          <p:nvPr/>
        </p:nvSpPr>
        <p:spPr>
          <a:xfrm>
            <a:off x="685800" y="5791320"/>
            <a:ext cx="175248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4" name="Line 8"/>
          <p:cNvSpPr/>
          <p:nvPr/>
        </p:nvSpPr>
        <p:spPr>
          <a:xfrm flipV="1">
            <a:off x="2438280" y="5028840"/>
            <a:ext cx="0" cy="76212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5" name="Line 9"/>
          <p:cNvSpPr/>
          <p:nvPr/>
        </p:nvSpPr>
        <p:spPr>
          <a:xfrm>
            <a:off x="2438280" y="502920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6" name="Line 10"/>
          <p:cNvSpPr/>
          <p:nvPr/>
        </p:nvSpPr>
        <p:spPr>
          <a:xfrm flipV="1">
            <a:off x="4038480" y="4191120"/>
            <a:ext cx="0" cy="83808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7" name="Line 11"/>
          <p:cNvSpPr/>
          <p:nvPr/>
        </p:nvSpPr>
        <p:spPr>
          <a:xfrm>
            <a:off x="4038480" y="41911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8" name="Line 12"/>
          <p:cNvSpPr/>
          <p:nvPr/>
        </p:nvSpPr>
        <p:spPr>
          <a:xfrm flipV="1">
            <a:off x="5638680" y="32767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9" name="Line 13"/>
          <p:cNvSpPr/>
          <p:nvPr/>
        </p:nvSpPr>
        <p:spPr>
          <a:xfrm>
            <a:off x="5638680" y="3276720"/>
            <a:ext cx="160020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0" name="Line 14"/>
          <p:cNvSpPr/>
          <p:nvPr/>
        </p:nvSpPr>
        <p:spPr>
          <a:xfrm flipV="1">
            <a:off x="7238880" y="2362320"/>
            <a:ext cx="0" cy="91440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1" name="Line 15"/>
          <p:cNvSpPr/>
          <p:nvPr/>
        </p:nvSpPr>
        <p:spPr>
          <a:xfrm>
            <a:off x="7238880" y="2362320"/>
            <a:ext cx="1676520" cy="0"/>
          </a:xfrm>
          <a:prstGeom prst="line">
            <a:avLst/>
          </a:prstGeom>
          <a:ln w="5724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2" name="WordArt 16"/>
          <p:cNvSpPr txBox="1"/>
          <p:nvPr/>
        </p:nvSpPr>
        <p:spPr>
          <a:xfrm>
            <a:off x="533520" y="2133720"/>
            <a:ext cx="37335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Steps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383" name="Group 35"/>
          <p:cNvGrpSpPr/>
          <p:nvPr/>
        </p:nvGrpSpPr>
        <p:grpSpPr>
          <a:xfrm>
            <a:off x="914400" y="5095800"/>
            <a:ext cx="838080" cy="1292040"/>
            <a:chOff x="914400" y="5095800"/>
            <a:chExt cx="838080" cy="1292040"/>
          </a:xfrm>
        </p:grpSpPr>
        <p:sp>
          <p:nvSpPr>
            <p:cNvPr id="384" name="Text Box 17"/>
            <p:cNvSpPr/>
            <p:nvPr/>
          </p:nvSpPr>
          <p:spPr>
            <a:xfrm>
              <a:off x="914400" y="5867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Sort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5" name="Text Box 22"/>
            <p:cNvSpPr/>
            <p:nvPr/>
          </p:nvSpPr>
          <p:spPr>
            <a:xfrm>
              <a:off x="1204560" y="50958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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6" name="Group 36"/>
          <p:cNvGrpSpPr/>
          <p:nvPr/>
        </p:nvGrpSpPr>
        <p:grpSpPr>
          <a:xfrm>
            <a:off x="2624760" y="4334040"/>
            <a:ext cx="1030680" cy="1206360"/>
            <a:chOff x="2624760" y="4334040"/>
            <a:chExt cx="1030680" cy="1206360"/>
          </a:xfrm>
        </p:grpSpPr>
        <p:sp>
          <p:nvSpPr>
            <p:cNvPr id="387" name="Text Box 18"/>
            <p:cNvSpPr/>
            <p:nvPr/>
          </p:nvSpPr>
          <p:spPr>
            <a:xfrm>
              <a:off x="2624760" y="501984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Open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88" name="Text Box 23"/>
            <p:cNvSpPr/>
            <p:nvPr/>
          </p:nvSpPr>
          <p:spPr>
            <a:xfrm>
              <a:off x="3157560" y="433404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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89" name="Group 37"/>
          <p:cNvGrpSpPr/>
          <p:nvPr/>
        </p:nvGrpSpPr>
        <p:grpSpPr>
          <a:xfrm>
            <a:off x="4199760" y="3495600"/>
            <a:ext cx="1284120" cy="1216080"/>
            <a:chOff x="4199760" y="3495600"/>
            <a:chExt cx="1284120" cy="1216080"/>
          </a:xfrm>
        </p:grpSpPr>
        <p:sp>
          <p:nvSpPr>
            <p:cNvPr id="390" name="Text Box 19"/>
            <p:cNvSpPr/>
            <p:nvPr/>
          </p:nvSpPr>
          <p:spPr>
            <a:xfrm>
              <a:off x="4199760" y="4191120"/>
              <a:ext cx="1284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Record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1" name="Text Box 24"/>
            <p:cNvSpPr/>
            <p:nvPr/>
          </p:nvSpPr>
          <p:spPr>
            <a:xfrm>
              <a:off x="4792680" y="349560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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2" name="Group 38"/>
          <p:cNvGrpSpPr/>
          <p:nvPr/>
        </p:nvGrpSpPr>
        <p:grpSpPr>
          <a:xfrm>
            <a:off x="5652000" y="2657520"/>
            <a:ext cx="1584360" cy="1139760"/>
            <a:chOff x="5652000" y="2657520"/>
            <a:chExt cx="1584360" cy="1139760"/>
          </a:xfrm>
        </p:grpSpPr>
        <p:sp>
          <p:nvSpPr>
            <p:cNvPr id="393" name="Text Box 20"/>
            <p:cNvSpPr/>
            <p:nvPr/>
          </p:nvSpPr>
          <p:spPr>
            <a:xfrm>
              <a:off x="5652000" y="32767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Annota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4" name="Text Box 25"/>
            <p:cNvSpPr/>
            <p:nvPr/>
          </p:nvSpPr>
          <p:spPr>
            <a:xfrm>
              <a:off x="6245640" y="26575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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7267680" y="1743120"/>
            <a:ext cx="1721520" cy="1215720"/>
            <a:chOff x="7267680" y="1743120"/>
            <a:chExt cx="1721520" cy="1215720"/>
          </a:xfrm>
        </p:grpSpPr>
        <p:sp>
          <p:nvSpPr>
            <p:cNvPr id="396" name="Text Box 21"/>
            <p:cNvSpPr/>
            <p:nvPr/>
          </p:nvSpPr>
          <p:spPr>
            <a:xfrm>
              <a:off x="7267680" y="2438280"/>
              <a:ext cx="172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33"/>
                  </a:solidFill>
                  <a:latin typeface="Times New Roman"/>
                </a:rPr>
                <a:t>Distribute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397" name="Text Box 26"/>
            <p:cNvSpPr/>
            <p:nvPr/>
          </p:nvSpPr>
          <p:spPr>
            <a:xfrm>
              <a:off x="7937640" y="1743120"/>
              <a:ext cx="49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5f00ff"/>
                  </a:solidFill>
                  <a:latin typeface="Wingdings 2"/>
                  <a:ea typeface="Wingdings 2"/>
                </a:rPr>
                <a:t></a:t>
              </a:r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398" name="Line 27"/>
          <p:cNvSpPr/>
          <p:nvPr/>
        </p:nvSpPr>
        <p:spPr>
          <a:xfrm>
            <a:off x="2438280" y="5791320"/>
            <a:ext cx="0" cy="1066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9" name="Line 28"/>
          <p:cNvSpPr/>
          <p:nvPr/>
        </p:nvSpPr>
        <p:spPr>
          <a:xfrm>
            <a:off x="4038480" y="5029200"/>
            <a:ext cx="0" cy="182880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0" name="Line 29"/>
          <p:cNvSpPr/>
          <p:nvPr/>
        </p:nvSpPr>
        <p:spPr>
          <a:xfrm>
            <a:off x="5638680" y="4191120"/>
            <a:ext cx="0" cy="26668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1" name="Line 30"/>
          <p:cNvSpPr/>
          <p:nvPr/>
        </p:nvSpPr>
        <p:spPr>
          <a:xfrm>
            <a:off x="7238880" y="3276720"/>
            <a:ext cx="0" cy="35812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2" name="Line 31"/>
          <p:cNvSpPr/>
          <p:nvPr/>
        </p:nvSpPr>
        <p:spPr>
          <a:xfrm>
            <a:off x="8915400" y="2362320"/>
            <a:ext cx="0" cy="449568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3" name="Text Box 32"/>
          <p:cNvSpPr/>
          <p:nvPr/>
        </p:nvSpPr>
        <p:spPr>
          <a:xfrm>
            <a:off x="7624080" y="685800"/>
            <a:ext cx="117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33"/>
                </a:solidFill>
                <a:latin typeface="Wingdings"/>
                <a:ea typeface="Wingdings"/>
              </a:rPr>
              <a:t></a:t>
            </a:r>
            <a:endParaRPr b="0" lang="en-US" sz="80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2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4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AC5D4189-E856-4ED6-9B4F-CA6FA31513DD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5486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Sorting and Open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l is often sorted according to its priorit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rgent, registered mail, etc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ersonal or confidential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irst class, airmail, and Priority Mai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Packag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Advertisements and catalogue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33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sort mail in a cluttered area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08" name="Picture 22" descr="j0365770"/>
          <p:cNvPicPr/>
          <p:nvPr/>
        </p:nvPicPr>
        <p:blipFill>
          <a:blip r:embed="rId1"/>
          <a:stretch/>
        </p:blipFill>
        <p:spPr>
          <a:xfrm>
            <a:off x="6059520" y="2209680"/>
            <a:ext cx="2281320" cy="24415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BC1B787B-2D8F-411A-9137-C54F58A05CD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48769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cording – daily mail log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Mail received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Follow-up correspondenc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nnota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utline key point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rite reminders, comments, or suggestion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50000"/>
              </a:lnSpc>
              <a:spcBef>
                <a:spcPts val="550"/>
              </a:spcBef>
              <a:buNone/>
              <a:tabLst>
                <a:tab algn="l" pos="17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tribut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Deliver items to mail recipie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2" name="Picture 25" descr="j0411662"/>
          <p:cNvPicPr/>
          <p:nvPr/>
        </p:nvPicPr>
        <p:blipFill>
          <a:blip r:embed="rId1"/>
          <a:stretch/>
        </p:blipFill>
        <p:spPr>
          <a:xfrm>
            <a:off x="5867280" y="1905120"/>
            <a:ext cx="2978280" cy="4302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1" dur="50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500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3" dur="500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5" dur="50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0" dur="500"/>
                                        <p:tgtEl>
                                          <p:spTgt spid="4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5031B58-5183-4AC7-8C47-2883C7724A98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14" name="Picture 14" descr="HM00343_"/>
          <p:cNvPicPr/>
          <p:nvPr/>
        </p:nvPicPr>
        <p:blipFill>
          <a:blip r:embed="rId1"/>
          <a:stretch/>
        </p:blipFill>
        <p:spPr>
          <a:xfrm>
            <a:off x="3886200" y="5029200"/>
            <a:ext cx="1447920" cy="1371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cessing Incoming Mail</a:t>
            </a: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r>
              <a:rPr b="1" lang="en-US" sz="4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4080"/>
                </a:solidFill>
                <a:latin typeface="Times New Roman"/>
              </a:rPr>
              <a:t>Handling Drug and Product Sampl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7" name="Rectangle 21"/>
          <p:cNvSpPr/>
          <p:nvPr/>
        </p:nvSpPr>
        <p:spPr>
          <a:xfrm>
            <a:off x="380880" y="2209680"/>
            <a:ext cx="4343400" cy="37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lace only nonprescription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ts in patient areas according to office policy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ort and store other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scription items in locked cabine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stroy out-dat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ampl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8" name="Rectangle 22"/>
          <p:cNvSpPr/>
          <p:nvPr/>
        </p:nvSpPr>
        <p:spPr>
          <a:xfrm>
            <a:off x="4648320" y="2209680"/>
            <a:ext cx="4495680" cy="38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f00ff"/>
                </a:solidFill>
                <a:latin typeface="Times New Roman"/>
              </a:rPr>
              <a:t>DO NO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ive patients sample without the physician approv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ail to document in patient record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hen samples are given per th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hysician reque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ard medication samples in trash can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4B2E48A-19D4-4FB5-A838-FA7882FD59DC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304920" y="1981080"/>
            <a:ext cx="85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are the steps for processing incoming mail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Text Box 10"/>
          <p:cNvSpPr/>
          <p:nvPr/>
        </p:nvSpPr>
        <p:spPr>
          <a:xfrm>
            <a:off x="533520" y="2743200"/>
            <a:ext cx="7772400" cy="228852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teps for processing incoming mail ar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r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pe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cord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nota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istribut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3" name="Text Box 11"/>
          <p:cNvSpPr/>
          <p:nvPr/>
        </p:nvSpPr>
        <p:spPr>
          <a:xfrm>
            <a:off x="5638680" y="55627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f00ff"/>
                </a:solidFill>
                <a:latin typeface="Times New Roman"/>
              </a:rPr>
              <a:t>CORRECT!</a:t>
            </a:r>
            <a:endParaRPr b="0" lang="en-US" sz="40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424" name="Picture 12" descr=""/>
          <p:cNvPicPr/>
          <p:nvPr/>
        </p:nvPicPr>
        <p:blipFill>
          <a:blip r:embed="rId1"/>
          <a:stretch/>
        </p:blipFill>
        <p:spPr>
          <a:xfrm>
            <a:off x="84582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1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3350"/>
                            </p:stCondLst>
                            <p:childTnLst>
                              <p:par>
                                <p:cTn id="1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9" dur="5760" fill="hold"/>
                                        <p:tgtEl>
                                          <p:spTgt spid="4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5D5B84A3-534E-4FE9-A2A0-284471962203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38188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Proper and efficient management of correspondence and mail is essential to promoting a positive, professional office imag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t is important to choose appropriate supplies and letter styles, as well as to edit and proofread correspondence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Be familiar with types of mail and delivery services to choose the most appropriate service for mailing needs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Handle incoming mail responsibly.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29CE073-1166-471A-AC92-0CCF807B3757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9" name="WordArt 4"/>
          <p:cNvSpPr txBox="1"/>
          <p:nvPr/>
        </p:nvSpPr>
        <p:spPr>
          <a:xfrm>
            <a:off x="1981080" y="914400"/>
            <a:ext cx="525780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33"/>
                  </a:solidFill>
                  <a:miter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7</a:t>
            </a:r>
            <a:endParaRPr b="0" lang="en-US" sz="2800" spc="1" strike="noStrike">
              <a:ln w="9360">
                <a:solidFill>
                  <a:srgbClr val="000033"/>
                </a:solidFill>
                <a:miter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Rectangle 5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431" name="Group 55"/>
          <p:cNvGrpSpPr/>
          <p:nvPr/>
        </p:nvGrpSpPr>
        <p:grpSpPr>
          <a:xfrm>
            <a:off x="533520" y="2590920"/>
            <a:ext cx="3276000" cy="2742840"/>
            <a:chOff x="533520" y="2590920"/>
            <a:chExt cx="3276000" cy="2742840"/>
          </a:xfrm>
        </p:grpSpPr>
        <p:sp>
          <p:nvSpPr>
            <p:cNvPr id="432" name="Freeform 8"/>
            <p:cNvSpPr/>
            <p:nvPr/>
          </p:nvSpPr>
          <p:spPr>
            <a:xfrm>
              <a:off x="2235240" y="4809960"/>
              <a:ext cx="436320" cy="163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3" name="Freeform 9"/>
            <p:cNvSpPr/>
            <p:nvPr/>
          </p:nvSpPr>
          <p:spPr>
            <a:xfrm>
              <a:off x="1922040" y="4825800"/>
              <a:ext cx="400320" cy="208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4" name="Freeform 10"/>
            <p:cNvSpPr/>
            <p:nvPr/>
          </p:nvSpPr>
          <p:spPr>
            <a:xfrm>
              <a:off x="1571040" y="4861440"/>
              <a:ext cx="412200" cy="23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5" name="Freeform 11"/>
            <p:cNvSpPr/>
            <p:nvPr/>
          </p:nvSpPr>
          <p:spPr>
            <a:xfrm>
              <a:off x="1183320" y="4941720"/>
              <a:ext cx="462240" cy="2278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6" name="Freeform 12"/>
            <p:cNvSpPr/>
            <p:nvPr/>
          </p:nvSpPr>
          <p:spPr>
            <a:xfrm>
              <a:off x="981720" y="4505400"/>
              <a:ext cx="363240" cy="5198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7" name="Freeform 13"/>
            <p:cNvSpPr/>
            <p:nvPr/>
          </p:nvSpPr>
          <p:spPr>
            <a:xfrm>
              <a:off x="856800" y="4106160"/>
              <a:ext cx="314640" cy="420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8" name="Freeform 14"/>
            <p:cNvSpPr/>
            <p:nvPr/>
          </p:nvSpPr>
          <p:spPr>
            <a:xfrm>
              <a:off x="682200" y="3729600"/>
              <a:ext cx="331920" cy="415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39" name="Freeform 15"/>
            <p:cNvSpPr/>
            <p:nvPr/>
          </p:nvSpPr>
          <p:spPr>
            <a:xfrm>
              <a:off x="826920" y="3676320"/>
              <a:ext cx="294840" cy="201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0" name="Freeform 16"/>
            <p:cNvSpPr/>
            <p:nvPr/>
          </p:nvSpPr>
          <p:spPr>
            <a:xfrm>
              <a:off x="2610360" y="4740480"/>
              <a:ext cx="483480" cy="213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1" name="Freeform 17"/>
            <p:cNvSpPr/>
            <p:nvPr/>
          </p:nvSpPr>
          <p:spPr>
            <a:xfrm>
              <a:off x="2940840" y="4401720"/>
              <a:ext cx="287640" cy="562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2" name="Freeform 18"/>
            <p:cNvSpPr/>
            <p:nvPr/>
          </p:nvSpPr>
          <p:spPr>
            <a:xfrm>
              <a:off x="2847960" y="4050720"/>
              <a:ext cx="263160" cy="45972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3" name="Freeform 19"/>
            <p:cNvSpPr/>
            <p:nvPr/>
          </p:nvSpPr>
          <p:spPr>
            <a:xfrm>
              <a:off x="924120" y="3856320"/>
              <a:ext cx="2098440" cy="1133640"/>
            </a:xfrm>
            <a:prstGeom prst="pie">
              <a:avLst/>
            </a:pr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4" name="Freeform 20"/>
            <p:cNvSpPr/>
            <p:nvPr/>
          </p:nvSpPr>
          <p:spPr>
            <a:xfrm>
              <a:off x="951480" y="2608920"/>
              <a:ext cx="2679120" cy="212040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5" name="Freeform 21"/>
            <p:cNvSpPr/>
            <p:nvPr/>
          </p:nvSpPr>
          <p:spPr>
            <a:xfrm>
              <a:off x="3662280" y="3696120"/>
              <a:ext cx="147240" cy="216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6" name="Freeform 22"/>
            <p:cNvSpPr/>
            <p:nvPr/>
          </p:nvSpPr>
          <p:spPr>
            <a:xfrm>
              <a:off x="3397680" y="3920400"/>
              <a:ext cx="329040" cy="144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7" name="Freeform 23"/>
            <p:cNvSpPr/>
            <p:nvPr/>
          </p:nvSpPr>
          <p:spPr>
            <a:xfrm>
              <a:off x="2345400" y="2590920"/>
              <a:ext cx="1309680" cy="1481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8" name="Freeform 24"/>
            <p:cNvSpPr/>
            <p:nvPr/>
          </p:nvSpPr>
          <p:spPr>
            <a:xfrm>
              <a:off x="1697040" y="2667600"/>
              <a:ext cx="1690200" cy="1953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49" name="Freeform 25"/>
            <p:cNvSpPr/>
            <p:nvPr/>
          </p:nvSpPr>
          <p:spPr>
            <a:xfrm>
              <a:off x="2551680" y="4006080"/>
              <a:ext cx="515160" cy="267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0" name="Freeform 26"/>
            <p:cNvSpPr/>
            <p:nvPr/>
          </p:nvSpPr>
          <p:spPr>
            <a:xfrm>
              <a:off x="2180880" y="4048920"/>
              <a:ext cx="1068840" cy="9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1" name="Freeform 27"/>
            <p:cNvSpPr/>
            <p:nvPr/>
          </p:nvSpPr>
          <p:spPr>
            <a:xfrm>
              <a:off x="2790360" y="5066640"/>
              <a:ext cx="484920" cy="727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2" name="Freeform 28"/>
            <p:cNvSpPr/>
            <p:nvPr/>
          </p:nvSpPr>
          <p:spPr>
            <a:xfrm>
              <a:off x="2129400" y="4121640"/>
              <a:ext cx="917280" cy="851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3" name="Freeform 29"/>
            <p:cNvSpPr/>
            <p:nvPr/>
          </p:nvSpPr>
          <p:spPr>
            <a:xfrm>
              <a:off x="891360" y="2756880"/>
              <a:ext cx="1702800" cy="202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4" name="Freeform 30"/>
            <p:cNvSpPr/>
            <p:nvPr/>
          </p:nvSpPr>
          <p:spPr>
            <a:xfrm>
              <a:off x="2342520" y="4393080"/>
              <a:ext cx="396360" cy="92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5" name="Freeform 31"/>
            <p:cNvSpPr/>
            <p:nvPr/>
          </p:nvSpPr>
          <p:spPr>
            <a:xfrm>
              <a:off x="2169720" y="4555080"/>
              <a:ext cx="603720" cy="97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6" name="Freeform 32"/>
            <p:cNvSpPr/>
            <p:nvPr/>
          </p:nvSpPr>
          <p:spPr>
            <a:xfrm>
              <a:off x="1200240" y="2975760"/>
              <a:ext cx="46080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7" name="Freeform 33"/>
            <p:cNvSpPr/>
            <p:nvPr/>
          </p:nvSpPr>
          <p:spPr>
            <a:xfrm>
              <a:off x="987120" y="4381920"/>
              <a:ext cx="772560" cy="832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8" name="Freeform 34"/>
            <p:cNvSpPr/>
            <p:nvPr/>
          </p:nvSpPr>
          <p:spPr>
            <a:xfrm>
              <a:off x="1740240" y="4801320"/>
              <a:ext cx="466200" cy="307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59" name="Freeform 35"/>
            <p:cNvSpPr/>
            <p:nvPr/>
          </p:nvSpPr>
          <p:spPr>
            <a:xfrm>
              <a:off x="968760" y="3228840"/>
              <a:ext cx="266040" cy="185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0" name="Freeform 36"/>
            <p:cNvSpPr/>
            <p:nvPr/>
          </p:nvSpPr>
          <p:spPr>
            <a:xfrm>
              <a:off x="1242000" y="4253760"/>
              <a:ext cx="290160" cy="514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1" name="Freeform 37"/>
            <p:cNvSpPr/>
            <p:nvPr/>
          </p:nvSpPr>
          <p:spPr>
            <a:xfrm>
              <a:off x="1366560" y="5216400"/>
              <a:ext cx="228600" cy="117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2" name="Freeform 38"/>
            <p:cNvSpPr/>
            <p:nvPr/>
          </p:nvSpPr>
          <p:spPr>
            <a:xfrm>
              <a:off x="1283400" y="5234040"/>
              <a:ext cx="144360" cy="83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3" name="Freeform 39"/>
            <p:cNvSpPr/>
            <p:nvPr/>
          </p:nvSpPr>
          <p:spPr>
            <a:xfrm>
              <a:off x="627840" y="3651480"/>
              <a:ext cx="511200" cy="1010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4" name="Freeform 40"/>
            <p:cNvSpPr/>
            <p:nvPr/>
          </p:nvSpPr>
          <p:spPr>
            <a:xfrm>
              <a:off x="533520" y="3781440"/>
              <a:ext cx="370440" cy="7128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5" name="Freeform 41"/>
            <p:cNvSpPr/>
            <p:nvPr/>
          </p:nvSpPr>
          <p:spPr>
            <a:xfrm>
              <a:off x="1450800" y="2858400"/>
              <a:ext cx="1209240" cy="871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6" name="Freeform 42"/>
            <p:cNvSpPr/>
            <p:nvPr/>
          </p:nvSpPr>
          <p:spPr>
            <a:xfrm>
              <a:off x="1748520" y="3711960"/>
              <a:ext cx="1295280" cy="8856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7" name="Freeform 43"/>
            <p:cNvSpPr/>
            <p:nvPr/>
          </p:nvSpPr>
          <p:spPr>
            <a:xfrm>
              <a:off x="2690640" y="2849400"/>
              <a:ext cx="552240" cy="739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8" name="Freeform 44"/>
            <p:cNvSpPr/>
            <p:nvPr/>
          </p:nvSpPr>
          <p:spPr>
            <a:xfrm>
              <a:off x="1242000" y="3753000"/>
              <a:ext cx="547920" cy="791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69" name="Freeform 45"/>
            <p:cNvSpPr/>
            <p:nvPr/>
          </p:nvSpPr>
          <p:spPr>
            <a:xfrm>
              <a:off x="978840" y="3916800"/>
              <a:ext cx="629640" cy="99828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0" name="Freeform 46"/>
            <p:cNvSpPr/>
            <p:nvPr/>
          </p:nvSpPr>
          <p:spPr>
            <a:xfrm>
              <a:off x="1558440" y="4193280"/>
              <a:ext cx="1402200" cy="66456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1" name="Freeform 47"/>
            <p:cNvSpPr/>
            <p:nvPr/>
          </p:nvSpPr>
          <p:spPr>
            <a:xfrm>
              <a:off x="2412720" y="4268160"/>
              <a:ext cx="547920" cy="370440"/>
            </a:xfrm>
            <a:prstGeom prst="pie">
              <a:avLst/>
            </a:pr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2" name="Freeform 48"/>
            <p:cNvSpPr/>
            <p:nvPr/>
          </p:nvSpPr>
          <p:spPr>
            <a:xfrm>
              <a:off x="1022760" y="3945600"/>
              <a:ext cx="428040" cy="9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3" name="Freeform 49"/>
            <p:cNvSpPr/>
            <p:nvPr/>
          </p:nvSpPr>
          <p:spPr>
            <a:xfrm>
              <a:off x="1757520" y="4594320"/>
              <a:ext cx="36612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4" name="Freeform 50"/>
            <p:cNvSpPr/>
            <p:nvPr/>
          </p:nvSpPr>
          <p:spPr>
            <a:xfrm>
              <a:off x="2751840" y="4268160"/>
              <a:ext cx="1803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5" name="Freeform 51"/>
            <p:cNvSpPr/>
            <p:nvPr/>
          </p:nvSpPr>
          <p:spPr>
            <a:xfrm>
              <a:off x="1289160" y="4997160"/>
              <a:ext cx="258840" cy="108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6" name="Freeform 52"/>
            <p:cNvSpPr/>
            <p:nvPr/>
          </p:nvSpPr>
          <p:spPr>
            <a:xfrm>
              <a:off x="2412720" y="4845600"/>
              <a:ext cx="176040" cy="7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7" name="Freeform 53"/>
            <p:cNvSpPr/>
            <p:nvPr/>
          </p:nvSpPr>
          <p:spPr>
            <a:xfrm>
              <a:off x="2909160" y="4121640"/>
              <a:ext cx="118440" cy="311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478" name="Freeform 54"/>
            <p:cNvSpPr/>
            <p:nvPr/>
          </p:nvSpPr>
          <p:spPr>
            <a:xfrm>
              <a:off x="785160" y="3788640"/>
              <a:ext cx="157680" cy="284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479" name="Text Box 56"/>
          <p:cNvSpPr/>
          <p:nvPr/>
        </p:nvSpPr>
        <p:spPr>
          <a:xfrm>
            <a:off x="4038480" y="2209680"/>
            <a:ext cx="4572000" cy="32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f a fellow wants to be a nobody in the business world, let him neglect sending the mailman to somebody on his behalf.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—</a:t>
            </a:r>
            <a:r>
              <a:rPr b="1" lang="en-US" sz="2400" spc="-1" strike="noStrike">
                <a:solidFill>
                  <a:srgbClr val="000033"/>
                </a:solidFill>
                <a:latin typeface="Times New Roman"/>
              </a:rPr>
              <a:t>Abraham Lincoln</a:t>
            </a:r>
            <a:br>
              <a:rPr sz="2400"/>
            </a:b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0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833B527-54AA-44DD-BE49-75FDC1ABB2FE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grpSp>
        <p:nvGrpSpPr>
          <p:cNvPr id="124" name="Group 27"/>
          <p:cNvGrpSpPr/>
          <p:nvPr/>
        </p:nvGrpSpPr>
        <p:grpSpPr>
          <a:xfrm>
            <a:off x="565200" y="1905120"/>
            <a:ext cx="3625920" cy="1371600"/>
            <a:chOff x="565200" y="1905120"/>
            <a:chExt cx="3625920" cy="1371600"/>
          </a:xfrm>
        </p:grpSpPr>
        <p:sp>
          <p:nvSpPr>
            <p:cNvPr id="125" name="Text Box 7"/>
            <p:cNvSpPr/>
            <p:nvPr/>
          </p:nvSpPr>
          <p:spPr>
            <a:xfrm>
              <a:off x="565200" y="1905120"/>
              <a:ext cx="362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Letterhead paper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6" name="Line 12"/>
            <p:cNvSpPr/>
            <p:nvPr/>
          </p:nvSpPr>
          <p:spPr>
            <a:xfrm>
              <a:off x="1905120" y="2438280"/>
              <a:ext cx="1218960" cy="83844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27" name="Group 28"/>
          <p:cNvGrpSpPr/>
          <p:nvPr/>
        </p:nvGrpSpPr>
        <p:grpSpPr>
          <a:xfrm>
            <a:off x="6019920" y="1905120"/>
            <a:ext cx="2622600" cy="1523880"/>
            <a:chOff x="6019920" y="1905120"/>
            <a:chExt cx="2622600" cy="1523880"/>
          </a:xfrm>
        </p:grpSpPr>
        <p:sp>
          <p:nvSpPr>
            <p:cNvPr id="128" name="Text Box 8"/>
            <p:cNvSpPr/>
            <p:nvPr/>
          </p:nvSpPr>
          <p:spPr>
            <a:xfrm>
              <a:off x="6248520" y="1905120"/>
              <a:ext cx="239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33"/>
                  </a:solidFill>
                  <a:latin typeface="Times New Roman"/>
                </a:rPr>
                <a:t>Envelopes</a:t>
              </a:r>
              <a:endParaRPr b="0" lang="en-US" sz="32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29" name="Line 14"/>
            <p:cNvSpPr/>
            <p:nvPr/>
          </p:nvSpPr>
          <p:spPr>
            <a:xfrm flipV="1">
              <a:off x="6019920" y="2438280"/>
              <a:ext cx="990360" cy="99072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672120" y="4572000"/>
            <a:ext cx="2451600" cy="1372680"/>
            <a:chOff x="672120" y="4572000"/>
            <a:chExt cx="2451600" cy="1372680"/>
          </a:xfrm>
        </p:grpSpPr>
        <p:sp>
          <p:nvSpPr>
            <p:cNvPr id="131" name="Text Box 9"/>
            <p:cNvSpPr/>
            <p:nvPr/>
          </p:nvSpPr>
          <p:spPr>
            <a:xfrm>
              <a:off x="672120" y="5302080"/>
              <a:ext cx="1398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Label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 flipH="1">
              <a:off x="1523880" y="4572000"/>
              <a:ext cx="159984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3" name="Group 22"/>
          <p:cNvGrpSpPr/>
          <p:nvPr/>
        </p:nvGrpSpPr>
        <p:grpSpPr>
          <a:xfrm>
            <a:off x="5943600" y="4572000"/>
            <a:ext cx="2417040" cy="1372680"/>
            <a:chOff x="5943600" y="4572000"/>
            <a:chExt cx="2417040" cy="1372680"/>
          </a:xfrm>
        </p:grpSpPr>
        <p:sp>
          <p:nvSpPr>
            <p:cNvPr id="134" name="Text Box 10"/>
            <p:cNvSpPr/>
            <p:nvPr/>
          </p:nvSpPr>
          <p:spPr>
            <a:xfrm>
              <a:off x="6631560" y="5302080"/>
              <a:ext cx="172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Invoice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5" name="Line 16"/>
            <p:cNvSpPr/>
            <p:nvPr/>
          </p:nvSpPr>
          <p:spPr>
            <a:xfrm>
              <a:off x="5943600" y="4572000"/>
              <a:ext cx="1676520" cy="91440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grpSp>
        <p:nvGrpSpPr>
          <p:cNvPr id="136" name="Group 21"/>
          <p:cNvGrpSpPr/>
          <p:nvPr/>
        </p:nvGrpSpPr>
        <p:grpSpPr>
          <a:xfrm>
            <a:off x="3431880" y="5334120"/>
            <a:ext cx="2184840" cy="1099800"/>
            <a:chOff x="3431880" y="5334120"/>
            <a:chExt cx="2184840" cy="1099800"/>
          </a:xfrm>
        </p:grpSpPr>
        <p:sp>
          <p:nvSpPr>
            <p:cNvPr id="137" name="Text Box 11"/>
            <p:cNvSpPr/>
            <p:nvPr/>
          </p:nvSpPr>
          <p:spPr>
            <a:xfrm>
              <a:off x="3431880" y="579132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33"/>
                  </a:solidFill>
                  <a:latin typeface="Times New Roman"/>
                </a:rPr>
                <a:t>Statements</a:t>
              </a:r>
              <a:endParaRPr b="0" lang="en-US" sz="36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4495680" y="5334120"/>
              <a:ext cx="0" cy="609480"/>
            </a:xfrm>
            <a:prstGeom prst="line">
              <a:avLst/>
            </a:prstGeom>
            <a:ln w="381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33"/>
                </a:solidFill>
                <a:latin typeface="Times New Roman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Oval 5"/>
          <p:cNvSpPr/>
          <p:nvPr/>
        </p:nvSpPr>
        <p:spPr>
          <a:xfrm>
            <a:off x="2743200" y="2666880"/>
            <a:ext cx="3657600" cy="2667240"/>
          </a:xfrm>
          <a:prstGeom prst="ellipse">
            <a:avLst/>
          </a:prstGeom>
          <a:solidFill>
            <a:srgbClr val="fff0a0"/>
          </a:solidFill>
          <a:ln w="0">
            <a:noFill/>
          </a:ln>
          <a:effectLst>
            <a:outerShdw dist="153753" dir="2700000" blurRad="0" rotWithShape="0">
              <a:srgbClr val="9990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33"/>
                </a:solidFill>
                <a:latin typeface="Times New Roman"/>
              </a:rPr>
              <a:t>Supplies</a:t>
            </a:r>
            <a:endParaRPr b="0" lang="en-US" sz="4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8E55BF02-BAE3-418F-92FE-57F1F7DE55D9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business stationa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octor’s or office’s name,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ddress, phone number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inted at the top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spondence with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ti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lleagu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en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6095880" y="2209680"/>
            <a:ext cx="2667240" cy="311076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4A12D995-2A15-4B39-9F39-127AC833D3F0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etterhea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tton fiber bond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ore expensive than other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ypes of paper (sulfite bond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Watermark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iz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ndard or letter size – 8½ x 11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gal size 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 8½ x 14 inch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5880" y="2209680"/>
            <a:ext cx="2667240" cy="2832840"/>
          </a:xfrm>
          <a:prstGeom prst="rect">
            <a:avLst/>
          </a:prstGeom>
          <a:noFill/>
          <a:ln w="1260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Medical Practice, Inc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 One Dr.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Any, St. 1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Times New Roman"/>
              </a:rPr>
              <a:t>111-111-1111</a:t>
            </a: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6400800" y="3276720"/>
            <a:ext cx="2028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c0c0c0">
                    <a:alpha val="23000"/>
                  </a:srgbClr>
                </a:solidFill>
                <a:latin typeface="Times New Roman"/>
              </a:rPr>
              <a:t>Watermark</a:t>
            </a:r>
            <a:endParaRPr b="0" lang="en-US" sz="2800" spc="1" strike="noStrike">
              <a:ln w="0">
                <a:noFill/>
              </a:ln>
              <a:solidFill>
                <a:srgbClr val="c0c0c0">
                  <a:alpha val="23000"/>
                </a:srgbClr>
              </a:solidFill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Arial"/>
              </a:rPr>
              <a:t>7-</a:t>
            </a:r>
            <a:fld id="{E141447B-F744-4787-81F6-3B68B97BE8F5}" type="slidenum">
              <a:rPr b="1" lang="en-US" sz="12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nvelope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hould match letterhea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ypes of envelop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rrespondence or business  –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nvoices or statements – No. 6 to No. 10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-return envelop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n Kraft or clasp envelopes – large bulky documen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dded envelopes – send items that may be damaged during mail handl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80880" y="5335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hoosing Correspondence Supplies</a:t>
            </a:r>
            <a:r>
              <a:rPr b="0" lang="en-US" sz="4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5T01:47:17Z</dcterms:created>
  <dc:creator>Kathryn A. Booth RN-BSN, MS, RMA, RPT</dc:creator>
  <dc:description/>
  <dc:language>en-US</dc:language>
  <cp:lastModifiedBy>Kathryn A. Booth</cp:lastModifiedBy>
  <dcterms:modified xsi:type="dcterms:W3CDTF">2008-03-31T02:26:31Z</dcterms:modified>
  <cp:revision>81</cp:revision>
  <dc:subject>Medical Assisting 3e</dc:subject>
  <dc:title>Managing Correspondence and Mail</dc:title>
</cp:coreProperties>
</file>