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jpeg" ContentType="image/jpeg"/>
  <Override PartName="/ppt/media/image1.png" ContentType="image/png"/>
  <Override PartName="/ppt/media/image2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chimes.wav" ContentType="audio/x-wav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A615-7692-4E84-B730-3F9528A7B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B414-02E8-459D-A418-5A28D76FCCC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A41C-39F8-476E-8A62-5BB393293AF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3BAE-9BBE-4186-905B-D8B0423DE63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EAD9-E2BB-4DF0-9769-F0E61B50040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E90B-7495-4A92-AB20-16BA341F044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4B98-85D2-4554-808D-586FC47FD3A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690B-F7E4-4F2B-90C9-094D32F5500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AAE7-2589-4F78-846F-731DE0FFC5C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9AB9-7DF1-487E-B8C9-93E7D620ECC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FFDB-8618-4FF5-9B5F-60BB4081FBE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0C0-B9DF-40F9-83B6-34C60D0B930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508A-5B1A-49D9-84A5-534FFEF9768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92EA-33C5-4E3A-9FC8-6F0F79473AB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DD9F-FEE1-444D-AABA-F595AA68B12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8A5E-79D4-4548-BB4F-B8E366B05D8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9FE0-9D1C-436A-8B69-A44AEBDCA9C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2FD6-4BE8-4386-B696-E76F7BC32E8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53C7-9602-484A-A36C-D763266643E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C185-0E9D-4E7A-9E03-331BB01BC6C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9C0E-0D5D-4D87-A065-12B09BB0B80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C1D7-FBDB-480F-B9FB-C47AF289A5C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DF85-535D-474A-A6A9-18F2C67F713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AA8-0F12-4B25-AD89-B3DA781B97D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FDBE-8A2F-4074-8605-C7EA58F845F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640C-8988-4D53-B390-C282F17FD30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0B4-4952-4BE1-AFC2-95B4232FEEE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FA69-8D90-429E-B1F3-84E924F5A0F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FE23-776B-44C2-B079-49DC0D1725F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B63E-712F-4164-9BC6-3352E37DDE2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2BC4-DBC6-4D12-B516-C11B1325141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F01A-0EBB-45A7-9B01-598C5E0BE76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8E86-2277-4635-B638-2637EDC864D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83A2-47DE-42E2-B62B-F1E5E11FC05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C91-5A03-43D1-95AD-6DCD3E7B41A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3EB9-EEA0-4457-BC37-D20ED362D62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0C7-61D2-4ABF-9476-BBDD2E02E36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DFB9-5648-47B7-813A-275535343E0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3364-87E5-4163-A716-B8A3C75BB10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73C8-8E77-49B9-BD8F-3B7D538C96D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4184-1AAA-4778-9FDC-A188B569149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C5A-9725-4B6E-B2DC-97D2DAEB308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5A94-8B50-47EF-9B0D-F4B08050A5B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FF74-E87C-4F27-9B03-400C3E30D2F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C7F8-EF74-4D0D-8FE5-41811B29CAA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31EC-CC26-4FF8-922C-83E973AB13C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7606-C5D0-4F62-BE72-4D2AAB71AFF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8B14-4700-4881-A5C4-D5C2D98B990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B524-CBA0-4C9E-9AC9-306A7C47629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5116-74DA-48D8-922B-ECB18CEE44B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562C-9F9D-446F-836C-1D4EF3439FC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6591-70E4-449E-8993-98D79B84FAF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AD5E-75D6-4525-A5B9-F8CA6D15BAA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4F18-2B8B-47A3-A5C7-D246A3094CD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B61-7612-4595-A32C-316B7942613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E037-3434-4407-A32E-9A92F308E25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B41D-F0F1-45CF-B9DC-6DFD507AB20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0CCB-B14E-4F34-AB3A-3B78E9A1BE0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D57D-CD3F-4FAD-B9EA-0D9E98DF9E3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A285-3378-4A16-AB84-A2561A10D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0853-0851-42D3-B29A-37CCE69F6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7D5C-6625-4BF5-8BC8-FEAB69A7A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EB9B-3113-4650-9EB9-148613C47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EFCB-388D-480E-B0ED-283B5DB664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16DD-C3D9-4122-8F07-3998D7CE86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47D0-9B5D-4956-B58D-5FC6C746C4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4F43-75FF-46C7-BF61-10EF6981FA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F990-3BD8-4785-89C5-B7D5167351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FC66-EECB-4799-AEC8-E0351C10EB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C315-7C42-488E-85D2-766A045F3D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ABCD-253E-4EDA-843D-CC0173AD5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CF5E-5E4B-4980-AEF0-1F728C26DF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C90D-DE3F-47D0-9504-CC0A4C2661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0266-394A-4F73-8821-934144ACFB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1D0C-BD08-48A0-9FA1-2434FB0312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7619-F24A-4410-80DB-6C5A78F4A3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3A36-7622-425F-A10C-C88622050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A97A-F3BC-48E4-B5CC-EEDD5FF3E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70C0-95D8-4248-B18C-56CCB42E8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EE28-AABE-4ADF-ABAD-C82A2A33C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1FCB-F998-484C-8134-B575B29F1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4DB9-FA09-4047-AE2C-C4AC3CE40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9BCC-A455-44E8-B0FE-F0C95EA39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FC28336E-0759-412E-B20B-DC1EE35FA4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9FEF914-39EE-4BBA-8755-9370F86F2B7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51ABE1E-9583-4DC4-9853-EF72E6074C8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895480" y="1219320"/>
            <a:ext cx="3124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7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Correspondence and Mail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E332577-E49A-4B03-87A4-47C79036471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abel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, computerized address labels can save a large amount of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ices and stateme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invoic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statement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uter-generated invoices and statemen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erb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 mail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09710B7-28EF-4304-AFD6-B1AF83310F5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895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three things do written materials of a medical office convey or demonstr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33520" y="3124080"/>
            <a:ext cx="77724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ritten materials convey the ability of the medical office staff to communicate and to conduct business, as well as demonstrate a professional image that reflects on the entire office staff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Picture 14" descr="j0299125"/>
          <p:cNvPicPr/>
          <p:nvPr/>
        </p:nvPicPr>
        <p:blipFill>
          <a:blip r:embed="rId1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5"/>
          <p:cNvSpPr txBox="1"/>
          <p:nvPr/>
        </p:nvSpPr>
        <p:spPr>
          <a:xfrm>
            <a:off x="6172200" y="5257800"/>
            <a:ext cx="22096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ight!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183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C5D8226-B706-4971-B112-3BA4479DBBE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 of communic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pose - to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explain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clarify,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provide inform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Referral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Scheduling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report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educ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surance/billing inform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ver or form lett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A152EA4-AF3F-4F5E-8AF6-DB68934F12D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8088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65040" y="2657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rgin - 1 inch is standar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elin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onth, day, and yea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3 lines below letterhead on line 15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side addres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cludes information needed for correct delivery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B576A31-DD18-4FAC-A0E9-51A5E04E3B6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ttention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when letter is sent to specific person in a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alut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greeting such as “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Dea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y use business title or department if name is not know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inside addr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B429864-DE4A-48B3-A6F5-CA9E81B70F8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bject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to bring attention to subject (optional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Body 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two lines below salutation or subject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ext is single-spaced and double-spaced between paragraph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5D1703B-ECB5-443A-AE1C-5CA267C29B9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mplimentary closing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d two lines below bod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ncerely” is commonly us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gnature block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s writer’s name on first line and business title on second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ree to four lines below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13DF829-71E2-418B-959D-F33CBC02F12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ica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writer’s initials followed by a colon or slash mark and the typist’s initials (KB/SF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wo lines below the signature block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741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y be abbreviated as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l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or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py notation (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) appears after the enclosure notati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cludes information such as number of enclosures an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recip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57F7DAC-224E-4AAB-A4CF-57C61A49FBE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590920" y="1981080"/>
            <a:ext cx="4038480" cy="19051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nctuation Styles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cxnSp>
        <p:nvCxnSpPr>
          <p:cNvPr id="186" name="AutoShape 7"/>
          <p:cNvCxnSpPr>
            <a:stCxn id="185" idx="3"/>
            <a:endCxn id="187" idx="0"/>
          </p:cNvCxnSpPr>
          <p:nvPr/>
        </p:nvCxnSpPr>
        <p:spPr>
          <a:xfrm>
            <a:off x="6629040" y="2933280"/>
            <a:ext cx="724680" cy="11055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cxnSp>
        <p:nvCxnSpPr>
          <p:cNvPr id="188" name="AutoShape 8"/>
          <p:cNvCxnSpPr>
            <a:stCxn id="185" idx="1"/>
          </p:cNvCxnSpPr>
          <p:nvPr/>
        </p:nvCxnSpPr>
        <p:spPr>
          <a:xfrm flipV="1" rot="10800000">
            <a:off x="1828080" y="2932560"/>
            <a:ext cx="762840" cy="12963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sp>
        <p:nvSpPr>
          <p:cNvPr id="189" name="AutoShape 9"/>
          <p:cNvSpPr/>
          <p:nvPr/>
        </p:nvSpPr>
        <p:spPr>
          <a:xfrm>
            <a:off x="7621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62485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75FE921-4CAB-47C6-9E28-39D68C4411F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Open punctuation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uses no punctuation after these items in a lett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ignature bloc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enclosure and copy 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A5EE16F-F666-4AF3-BA8C-52BEF3F55EE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1981080"/>
            <a:ext cx="79246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1 List the supplies necessary for creating and mailing professional-looking correspondence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2 Identify the types of correspondence used in medical office communication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3 Describe the parts of a letter and the different letter and punctuation styl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4 Compose a business lett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18A52C7-2D2D-4E70-83AA-7C3FC98339F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Mixed Punctuation</a:t>
            </a: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cludes the following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mma after 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or period after the enclosure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copy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8077320" y="3657600"/>
            <a:ext cx="38088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WordArt 9"/>
          <p:cNvSpPr txBox="1"/>
          <p:nvPr/>
        </p:nvSpPr>
        <p:spPr>
          <a:xfrm>
            <a:off x="8077320" y="24382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8077320" y="49528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824364D-44D0-40F0-B661-F3033A8DBE1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ne-inch margins on the left and right for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 ½-inch pap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 should be centered on the p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ngle-space body of letter and double-space between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hort sentences with no more than 20 words on an aver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523E170-B624-4CD5-B854-653550ADF76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at least two sentences per paragraph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ivide paragraphs longer than 10 lines into two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 multi-page letters, use letterhead for first page onl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6830D03-7B0D-4D2C-8DF2-7419A709E05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1752480"/>
          <a:ext cx="8458200" cy="3936960"/>
        </p:xfrm>
        <a:graphic>
          <a:graphicData uri="http://schemas.openxmlformats.org/drawingml/2006/table">
            <a:tbl>
              <a:tblPr/>
              <a:tblGrid>
                <a:gridCol w="2129040"/>
                <a:gridCol w="632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ll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ines are typed flush lef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commonly used in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ateline, complimentary closing, signature block and notations are aligned at the center of page or to the righ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ditional, balanced appearan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0417D37-E048-4A6F-BBD7-3B77F6A8478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1752480"/>
          <a:ext cx="8305920" cy="3956040"/>
        </p:xfrm>
        <a:graphic>
          <a:graphicData uri="http://schemas.openxmlformats.org/drawingml/2006/table">
            <a:tbl>
              <a:tblPr/>
              <a:tblGrid>
                <a:gridCol w="2362320"/>
                <a:gridCol w="59436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 with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agraphs are indented ½ inch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implifi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cation of full-block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modern letter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salutation, courtesy title, or clos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subject line in all capital lett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oo informal for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0F95DC3-FBBE-464F-BC0D-F3459EC1D45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80880" y="18954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the medical assistant do if a mailing is to be sent to an organization to request x-ray films, but no specific name or title is given to address it to? Which of the following would you us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442960" y="3809880"/>
            <a:ext cx="630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Attention: 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Sir/Mad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Radiology Depart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Group 25"/>
          <p:cNvGrpSpPr/>
          <p:nvPr/>
        </p:nvGrpSpPr>
        <p:grpSpPr>
          <a:xfrm>
            <a:off x="304920" y="4114800"/>
            <a:ext cx="2590560" cy="1447920"/>
            <a:chOff x="304920" y="4114800"/>
            <a:chExt cx="2590560" cy="1447920"/>
          </a:xfrm>
        </p:grpSpPr>
        <p:sp>
          <p:nvSpPr>
            <p:cNvPr id="218" name="Text Box 13"/>
            <p:cNvSpPr/>
            <p:nvPr/>
          </p:nvSpPr>
          <p:spPr>
            <a:xfrm>
              <a:off x="304920" y="4114800"/>
              <a:ext cx="1400040" cy="398880"/>
            </a:xfrm>
            <a:prstGeom prst="rect">
              <a:avLst/>
            </a:prstGeom>
            <a:solidFill>
              <a:srgbClr val="8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362320" y="5181480"/>
              <a:ext cx="533160" cy="381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220" name="WordArt 22"/>
          <p:cNvSpPr txBox="1"/>
          <p:nvPr/>
        </p:nvSpPr>
        <p:spPr>
          <a:xfrm>
            <a:off x="6172200" y="5334120"/>
            <a:ext cx="1666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Correct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j0299125"/>
          <p:cNvPicPr/>
          <p:nvPr/>
        </p:nvPicPr>
        <p:blipFill>
          <a:blip r:embed="rId2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226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B722CE0-624D-4921-B4EB-3A21F367A97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y your reading audienc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of letter (formal or relaxe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now the purpose of the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clear and conci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n’t use unnecessary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ssage should be easily understoo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 active voice when possibl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ssive voice is best when relaying negative new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B6C184F-0F14-4662-8818-60DA8EA5513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polite and courteou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curacy of dates and monetary fig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leaving “widows and orphans” (dangling words and phrases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E1AD639-2CB0-405E-B01A-6BF6224367F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Picture 8" descr="j0299125"/>
          <p:cNvPicPr/>
          <p:nvPr/>
        </p:nvPicPr>
        <p:blipFill>
          <a:blip r:embed="rId1"/>
          <a:stretch/>
        </p:blipFill>
        <p:spPr>
          <a:xfrm>
            <a:off x="7350120" y="6094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80880" y="19051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l professional correspondence must be written in a way that conveys information clearly.  What do you need to know when preparing to write any form of office communication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80880" y="3808440"/>
            <a:ext cx="8382240" cy="9471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 must know who you are writing to, i.e., a physician, patient, vendor, or fellow staff member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 rot="10800000">
            <a:off x="6400800" y="4952520"/>
            <a:ext cx="2362320" cy="1600200"/>
          </a:xfrm>
          <a:prstGeom prst="verticalScroll">
            <a:avLst>
              <a:gd name="adj" fmla="val 12500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78168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od Job!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6" name="Picture 15" descr=""/>
          <p:cNvPicPr/>
          <p:nvPr/>
        </p:nvPicPr>
        <p:blipFill>
          <a:blip r:embed="rId2"/>
          <a:stretch/>
        </p:blipFill>
        <p:spPr>
          <a:xfrm>
            <a:off x="8610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471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C610641-D20C-42D5-A287-80BD54BC6B7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Edi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ctual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ogical flow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cisenes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tical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at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ave another person proofread if possib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09480" y="5410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skip editing and proofreading steps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CBF563E-4F9B-4043-AADB-7E60111C5A4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1981080"/>
            <a:ext cx="8305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5 Explain the tasks involved in editing and proofreading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6 Describe the process of handling incoming and outgoing mail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7 Compare and contrast the services provided by the U.S. Postal Service and other delivery servic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5826886-F0D3-4993-9836-593D3E574CA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380880" y="1828800"/>
            <a:ext cx="8305920" cy="1066680"/>
          </a:xfrm>
          <a:prstGeom prst="bevel">
            <a:avLst>
              <a:gd name="adj" fmla="val 12500"/>
            </a:avLst>
          </a:prstGeom>
          <a:solidFill>
            <a:srgbClr val="80408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ls for Editing And 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963240" y="3200400"/>
            <a:ext cx="1701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360" y="4191120"/>
            <a:ext cx="28753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80880" y="3429000"/>
            <a:ext cx="24386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Physician’s Desk Reference (PDR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6553080" y="3429000"/>
            <a:ext cx="22100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glish grammar 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age manu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437200" y="5257800"/>
            <a:ext cx="4554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ord processing spell check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D8134F6-3D44-425F-BEA6-523897C1197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iting ensures that documents ar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ear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ree of grammatical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gically organiz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in appropriat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9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27B8E13-F6B1-4D81-938C-90F48E278E5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nguage usag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basic grammar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k: “Is this the best way to convey what I want to say?”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priate to rea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57" name="Picture 8" descr="MPj03877960000[1]"/>
          <p:cNvPicPr/>
          <p:nvPr/>
        </p:nvPicPr>
        <p:blipFill>
          <a:blip r:embed="rId1"/>
          <a:stretch/>
        </p:blipFill>
        <p:spPr>
          <a:xfrm>
            <a:off x="5362560" y="21510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6B24D4E-CD4C-41A0-AD52-1D29DB69ABF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ntent - logical flow of though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purpo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cuss one topic at a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ange paragraphs when changing topic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events in chronological ord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ick to subjec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lect words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oofread what you wri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7B3E468-3E17-4A46-B5C6-A6D4B404605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ofread and put asi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coworker proofread docum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ree types of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t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chanical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5792174-9EEF-4C59-827F-D85C60B66DF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matting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itioning parts of a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denting, line length, line spa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following offic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a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istyping monetary figu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double-checking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gures or having someone else check th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6705720" y="3886200"/>
            <a:ext cx="1828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BDC240A-8BFB-460F-AC0E-54F9381B349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chanical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lling, punctuation, spacing between words, division of work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ing basic spelling, punctuation, and word division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ing for transposed characters or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oiding dividing words at the end of a lin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8FD6DBD-903A-4E5A-B0F2-7F32CEF783F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28600" y="1828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etter must be sent to current employees that have exceeded their number of absences according to office policy. Which of the following would be most appropri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70800" y="3352680"/>
            <a:ext cx="8418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The attendance policy of this office requires that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You have violated the attendance policy of this 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Are you aware that you have missed “X” days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57200" y="494028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04920" y="4572000"/>
            <a:ext cx="84582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is correspondence must communicate the facts in a soft manner while getting the point across. The first response begins with identifying the “fact” or policy followed by the individual’s performance and is less subjective or punitive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77" name="Picture 13" descr="j0299125"/>
          <p:cNvPicPr/>
          <p:nvPr/>
        </p:nvPicPr>
        <p:blipFill>
          <a:blip r:embed="rId1"/>
          <a:stretch/>
        </p:blipFill>
        <p:spPr>
          <a:xfrm>
            <a:off x="304920" y="3808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78" name="Oval 14"/>
          <p:cNvSpPr/>
          <p:nvPr/>
        </p:nvSpPr>
        <p:spPr>
          <a:xfrm>
            <a:off x="380880" y="34290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1066680" y="457200"/>
            <a:ext cx="2133720" cy="838080"/>
          </a:xfrm>
          <a:prstGeom prst="wedgeRoundRectCallout">
            <a:avLst>
              <a:gd name="adj1" fmla="val -43518"/>
              <a:gd name="adj2" fmla="val 70074"/>
              <a:gd name="adj3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ce Work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0" name="Picture 16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9" dur="22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7D2B6FE-721C-45A0-AAEB-7B1A528D08C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gning let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sign for the doctor, place your initials after the doctor’s signatu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aring the envelop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 USPS guidelines for addressing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placem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forma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4" name="Picture 4" descr="MCj0397066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236680" cy="22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51F4CAB-A54F-459B-A880-B9AFC97DE7F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lding and inserting the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 of envelope determines th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y a letter should be fold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Small envelope – fold letter in half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usiness-size envelope – fold in thirds </a:t>
            </a:r>
            <a:br>
              <a:rPr sz="2200"/>
            </a:b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(fold bottom up then top down)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ndow envelope – accordion fold so address appears in the window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letters are signed and all enclosures are included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address on letter matches envelop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8" name="Picture 4" descr="MCj04315360000[1]"/>
          <p:cNvPicPr/>
          <p:nvPr/>
        </p:nvPicPr>
        <p:blipFill>
          <a:blip r:embed="rId1"/>
          <a:stretch/>
        </p:blipFill>
        <p:spPr>
          <a:xfrm>
            <a:off x="6477120" y="1752480"/>
            <a:ext cx="2171520" cy="21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535DDC1-A41D-40A3-84EE-3494A7F361F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materials demonstrate ability to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nduct busin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image is conveyed in written correspondenc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documents = legal record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52320" y="22860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33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2CF77A7-0D8A-4601-8DD8-04C119EE258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Picture 4" descr="j0299125"/>
          <p:cNvPicPr/>
          <p:nvPr/>
        </p:nvPicPr>
        <p:blipFill>
          <a:blip r:embed="rId1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609480" y="3216240"/>
            <a:ext cx="7848720" cy="8254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en preparing envelopes for mailing office correspondence, you should use USPS guidelines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3352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ow should you prepare envelopes for mailing office corresponden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172200" y="49528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5f00ff"/>
              </a:buClr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Stamp of</a:t>
            </a:r>
            <a:br>
              <a:rPr sz="2800"/>
            </a:b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     Approval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2"/>
          <a:stretch/>
        </p:blipFill>
        <p:spPr>
          <a:xfrm>
            <a:off x="83818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4716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12F7604-80C3-4BCD-AAB9-16652C9EC8A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tterhead, blank stationery,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ailable from USPS, private delivery companies, and office supply sto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ckag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9" name="Picture 4" descr="MCj01495690000[1]"/>
          <p:cNvPicPr/>
          <p:nvPr/>
        </p:nvPicPr>
        <p:blipFill>
          <a:blip r:embed="rId1"/>
          <a:stretch/>
        </p:blipFill>
        <p:spPr>
          <a:xfrm>
            <a:off x="5715000" y="2971800"/>
            <a:ext cx="26924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6C76825-6CCF-4B09-952F-020CDA5A2D4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irmai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etters and packages must be </a:t>
            </a:r>
            <a:br>
              <a:rPr sz="2700"/>
            </a:b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abeled “AIRMAIL” on all sid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Available for mail to foreign countri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for Overnight Delivery Serv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USPS and other companies require the use of their own mailing materials for next day delivery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3" name="Picture 5" descr="MMj02970310000[1]"/>
          <p:cNvPicPr/>
          <p:nvPr/>
        </p:nvPicPr>
        <p:blipFill>
          <a:blip r:embed="rId1"/>
          <a:stretch/>
        </p:blipFill>
        <p:spPr>
          <a:xfrm>
            <a:off x="6477120" y="1981080"/>
            <a:ext cx="224784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A5D0EEC-5F8C-4F9F-BDF8-BC09358088A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tal rates, scales, and me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Rates and regulations change periodically, so keep current rates on-hand at the medical office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7" name="Picture 4" descr="j0356853"/>
          <p:cNvPicPr/>
          <p:nvPr/>
        </p:nvPicPr>
        <p:blipFill>
          <a:blip r:embed="rId1"/>
          <a:stretch/>
        </p:blipFill>
        <p:spPr>
          <a:xfrm>
            <a:off x="5638680" y="2666880"/>
            <a:ext cx="2363760" cy="182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7877288-58FB-4032-91E4-2FEEA8CE29B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Picture 4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79056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533520" y="22096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addition to letterhead, blank stationary, and envelopes, what other mailing supplies might be needed for a medical offi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85800" y="3733920"/>
            <a:ext cx="7467480" cy="1373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medical office may need forms, labels, and packaging supplies for items needing special attention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13" name="Group 104"/>
          <p:cNvGrpSpPr/>
          <p:nvPr/>
        </p:nvGrpSpPr>
        <p:grpSpPr>
          <a:xfrm>
            <a:off x="5867280" y="4952880"/>
            <a:ext cx="2362320" cy="1447920"/>
            <a:chOff x="5867280" y="4952880"/>
            <a:chExt cx="2362320" cy="1447920"/>
          </a:xfrm>
        </p:grpSpPr>
        <p:sp>
          <p:nvSpPr>
            <p:cNvPr id="314" name="AutoShape 105"/>
            <p:cNvSpPr/>
            <p:nvPr/>
          </p:nvSpPr>
          <p:spPr>
            <a:xfrm>
              <a:off x="5867280" y="4952880"/>
              <a:ext cx="2362320" cy="1447920"/>
            </a:xfrm>
            <a:prstGeom prst="cube">
              <a:avLst>
                <a:gd name="adj" fmla="val 25000"/>
              </a:avLst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5" name="Text Box 106"/>
            <p:cNvSpPr/>
            <p:nvPr/>
          </p:nvSpPr>
          <p:spPr>
            <a:xfrm>
              <a:off x="6019560" y="54100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ood Answer!</a:t>
              </a:r>
              <a:endParaRPr b="0" lang="en-US" sz="24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6" name="Line 107"/>
            <p:cNvSpPr/>
            <p:nvPr/>
          </p:nvSpPr>
          <p:spPr>
            <a:xfrm>
              <a:off x="6019560" y="5105160"/>
              <a:ext cx="2057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7" name="Line 108"/>
            <p:cNvSpPr/>
            <p:nvPr/>
          </p:nvSpPr>
          <p:spPr>
            <a:xfrm>
              <a:off x="8076960" y="5105160"/>
              <a:ext cx="0" cy="1143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8" name="Rectangle 109"/>
            <p:cNvSpPr/>
            <p:nvPr/>
          </p:nvSpPr>
          <p:spPr>
            <a:xfrm>
              <a:off x="647676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9" name="Rectangle 110"/>
            <p:cNvSpPr/>
            <p:nvPr/>
          </p:nvSpPr>
          <p:spPr>
            <a:xfrm>
              <a:off x="6248160" y="4952880"/>
              <a:ext cx="381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20" name="Rectangle 111"/>
            <p:cNvSpPr/>
            <p:nvPr/>
          </p:nvSpPr>
          <p:spPr>
            <a:xfrm>
              <a:off x="7696080" y="49528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21" name="Picture 112" descr=""/>
          <p:cNvPicPr/>
          <p:nvPr/>
        </p:nvPicPr>
        <p:blipFill>
          <a:blip r:embed="rId2"/>
          <a:stretch/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5" dur="726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F9C55EB-D53A-4BBA-9D0C-253C62E3702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228600" y="4648320"/>
            <a:ext cx="3978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5f00ff"/>
              </a:buClr>
              <a:buFont typeface="Wingdings" charset="2"/>
              <a:buChar char="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rst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ust weigh n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than 11 oz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is based on    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forwarded at      no extra co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urth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so called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parcel pos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  and is used for items weighing between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1 lb.     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70 lb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are based on weight and distan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6CDA120-962B-4310-AB45-246B4496685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ful for heavier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requiring faster deliver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a flat rate for any items that can fit into the priority envelop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guarantees delivery within 2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3 day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pre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quickest servi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y service available every da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vary with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automatically insured against loss or damag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 flat rate also availabl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6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9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0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3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9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2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7843EE6-AC7D-4DCF-B054-3141CD626C1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 delive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ies made before regular mail deliver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imited hours and distance limits availabil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a guarantee that the item has been receiv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ires signature of recipi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4" name="Picture 13" descr="MCj02375120000[1]"/>
          <p:cNvPicPr/>
          <p:nvPr/>
        </p:nvPicPr>
        <p:blipFill>
          <a:blip r:embed="rId1"/>
          <a:stretch/>
        </p:blipFill>
        <p:spPr>
          <a:xfrm>
            <a:off x="5562720" y="2438280"/>
            <a:ext cx="31701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B1115C6-0BEB-4766-A316-B16AB4587C8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turn receipt request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proof of who receiv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item and when they received i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d to send valuable, important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idence provided of mailing and delivery to sen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irst-class and priority mail can be registe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8" name="Picture 6" descr="MCj02808200000[1]"/>
          <p:cNvPicPr/>
          <p:nvPr/>
        </p:nvPicPr>
        <p:blipFill>
          <a:blip r:embed="rId1"/>
          <a:stretch/>
        </p:blipFill>
        <p:spPr>
          <a:xfrm>
            <a:off x="6172200" y="2057400"/>
            <a:ext cx="2295360" cy="169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1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7496B94-4D2A-4527-8163-172568B332E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202248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ternational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surfac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airmail services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most foreign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untr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ternational mail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sses are similar t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mestic mail clas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02248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racing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 used if a piece of certified or registered mail does not reach its destination on tim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original receipt must be presented to locate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A4A3385-6202-4A1D-87D7-E7C78DEA435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spondence and Professional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arning t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4080"/>
                </a:solidFill>
                <a:latin typeface="Wingdings"/>
                <a:ea typeface="Wingdings"/>
              </a:rPr>
              <a:t></a:t>
            </a:r>
            <a:r>
              <a:rPr b="0" lang="en-US" sz="6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Create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    </a:t>
            </a:r>
            <a:r>
              <a:rPr b="0" lang="en-US" sz="6600" spc="-1" strike="noStrike">
                <a:solidFill>
                  <a:srgbClr val="804080"/>
                </a:solidFill>
                <a:latin typeface="Wingdings"/>
                <a:ea typeface="Wingdings"/>
              </a:rPr>
              <a:t>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Receiv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properly ensures positive, effective communication between your office and other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38080" y="20574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33"/>
                </a:solidFill>
                <a:latin typeface="Wingdings"/>
                <a:ea typeface="Wingdings"/>
              </a:rPr>
              <a:t></a:t>
            </a:r>
            <a:endParaRPr b="0" lang="en-US" sz="6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2" name="Picture 13" descr="MCj04316000000[1]"/>
          <p:cNvPicPr/>
          <p:nvPr/>
        </p:nvPicPr>
        <p:blipFill>
          <a:blip r:embed="rId1"/>
          <a:stretch/>
        </p:blipFill>
        <p:spPr>
          <a:xfrm>
            <a:off x="327672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FB60B52-96E5-4C01-8675-AAAECEB8055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828800"/>
          <a:ext cx="8229600" cy="4419720"/>
        </p:xfrm>
        <a:graphic>
          <a:graphicData uri="http://schemas.openxmlformats.org/drawingml/2006/table">
            <a:tbl>
              <a:tblPr/>
              <a:tblGrid>
                <a:gridCol w="3504960"/>
                <a:gridCol w="4724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ivery Servic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nited Parcel Service (UPS)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overnight letter and express servic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ckages insur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press Delivery Servic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ederal Expres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H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ssengers or Carrier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ocal area same-day deliver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ther Delivery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E36536C-4640-4D79-A1B1-3ECF259A5CB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47" name="Group 18"/>
          <p:cNvGrpSpPr/>
          <p:nvPr/>
        </p:nvGrpSpPr>
        <p:grpSpPr>
          <a:xfrm>
            <a:off x="455040" y="2895480"/>
            <a:ext cx="6783840" cy="520560"/>
            <a:chOff x="455040" y="2895480"/>
            <a:chExt cx="6783840" cy="520560"/>
          </a:xfrm>
        </p:grpSpPr>
        <p:sp>
          <p:nvSpPr>
            <p:cNvPr id="348" name="Text Box 5"/>
            <p:cNvSpPr/>
            <p:nvPr/>
          </p:nvSpPr>
          <p:spPr>
            <a:xfrm>
              <a:off x="455040" y="2895480"/>
              <a:ext cx="45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nfidential laboratory resul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49" name="Line 8"/>
            <p:cNvSpPr/>
            <p:nvPr/>
          </p:nvSpPr>
          <p:spPr>
            <a:xfrm>
              <a:off x="5257800" y="3124080"/>
              <a:ext cx="19810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0" name="Group 19"/>
          <p:cNvGrpSpPr/>
          <p:nvPr/>
        </p:nvGrpSpPr>
        <p:grpSpPr>
          <a:xfrm>
            <a:off x="440640" y="3571920"/>
            <a:ext cx="6798240" cy="520560"/>
            <a:chOff x="440640" y="3571920"/>
            <a:chExt cx="6798240" cy="520560"/>
          </a:xfrm>
        </p:grpSpPr>
        <p:sp>
          <p:nvSpPr>
            <p:cNvPr id="351" name="Text Box 6"/>
            <p:cNvSpPr/>
            <p:nvPr/>
          </p:nvSpPr>
          <p:spPr>
            <a:xfrm>
              <a:off x="440640" y="3571920"/>
              <a:ext cx="52527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Signed and dated contract material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2" name="Line 9"/>
            <p:cNvSpPr/>
            <p:nvPr/>
          </p:nvSpPr>
          <p:spPr>
            <a:xfrm>
              <a:off x="5715000" y="3809880"/>
              <a:ext cx="15238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3" name="Group 20"/>
          <p:cNvGrpSpPr/>
          <p:nvPr/>
        </p:nvGrpSpPr>
        <p:grpSpPr>
          <a:xfrm>
            <a:off x="438480" y="4181400"/>
            <a:ext cx="6800400" cy="520560"/>
            <a:chOff x="438480" y="4181400"/>
            <a:chExt cx="6800400" cy="520560"/>
          </a:xfrm>
        </p:grpSpPr>
        <p:sp>
          <p:nvSpPr>
            <p:cNvPr id="354" name="Text Box 7"/>
            <p:cNvSpPr/>
            <p:nvPr/>
          </p:nvSpPr>
          <p:spPr>
            <a:xfrm>
              <a:off x="438480" y="4181400"/>
              <a:ext cx="5513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tient invoice and billing statemen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6095880" y="4419720"/>
              <a:ext cx="114300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56" name="Text Box 12"/>
          <p:cNvSpPr/>
          <p:nvPr/>
        </p:nvSpPr>
        <p:spPr>
          <a:xfrm>
            <a:off x="380880" y="17524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type of mail would you use to send each of the following: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7394040" y="342900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7530120" y="4029120"/>
            <a:ext cx="43668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859120" y="4800600"/>
            <a:ext cx="357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. First 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. 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. 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. 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5638680" y="2286000"/>
            <a:ext cx="152424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NSWE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7317720" y="281952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3" name="Text Box 31"/>
          <p:cNvSpPr/>
          <p:nvPr/>
        </p:nvSpPr>
        <p:spPr>
          <a:xfrm>
            <a:off x="693432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Right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64" name="Group 38"/>
          <p:cNvGrpSpPr/>
          <p:nvPr/>
        </p:nvGrpSpPr>
        <p:grpSpPr>
          <a:xfrm>
            <a:off x="6248520" y="5181480"/>
            <a:ext cx="2514600" cy="1295640"/>
            <a:chOff x="6248520" y="5181480"/>
            <a:chExt cx="2514600" cy="1295640"/>
          </a:xfrm>
        </p:grpSpPr>
        <p:sp>
          <p:nvSpPr>
            <p:cNvPr id="365" name="Rectangle 34"/>
            <p:cNvSpPr/>
            <p:nvPr/>
          </p:nvSpPr>
          <p:spPr>
            <a:xfrm>
              <a:off x="6248520" y="5181480"/>
              <a:ext cx="2514600" cy="12956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6" name="Text Box 36"/>
            <p:cNvSpPr/>
            <p:nvPr/>
          </p:nvSpPr>
          <p:spPr>
            <a:xfrm>
              <a:off x="6324840" y="5257800"/>
              <a:ext cx="685800" cy="32436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111 One Drive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Any,  ST 11111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7" name="AutoShape 37"/>
            <p:cNvSpPr/>
            <p:nvPr/>
          </p:nvSpPr>
          <p:spPr>
            <a:xfrm>
              <a:off x="8305920" y="5257800"/>
              <a:ext cx="228600" cy="30492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304920"/>
                <a:gd name="textAreaBottom" fmla="*/ 29376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f00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68" name="j0074691.wav" descr=""/>
          <p:cNvPicPr/>
          <p:nvPr/>
        </p:nvPicPr>
        <p:blipFill>
          <a:blip r:embed="rId1"/>
          <a:stretch/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0" descr="j0299125"/>
          <p:cNvPicPr/>
          <p:nvPr/>
        </p:nvPicPr>
        <p:blipFill>
          <a:blip r:embed="rId2"/>
          <a:stretch/>
        </p:blipFill>
        <p:spPr>
          <a:xfrm>
            <a:off x="7467480" y="45720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23269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4F67102-F6AD-4550-87C2-DA6120BADEC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7889040" y="30492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2" name="Line 5"/>
          <p:cNvSpPr/>
          <p:nvPr/>
        </p:nvSpPr>
        <p:spPr>
          <a:xfrm flipV="1">
            <a:off x="685800" y="5790960"/>
            <a:ext cx="0" cy="10666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685800" y="5791320"/>
            <a:ext cx="175248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 flipV="1">
            <a:off x="2438280" y="5028840"/>
            <a:ext cx="0" cy="76212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438280" y="502920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6" name="Line 10"/>
          <p:cNvSpPr/>
          <p:nvPr/>
        </p:nvSpPr>
        <p:spPr>
          <a:xfrm flipV="1">
            <a:off x="4038480" y="4191120"/>
            <a:ext cx="0" cy="8380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4038480" y="41911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5638680" y="32767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5638680" y="32767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 flipV="1">
            <a:off x="7238880" y="23623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7238880" y="2362320"/>
            <a:ext cx="167652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2" name="WordArt 16"/>
          <p:cNvSpPr txBox="1"/>
          <p:nvPr/>
        </p:nvSpPr>
        <p:spPr>
          <a:xfrm>
            <a:off x="533520" y="2133720"/>
            <a:ext cx="3733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s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83" name="Group 35"/>
          <p:cNvGrpSpPr/>
          <p:nvPr/>
        </p:nvGrpSpPr>
        <p:grpSpPr>
          <a:xfrm>
            <a:off x="914400" y="5095800"/>
            <a:ext cx="838080" cy="1292040"/>
            <a:chOff x="914400" y="5095800"/>
            <a:chExt cx="838080" cy="1292040"/>
          </a:xfrm>
        </p:grpSpPr>
        <p:sp>
          <p:nvSpPr>
            <p:cNvPr id="384" name="Text Box 17"/>
            <p:cNvSpPr/>
            <p:nvPr/>
          </p:nvSpPr>
          <p:spPr>
            <a:xfrm>
              <a:off x="914400" y="5867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Sor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5" name="Text Box 22"/>
            <p:cNvSpPr/>
            <p:nvPr/>
          </p:nvSpPr>
          <p:spPr>
            <a:xfrm>
              <a:off x="1204560" y="50958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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6" name="Group 36"/>
          <p:cNvGrpSpPr/>
          <p:nvPr/>
        </p:nvGrpSpPr>
        <p:grpSpPr>
          <a:xfrm>
            <a:off x="2624760" y="4334040"/>
            <a:ext cx="1030680" cy="1206360"/>
            <a:chOff x="2624760" y="4334040"/>
            <a:chExt cx="1030680" cy="1206360"/>
          </a:xfrm>
        </p:grpSpPr>
        <p:sp>
          <p:nvSpPr>
            <p:cNvPr id="387" name="Text Box 18"/>
            <p:cNvSpPr/>
            <p:nvPr/>
          </p:nvSpPr>
          <p:spPr>
            <a:xfrm>
              <a:off x="2624760" y="501984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Open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3157560" y="43340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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99760" y="3495600"/>
            <a:ext cx="1284120" cy="1216080"/>
            <a:chOff x="4199760" y="3495600"/>
            <a:chExt cx="1284120" cy="1216080"/>
          </a:xfrm>
        </p:grpSpPr>
        <p:sp>
          <p:nvSpPr>
            <p:cNvPr id="390" name="Text Box 19"/>
            <p:cNvSpPr/>
            <p:nvPr/>
          </p:nvSpPr>
          <p:spPr>
            <a:xfrm>
              <a:off x="4199760" y="419112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Record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4792680" y="34956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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2" name="Group 38"/>
          <p:cNvGrpSpPr/>
          <p:nvPr/>
        </p:nvGrpSpPr>
        <p:grpSpPr>
          <a:xfrm>
            <a:off x="5652000" y="2657520"/>
            <a:ext cx="1584360" cy="1139760"/>
            <a:chOff x="5652000" y="2657520"/>
            <a:chExt cx="1584360" cy="1139760"/>
          </a:xfrm>
        </p:grpSpPr>
        <p:sp>
          <p:nvSpPr>
            <p:cNvPr id="393" name="Text Box 20"/>
            <p:cNvSpPr/>
            <p:nvPr/>
          </p:nvSpPr>
          <p:spPr>
            <a:xfrm>
              <a:off x="5652000" y="32767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Annota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6245640" y="26575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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7267680" y="1743120"/>
            <a:ext cx="1721520" cy="1215720"/>
            <a:chOff x="7267680" y="1743120"/>
            <a:chExt cx="1721520" cy="1215720"/>
          </a:xfrm>
        </p:grpSpPr>
        <p:sp>
          <p:nvSpPr>
            <p:cNvPr id="396" name="Text Box 21"/>
            <p:cNvSpPr/>
            <p:nvPr/>
          </p:nvSpPr>
          <p:spPr>
            <a:xfrm>
              <a:off x="7267680" y="2438280"/>
              <a:ext cx="172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Distribu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7" name="Text Box 26"/>
            <p:cNvSpPr/>
            <p:nvPr/>
          </p:nvSpPr>
          <p:spPr>
            <a:xfrm>
              <a:off x="7937640" y="17431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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98" name="Line 27"/>
          <p:cNvSpPr/>
          <p:nvPr/>
        </p:nvSpPr>
        <p:spPr>
          <a:xfrm>
            <a:off x="2438280" y="5791320"/>
            <a:ext cx="0" cy="1066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>
            <a:off x="4038480" y="5029200"/>
            <a:ext cx="0" cy="182880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0" name="Line 29"/>
          <p:cNvSpPr/>
          <p:nvPr/>
        </p:nvSpPr>
        <p:spPr>
          <a:xfrm>
            <a:off x="5638680" y="4191120"/>
            <a:ext cx="0" cy="26668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Line 30"/>
          <p:cNvSpPr/>
          <p:nvPr/>
        </p:nvSpPr>
        <p:spPr>
          <a:xfrm>
            <a:off x="7238880" y="3276720"/>
            <a:ext cx="0" cy="35812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2" name="Line 31"/>
          <p:cNvSpPr/>
          <p:nvPr/>
        </p:nvSpPr>
        <p:spPr>
          <a:xfrm>
            <a:off x="8915400" y="2362320"/>
            <a:ext cx="0" cy="4495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3" name="Text Box 32"/>
          <p:cNvSpPr/>
          <p:nvPr/>
        </p:nvSpPr>
        <p:spPr>
          <a:xfrm>
            <a:off x="7624080" y="68580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969423B-846D-4126-B9F1-F077DF16DD1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486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Sorting and Open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often sorted according to its prio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rgent, registered mail, etc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ersonal or confidential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irst class, airmail, and Priority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ackag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Advertisements and catalogu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33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sort mail in a cluttered are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08" name="Picture 22" descr="j0365770"/>
          <p:cNvPicPr/>
          <p:nvPr/>
        </p:nvPicPr>
        <p:blipFill>
          <a:blip r:embed="rId1"/>
          <a:stretch/>
        </p:blipFill>
        <p:spPr>
          <a:xfrm>
            <a:off x="6059520" y="2209680"/>
            <a:ext cx="2281320" cy="24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25C94E2-28A5-4DE8-A7A0-1880B7B43E3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cording – daily mail log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Mail received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ollow-up correspondenc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nnota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utline key point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rite reminders, comments, or suggestion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tribu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Deliver items to mail recipie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2" name="Picture 25" descr="j0411662"/>
          <p:cNvPicPr/>
          <p:nvPr/>
        </p:nvPicPr>
        <p:blipFill>
          <a:blip r:embed="rId1"/>
          <a:stretch/>
        </p:blipFill>
        <p:spPr>
          <a:xfrm>
            <a:off x="5867280" y="1905120"/>
            <a:ext cx="2978280" cy="430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6DFB538-7337-488A-8DC3-2CDE8DD5160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4" name="Picture 14" descr="HM00343_"/>
          <p:cNvPicPr/>
          <p:nvPr/>
        </p:nvPicPr>
        <p:blipFill>
          <a:blip r:embed="rId1"/>
          <a:stretch/>
        </p:blipFill>
        <p:spPr>
          <a:xfrm>
            <a:off x="3886200" y="502920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1" lang="en-US" sz="4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Handling Drug and Product Sampl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380880" y="2209680"/>
            <a:ext cx="434340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lace only nonprescription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ts in patient areas according to office polic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ort and store other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scription items in locked cabine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stroy out-dat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amp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4648320" y="2209680"/>
            <a:ext cx="44956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 NO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ive patients sample without the physician approv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il to document in patient recor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hen samples are given per th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ysician reque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ard medication samples in trash can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BE589B9-3F16-41E1-A4D4-E8A02FE34B3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04920" y="1981080"/>
            <a:ext cx="85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are the steps for processing incoming mail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33520" y="2743200"/>
            <a:ext cx="7772400" cy="228852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teps for processing incoming mail a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ota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638680" y="5562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00ff"/>
                </a:solidFill>
                <a:latin typeface="Times New Roman"/>
              </a:rPr>
              <a:t>CORRECT!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24" name="Picture 12" descr=""/>
          <p:cNvPicPr/>
          <p:nvPr/>
        </p:nvPicPr>
        <p:blipFill>
          <a:blip r:embed="rId1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350"/>
                            </p:stCondLst>
                            <p:childTnLst>
                              <p:par>
                                <p:cTn id="1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9" dur="5760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271B31F-31A4-4299-80C5-0974AF39C35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roper and efficient management of correspondence and mail is essential to promoting a positive, professional office imag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t is important to choose appropriate supplies and letter styles, as well as to edit and proofread correspondenc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familiar with types of mail and delivery services to choose the most appropriate service for mailing needs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Handle incoming mail responsibly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4AB700D-71BD-4167-9725-BB6C695380E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1981080" y="914400"/>
            <a:ext cx="5257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7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31" name="Group 55"/>
          <p:cNvGrpSpPr/>
          <p:nvPr/>
        </p:nvGrpSpPr>
        <p:grpSpPr>
          <a:xfrm>
            <a:off x="533520" y="2590920"/>
            <a:ext cx="3276000" cy="2742840"/>
            <a:chOff x="533520" y="2590920"/>
            <a:chExt cx="3276000" cy="2742840"/>
          </a:xfrm>
        </p:grpSpPr>
        <p:sp>
          <p:nvSpPr>
            <p:cNvPr id="432" name="Freeform 8"/>
            <p:cNvSpPr/>
            <p:nvPr/>
          </p:nvSpPr>
          <p:spPr>
            <a:xfrm>
              <a:off x="2235240" y="4809960"/>
              <a:ext cx="436320" cy="163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1922040" y="4825800"/>
              <a:ext cx="40032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1571040" y="4861440"/>
              <a:ext cx="41220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1183320" y="4941720"/>
              <a:ext cx="462240" cy="2278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981720" y="4505400"/>
              <a:ext cx="363240" cy="519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856800" y="4106160"/>
              <a:ext cx="31464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682200" y="3729600"/>
              <a:ext cx="331920" cy="415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9" name="Freeform 15"/>
            <p:cNvSpPr/>
            <p:nvPr/>
          </p:nvSpPr>
          <p:spPr>
            <a:xfrm>
              <a:off x="826920" y="3676320"/>
              <a:ext cx="29484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2610360" y="4740480"/>
              <a:ext cx="48348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1" name="Freeform 17"/>
            <p:cNvSpPr/>
            <p:nvPr/>
          </p:nvSpPr>
          <p:spPr>
            <a:xfrm>
              <a:off x="2940840" y="4401720"/>
              <a:ext cx="287640" cy="56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2847960" y="4050720"/>
              <a:ext cx="263160" cy="459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924120" y="3856320"/>
              <a:ext cx="2098440" cy="113364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951480" y="2608920"/>
              <a:ext cx="2679120" cy="21204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3662280" y="3696120"/>
              <a:ext cx="14724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6" name="Freeform 22"/>
            <p:cNvSpPr/>
            <p:nvPr/>
          </p:nvSpPr>
          <p:spPr>
            <a:xfrm>
              <a:off x="3397680" y="3920400"/>
              <a:ext cx="32904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7" name="Freeform 23"/>
            <p:cNvSpPr/>
            <p:nvPr/>
          </p:nvSpPr>
          <p:spPr>
            <a:xfrm>
              <a:off x="2345400" y="2590920"/>
              <a:ext cx="1309680" cy="148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8" name="Freeform 24"/>
            <p:cNvSpPr/>
            <p:nvPr/>
          </p:nvSpPr>
          <p:spPr>
            <a:xfrm>
              <a:off x="1697040" y="2667600"/>
              <a:ext cx="1690200" cy="19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9" name="Freeform 25"/>
            <p:cNvSpPr/>
            <p:nvPr/>
          </p:nvSpPr>
          <p:spPr>
            <a:xfrm>
              <a:off x="2551680" y="4006080"/>
              <a:ext cx="51516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2180880" y="4048920"/>
              <a:ext cx="1068840" cy="9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2790360" y="5066640"/>
              <a:ext cx="48492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2129400" y="4121640"/>
              <a:ext cx="917280" cy="85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91360" y="2756880"/>
              <a:ext cx="1702800" cy="202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4" name="Freeform 30"/>
            <p:cNvSpPr/>
            <p:nvPr/>
          </p:nvSpPr>
          <p:spPr>
            <a:xfrm>
              <a:off x="2342520" y="4393080"/>
              <a:ext cx="3963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5" name="Freeform 31"/>
            <p:cNvSpPr/>
            <p:nvPr/>
          </p:nvSpPr>
          <p:spPr>
            <a:xfrm>
              <a:off x="2169720" y="4555080"/>
              <a:ext cx="60372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6" name="Freeform 32"/>
            <p:cNvSpPr/>
            <p:nvPr/>
          </p:nvSpPr>
          <p:spPr>
            <a:xfrm>
              <a:off x="1200240" y="2975760"/>
              <a:ext cx="46080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7" name="Freeform 33"/>
            <p:cNvSpPr/>
            <p:nvPr/>
          </p:nvSpPr>
          <p:spPr>
            <a:xfrm>
              <a:off x="987120" y="4381920"/>
              <a:ext cx="772560" cy="83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8" name="Freeform 34"/>
            <p:cNvSpPr/>
            <p:nvPr/>
          </p:nvSpPr>
          <p:spPr>
            <a:xfrm>
              <a:off x="1740240" y="4801320"/>
              <a:ext cx="466200" cy="30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9" name="Freeform 35"/>
            <p:cNvSpPr/>
            <p:nvPr/>
          </p:nvSpPr>
          <p:spPr>
            <a:xfrm>
              <a:off x="968760" y="3228840"/>
              <a:ext cx="2660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0" name="Freeform 36"/>
            <p:cNvSpPr/>
            <p:nvPr/>
          </p:nvSpPr>
          <p:spPr>
            <a:xfrm>
              <a:off x="1242000" y="4253760"/>
              <a:ext cx="290160" cy="51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1" name="Freeform 37"/>
            <p:cNvSpPr/>
            <p:nvPr/>
          </p:nvSpPr>
          <p:spPr>
            <a:xfrm>
              <a:off x="1366560" y="5216400"/>
              <a:ext cx="22860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2" name="Freeform 38"/>
            <p:cNvSpPr/>
            <p:nvPr/>
          </p:nvSpPr>
          <p:spPr>
            <a:xfrm>
              <a:off x="1283400" y="5234040"/>
              <a:ext cx="144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3" name="Freeform 39"/>
            <p:cNvSpPr/>
            <p:nvPr/>
          </p:nvSpPr>
          <p:spPr>
            <a:xfrm>
              <a:off x="627840" y="3651480"/>
              <a:ext cx="511200" cy="10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4" name="Freeform 40"/>
            <p:cNvSpPr/>
            <p:nvPr/>
          </p:nvSpPr>
          <p:spPr>
            <a:xfrm>
              <a:off x="533520" y="3781440"/>
              <a:ext cx="370440" cy="71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5" name="Freeform 41"/>
            <p:cNvSpPr/>
            <p:nvPr/>
          </p:nvSpPr>
          <p:spPr>
            <a:xfrm>
              <a:off x="1450800" y="2858400"/>
              <a:ext cx="1209240" cy="87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6" name="Freeform 42"/>
            <p:cNvSpPr/>
            <p:nvPr/>
          </p:nvSpPr>
          <p:spPr>
            <a:xfrm>
              <a:off x="1748520" y="3711960"/>
              <a:ext cx="1295280" cy="88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7" name="Freeform 43"/>
            <p:cNvSpPr/>
            <p:nvPr/>
          </p:nvSpPr>
          <p:spPr>
            <a:xfrm>
              <a:off x="2690640" y="2849400"/>
              <a:ext cx="552240" cy="73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8" name="Freeform 44"/>
            <p:cNvSpPr/>
            <p:nvPr/>
          </p:nvSpPr>
          <p:spPr>
            <a:xfrm>
              <a:off x="1242000" y="3753000"/>
              <a:ext cx="547920" cy="79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9" name="Freeform 45"/>
            <p:cNvSpPr/>
            <p:nvPr/>
          </p:nvSpPr>
          <p:spPr>
            <a:xfrm>
              <a:off x="978840" y="3916800"/>
              <a:ext cx="629640" cy="9982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0" name="Freeform 46"/>
            <p:cNvSpPr/>
            <p:nvPr/>
          </p:nvSpPr>
          <p:spPr>
            <a:xfrm>
              <a:off x="1558440" y="4193280"/>
              <a:ext cx="1402200" cy="6645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1" name="Freeform 47"/>
            <p:cNvSpPr/>
            <p:nvPr/>
          </p:nvSpPr>
          <p:spPr>
            <a:xfrm>
              <a:off x="2412720" y="4268160"/>
              <a:ext cx="547920" cy="370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2" name="Freeform 48"/>
            <p:cNvSpPr/>
            <p:nvPr/>
          </p:nvSpPr>
          <p:spPr>
            <a:xfrm>
              <a:off x="1022760" y="3945600"/>
              <a:ext cx="428040" cy="9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3" name="Freeform 49"/>
            <p:cNvSpPr/>
            <p:nvPr/>
          </p:nvSpPr>
          <p:spPr>
            <a:xfrm>
              <a:off x="1757520" y="4594320"/>
              <a:ext cx="36612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4" name="Freeform 50"/>
            <p:cNvSpPr/>
            <p:nvPr/>
          </p:nvSpPr>
          <p:spPr>
            <a:xfrm>
              <a:off x="2751840" y="4268160"/>
              <a:ext cx="1803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5" name="Freeform 51"/>
            <p:cNvSpPr/>
            <p:nvPr/>
          </p:nvSpPr>
          <p:spPr>
            <a:xfrm>
              <a:off x="1289160" y="4997160"/>
              <a:ext cx="25884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6" name="Freeform 52"/>
            <p:cNvSpPr/>
            <p:nvPr/>
          </p:nvSpPr>
          <p:spPr>
            <a:xfrm>
              <a:off x="2412720" y="4845600"/>
              <a:ext cx="1760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7" name="Freeform 53"/>
            <p:cNvSpPr/>
            <p:nvPr/>
          </p:nvSpPr>
          <p:spPr>
            <a:xfrm>
              <a:off x="2909160" y="4121640"/>
              <a:ext cx="118440" cy="31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8" name="Freeform 54"/>
            <p:cNvSpPr/>
            <p:nvPr/>
          </p:nvSpPr>
          <p:spPr>
            <a:xfrm>
              <a:off x="785160" y="3788640"/>
              <a:ext cx="157680" cy="28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479" name="Text Box 56"/>
          <p:cNvSpPr/>
          <p:nvPr/>
        </p:nvSpPr>
        <p:spPr>
          <a:xfrm>
            <a:off x="4038480" y="2209680"/>
            <a:ext cx="457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f a fellow wants to be a nobody in the business world, let him neglect sending the mailman to somebody on his behalf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Abraham Lincoln</a:t>
            </a:r>
            <a:br>
              <a:rPr sz="2400"/>
            </a:b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EC66D17-E79E-48AE-B4FD-BCA2BCD40B7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565200" y="1905120"/>
            <a:ext cx="3625920" cy="1371600"/>
            <a:chOff x="565200" y="1905120"/>
            <a:chExt cx="3625920" cy="1371600"/>
          </a:xfrm>
        </p:grpSpPr>
        <p:sp>
          <p:nvSpPr>
            <p:cNvPr id="125" name="Text Box 7"/>
            <p:cNvSpPr/>
            <p:nvPr/>
          </p:nvSpPr>
          <p:spPr>
            <a:xfrm>
              <a:off x="565200" y="1905120"/>
              <a:ext cx="36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Letterhead paper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905120" y="2438280"/>
              <a:ext cx="1218960" cy="83844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27" name="Group 28"/>
          <p:cNvGrpSpPr/>
          <p:nvPr/>
        </p:nvGrpSpPr>
        <p:grpSpPr>
          <a:xfrm>
            <a:off x="6019920" y="1905120"/>
            <a:ext cx="2622600" cy="1523880"/>
            <a:chOff x="6019920" y="1905120"/>
            <a:chExt cx="2622600" cy="1523880"/>
          </a:xfrm>
        </p:grpSpPr>
        <p:sp>
          <p:nvSpPr>
            <p:cNvPr id="128" name="Text Box 8"/>
            <p:cNvSpPr/>
            <p:nvPr/>
          </p:nvSpPr>
          <p:spPr>
            <a:xfrm>
              <a:off x="6248520" y="1905120"/>
              <a:ext cx="239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Envelopes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 flipV="1">
              <a:off x="6019920" y="2438280"/>
              <a:ext cx="990360" cy="99072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672120" y="4572000"/>
            <a:ext cx="2451600" cy="1372680"/>
            <a:chOff x="672120" y="4572000"/>
            <a:chExt cx="2451600" cy="1372680"/>
          </a:xfrm>
        </p:grpSpPr>
        <p:sp>
          <p:nvSpPr>
            <p:cNvPr id="131" name="Text Box 9"/>
            <p:cNvSpPr/>
            <p:nvPr/>
          </p:nvSpPr>
          <p:spPr>
            <a:xfrm>
              <a:off x="672120" y="5302080"/>
              <a:ext cx="13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Label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1523880" y="4572000"/>
              <a:ext cx="159984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5943600" y="4572000"/>
            <a:ext cx="2417040" cy="1372680"/>
            <a:chOff x="5943600" y="4572000"/>
            <a:chExt cx="2417040" cy="1372680"/>
          </a:xfrm>
        </p:grpSpPr>
        <p:sp>
          <p:nvSpPr>
            <p:cNvPr id="134" name="Text Box 10"/>
            <p:cNvSpPr/>
            <p:nvPr/>
          </p:nvSpPr>
          <p:spPr>
            <a:xfrm>
              <a:off x="6631560" y="530208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Invoice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5943600" y="4572000"/>
              <a:ext cx="167652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3431880" y="5334120"/>
            <a:ext cx="2184840" cy="1099800"/>
            <a:chOff x="3431880" y="5334120"/>
            <a:chExt cx="2184840" cy="1099800"/>
          </a:xfrm>
        </p:grpSpPr>
        <p:sp>
          <p:nvSpPr>
            <p:cNvPr id="137" name="Text Box 11"/>
            <p:cNvSpPr/>
            <p:nvPr/>
          </p:nvSpPr>
          <p:spPr>
            <a:xfrm>
              <a:off x="3431880" y="579132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Statement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4495680" y="5334120"/>
              <a:ext cx="0" cy="60948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743200" y="2666880"/>
            <a:ext cx="3657600" cy="2667240"/>
          </a:xfrm>
          <a:prstGeom prst="ellipse">
            <a:avLst/>
          </a:prstGeom>
          <a:solidFill>
            <a:srgbClr val="fff0a0"/>
          </a:solidFill>
          <a:ln w="0">
            <a:noFill/>
          </a:ln>
          <a:effectLst>
            <a:outerShdw dist="153753" dir="2700000" blurRad="0" rotWithShape="0">
              <a:srgbClr val="999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Supplies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C144B5C-FA1D-49BB-9959-A0F72807D26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business sta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octor’s or office’s name,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ddress, phone number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 at the top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with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lleagu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en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5880" y="2209680"/>
            <a:ext cx="2667240" cy="311076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D217E7A-8B12-4C93-87BF-63E7CB6865A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tton fiber bond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expensive than other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s of paper (sulfite bon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termar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z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ndard or letter size – 8½ x 11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gal siz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8½ x 14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5880" y="2209680"/>
            <a:ext cx="2667240" cy="283284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6400800" y="327672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0c0c0">
                    <a:alpha val="23000"/>
                  </a:srgbClr>
                </a:solidFill>
                <a:latin typeface="Times New Roman"/>
              </a:rPr>
              <a:t>Watermark</a:t>
            </a:r>
            <a:endParaRPr b="0" lang="en-US" sz="2800" spc="1" strike="noStrike">
              <a:ln w="0">
                <a:noFill/>
              </a:ln>
              <a:solidFill>
                <a:srgbClr val="c0c0c0">
                  <a:alpha val="23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101F00B-8179-4130-884A-F92B40E56DB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hould match letterhea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of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rrespondence or business  –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voices or statements – No. 6 to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-return 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n Kraft or clasp envelopes – large bulky docum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dded envelopes – send items that may be damaged during mail hand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1:47:17Z</dcterms:created>
  <dc:creator>Kathryn A. Booth RN-BSN, MS, RMA, RPT</dc:creator>
  <dc:description/>
  <dc:language>en-US</dc:language>
  <cp:lastModifiedBy>Kathryn A. Booth</cp:lastModifiedBy>
  <dcterms:modified xsi:type="dcterms:W3CDTF">2008-03-31T02:26:31Z</dcterms:modified>
  <cp:revision>81</cp:revision>
  <dc:subject>Medical Assisting 3e</dc:subject>
  <dc:title>Managing Correspondence and Mail</dc:title>
</cp:coreProperties>
</file>