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10.gif" ContentType="image/gif"/>
  <Override PartName="/ppt/media/image9.wmf" ContentType="image/x-wmf"/>
  <Override PartName="/ppt/media/image11.wmf" ContentType="image/x-wmf"/>
  <Override PartName="/ppt/media/image6.wmf" ContentType="image/x-wmf"/>
  <Override PartName="/ppt/media/image7.jpeg" ContentType="image/jpeg"/>
  <Override PartName="/ppt/media/image5.wmf" ContentType="image/x-wmf"/>
  <Override PartName="/ppt/media/image3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5D5B-2F86-406A-86BA-02A10A136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3A0C-A07C-4557-9EBE-11E88794C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DC85-76D5-4C3D-ACD1-8F47AE830C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FB08-39FA-433F-98DC-DA2D3ECCB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83463-8929-4547-B08F-65CE43EB15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B888F-AD2D-4C2F-B9E4-1826AAEC6F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AA14D-370E-4885-B952-4160DC218F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F62DF-8910-4189-BE20-8C057ADCD9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5E449-AEB7-4B7F-AF6A-E99D86E51A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35CC8-9124-46C8-8335-D24BA234A2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7BE3E-DD66-4D11-97F7-B783113CEF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A466-7699-47D1-B182-3615F0953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4C688-467C-4F1A-8803-3DD7516058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B0C52-A203-4546-BAD0-EC98C900FC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4E7B8-4DC7-4CA1-A8E9-C471E5C14E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10946-EBEA-4686-97C9-DAC225B157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0C350-A5C6-4B50-9AE0-1410882413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E021-77E8-4BE7-8A29-F477C2819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5C64-EAFA-4736-88A5-5364392DC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DD6E-949D-46EB-A297-972821E52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78BD-98CC-4707-BD72-324B9ED81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DA99-21BF-410D-897B-4A93977AF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2959-16E3-4D20-9942-B0B0BC97E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1E8FF-2E79-4915-B6B1-D1E8D4CF2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2-</a:t>
            </a:r>
            <a:fld id="{4EEDB248-C516-4903-8366-375312D2F7B7}" type="slidenum"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04920" y="228600"/>
            <a:ext cx="8686800" cy="1600200"/>
            <a:chOff x="304920" y="228600"/>
            <a:chExt cx="8686800" cy="1600200"/>
          </a:xfrm>
        </p:grpSpPr>
        <p:sp>
          <p:nvSpPr>
            <p:cNvPr id="4" name=""/>
            <p:cNvSpPr/>
            <p:nvPr/>
          </p:nvSpPr>
          <p:spPr>
            <a:xfrm flipH="1">
              <a:off x="482760" y="182880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63120" y="228600"/>
              <a:ext cx="22860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8600"/>
              <a:ext cx="8454960" cy="2286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457200"/>
              <a:ext cx="8454960" cy="13968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763120" y="459000"/>
              <a:ext cx="228600" cy="13644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2-</a:t>
            </a:r>
            <a:fld id="{16F65AD5-16B3-4407-A091-C0451BC2A1E0}" type="slidenum"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971800" y="129528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af5fa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2</a:t>
            </a:r>
            <a:endParaRPr b="1" lang="en-US" sz="4000" spc="1" strike="noStrike">
              <a:ln w="0">
                <a:noFill/>
              </a:ln>
              <a:solidFill>
                <a:srgbClr val="af5fa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590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33"/>
                </a:solidFill>
                <a:latin typeface="Times New Roman"/>
              </a:rPr>
              <a:t>Types of Medical Practice</a:t>
            </a:r>
            <a:endParaRPr b="0" lang="en-US" sz="4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Arial"/>
              </a:rPr>
              <a:t>PowerPoint® presentation to accompany:</a:t>
            </a: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Arial"/>
              </a:rPr>
              <a:t>Medical Assisting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Booth, Whicker, Wyman, Pugh, Thompson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CC433-0D58-44B1-8A84-221D273203E7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828800"/>
          <a:ext cx="8457840" cy="3816360"/>
        </p:xfrm>
        <a:graphic>
          <a:graphicData uri="http://schemas.openxmlformats.org/drawingml/2006/table">
            <a:tbl>
              <a:tblPr/>
              <a:tblGrid>
                <a:gridCol w="2405520"/>
                <a:gridCol w="605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eph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, manages, and diagnoses diseases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f the kidne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eu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and diseas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f the nervous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bstetr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 pregnancy, labor and delivery,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ostpartu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nc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dentifies and treats patients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anc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93485-760A-41EC-84FB-8F8AFDD8D84C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828800"/>
          <a:ext cx="8381520" cy="3859200"/>
        </p:xfrm>
        <a:graphic>
          <a:graphicData uri="http://schemas.openxmlformats.org/drawingml/2006/table">
            <a:tbl>
              <a:tblPr/>
              <a:tblGrid>
                <a:gridCol w="2998800"/>
                <a:gridCol w="53827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phthalm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orders of the ey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rthoped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orders of muscles and bon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torhinolaryng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ear, nose,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roat disorde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ath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 bodily changes produced b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 process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A66A-DE62-4BB0-83DA-6739B8344089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828800"/>
          <a:ext cx="8381520" cy="4190760"/>
        </p:xfrm>
        <a:graphic>
          <a:graphicData uri="http://schemas.openxmlformats.org/drawingml/2006/table">
            <a:tbl>
              <a:tblPr/>
              <a:tblGrid>
                <a:gridCol w="2537280"/>
                <a:gridCol w="584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ediatr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childhood diseas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hysiatr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 disorder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with physical therap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odiatr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disorders of the foo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lastic Surge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reconstruction, correction,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mprovement of body struct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Radiologist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uclear Medicin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x-rays and radioactive substanc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o diagnose and treat diseas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0D06-ABF5-4678-A1F2-E42C7EA09DD5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828800"/>
          <a:ext cx="8305920" cy="3921120"/>
        </p:xfrm>
        <a:graphic>
          <a:graphicData uri="http://schemas.openxmlformats.org/drawingml/2006/table">
            <a:tbl>
              <a:tblPr/>
              <a:tblGrid>
                <a:gridCol w="3146400"/>
                <a:gridCol w="515952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Sports Medicin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bspecialty of medicine dealing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reatment and preventative care of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thlete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Surge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hands and instruments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agnose, correct, and treat injuries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s, and deformit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U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kidneys, bladder, and urinary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B305-D473-4C05-AC22-C786527DE983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960" y="1980720"/>
            <a:ext cx="8762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ame the medical specialists who would be involved in the care of a </a:t>
            </a:r>
            <a:r>
              <a:rPr b="1" i="1" lang="en-US" sz="2400" spc="-1" strike="noStrike">
                <a:solidFill>
                  <a:srgbClr val="5f00e1"/>
                </a:solidFill>
                <a:latin typeface="Times New Roman"/>
              </a:rPr>
              <a:t>6-month-old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infant with </a:t>
            </a:r>
            <a:r>
              <a:rPr b="1" i="1" lang="en-US" sz="2400" spc="-1" strike="noStrike">
                <a:solidFill>
                  <a:srgbClr val="5f00e1"/>
                </a:solidFill>
                <a:latin typeface="Times New Roman"/>
              </a:rPr>
              <a:t>massive burns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over 90% of the body and indicate how each specialist will contribute to the care for this situatio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429000"/>
            <a:ext cx="8305560" cy="2558520"/>
          </a:xfrm>
          <a:prstGeom prst="rect">
            <a:avLst/>
          </a:prstGeom>
          <a:solidFill>
            <a:srgbClr val="fff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33"/>
                </a:solidFill>
                <a:uFillTx/>
                <a:latin typeface="Times New Roman"/>
              </a:rPr>
              <a:t>ANSWER: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The following specialists would be involved in the care of this patient: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ediatrician because of the age of the infant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lastic surgeon to perform skin grafting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Dermatologist for skin, hair, and nail repair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Emergency medicine for treatment during medical crisis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4191120"/>
            <a:ext cx="2210040" cy="1523880"/>
          </a:xfrm>
          <a:prstGeom prst="star5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4800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Correct!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848720" y="838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696080" y="60948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141B-2DFE-44B0-AA73-DAD0E577FD52}" type="slidenum">
              <a:t>14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5649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86640" y="762120"/>
            <a:ext cx="1557360" cy="2286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19520" y="2666880"/>
            <a:ext cx="3124080" cy="1143000"/>
          </a:xfrm>
          <a:prstGeom prst="ellipse">
            <a:avLst/>
          </a:prstGeom>
          <a:solidFill>
            <a:srgbClr val="fff0a0"/>
          </a:solidFill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Times New Roman"/>
              </a:rPr>
              <a:t>PATIENT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8200" y="4267080"/>
            <a:ext cx="326988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edical Assistant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42760" y="2057400"/>
            <a:ext cx="147168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octor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25320" y="4191120"/>
            <a:ext cx="192276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pecialist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8480" y="2209680"/>
            <a:ext cx="131292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Nurse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ealth-Care Te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5257800"/>
            <a:ext cx="8458200" cy="947160"/>
          </a:xfrm>
          <a:prstGeom prst="rect">
            <a:avLst/>
          </a:prstGeom>
          <a:solidFill>
            <a:srgbClr val="af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ing the duties of other health-care team members will help you be a more effective team member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69C5-FEBA-4CDE-BDAA-E5E093F8FC4F}" type="slidenum">
              <a:t>15</a:t>
            </a:fld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828800"/>
          <a:ext cx="8381520" cy="4114800"/>
        </p:xfrm>
        <a:graphic>
          <a:graphicData uri="http://schemas.openxmlformats.org/drawingml/2006/table">
            <a:tbl>
              <a:tblPr/>
              <a:tblGrid>
                <a:gridCol w="3570120"/>
                <a:gridCol w="48114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cupuncturist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pain or discomfort by 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serting thin, hollow needles under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 skin to balance the opposing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forces of yin and ya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ased on Chinese belief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1940040" cy="29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7EA1-DD94-4CAD-8508-BE70CD85C6C4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828800"/>
          <a:ext cx="8305920" cy="4414680"/>
        </p:xfrm>
        <a:graphic>
          <a:graphicData uri="http://schemas.openxmlformats.org/drawingml/2006/table">
            <a:tbl>
              <a:tblPr/>
              <a:tblGrid>
                <a:gridCol w="3276720"/>
                <a:gridCol w="5029200"/>
              </a:tblGrid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6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hiropracto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disorders without drugs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rgery by making adjustments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align the vertebrae in the spin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s an independent practitioner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oencephalographic (EEG) Technologist /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lectroencephalography is the stud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recording of the brain’s electric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ctivit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EG technicians work in hospital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’ offices, and clinic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06D3-988F-4759-B551-32BED0A640E0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828800"/>
          <a:ext cx="8381520" cy="4000680"/>
        </p:xfrm>
        <a:graphic>
          <a:graphicData uri="http://schemas.openxmlformats.org/drawingml/2006/table">
            <a:tbl>
              <a:tblPr/>
              <a:tblGrid>
                <a:gridCol w="3337200"/>
                <a:gridCol w="50443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3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ocardiograph (ECG)</a:t>
                      </a:r>
                      <a:r>
                        <a:rPr b="1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CG technicians operat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lectrocardiograph machines tha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cord the heart’s electrical impuls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CG technicians work in hospital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593640" y="2303640"/>
            <a:ext cx="184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2666880" cy="198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391D-60C5-4DD4-8546-8BB8BECC4518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28800"/>
          <a:ext cx="8381520" cy="4275000"/>
        </p:xfrm>
        <a:graphic>
          <a:graphicData uri="http://schemas.openxmlformats.org/drawingml/2006/table">
            <a:tbl>
              <a:tblPr/>
              <a:tblGrid>
                <a:gridCol w="2561040"/>
                <a:gridCol w="5820480"/>
              </a:tblGrid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6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assage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motes muscle and full body relaxation;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creases circulation and lymph flow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ne of the oldest methods to promot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0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Administrative Assistant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administrative support to medical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ofessional, and technical personne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nscribing dictat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osing corresponden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clinics, etc.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901800" cy="10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D911-60A2-494E-A0E9-B20E44F845AD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1981080"/>
            <a:ext cx="83818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1 Describe medical specialties and specialist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2 Explain the purpose of the American Board of Medical Specialtie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3 Describe the duties of several types of allied health professionals with whom medical assistants may work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4 Name professional associations that may help advance a medical assistant’s career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FF0F-50DC-4B54-8717-1607256701F2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828800"/>
          <a:ext cx="8381520" cy="4357800"/>
        </p:xfrm>
        <a:graphic>
          <a:graphicData uri="http://schemas.openxmlformats.org/drawingml/2006/table">
            <a:tbl>
              <a:tblPr/>
              <a:tblGrid>
                <a:gridCol w="2172960"/>
                <a:gridCol w="6208560"/>
              </a:tblGrid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5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Billing and Cod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xtraction and coding of medical information from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ient record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eparation of insurance claims to maximiz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imbursement and ensure ethical standards in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ofess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Records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rganizes, analyzes, and evaluates medical record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iles administrative and health statistics, cod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ymptoms, and inputs and retrieves computerize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th dat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gistered Records Administrator (RRA)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Accredited Records Technician (ART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 txBox="1"/>
          <p:nvPr/>
        </p:nvSpPr>
        <p:spPr>
          <a:xfrm>
            <a:off x="685800" y="3657600"/>
            <a:ext cx="380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804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PT</a:t>
            </a:r>
            <a:endParaRPr b="0" i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804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752480" y="3657600"/>
            <a:ext cx="609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5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CD-9</a:t>
            </a:r>
            <a:endParaRPr b="0" i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5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90720" y="3352680"/>
            <a:ext cx="8380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0a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CPCS</a:t>
            </a:r>
            <a:endParaRPr b="0" i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fff0a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EDF8-82D5-4D53-9FB4-9304F9D68F27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1828800"/>
          <a:ext cx="8381520" cy="4156200"/>
        </p:xfrm>
        <a:graphic>
          <a:graphicData uri="http://schemas.openxmlformats.org/drawingml/2006/table">
            <a:tbl>
              <a:tblPr/>
              <a:tblGrid>
                <a:gridCol w="2172960"/>
                <a:gridCol w="6208560"/>
              </a:tblGrid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Office Administrator / Manag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nages the practice of a physician or a group practi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ordinates records and fil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versees office staff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also greet patients, make appointments,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erform general secretarial task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quires knowledge of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uter application software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dvanced document processing skills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ccounting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6B58-74F9-4D73-B227-DEC456835FAD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3520" y="1828800"/>
          <a:ext cx="8305560" cy="4173480"/>
        </p:xfrm>
        <a:graphic>
          <a:graphicData uri="http://schemas.openxmlformats.org/drawingml/2006/table">
            <a:tbl>
              <a:tblPr/>
              <a:tblGrid>
                <a:gridCol w="216000"/>
                <a:gridCol w="2268000"/>
                <a:gridCol w="582156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>
                      <a:noFill/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4080"/>
                          </a:solidFill>
                          <a:latin typeface="Times New Roman"/>
                        </a:rPr>
                        <a:t>Medical Technology – includes:</a:t>
                      </a:r>
                      <a:r>
                        <a:rPr b="1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0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linical Laboratory Technician (CLT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tests under supervision of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 or medical techn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- or 2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 labs, clinic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74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tests and procedures such as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xamining body fluids and tissu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4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 clinics, industry, hospital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search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FD76-C5B1-48EE-91C2-5DBB9144EB47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828800"/>
          <a:ext cx="8381520" cy="442116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Transcription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nslates a physician’s dictation into comprehensiv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typed record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attorney offices, insurance companies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ospitals, physician offices, clinics, and laborator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ntal Health Technician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Psychiatric Aide or Counselor)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articipates in supervising group therapy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unseling session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with emotionally disturbed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mentally challenged patient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 psychiatric clinics, crisis center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shelters, hospital psychiatric units, and specialize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ursing home settin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EC88-A24B-4957-B97E-3AE07698A555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828800"/>
          <a:ext cx="8457840" cy="4295880"/>
        </p:xfrm>
        <a:graphic>
          <a:graphicData uri="http://schemas.openxmlformats.org/drawingml/2006/table">
            <a:tbl>
              <a:tblPr/>
              <a:tblGrid>
                <a:gridCol w="2270880"/>
                <a:gridCol w="618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9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clear Medicine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either a 2-year or 4-year progra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 offices, or public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health institutio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utie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verseeing quality contro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reparing and administering radioactive dru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perating radiation detection instrum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ositioning pati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erforming imaging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1866960" cy="142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CF8D6-3E2F-4FE5-8B9A-F30C360CA74D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6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ccupational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elps patients attain maximum physical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ntal health through the use of educational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vocational, and rehabilitation activit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4-year degree plus 9- to 12-mon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ternship at an accredited hospita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Hospita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overnment agenc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Rehabilitation hospita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C9EF-898A-438C-A3C6-F5890C8B9FE0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80880" y="1828800"/>
          <a:ext cx="8534520" cy="3962520"/>
        </p:xfrm>
        <a:graphic>
          <a:graphicData uri="http://schemas.openxmlformats.org/drawingml/2006/table">
            <a:tbl>
              <a:tblPr/>
              <a:tblGrid>
                <a:gridCol w="2292480"/>
                <a:gridCol w="624204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2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armac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pensing of medications and health suppli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mployment in hospitals, clinic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eutical companies, or private or chai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i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hree levels of educational training for pharmacy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career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harmacist Technician (CPhT) -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2 year program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gistered Pharmacist (RPh) -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5 years of college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octor of Pharmacy (PharmD) - 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6 to 7 years of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llege with residenc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1819440" cy="16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F78B-C328-4BC0-BA38-295064AE137D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lebotom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raws blood for diagnostic laboratory test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ceives advanced phlebotomy training tha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llows him/her to draw blood under difficul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ircumstance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st states require phlebotomists to b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ertified by the National Phlebotom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ssociation or registered by the American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ociety of Clinical Pathologis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9480" y="3581280"/>
            <a:ext cx="1816200" cy="142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8865-E832-4C10-A3E6-5C02EC14E308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828800"/>
          <a:ext cx="8381520" cy="43434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al Therapist</a:t>
                      </a:r>
                      <a:r>
                        <a:rPr b="0" lang="en-US" sz="2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PT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bachelor’s degree in physical therap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must pass a state board examinati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work in hospitals, rehabilitation centers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utpatient clinics, private practice, or sport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dicine cent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mproves patient functioning by using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icity, heat, and cold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Ultrasound and massag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xercis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3581280"/>
            <a:ext cx="1520640" cy="24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5A07-2CDD-4F4B-AD2A-A38D49A3E0A0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ian Assistant (PA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direct patient care under th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pervision of  a licensed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 requirements vary; many stat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quire certification and registration with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state medical boar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a variety of settings: privat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practice, nursing homes, hospitals, etc.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ome states allow PAs to write prescriptio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1554120" cy="23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F8CF-DA36-4F4D-90C1-1881BABD6549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dical assistants are an integral part of the health-care tea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working knowledge of specialties and allied health professionals enables the MA to function better as a member of the health-care team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73680" y="1905120"/>
            <a:ext cx="2776680" cy="37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9041-4CA1-4D3E-AA9E-6BEF654D07E8}" type="slidenum">
              <a:t>3</a:t>
            </a:fld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828800"/>
          <a:ext cx="8381520" cy="43513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ographer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X-ray Technician)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a radiologist in taking x-ray film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be employed in hospitals, physicians’ offices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linics, government agencie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ographic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ed in x-ray theory and practical applications a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well as radioactive material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specialize in radiation therapy, radiography,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uclear medicin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clinics, medical laboratories, and 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dical pract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62120" y="4648320"/>
            <a:ext cx="1447560" cy="142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42FA-8BBC-4D4F-843B-87610024EB52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gistered Dietit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lso called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trition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patients and family with nutrition plann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prepare and serve food to group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: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ommunity health agencie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Hospitals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linic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rivate practice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Teaching and consulting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1698480" cy="183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05B3-80A7-438F-B695-B15EADC4DF6B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828800"/>
          <a:ext cx="8381880" cy="464184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8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spiratory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under the supervision of a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s’ offices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nursing homes, and commercial compan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valuates, treats, and cares for patients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spiratory problems such as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thm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mphysem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neumoni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ronchiti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EA958-7A8C-4513-A135-626658D43C6E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1828800"/>
          <a:ext cx="8305920" cy="4267080"/>
        </p:xfrm>
        <a:graphic>
          <a:graphicData uri="http://schemas.openxmlformats.org/drawingml/2006/table">
            <a:tbl>
              <a:tblPr/>
              <a:tblGrid>
                <a:gridCol w="2133720"/>
                <a:gridCol w="1752480"/>
                <a:gridCol w="4419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ample Dutie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ursing Aide/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 week to 3 month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ed mak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Vital sig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athing patien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ractical/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Vocational Nurse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LPN, LV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 yea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Vital sig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tion administrati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ressing chang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registered nurse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physici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74D0A-B11B-4F56-A200-97E6D5118483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gistered Nurse (R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828800"/>
          <a:ext cx="8305920" cy="3886200"/>
        </p:xfrm>
        <a:graphic>
          <a:graphicData uri="http://schemas.openxmlformats.org/drawingml/2006/table">
            <a:tbl>
              <a:tblPr/>
              <a:tblGrid>
                <a:gridCol w="5003640"/>
                <a:gridCol w="33022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sociate Degree RN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AD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iploma R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accalaureate RN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BS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4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E28D-DE75-45F5-8B26-DDB6E5D9296D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828800"/>
          <a:ext cx="8305560" cy="4267080"/>
        </p:xfrm>
        <a:graphic>
          <a:graphicData uri="http://schemas.openxmlformats.org/drawingml/2006/table">
            <a:tbl>
              <a:tblPr/>
              <a:tblGrid>
                <a:gridCol w="2229840"/>
                <a:gridCol w="607572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gistered Nurse (RN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N designation once state boards are passe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sponsible for planning, providing,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pervising bedside care of patien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Hospitals, nursing homes, and physicians’ off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ublic health agencies and government agenc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ducational settin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CBA6-0130-45BA-9645-5A05FD1A823E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rse Practitioner (NP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n RN that functions in an expanded rol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quires a minimum of a Master’s degre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4 to 12 months of formal training or an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pprenticeship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utie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hysical examina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Treating common illnesses and injur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Many states allow NPs to write prescrip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atient educat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5F52A-5EB9-4AD9-A2BE-0E69F9D3158B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136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1360" y="1895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9810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f you had to choose other health-care team members to plan the care for a 68-year-old patient recently diagnosed with a stroke, who has a history of seizure disorders, which would you choose, and why? 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3633840"/>
            <a:ext cx="8229600" cy="2716200"/>
          </a:xfrm>
          <a:prstGeom prst="rect">
            <a:avLst/>
          </a:prstGeom>
          <a:solidFill>
            <a:srgbClr val="fff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33"/>
                </a:solidFill>
                <a:uFillTx/>
                <a:latin typeface="Times New Roman"/>
              </a:rPr>
              <a:t>ANSWER:</a:t>
            </a: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 The health-care team members that might participate in this patient’s care are: 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hysical therapist for decreased mobility due to stroke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harmacist to review medication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Nutritionist for dietary evaluation and possible modification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EEG technician to perform EEG for brain electrical activity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Nursing staff (RN, LPN, CNA)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Other health-care professionals will also be part of the team!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4572000"/>
            <a:ext cx="1676160" cy="762120"/>
          </a:xfrm>
          <a:prstGeom prst="flowChartOnlineStorage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oo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Job!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543800" y="838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63AB-3A4B-4101-A0D2-8AAE3E8056F1}" type="slidenum">
              <a:t>37</a:t>
            </a:fld>
          </a:p>
        </p:txBody>
      </p:sp>
    </p:spTree>
  </p:cSld>
  <p:transition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76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for 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Require additional education or train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ny options available – check: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ocal and medical college librar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ate employment agenc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ealth career opportunities in local newspap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rectly with companies where you might seek employmen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AC94-ABEE-43BE-B160-73408D71F26A}" type="slidenum">
              <a:t>38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828800"/>
          <a:ext cx="8381520" cy="43927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Anesthetist’s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anesthetic care under direct supervision of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anesthet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 and high-technology surgical center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in evaluating patient mental and physical statu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ertified Laboratory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procedures such as bacteriology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hemistry, hematology, parasitology, serology,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urinalysi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medical technologists or hospit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h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labs, clinics, physicians’ office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3DA5-BF2A-4DC9-8908-EB96CA77E57E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tie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proximately 22 major medical specialties exi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ized medical care is driven by advances in diagnosing and treating various diseas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029200" y="4038480"/>
          <a:ext cx="3090960" cy="20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4038480"/>
                    <a:ext cx="309096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4267080" y="1828800"/>
            <a:ext cx="4572000" cy="3200400"/>
            <a:chOff x="4267080" y="1828800"/>
            <a:chExt cx="4572000" cy="3200400"/>
          </a:xfrm>
        </p:grpSpPr>
        <p:graphicFrame>
          <p:nvGraphicFramePr>
            <p:cNvPr id="108" name=""/>
            <p:cNvGraphicFramePr/>
            <p:nvPr/>
          </p:nvGraphicFramePr>
          <p:xfrm>
            <a:off x="5562720" y="1828800"/>
            <a:ext cx="1946160" cy="207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1828800"/>
                      <a:ext cx="1946160" cy="207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5410080" y="1981080"/>
              <a:ext cx="2210040" cy="914400"/>
            </a:xfrm>
            <a:prstGeom prst="flowChartAlternateProcess">
              <a:avLst/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Cardiology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2895480"/>
              <a:ext cx="0" cy="53352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57800" y="3429000"/>
              <a:ext cx="2666880" cy="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57800" y="3429000"/>
              <a:ext cx="0" cy="60948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24680" y="3429000"/>
              <a:ext cx="0" cy="60948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4038480"/>
              <a:ext cx="1905120" cy="990720"/>
            </a:xfrm>
            <a:prstGeom prst="roundRect">
              <a:avLst>
                <a:gd name="adj" fmla="val 16667"/>
              </a:avLst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ediatrics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0" y="4038480"/>
              <a:ext cx="1981080" cy="990720"/>
            </a:xfrm>
            <a:prstGeom prst="roundRect">
              <a:avLst>
                <a:gd name="adj" fmla="val 16667"/>
              </a:avLst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Adult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338720" y="5334120"/>
            <a:ext cx="4444920" cy="7038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Note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: Cardiology = </a:t>
            </a:r>
            <a:r>
              <a:rPr b="1" i="1" lang="en-US" sz="2000" spc="-1" strike="noStrike">
                <a:solidFill>
                  <a:srgbClr val="000033"/>
                </a:solidFill>
                <a:latin typeface="Times New Roman"/>
              </a:rPr>
              <a:t>specialty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ediatrics and Adult = </a:t>
            </a:r>
            <a:r>
              <a:rPr b="1" i="1" lang="en-US" sz="2000" spc="-1" strike="noStrike">
                <a:solidFill>
                  <a:srgbClr val="000033"/>
                </a:solidFill>
                <a:latin typeface="Times New Roman"/>
              </a:rPr>
              <a:t>subspecialty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DB4E7-6454-4708-97EB-C224C97A2567}" type="slidenum">
              <a:t>4</a:t>
            </a:fld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1828800"/>
          <a:ext cx="8381520" cy="42451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Dental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an practice without formal education or train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both administrative and lab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private practice, clinics, schools, local health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gencies, and for insurance compan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1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mergency Medical Technician / Paramedic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ferred to as an EM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ed to triage patients and follow instructions from 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for an ambulance service or in fire department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ospital emergency room, or private industr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934920" cy="98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255E-113B-4276-A997-D75A3749C775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57200" y="1828800"/>
          <a:ext cx="8305560" cy="4302000"/>
        </p:xfrm>
        <a:graphic>
          <a:graphicData uri="http://schemas.openxmlformats.org/drawingml/2006/table">
            <a:tbl>
              <a:tblPr/>
              <a:tblGrid>
                <a:gridCol w="2229840"/>
                <a:gridCol w="607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ccupational Therapist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occupational therap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aches fine motor skills, occupations, and the arts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ients with mental and physical disabilit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arns a 2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3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phthalmic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ophthalm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simple vision testing and other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hree ophthalmic career levels: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chnologist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chnician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ant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38080" y="4724280"/>
            <a:ext cx="1219320" cy="11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BA91-5B02-441E-8D11-87332F1AD0B7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828800"/>
          <a:ext cx="8305560" cy="4351320"/>
        </p:xfrm>
        <a:graphic>
          <a:graphicData uri="http://schemas.openxmlformats.org/drawingml/2006/table">
            <a:tbl>
              <a:tblPr/>
              <a:tblGrid>
                <a:gridCol w="2537640"/>
                <a:gridCol w="576792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athologist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a patholog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ome work with forensic and/or anatomic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h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oratory duties and some administrativ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8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ediatric Medical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the pediatrician with administrative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linical duti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private practice, hospitals, and clinic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76520" y="4876920"/>
            <a:ext cx="97452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6365-385A-4875-B532-9E1AFEEEB516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57200" y="1828800"/>
          <a:ext cx="8381520" cy="4262400"/>
        </p:xfrm>
        <a:graphic>
          <a:graphicData uri="http://schemas.openxmlformats.org/drawingml/2006/table">
            <a:tbl>
              <a:tblPr/>
              <a:tblGrid>
                <a:gridCol w="2017440"/>
                <a:gridCol w="636408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armacy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routine tasks related to record keeping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eparing and dispensing medica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armaceutical firms, and wholesal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al Therapy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directly under the physical therap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tests and treatment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bserves and documents patient responses to therap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rehabilitation center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1332000" cy="90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5713-91D9-47D4-8FFF-DE820D56508C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" y="1828800"/>
          <a:ext cx="8305560" cy="4413240"/>
        </p:xfrm>
        <a:graphic>
          <a:graphicData uri="http://schemas.openxmlformats.org/drawingml/2006/table">
            <a:tbl>
              <a:tblPr/>
              <a:tblGrid>
                <a:gridCol w="2229840"/>
                <a:gridCol w="607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ation Therapy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the radiolog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intains radiation treatment equipmen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a 2-or 4-year education program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labs, clinics, and physicians’ off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spiratory Therapy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under supervision of physician and respirator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rap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artificial ventilation and maintains respirator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quipmen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 office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1652-2F73-4F58-A006-1D89516F32C7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828800"/>
          <a:ext cx="8381520" cy="43387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Speech / Language Path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valuates, diagnoses, and  counsels patients with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mmunication problems like stutter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ually has a Master’s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schools, hospitals, research settings,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ivate practi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0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Surgical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a 2-year or 4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patient services under direct supervision of 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rge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diagnostic and therapeutic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primarily in hospita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143000" y="5105520"/>
            <a:ext cx="981000" cy="98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4FAE-3464-43AB-9D18-40DB028B52AA}" type="slidenum">
              <a:t>4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volvement in issues and activities relevant to your profess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Opportunities for continuing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2516040" cy="21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C4E8-57B3-49A8-81A1-E47EA06C26E2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5240" y="2133720"/>
            <a:ext cx="786636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Association of Medical Assistant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AM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5440" y="2971800"/>
            <a:ext cx="843912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Association for Medical Transcrip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AMT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35480" y="3886200"/>
            <a:ext cx="578448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College of Physician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CP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9640" y="4724280"/>
            <a:ext cx="571608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Hospit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H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73360" y="5638680"/>
            <a:ext cx="571284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Medic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M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2459B-A065-4A1D-83E3-F66D9EB612BF}" type="slidenum">
              <a:t>47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8080" y="2133720"/>
            <a:ext cx="587124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Medical Technologist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MT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50040" y="3124080"/>
            <a:ext cx="683748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Pharmaceutic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Ph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9960" y="4114800"/>
            <a:ext cx="737712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Society of Clinical Pathologist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SCP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34560" y="5181480"/>
            <a:ext cx="784944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Society of Phlebotomy Technician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SPI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11A0-9F83-4D79-91E4-65E9B8727454}" type="slidenum">
              <a:t>48</a:t>
            </a:fld>
          </a:p>
        </p:txBody>
      </p:sp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CAH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Non-profit organiz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Goal is to maintain and elevate the standards of health-care delivery by health-care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valuation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ccredi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ccreditation is significant factor in gaining reimbursement from Medicare and managed care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4659-3C8A-42BA-AB66-7E4BEBEE75DA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ysician Education and Licens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666880" y="1981080"/>
            <a:ext cx="3809880" cy="990360"/>
            <a:chOff x="2666880" y="1981080"/>
            <a:chExt cx="3809880" cy="990360"/>
          </a:xfrm>
        </p:grpSpPr>
        <p:sp>
          <p:nvSpPr>
            <p:cNvPr id="120" name=""/>
            <p:cNvSpPr/>
            <p:nvPr/>
          </p:nvSpPr>
          <p:spPr>
            <a:xfrm>
              <a:off x="2666880" y="1981080"/>
              <a:ext cx="3809880" cy="68580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Bachelor’s Degree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95680" y="2666880"/>
              <a:ext cx="0" cy="30456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371600" y="2971800"/>
            <a:ext cx="6705720" cy="1219320"/>
            <a:chOff x="1371600" y="2971800"/>
            <a:chExt cx="6705720" cy="1219320"/>
          </a:xfrm>
        </p:grpSpPr>
        <p:sp>
          <p:nvSpPr>
            <p:cNvPr id="123" name=""/>
            <p:cNvSpPr/>
            <p:nvPr/>
          </p:nvSpPr>
          <p:spPr>
            <a:xfrm>
              <a:off x="1371600" y="2971800"/>
              <a:ext cx="6705720" cy="83808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Graduate from  an Accredited Medical School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96040" y="3809880"/>
              <a:ext cx="0" cy="381240"/>
            </a:xfrm>
            <a:prstGeom prst="line">
              <a:avLst/>
            </a:prstGeom>
            <a:ln w="1908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28800" y="4191120"/>
            <a:ext cx="5715000" cy="1143000"/>
            <a:chOff x="1828800" y="4191120"/>
            <a:chExt cx="5715000" cy="1143000"/>
          </a:xfrm>
        </p:grpSpPr>
        <p:sp>
          <p:nvSpPr>
            <p:cNvPr id="126" name=""/>
            <p:cNvSpPr/>
            <p:nvPr/>
          </p:nvSpPr>
          <p:spPr>
            <a:xfrm>
              <a:off x="1828800" y="4191120"/>
              <a:ext cx="5715000" cy="76212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ass the U.S. Medical Licensing Exam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96040" y="4953240"/>
              <a:ext cx="0" cy="380880"/>
            </a:xfrm>
            <a:prstGeom prst="line">
              <a:avLst/>
            </a:prstGeom>
            <a:ln w="1908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133720" y="5334120"/>
            <a:ext cx="5181480" cy="838080"/>
          </a:xfrm>
          <a:prstGeom prst="rect">
            <a:avLst/>
          </a:prstGeom>
          <a:solidFill>
            <a:srgbClr val="fff0a0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lete 2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6 Years of Residenc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46A4-10DA-457D-B93D-472E56C561B0}" type="slidenum">
              <a:t>5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ouncil of Ethical and Judicial Affair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EJA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evelops policy for the AMA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ddresses timely ethical issu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intains and updates 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 AMA Code of Ethic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rehensive ethics guide for physicia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791320" y="259092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4723-9367-479C-B02B-3A6238459731}" type="slidenum">
              <a:t>50</a:t>
            </a:fld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6782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92320"/>
            <a:ext cx="8305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ich of the professional organizations listed below are primarily for the role(s) of medical assistants?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87520" y="3276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87520" y="3848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87520" y="4419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87520" y="4991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00240" y="32767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M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00960" y="388620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AM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00600" y="44197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H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99520" y="4952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MT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91320" y="327672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SCP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94200" y="38098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AMT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93840" y="44197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CP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91320" y="495288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h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81480" y="3276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1480" y="3848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81480" y="4419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4991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467480" y="60948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010280" y="4876920"/>
            <a:ext cx="1752840" cy="1371600"/>
          </a:xfrm>
          <a:prstGeom prst="irregularSeal1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15200" y="51814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ight Answer!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609480" y="3581280"/>
            <a:ext cx="4952880" cy="1754280"/>
            <a:chOff x="609480" y="3581280"/>
            <a:chExt cx="4952880" cy="1754280"/>
          </a:xfrm>
        </p:grpSpPr>
        <p:grpSp>
          <p:nvGrpSpPr>
            <p:cNvPr id="287" name=""/>
            <p:cNvGrpSpPr/>
            <p:nvPr/>
          </p:nvGrpSpPr>
          <p:grpSpPr>
            <a:xfrm>
              <a:off x="2514240" y="3672000"/>
              <a:ext cx="3048120" cy="1663560"/>
              <a:chOff x="2514240" y="3672000"/>
              <a:chExt cx="3048120" cy="1663560"/>
            </a:xfrm>
          </p:grpSpPr>
          <p:sp>
            <p:nvSpPr>
              <p:cNvPr id="288" name=""/>
              <p:cNvSpPr/>
              <p:nvPr/>
            </p:nvSpPr>
            <p:spPr>
              <a:xfrm>
                <a:off x="2514240" y="374796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514240" y="481500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277240" y="367200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609480" y="3581280"/>
              <a:ext cx="1447560" cy="398880"/>
            </a:xfrm>
            <a:prstGeom prst="rect">
              <a:avLst/>
            </a:prstGeom>
            <a:solidFill>
              <a:srgbClr val="fff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33"/>
                  </a:solidFill>
                  <a:uFillTx/>
                  <a:latin typeface="Times New Roman"/>
                </a:rPr>
                <a:t>ANSWER: </a:t>
              </a:r>
              <a:endParaRPr b="0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A9ED-4DEA-4EF1-80E9-D60375712920}" type="slidenum">
              <a:t>51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043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areer options for medical assistan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ffices of specialists and subspecialis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pecialty career optio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ofessional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formation about issues and activiti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edical assisting fiel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ty or subspecialty of employ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nefits to memb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2262-9845-46B4-8021-7D7FE34A08C0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2743200" cy="1938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2209680" y="1066680"/>
            <a:ext cx="43434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2</a:t>
            </a:r>
            <a:endParaRPr b="0" lang="en-US" sz="44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2590920"/>
            <a:ext cx="7848720" cy="21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y go the extra mile. They give their hearts, and lead with great minds</a:t>
            </a: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—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haron Hudacek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From </a:t>
            </a:r>
            <a:r>
              <a:rPr b="0" i="1" lang="en-US" sz="1600" spc="-1" strike="noStrike">
                <a:solidFill>
                  <a:srgbClr val="000033"/>
                </a:solidFill>
                <a:latin typeface="Times New Roman"/>
              </a:rPr>
              <a:t>A Daybook for Nurses: Making a Difference Each Day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A9E3C-6D3E-4705-AD8A-BDEC5195BCBE}" type="slidenum">
              <a:t>53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828800"/>
          <a:ext cx="8381880" cy="4003560"/>
        </p:xfrm>
        <a:graphic>
          <a:graphicData uri="http://schemas.openxmlformats.org/drawingml/2006/table">
            <a:tbl>
              <a:tblPr/>
              <a:tblGrid>
                <a:gridCol w="2514600"/>
                <a:gridCol w="586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Family Practi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l doctors that treat all conditions and ag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group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lso called general practitioners or primary car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 by insurance compan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fers patients to specialists for specific diseas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quiring specialized car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ller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eople with hypersensitivity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bstances such as drugs, chemicals, and elements i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atur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A996-7B20-4132-AA68-E3BC21A57E99}" type="slidenum">
              <a:t>6</a:t>
            </a:fld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828800"/>
          <a:ext cx="8381880" cy="3860640"/>
        </p:xfrm>
        <a:graphic>
          <a:graphicData uri="http://schemas.openxmlformats.org/drawingml/2006/table">
            <a:tbl>
              <a:tblPr/>
              <a:tblGrid>
                <a:gridCol w="2514600"/>
                <a:gridCol w="58672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nesthesi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dministers medications that alte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ensation and feelings during surger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ariatric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l and surgical treatment of obesit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Cardi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rt and blood vesse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ermat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 skin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air, and nai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D514-D6BD-4F57-9A4A-267EA36055A0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828800"/>
          <a:ext cx="8305920" cy="4089240"/>
        </p:xfrm>
        <a:graphic>
          <a:graphicData uri="http://schemas.openxmlformats.org/drawingml/2006/table">
            <a:tbl>
              <a:tblPr/>
              <a:tblGrid>
                <a:gridCol w="2490840"/>
                <a:gridCol w="581508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octor of Osteopath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eyes and hands to identify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tructural problems and promote natur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mergency Medicine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 emergency room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medical cris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ccid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ndocri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of th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ndocrine system, which regulates man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body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623D-EE91-4D2E-ABFB-59BADA53A14D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828800"/>
          <a:ext cx="8381520" cy="3862440"/>
        </p:xfrm>
        <a:graphic>
          <a:graphicData uri="http://schemas.openxmlformats.org/drawingml/2006/table">
            <a:tbl>
              <a:tblPr/>
              <a:tblGrid>
                <a:gridCol w="2691000"/>
                <a:gridCol w="569052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astroente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related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 stomach, intestines, and other org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eront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roblem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s affecting older adul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ynec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 fema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productive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Intern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roblems related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ternal org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0698-F08A-4C70-8CEB-CA91A1C7997F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8:29:56Z</dcterms:created>
  <dc:creator>Kathryn A. Booth RN-BSN, MS, RMA, RPT</dc:creator>
  <dc:description/>
  <dc:language>en-US</dc:language>
  <cp:lastModifiedBy>Kathryn Booth</cp:lastModifiedBy>
  <dcterms:modified xsi:type="dcterms:W3CDTF">2008-03-27T20:15:13Z</dcterms:modified>
  <cp:revision>145</cp:revision>
  <dc:subject>Medical Assisting 3e</dc:subject>
  <dc:title>Types of Medical Practice</dc:title>
</cp:coreProperties>
</file>