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10.gif" ContentType="image/gif"/>
  <Override PartName="/ppt/media/image9.wmf" ContentType="image/x-wmf"/>
  <Override PartName="/ppt/media/image11.wmf" ContentType="image/x-wmf"/>
  <Override PartName="/ppt/media/image6.wmf" ContentType="image/x-wmf"/>
  <Override PartName="/ppt/media/image7.jpeg" ContentType="image/jpeg"/>
  <Override PartName="/ppt/media/image5.wmf" ContentType="image/x-wmf"/>
  <Override PartName="/ppt/media/image3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jpeg" ContentType="image/jpeg"/>
  <Override PartName="/ppt/media/image16.wmf" ContentType="image/x-wmf"/>
  <Override PartName="/ppt/media/image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99A2C-1803-45E1-B575-D69B19EE41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D1ED-3F7E-4809-BE2E-E64B868960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BB80-C5BB-47DD-A2E1-B056A00F6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C8271-0499-497C-8B00-77DAC33DC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5B3C3-B530-44A3-B658-0C4754F6E75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FF2E8-62E5-4AB7-955C-E1B2A8027A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F507B-042C-45A4-B3BF-CAA1747B82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AF690-5948-40E0-BFEF-BC37F40D08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5F59B-415E-41A7-BD4A-BA81A597CA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CC62D-665A-4B60-85F6-C45384A597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A1B91-2BF6-43DD-8221-98EE63259B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A1AC0-B6B4-4164-95B0-8117DC38A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5126D-BCFA-4A51-BB25-F5A22E094A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A5854-D7ED-451F-99AD-07E54571C7B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C38EB-4A0D-4D4B-B5B6-F33DAD0A865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9267E-7C60-42FE-A69D-4DA2F543E5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18563-C024-4A75-BFC5-D4A7E5B072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86D02-5CEE-4091-A52A-DBFCB62D1F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C0495-BCDD-4946-AD33-EBC6A57E55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6DA3-893B-4C32-A7FC-416F28C258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408CD-8327-4192-98A2-9C5404C92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ED32E-6352-4DA8-958C-8C6AFEB781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FE122-19BD-445D-8BFB-3D1D4E9FC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59007-CF56-48EB-8CD5-51011B2F1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2-</a:t>
            </a:r>
            <a:fld id="{5155C433-C55F-4ACC-AA08-AA2E616AF994}" type="slidenum"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04920" y="228600"/>
            <a:ext cx="8686800" cy="1600200"/>
            <a:chOff x="304920" y="228600"/>
            <a:chExt cx="8686800" cy="1600200"/>
          </a:xfrm>
        </p:grpSpPr>
        <p:sp>
          <p:nvSpPr>
            <p:cNvPr id="4" name=""/>
            <p:cNvSpPr/>
            <p:nvPr/>
          </p:nvSpPr>
          <p:spPr>
            <a:xfrm flipH="1">
              <a:off x="482760" y="182880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63120" y="228600"/>
              <a:ext cx="22860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228600"/>
              <a:ext cx="8454960" cy="22860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457200"/>
              <a:ext cx="8454960" cy="13968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763120" y="459000"/>
              <a:ext cx="228600" cy="13644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af5fa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2-</a:t>
            </a:r>
            <a:fld id="{17C60A86-36F0-4355-8241-12936AC70052}" type="slidenum"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971800" y="1295280"/>
            <a:ext cx="3124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af5fa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2</a:t>
            </a:r>
            <a:endParaRPr b="1" lang="en-US" sz="4000" spc="1" strike="noStrike">
              <a:ln w="0">
                <a:noFill/>
              </a:ln>
              <a:solidFill>
                <a:srgbClr val="af5fa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25909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33"/>
                </a:solidFill>
                <a:latin typeface="Times New Roman"/>
              </a:rPr>
              <a:t>Types of Medical Practice</a:t>
            </a:r>
            <a:endParaRPr b="0" lang="en-US" sz="4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Arial"/>
              </a:rPr>
              <a:t>PowerPoint® presentation to accompany:</a:t>
            </a:r>
            <a:endParaRPr b="0" lang="en-US" sz="1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Arial"/>
              </a:rPr>
              <a:t>Medical Assisting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hird Edition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Arial"/>
              </a:rPr>
              <a:t>Booth, Whicker, Wyman, Pugh, Thompson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77010-FDC5-4192-85F7-5E45B80340BC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828800"/>
          <a:ext cx="8457840" cy="3816360"/>
        </p:xfrm>
        <a:graphic>
          <a:graphicData uri="http://schemas.openxmlformats.org/drawingml/2006/table">
            <a:tbl>
              <a:tblPr/>
              <a:tblGrid>
                <a:gridCol w="2405520"/>
                <a:gridCol w="605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eph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tudies, manages, and diagnoses diseases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of the kidne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eu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orders and disease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of the nervous syste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bstetr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tudies pregnancy, labor and delivery, and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ostpartu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nc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Identifies and treats patients wi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ance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BC984-7867-43D8-9E3C-76794B7E0DAA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828800"/>
          <a:ext cx="8381520" cy="3859200"/>
        </p:xfrm>
        <a:graphic>
          <a:graphicData uri="http://schemas.openxmlformats.org/drawingml/2006/table">
            <a:tbl>
              <a:tblPr/>
              <a:tblGrid>
                <a:gridCol w="2998800"/>
                <a:gridCol w="538272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phthalm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and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orders of the ey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rthoped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orders of muscles and bon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torhinolaryng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ear, nose,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roat disorde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ath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tudies bodily changes produced by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ease process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6057D-8C94-4CF8-85A5-E879C77BD6C8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828800"/>
          <a:ext cx="8381520" cy="4190760"/>
        </p:xfrm>
        <a:graphic>
          <a:graphicData uri="http://schemas.openxmlformats.org/drawingml/2006/table">
            <a:tbl>
              <a:tblPr/>
              <a:tblGrid>
                <a:gridCol w="2537280"/>
                <a:gridCol w="5844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ediatr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childhood diseas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hysiatr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and disorder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with physical therap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odiatr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eats disorders of the foo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lastic Surge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reconstruction, correction,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mprovement of body struct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Radiologist/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uclear Medicin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es x-rays and radioactive substance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o diagnose and treat disease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E1287-A940-4EDA-BF66-5448831B72A6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828800"/>
          <a:ext cx="8305920" cy="3921120"/>
        </p:xfrm>
        <a:graphic>
          <a:graphicData uri="http://schemas.openxmlformats.org/drawingml/2006/table">
            <a:tbl>
              <a:tblPr/>
              <a:tblGrid>
                <a:gridCol w="3146400"/>
                <a:gridCol w="5159520"/>
              </a:tblGrid>
              <a:tr h="52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Sports Medicin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bspecialty of medicine dealing wi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reatment and preventative care of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thletes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Surge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es hands and instruments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agnose, correct, and treat injuries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eases, and deformiti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U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kidneys, bladder, and urinary syste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48809-18F7-4253-BD2C-5087A99DB4F6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960" y="1980720"/>
            <a:ext cx="8762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Name the medical specialists who would be involved in the care of a </a:t>
            </a:r>
            <a:r>
              <a:rPr b="1" i="1" lang="en-US" sz="2400" spc="-1" strike="noStrike">
                <a:solidFill>
                  <a:srgbClr val="5f00e1"/>
                </a:solidFill>
                <a:latin typeface="Times New Roman"/>
              </a:rPr>
              <a:t>6-month-old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infant with </a:t>
            </a:r>
            <a:r>
              <a:rPr b="1" i="1" lang="en-US" sz="2400" spc="-1" strike="noStrike">
                <a:solidFill>
                  <a:srgbClr val="5f00e1"/>
                </a:solidFill>
                <a:latin typeface="Times New Roman"/>
              </a:rPr>
              <a:t>massive burns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over 90% of the body and indicate how each specialist will contribute to the care for this situatio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3429000"/>
            <a:ext cx="8305560" cy="2558520"/>
          </a:xfrm>
          <a:prstGeom prst="rect">
            <a:avLst/>
          </a:prstGeom>
          <a:solidFill>
            <a:srgbClr val="fff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33"/>
                </a:solidFill>
                <a:uFillTx/>
                <a:latin typeface="Times New Roman"/>
              </a:rPr>
              <a:t>ANSWER: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 The following specialists would be involved in the care of this patient: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Pediatrician because of the age of the infant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Plastic surgeon to perform skin grafting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Dermatologist for skin, hair, and nail repair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Emergency medicine for treatment during medical crisis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53080" y="4191120"/>
            <a:ext cx="2210040" cy="1523880"/>
          </a:xfrm>
          <a:prstGeom prst="star5">
            <a:avLst/>
          </a:prstGeom>
          <a:solidFill>
            <a:srgbClr val="af5fa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086600" y="4800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Correct!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848720" y="8380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696080" y="609480"/>
            <a:ext cx="882720" cy="144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18B39-14B7-420D-A945-031BF764C262}" type="slidenum">
              <a:t>14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1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15649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586640" y="762120"/>
            <a:ext cx="1557360" cy="2286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819520" y="2666880"/>
            <a:ext cx="3124080" cy="1143000"/>
          </a:xfrm>
          <a:prstGeom prst="ellipse">
            <a:avLst/>
          </a:prstGeom>
          <a:solidFill>
            <a:srgbClr val="fff0a0"/>
          </a:solidFill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Times New Roman"/>
              </a:rPr>
              <a:t>PATIENT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8200" y="4267080"/>
            <a:ext cx="326988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edical Assistants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42760" y="2057400"/>
            <a:ext cx="147168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octors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25320" y="4191120"/>
            <a:ext cx="192276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pecialists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558480" y="2209680"/>
            <a:ext cx="1312920" cy="581400"/>
          </a:xfrm>
          <a:prstGeom prst="rect">
            <a:avLst/>
          </a:prstGeom>
          <a:noFill/>
          <a:ln w="93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Nurses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ealth-Care Tea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5257800"/>
            <a:ext cx="8458200" cy="947160"/>
          </a:xfrm>
          <a:prstGeom prst="rect">
            <a:avLst/>
          </a:prstGeom>
          <a:solidFill>
            <a:srgbClr val="af5f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nowing the duties of other health-care team members will help you be a more effective team member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A70C7-C892-4EEE-8789-27B3E4211801}" type="slidenum">
              <a:t>15</a:t>
            </a:fld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828800"/>
          <a:ext cx="8381520" cy="4114800"/>
        </p:xfrm>
        <a:graphic>
          <a:graphicData uri="http://schemas.openxmlformats.org/drawingml/2006/table">
            <a:tbl>
              <a:tblPr/>
              <a:tblGrid>
                <a:gridCol w="3570120"/>
                <a:gridCol w="48114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0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cupuncturist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eats pain or discomfort by 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serting thin, hollow needles under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e skin to balance the opposing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forces of yin and ya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Based on Chinese beliefs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95280" y="2971800"/>
            <a:ext cx="1940040" cy="291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1A302-4076-4389-B00C-AA196DE4245E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828800"/>
          <a:ext cx="8305920" cy="4414680"/>
        </p:xfrm>
        <a:graphic>
          <a:graphicData uri="http://schemas.openxmlformats.org/drawingml/2006/table">
            <a:tbl>
              <a:tblPr/>
              <a:tblGrid>
                <a:gridCol w="3276720"/>
                <a:gridCol w="5029200"/>
              </a:tblGrid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60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hiropracto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eats disorders without drugs 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rgery by making adjustments to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align the vertebrae in the spin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5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Is an independent practitioner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2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lectroencephalographic (EEG) Technologist /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lectroencephalography is the stud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recording of the brain’s electrica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ctivit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4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EG technicians work in hospital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s’ offices, and clinic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58F1D-847B-4F7D-A78C-54AF73D0806D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" y="1828800"/>
          <a:ext cx="8381520" cy="4000680"/>
        </p:xfrm>
        <a:graphic>
          <a:graphicData uri="http://schemas.openxmlformats.org/drawingml/2006/table">
            <a:tbl>
              <a:tblPr/>
              <a:tblGrid>
                <a:gridCol w="3337200"/>
                <a:gridCol w="50443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39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lectrocardiograph (ECG)</a:t>
                      </a:r>
                      <a:r>
                        <a:rPr b="1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CG technicians operat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lectrocardiograph machines tha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cord the heart’s electrical impulse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CG technicians work in hospital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593640" y="2303640"/>
            <a:ext cx="1843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2666880" cy="198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CF426-BF61-47C5-B80A-883CCECC5A06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828800"/>
          <a:ext cx="8381520" cy="4275000"/>
        </p:xfrm>
        <a:graphic>
          <a:graphicData uri="http://schemas.openxmlformats.org/drawingml/2006/table">
            <a:tbl>
              <a:tblPr/>
              <a:tblGrid>
                <a:gridCol w="2561040"/>
                <a:gridCol w="5820480"/>
              </a:tblGrid>
              <a:tr h="60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66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assage Therap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motes muscle and full body relaxation;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creases circulation and lymph flow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ne of the oldest methods to promot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l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00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Administrative Assistant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administrative support to medical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ofessional, and technical personnel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nscribing dictati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osing correspondenc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clinics, etc.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901800" cy="106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94495-38B7-47F2-A889-1CDF6CD6027D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1981080"/>
            <a:ext cx="838188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7800" indent="-57780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1 Describe medical specialties and specialists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2 Explain the purpose of the American Board of Medical Specialties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3 Describe the duties of several types of allied health professionals with whom medical assistants may work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577800" indent="-57780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2.4 Name professional associations that may help advance a medical assistant’s career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4599A-FDAB-4701-95F1-D61C903D9A09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457200" y="1828800"/>
          <a:ext cx="8381520" cy="4357800"/>
        </p:xfrm>
        <a:graphic>
          <a:graphicData uri="http://schemas.openxmlformats.org/drawingml/2006/table">
            <a:tbl>
              <a:tblPr/>
              <a:tblGrid>
                <a:gridCol w="2172960"/>
                <a:gridCol w="6208560"/>
              </a:tblGrid>
              <a:tr h="67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5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Billing and Cod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xtraction and coding of medical information from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ient record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eparation of insurance claims to maximiz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imbursement and ensure ethical standards in th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ofessi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92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Records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rganizes, analyzes, and evaluates medical record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iles administrative and health statistics, cod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ymptoms, and inputs and retrieves computerize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lth dat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gistered Records Administrator (RRA)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Accredited Records Technician (ART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 txBox="1"/>
          <p:nvPr/>
        </p:nvSpPr>
        <p:spPr>
          <a:xfrm>
            <a:off x="685800" y="3657600"/>
            <a:ext cx="380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804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PT</a:t>
            </a:r>
            <a:endParaRPr b="0" i="1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804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752480" y="3657600"/>
            <a:ext cx="60984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5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CD-9</a:t>
            </a:r>
            <a:endParaRPr b="0" i="1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5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990720" y="3352680"/>
            <a:ext cx="83808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f0a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HCPCS</a:t>
            </a:r>
            <a:endParaRPr b="0" i="1" lang="en-US" sz="1800" spc="1" strike="noStrike">
              <a:ln w="6480">
                <a:solidFill>
                  <a:srgbClr val="000000"/>
                </a:solidFill>
                <a:miter/>
              </a:ln>
              <a:solidFill>
                <a:srgbClr val="fff0a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E3B4F-3BE6-4F42-8C93-3C918E56498B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57200" y="1828800"/>
          <a:ext cx="8381520" cy="4156200"/>
        </p:xfrm>
        <a:graphic>
          <a:graphicData uri="http://schemas.openxmlformats.org/drawingml/2006/table">
            <a:tbl>
              <a:tblPr/>
              <a:tblGrid>
                <a:gridCol w="2172960"/>
                <a:gridCol w="6208560"/>
              </a:tblGrid>
              <a:tr h="65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0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Office Administrator / Manage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nages the practice of a physician or a group practic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ordinates records and fil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versees office staff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also greet patients, make appointments,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erform general secretarial task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quires knowledge of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uter application software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dvanced document processing skills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ccounting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87F61-6F15-4041-BB95-AE2B72D71B4D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33520" y="1828800"/>
          <a:ext cx="8305560" cy="4173480"/>
        </p:xfrm>
        <a:graphic>
          <a:graphicData uri="http://schemas.openxmlformats.org/drawingml/2006/table">
            <a:tbl>
              <a:tblPr/>
              <a:tblGrid>
                <a:gridCol w="216000"/>
                <a:gridCol w="2268000"/>
                <a:gridCol w="5821560"/>
              </a:tblGrid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>
                      <a:noFill/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804080"/>
                          </a:solidFill>
                          <a:latin typeface="Times New Roman"/>
                        </a:rPr>
                        <a:t>Medical Technology – includes:</a:t>
                      </a:r>
                      <a:r>
                        <a:rPr b="1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403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linical Laboratory Technician (CLT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 tests under supervision of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s or medical techn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1- or 2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 labs, clinics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745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 tests and procedures such as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xamining body fluids and tissu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4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 clinics, industry, hospital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research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D96D4-DA52-419C-99BB-E53AFB85921A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" y="1828800"/>
          <a:ext cx="8381520" cy="442116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43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dical Transcription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nslates a physician’s dictation into comprehensive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typed record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attorney offices, insurance companies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ospitals, physician offices, clinics, and laborator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Mental Health Technician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(Psychiatric Aide or Counselor)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articipates in supervising group therapy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ounseling session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with emotionally disturbed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mentally challenged patient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 psychiatric clinics, crisis center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shelters, hospital psychiatric units, and specialize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nursing home setting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5605E-20CE-4495-8676-5C1A1D1576CB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1828800"/>
          <a:ext cx="8457840" cy="4295880"/>
        </p:xfrm>
        <a:graphic>
          <a:graphicData uri="http://schemas.openxmlformats.org/drawingml/2006/table">
            <a:tbl>
              <a:tblPr/>
              <a:tblGrid>
                <a:gridCol w="2270880"/>
                <a:gridCol w="61869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91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Nuclear Medicine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letes either a 2-year or 4-year progra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ysician offices, or public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health institutio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uties include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verseeing quality control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reparing and administering radioactive drug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Operating radiation detection instrumen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ositioning patien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erforming imaging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09480" y="4114800"/>
            <a:ext cx="1866960" cy="142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69F65-75D7-4DDE-8674-E4312885CCE1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1828800"/>
          <a:ext cx="8381520" cy="43020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6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Occupational Therap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elps patients attain maximum physical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mental health through the use of educational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vocational, and rehabilitation activiti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4-year degree plus 9- to 12-mon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ternship at an accredited hospital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Hospital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overnment agenc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Rehabilitation hospital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00391-50F9-42A4-A9D8-E3A296A72593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80880" y="1828800"/>
          <a:ext cx="8534520" cy="3962520"/>
        </p:xfrm>
        <a:graphic>
          <a:graphicData uri="http://schemas.openxmlformats.org/drawingml/2006/table">
            <a:tbl>
              <a:tblPr/>
              <a:tblGrid>
                <a:gridCol w="2292480"/>
                <a:gridCol w="624204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2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armac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pensing of medications and health supplie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mployment in hospitals, clinics, nursing home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armaceutical companies, or private or chai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armacie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hree levels of educational training for pharmacy</a:t>
                      </a:r>
                      <a:r>
                        <a:rPr b="1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career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harmacist Technician (CPhT) -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2 year program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</a:t>
                      </a: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gistered Pharmacist (RPh) -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5 years of college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octor of Pharmacy (PharmD) - </a:t>
                      </a:r>
                      <a:r>
                        <a:rPr b="1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6 to 7 years of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ollege with residenc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1819440" cy="16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06552-96DD-4A5C-BC52-F3A79AC6E2DC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457200" y="1828800"/>
          <a:ext cx="8381520" cy="43020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lebotom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raws blood for diagnostic laboratory test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ceives advanced phlebotomy training tha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llows him/her to draw blood under difficult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ircumstances 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st states require phlebotomists to b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ertified by the National Phlebotomy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ssociation or registered by the American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ociety of Clinical Pathologis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09480" y="3581280"/>
            <a:ext cx="1816200" cy="142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0D88D-9AB7-4CB4-867B-1098B57033F1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57200" y="1828800"/>
          <a:ext cx="8381520" cy="43434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ysical Therapist</a:t>
                      </a:r>
                      <a:r>
                        <a:rPr b="0" lang="en-US" sz="2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(PT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bachelor’s degree in physical therapy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must pass a state board examinati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work in hospitals, rehabilitation centers,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outpatient clinics, private practice, or sport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medicine cente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Improves patient functioning by using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lectricity, heat, and cold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Ultrasound and massag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xercis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62120" y="3581280"/>
            <a:ext cx="1520640" cy="24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F4A10-4D3C-46BF-9F19-0F6A15BE7ECE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828800"/>
          <a:ext cx="8381520" cy="43020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ysician Assistant (PA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direct patient care under the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pervision of  a licensed phys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ing requirements vary; many states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require certification and registration with th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state medical board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a variety of settings: privat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practice, nursing homes, hospitals, etc.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ome states allow PAs to write prescriptio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120" y="3505320"/>
            <a:ext cx="1554120" cy="234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70D1F-BCE5-4CC8-B402-D838D87094AF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0292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edical assistants are an integral part of the health-care tea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working knowledge of specialties and allied health professionals enables the MA to function better as a member of the health-care team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73680" y="1905120"/>
            <a:ext cx="2776680" cy="371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E701-B6C8-4408-87A2-A2E8DB096282}" type="slidenum">
              <a:t>3</a:t>
            </a:fld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57200" y="1828800"/>
          <a:ext cx="8381520" cy="435132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3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19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adiographer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X-ray Technician)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a radiologist in taking x-ray film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be employed in hospitals, physicians’ offices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linics, government agencies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adiographic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ed in x-ray theory and practical applications a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well as radioactive materials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specialize in radiation therapy, radiography, 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nuclear medicin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clinics, medical laboratories, and 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medical practic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762120" y="4648320"/>
            <a:ext cx="1447560" cy="142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1F282-79BE-4693-9633-B93E1B98F49F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57200" y="1828800"/>
          <a:ext cx="8381520" cy="43020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gistered Dietit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lso called </a:t>
                      </a:r>
                      <a:r>
                        <a:rPr b="1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nutrition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patients and family with nutrition plann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y prepare and serve food to group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: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ommunity health agencies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Hospitals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linics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rivate practices 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Teaching and consulting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1698480" cy="183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34A1C-7FF5-4F57-B6FF-A877374CFBE7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llied Health Professional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828800"/>
          <a:ext cx="8381880" cy="4641840"/>
        </p:xfrm>
        <a:graphic>
          <a:graphicData uri="http://schemas.openxmlformats.org/drawingml/2006/table">
            <a:tbl>
              <a:tblPr/>
              <a:tblGrid>
                <a:gridCol w="2251080"/>
                <a:gridCol w="613080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sciplin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8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spiratory Therap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under the supervision of a phys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ysicians’ offices,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nursing homes, and commercial compani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valuates, treats, and cares for patients with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respiratory problems such as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sthm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Emphysem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neumonia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Bronchiti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BD57D-3CCE-4B6A-B309-5E1AFCB5A346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ursing Care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457200" y="1828800"/>
          <a:ext cx="8305920" cy="4267080"/>
        </p:xfrm>
        <a:graphic>
          <a:graphicData uri="http://schemas.openxmlformats.org/drawingml/2006/table">
            <a:tbl>
              <a:tblPr/>
              <a:tblGrid>
                <a:gridCol w="2133720"/>
                <a:gridCol w="1752480"/>
                <a:gridCol w="44197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ing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ample Dutie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Nursing Aide/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1 week to 3 month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Bed mak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Vital sig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Bathing patien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2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ractical/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Vocational Nurse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(LPN, LVN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1 year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Vital sig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dication administratio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ressing chang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registered nurse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physicia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5A8C0-C14A-4CF3-B156-36313DA51816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gistered Nurse (RN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457200" y="1828800"/>
          <a:ext cx="8305920" cy="3886200"/>
        </p:xfrm>
        <a:graphic>
          <a:graphicData uri="http://schemas.openxmlformats.org/drawingml/2006/table">
            <a:tbl>
              <a:tblPr/>
              <a:tblGrid>
                <a:gridCol w="5003640"/>
                <a:gridCol w="3302280"/>
              </a:tblGrid>
              <a:tr h="83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ing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ssociate Degree RN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(ADN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2 yea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Diploma R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3 yea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Baccalaureate RN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(BSN)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4 yea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D7148-95F9-42F8-B358-E045F1AB106A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ursing Caree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57200" y="1828800"/>
          <a:ext cx="8305560" cy="4267080"/>
        </p:xfrm>
        <a:graphic>
          <a:graphicData uri="http://schemas.openxmlformats.org/drawingml/2006/table">
            <a:tbl>
              <a:tblPr/>
              <a:tblGrid>
                <a:gridCol w="2229840"/>
                <a:gridCol w="607572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gistered Nurse (RN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N designation once state boards are passed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sponsible for planning, providing, and 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pervising bedside care of patien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 settings includ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0408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Hospitals, nursing homes, and physicians’ offic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0408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ublic health agencies and government agenc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80408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ducational setting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C400C-D70D-4D0B-9C26-3ADB293C2C54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Nursing Career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57200" y="1828800"/>
          <a:ext cx="8381520" cy="430200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it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35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Nurse Practitioner (NP)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n RN that functions in an expanded rol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quires a minimum of a Master’s degre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nd 4 to 12 months of formal training or an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pprenticeship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uties include: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hysical examina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Treating common illnesses and injur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Many states allow NPs to write prescrip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Patient educati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41081-870A-4751-BE5A-50F1D34003D9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1360" y="385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1360" y="1895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98108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f you had to choose other health-care team members to plan the care for a 68-year-old patient recently diagnosed with a stroke, who has a history of seizure disorders, which would you choose, and why? 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3633840"/>
            <a:ext cx="8229600" cy="2716200"/>
          </a:xfrm>
          <a:prstGeom prst="rect">
            <a:avLst/>
          </a:prstGeom>
          <a:solidFill>
            <a:srgbClr val="fff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33"/>
                </a:solidFill>
                <a:uFillTx/>
                <a:latin typeface="Times New Roman"/>
              </a:rPr>
              <a:t>ANSWER:</a:t>
            </a: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 The health-care team members that might participate in this patient’s care are: 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Physical therapist for decreased mobility due to stroke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Pharmacist to review medication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Nutritionist for dietary evaluation and possible modifications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EEG technician to perform EEG for brain electrical activity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Nursing staff (RN, LPN, CNA)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3"/>
                </a:solidFill>
                <a:latin typeface="Times New Roman"/>
              </a:rPr>
              <a:t>Other health-care professionals will also be part of the team!</a:t>
            </a: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4572000"/>
            <a:ext cx="1676160" cy="762120"/>
          </a:xfrm>
          <a:prstGeom prst="flowChartOnlineStorage">
            <a:avLst/>
          </a:prstGeom>
          <a:solidFill>
            <a:srgbClr val="af5fa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ood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Job!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543800" y="8380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7467480" y="609480"/>
            <a:ext cx="882720" cy="144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FF2DB-6F75-4E19-9CF6-51EF7B3014FD}" type="slidenum">
              <a:t>37</a:t>
            </a:fld>
          </a:p>
        </p:txBody>
      </p:sp>
    </p:spTree>
  </p:cSld>
  <p:transition>
    <p:random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1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576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for M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Require additional education or train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ny options available – check: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ocal and medical college librar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ate employment agenc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Health career opportunities in local newspap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rectly with companies where you might seek employmen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6BB35-4797-4070-9711-9F65E396AB53}" type="slidenum">
              <a:t>38</a:t>
            </a:fld>
          </a:p>
        </p:txBody>
      </p:sp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57200" y="1828800"/>
          <a:ext cx="8381520" cy="439272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45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Anesthetist’s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anesthetic care under direct supervision of th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anesthet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 and high-technology surgical center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in evaluating patient mental and physical statu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Certified Laboratory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 procedures such as bacteriology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hemistry, hematology, parasitology, serology,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urinalysi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pervised by medical technologists or hospita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h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labs, clinics, physicians’ offices,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A351D-B3BD-47F6-8D37-AF1D6EFD5756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tie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pproximately 22 major medical specialties exi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cialized medical care is driven by advances in diagnosing and treating various diseas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5029200" y="4038480"/>
          <a:ext cx="3090960" cy="20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4038480"/>
                    <a:ext cx="3090960" cy="20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" name=""/>
          <p:cNvGrpSpPr/>
          <p:nvPr/>
        </p:nvGrpSpPr>
        <p:grpSpPr>
          <a:xfrm>
            <a:off x="4267080" y="1828800"/>
            <a:ext cx="4572000" cy="3200400"/>
            <a:chOff x="4267080" y="1828800"/>
            <a:chExt cx="4572000" cy="3200400"/>
          </a:xfrm>
        </p:grpSpPr>
        <p:graphicFrame>
          <p:nvGraphicFramePr>
            <p:cNvPr id="108" name=""/>
            <p:cNvGraphicFramePr/>
            <p:nvPr/>
          </p:nvGraphicFramePr>
          <p:xfrm>
            <a:off x="5562720" y="1828800"/>
            <a:ext cx="1946160" cy="2075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62720" y="1828800"/>
                      <a:ext cx="1946160" cy="207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0" name=""/>
            <p:cNvSpPr/>
            <p:nvPr/>
          </p:nvSpPr>
          <p:spPr>
            <a:xfrm>
              <a:off x="5410080" y="1981080"/>
              <a:ext cx="2210040" cy="914400"/>
            </a:xfrm>
            <a:prstGeom prst="flowChartAlternateProcess">
              <a:avLst/>
            </a:prstGeom>
            <a:solidFill>
              <a:srgbClr val="fff0a0"/>
            </a:solidFill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Cardiology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553080" y="2895480"/>
              <a:ext cx="0" cy="533520"/>
            </a:xfrm>
            <a:prstGeom prst="line">
              <a:avLst/>
            </a:prstGeom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257800" y="3429000"/>
              <a:ext cx="2666880" cy="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57800" y="3429000"/>
              <a:ext cx="0" cy="609480"/>
            </a:xfrm>
            <a:prstGeom prst="line">
              <a:avLst/>
            </a:prstGeom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924680" y="3429000"/>
              <a:ext cx="0" cy="609480"/>
            </a:xfrm>
            <a:prstGeom prst="line">
              <a:avLst/>
            </a:prstGeom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267080" y="4038480"/>
              <a:ext cx="1905120" cy="990720"/>
            </a:xfrm>
            <a:prstGeom prst="roundRect">
              <a:avLst>
                <a:gd name="adj" fmla="val 16667"/>
              </a:avLst>
            </a:prstGeom>
            <a:solidFill>
              <a:srgbClr val="fff0a0"/>
            </a:solidFill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Pediatrics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858000" y="4038480"/>
              <a:ext cx="1981080" cy="990720"/>
            </a:xfrm>
            <a:prstGeom prst="roundRect">
              <a:avLst>
                <a:gd name="adj" fmla="val 16667"/>
              </a:avLst>
            </a:prstGeom>
            <a:solidFill>
              <a:srgbClr val="fff0a0"/>
            </a:solidFill>
            <a:ln w="5724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Adult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4338720" y="5334120"/>
            <a:ext cx="4444920" cy="703800"/>
          </a:xfrm>
          <a:prstGeom prst="rect">
            <a:avLst/>
          </a:prstGeom>
          <a:noFill/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Times New Roman"/>
              </a:rPr>
              <a:t>Note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: Cardiology = </a:t>
            </a:r>
            <a:r>
              <a:rPr b="1" i="1" lang="en-US" sz="2000" spc="-1" strike="noStrike">
                <a:solidFill>
                  <a:srgbClr val="000033"/>
                </a:solidFill>
                <a:latin typeface="Times New Roman"/>
              </a:rPr>
              <a:t>specialty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          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Pediatrics and Adult = </a:t>
            </a:r>
            <a:r>
              <a:rPr b="1" i="1" lang="en-US" sz="2000" spc="-1" strike="noStrike">
                <a:solidFill>
                  <a:srgbClr val="000033"/>
                </a:solidFill>
                <a:latin typeface="Times New Roman"/>
              </a:rPr>
              <a:t>subspecialty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C54B3-9D34-44EE-8BEF-1B61EC46B0F5}" type="slidenum">
              <a:t>4</a:t>
            </a:fld>
          </a:p>
        </p:txBody>
      </p:sp>
    </p:spTree>
  </p:cSld>
  <p:transition>
    <p:random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457200" y="1828800"/>
          <a:ext cx="8381520" cy="424512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Dental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an practice without formal education or train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both administrative and lab func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private practice, clinics, schools, local health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gencies, and for insurance compan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1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Emergency Medical Technician / Paramedic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ferred to as an EM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ined to triage patients and follow instructions from a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for an ambulance service or in fire department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ospital emergency room, or private industr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990720" y="2819520"/>
            <a:ext cx="934920" cy="98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8DAE4-6FE8-4B8D-805D-15DAFFBA2C78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457200" y="1828800"/>
          <a:ext cx="8305560" cy="4302000"/>
        </p:xfrm>
        <a:graphic>
          <a:graphicData uri="http://schemas.openxmlformats.org/drawingml/2006/table">
            <a:tbl>
              <a:tblPr/>
              <a:tblGrid>
                <a:gridCol w="2229840"/>
                <a:gridCol w="607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Occupational Therapist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pervised by occupational therap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eaches fine motor skills, occupations, and the arts to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ients with mental and physical disabilit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arns a 2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34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Ophthalmic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ophthalm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simple vision testing and other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hree ophthalmic career levels: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echnologist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echnician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1" marL="471600"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af5faf"/>
                        </a:buClr>
                        <a:buSzPct val="7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ant</a:t>
                      </a:r>
                      <a:endParaRPr b="0" lang="en-US" sz="1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38080" y="4724280"/>
            <a:ext cx="1219320" cy="1117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A8182-FC14-400A-8F6A-AEE0597DE940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57200" y="1828800"/>
          <a:ext cx="8305560" cy="4351320"/>
        </p:xfrm>
        <a:graphic>
          <a:graphicData uri="http://schemas.openxmlformats.org/drawingml/2006/table">
            <a:tbl>
              <a:tblPr/>
              <a:tblGrid>
                <a:gridCol w="2537640"/>
                <a:gridCol w="5767920"/>
              </a:tblGrid>
              <a:tr h="7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athologist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upervised by a patholog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ome work with forensic and/or anatomic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athologis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laboratory duties and some administrative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func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84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ediatric Medical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the pediatrician with administrative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linical dutie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private practice, hospitals, and clinic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676520" y="4876920"/>
            <a:ext cx="974520" cy="106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FFE50-1C23-4A37-9F03-E55C33131122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57200" y="1828800"/>
          <a:ext cx="8381520" cy="4262400"/>
        </p:xfrm>
        <a:graphic>
          <a:graphicData uri="http://schemas.openxmlformats.org/drawingml/2006/table">
            <a:tbl>
              <a:tblPr/>
              <a:tblGrid>
                <a:gridCol w="2017440"/>
                <a:gridCol w="636408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armacy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routine tasks related to record keeping and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eparing and dispensing medica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7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armaceutical firms, and wholesal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armac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9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Physical Therapy Assistan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directly under the physical therap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tests and treatment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Observes and documents patient responses to therap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rehabilitation centers, nursing home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838080" y="3200400"/>
            <a:ext cx="1332000" cy="90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58AA-1921-49CA-83BE-BC2E13329130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457200" y="1828800"/>
          <a:ext cx="8305560" cy="4413240"/>
        </p:xfrm>
        <a:graphic>
          <a:graphicData uri="http://schemas.openxmlformats.org/drawingml/2006/table">
            <a:tbl>
              <a:tblPr/>
              <a:tblGrid>
                <a:gridCol w="2229840"/>
                <a:gridCol w="607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adiation Therapy Tech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ssists the radiolog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aintains radiation treatment equipmen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letes a 2-or 4-year education program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labs, clinics, and physicians’ offic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 lvl="4" marL="1828800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f0a0"/>
                        </a:buClr>
                        <a:buSzPct val="50000"/>
                        <a:buFont typeface="Wingdings" charset="2"/>
                        <a:buChar char=""/>
                        <a:tabLst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05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Respiratory Therapy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under supervision of physician and respirator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erapis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artificial ventilation and maintains respirator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quipment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s, physician offices, nursing homes,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 etc.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497E6-FA0E-448C-8F6F-61FC5251498B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ecialty Career Option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1828800"/>
          <a:ext cx="8381520" cy="4338720"/>
        </p:xfrm>
        <a:graphic>
          <a:graphicData uri="http://schemas.openxmlformats.org/drawingml/2006/table">
            <a:tbl>
              <a:tblPr/>
              <a:tblGrid>
                <a:gridCol w="2250360"/>
                <a:gridCol w="6131160"/>
              </a:tblGrid>
              <a:tr h="627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ty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81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Speech / Language Path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valuates, diagnoses, and  counsels patients with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communication problems like stutter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ually has a Master’s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schools, hospitals, research settings, o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rivate practic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90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Surgical Techn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Completes a 2-year or 4-year degre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patient services under direct supervision of a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rgeon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erforms diagnostic and therapeutic procedur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primarily in hospital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143000" y="5105520"/>
            <a:ext cx="981000" cy="98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6B2AF-2343-4671-AA2B-B7626D9BF5EC}" type="slidenum">
              <a:t>45</a:t>
            </a:fld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fessional Associatio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volvement in issues and activities relevant to your profess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Opportunities for continuing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educ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6019920" y="3505320"/>
            <a:ext cx="2516040" cy="21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F8586-BF30-427E-B60E-FDB4C330EA08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fessional Association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05240" y="2133720"/>
            <a:ext cx="786636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Association of Medical Assistant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AMA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5440" y="2971800"/>
            <a:ext cx="843912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Association for Medical Transcrip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AMT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35480" y="3886200"/>
            <a:ext cx="578448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College of Physician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CP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9640" y="4724280"/>
            <a:ext cx="571608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Hospital Associa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HA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73360" y="5638680"/>
            <a:ext cx="571284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Medical Associa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MA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88C75-E78F-445C-8F14-4D6C5D65B209}" type="slidenum">
              <a:t>47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fessional Association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8080" y="2133720"/>
            <a:ext cx="587124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Medical Technologist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MT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850040" y="3124080"/>
            <a:ext cx="683748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Pharmaceutical Association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PhA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9960" y="4114800"/>
            <a:ext cx="7377120" cy="520560"/>
          </a:xfrm>
          <a:prstGeom prst="rect">
            <a:avLst/>
          </a:prstGeom>
          <a:noFill/>
          <a:ln w="38160">
            <a:solidFill>
              <a:srgbClr val="5f00e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Society of Clinical Pathologist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SCP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34560" y="5181480"/>
            <a:ext cx="7849440" cy="520560"/>
          </a:xfrm>
          <a:prstGeom prst="rect">
            <a:avLst/>
          </a:prstGeom>
          <a:noFill/>
          <a:ln w="3816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merican Society of Phlebotomy Technicians 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(ASPI)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B0152-8B1D-4162-8279-C91CC748BE7D}" type="slidenum">
              <a:t>48</a:t>
            </a:fld>
          </a:p>
        </p:txBody>
      </p:sp>
    </p:spTree>
  </p:cSld>
  <p:transition>
    <p:random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JCAH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Non-profit organiz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Goal is to maintain and elevate the standards of health-care delivery by health-care organiza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valuation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lnSpc>
                <a:spcPct val="90000"/>
              </a:lnSpc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ccredi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-46476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ccreditation is significant factor in gaining reimbursement from Medicare and managed care organiza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A6F2B-F5DA-4FA2-B405-D15803A7E504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hysician Education and Licens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666880" y="1981080"/>
            <a:ext cx="3809880" cy="990360"/>
            <a:chOff x="2666880" y="1981080"/>
            <a:chExt cx="3809880" cy="990360"/>
          </a:xfrm>
        </p:grpSpPr>
        <p:sp>
          <p:nvSpPr>
            <p:cNvPr id="120" name=""/>
            <p:cNvSpPr/>
            <p:nvPr/>
          </p:nvSpPr>
          <p:spPr>
            <a:xfrm>
              <a:off x="2666880" y="1981080"/>
              <a:ext cx="3809880" cy="685800"/>
            </a:xfrm>
            <a:prstGeom prst="rect">
              <a:avLst/>
            </a:prstGeom>
            <a:solidFill>
              <a:srgbClr val="fff0a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Bachelor’s Degree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495680" y="2666880"/>
              <a:ext cx="0" cy="30456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371600" y="2971800"/>
            <a:ext cx="6705720" cy="1219320"/>
            <a:chOff x="1371600" y="2971800"/>
            <a:chExt cx="6705720" cy="1219320"/>
          </a:xfrm>
        </p:grpSpPr>
        <p:sp>
          <p:nvSpPr>
            <p:cNvPr id="123" name=""/>
            <p:cNvSpPr/>
            <p:nvPr/>
          </p:nvSpPr>
          <p:spPr>
            <a:xfrm>
              <a:off x="1371600" y="2971800"/>
              <a:ext cx="6705720" cy="838080"/>
            </a:xfrm>
            <a:prstGeom prst="rect">
              <a:avLst/>
            </a:prstGeom>
            <a:solidFill>
              <a:srgbClr val="fff0a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Graduate from  an Accredited Medical School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496040" y="3809880"/>
              <a:ext cx="0" cy="381240"/>
            </a:xfrm>
            <a:prstGeom prst="line">
              <a:avLst/>
            </a:prstGeom>
            <a:ln w="1908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828800" y="4191120"/>
            <a:ext cx="5715000" cy="1143000"/>
            <a:chOff x="1828800" y="4191120"/>
            <a:chExt cx="5715000" cy="1143000"/>
          </a:xfrm>
        </p:grpSpPr>
        <p:sp>
          <p:nvSpPr>
            <p:cNvPr id="126" name=""/>
            <p:cNvSpPr/>
            <p:nvPr/>
          </p:nvSpPr>
          <p:spPr>
            <a:xfrm>
              <a:off x="1828800" y="4191120"/>
              <a:ext cx="5715000" cy="762120"/>
            </a:xfrm>
            <a:prstGeom prst="rect">
              <a:avLst/>
            </a:prstGeom>
            <a:solidFill>
              <a:srgbClr val="fff0a0"/>
            </a:solidFill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Pass the U.S. Medical Licensing Exam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96040" y="4953240"/>
              <a:ext cx="0" cy="380880"/>
            </a:xfrm>
            <a:prstGeom prst="line">
              <a:avLst/>
            </a:prstGeom>
            <a:ln w="1908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133720" y="5334120"/>
            <a:ext cx="5181480" cy="838080"/>
          </a:xfrm>
          <a:prstGeom prst="rect">
            <a:avLst/>
          </a:prstGeom>
          <a:solidFill>
            <a:srgbClr val="fff0a0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lete 2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–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6 Years of Residency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A5B64-C77A-4CF3-BDEA-12F84D95C210}" type="slidenum">
              <a:t>5</a:t>
            </a:fld>
          </a:p>
        </p:txBody>
      </p:sp>
    </p:spTree>
  </p:cSld>
  <p:transition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Council of Ethical and Judicial Affair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EJA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evelops policy for the AMA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ddresses timely ethical issue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intains and updates 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e AMA Code of Ethic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rehensive ethics guide for physician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791320" y="2590920"/>
            <a:ext cx="289548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5027F-D11C-47F7-9333-D1843EF26A68}" type="slidenum">
              <a:t>50</a:t>
            </a:fld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6782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2092320"/>
            <a:ext cx="830592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ich of the professional organizations listed below are primarily for the role(s) of medical assistants?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387520" y="3276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87520" y="3848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387520" y="4419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387520" y="4991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00240" y="32767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MA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00960" y="388620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AMA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00600" y="441972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HA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999520" y="49528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MT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791320" y="3276720"/>
            <a:ext cx="9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SCP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794200" y="380988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AMT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793840" y="44197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CP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791320" y="4952880"/>
            <a:ext cx="9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PhA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81480" y="3276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81480" y="3848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81480" y="4419720"/>
            <a:ext cx="457200" cy="38088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81480" y="4991040"/>
            <a:ext cx="457200" cy="381240"/>
          </a:xfrm>
          <a:prstGeom prst="rect">
            <a:avLst/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467480" y="609480"/>
            <a:ext cx="882720" cy="14479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7010280" y="4876920"/>
            <a:ext cx="1752840" cy="1371600"/>
          </a:xfrm>
          <a:prstGeom prst="irregularSeal1">
            <a:avLst/>
          </a:prstGeom>
          <a:solidFill>
            <a:srgbClr val="af5fa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315200" y="518148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Right Answer!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286" name=""/>
          <p:cNvGrpSpPr/>
          <p:nvPr/>
        </p:nvGrpSpPr>
        <p:grpSpPr>
          <a:xfrm>
            <a:off x="609480" y="3581280"/>
            <a:ext cx="4952880" cy="1754280"/>
            <a:chOff x="609480" y="3581280"/>
            <a:chExt cx="4952880" cy="1754280"/>
          </a:xfrm>
        </p:grpSpPr>
        <p:grpSp>
          <p:nvGrpSpPr>
            <p:cNvPr id="287" name=""/>
            <p:cNvGrpSpPr/>
            <p:nvPr/>
          </p:nvGrpSpPr>
          <p:grpSpPr>
            <a:xfrm>
              <a:off x="2514240" y="3672000"/>
              <a:ext cx="3048120" cy="1663560"/>
              <a:chOff x="2514240" y="3672000"/>
              <a:chExt cx="3048120" cy="1663560"/>
            </a:xfrm>
          </p:grpSpPr>
          <p:sp>
            <p:nvSpPr>
              <p:cNvPr id="288" name=""/>
              <p:cNvSpPr/>
              <p:nvPr/>
            </p:nvSpPr>
            <p:spPr>
              <a:xfrm>
                <a:off x="2514240" y="3747960"/>
                <a:ext cx="28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514240" y="4815000"/>
                <a:ext cx="28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277240" y="3672000"/>
                <a:ext cx="285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33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609480" y="3581280"/>
              <a:ext cx="1447560" cy="398880"/>
            </a:xfrm>
            <a:prstGeom prst="rect">
              <a:avLst/>
            </a:prstGeom>
            <a:solidFill>
              <a:srgbClr val="fff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33"/>
                  </a:solidFill>
                  <a:uFillTx/>
                  <a:latin typeface="Times New Roman"/>
                </a:rPr>
                <a:t>ANSWER: </a:t>
              </a:r>
              <a:endParaRPr b="0" lang="en-US" sz="20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E0D85-7376-44D0-83AF-1A19F3550FCE}" type="slidenum">
              <a:t>51</a:t>
            </a:fld>
          </a:p>
        </p:txBody>
      </p:sp>
    </p:spTree>
  </p:cSld>
  <p:transition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043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areer options for medical assistant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ffices of specialists and subspecialist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pecialty career option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rofessional organiza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formation about issues and activiti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edical assisting fiel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cialty or subspecialty of employ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af5fa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nefits to memb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09206-9B2A-4654-8921-293E4D2A1813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990720" y="4191120"/>
            <a:ext cx="2743200" cy="19382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2209680" y="1066680"/>
            <a:ext cx="434340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2</a:t>
            </a:r>
            <a:endParaRPr b="0" lang="en-US" sz="4400" spc="1" strike="noStrike">
              <a:ln w="0">
                <a:noFill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" y="2590920"/>
            <a:ext cx="7848720" cy="21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ey go the extra mile. They give their hearts, and lead with great minds</a:t>
            </a:r>
            <a:r>
              <a:rPr b="0" lang="en-US" sz="4000" spc="-1" strike="noStrike">
                <a:solidFill>
                  <a:srgbClr val="000033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—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haron Hudacek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From </a:t>
            </a:r>
            <a:r>
              <a:rPr b="0" i="1" lang="en-US" sz="1600" spc="-1" strike="noStrike">
                <a:solidFill>
                  <a:srgbClr val="000033"/>
                </a:solidFill>
                <a:latin typeface="Times New Roman"/>
              </a:rPr>
              <a:t>A Daybook for Nurses: Making a Difference Each Day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FBF6-04E3-4B9E-8F01-0DB6A6430617}" type="slidenum">
              <a:t>53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828800"/>
          <a:ext cx="8381880" cy="4003560"/>
        </p:xfrm>
        <a:graphic>
          <a:graphicData uri="http://schemas.openxmlformats.org/drawingml/2006/table">
            <a:tbl>
              <a:tblPr/>
              <a:tblGrid>
                <a:gridCol w="2514600"/>
                <a:gridCol w="5867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241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ff"/>
                          </a:solidFill>
                          <a:latin typeface="Times New Roman"/>
                        </a:rPr>
                        <a:t>Family Practic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dical doctors that treat all conditions and ag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group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lso called general practitioners or primary car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physicians by insurance companie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Refers patients to specialists for specific diseases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quiring specialized car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6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ller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people with hypersensitivity to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ubstances such as drugs, chemicals, and elements in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nature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693EB-3275-4596-8137-D1675871F26A}" type="slidenum">
              <a:t>6</a:t>
            </a:fld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57200" y="1828800"/>
          <a:ext cx="8381880" cy="3860640"/>
        </p:xfrm>
        <a:graphic>
          <a:graphicData uri="http://schemas.openxmlformats.org/drawingml/2006/table">
            <a:tbl>
              <a:tblPr/>
              <a:tblGrid>
                <a:gridCol w="2514600"/>
                <a:gridCol w="58672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Anesthesi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Administers medications that alter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ensation and feelings during surger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8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Bariatric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dical and surgical treatment of obesity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Cardi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rt and blood vessel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Dermat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 skin,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air, and nail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2FE8E-6207-4795-822D-4A94994CEEB8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828800"/>
          <a:ext cx="8305920" cy="4089240"/>
        </p:xfrm>
        <a:graphic>
          <a:graphicData uri="http://schemas.openxmlformats.org/drawingml/2006/table">
            <a:tbl>
              <a:tblPr/>
              <a:tblGrid>
                <a:gridCol w="2490840"/>
                <a:gridCol w="581508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Doctor of Osteopath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ses eyes and hands to identify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structural problems and promote natural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healing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Emergency Medicine Physician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Works in hospital emergency room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medical crises and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accident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Endocrin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orders of the 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endocrine system, which regulates many</a:t>
                      </a:r>
                      <a:br>
                        <a:rPr sz="2000"/>
                      </a:br>
                      <a:r>
                        <a:rPr b="0" lang="en-US" sz="20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body functions</a:t>
                      </a:r>
                      <a:endParaRPr b="0" lang="en-US" sz="20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C0569-A32A-4F71-A37B-0A8C04CA6434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edical Specialist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828800"/>
          <a:ext cx="8381520" cy="3862440"/>
        </p:xfrm>
        <a:graphic>
          <a:graphicData uri="http://schemas.openxmlformats.org/drawingml/2006/table">
            <a:tbl>
              <a:tblPr/>
              <a:tblGrid>
                <a:gridCol w="2691000"/>
                <a:gridCol w="5690520"/>
              </a:tblGrid>
              <a:tr h="560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pecialist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nction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astroenter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orders related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the stomach, intestines, and other orga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eront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problems and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diseases affecting older adult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Gynecolog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diseases of the female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reproductive system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5f00e1"/>
                          </a:solidFill>
                          <a:latin typeface="Times New Roman"/>
                        </a:rPr>
                        <a:t>Internis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iagnoses and treats problems related to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 internal organ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05EAF-D158-4287-AA2A-975D97040F2B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8:29:56Z</dcterms:created>
  <dc:creator>Kathryn A. Booth RN-BSN, MS, RMA, RPT</dc:creator>
  <dc:description/>
  <dc:language>en-US</dc:language>
  <cp:lastModifiedBy>Kathryn Booth</cp:lastModifiedBy>
  <dcterms:modified xsi:type="dcterms:W3CDTF">2008-03-27T20:15:13Z</dcterms:modified>
  <cp:revision>145</cp:revision>
  <dc:subject>Medical Assisting 3e</dc:subject>
  <dc:title>Types of Medical Practice</dc:title>
</cp:coreProperties>
</file>