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media/image21.jpeg" ContentType="image/jpeg"/>
  <Override PartName="/ppt/media/image20.png" ContentType="image/png"/>
  <Override PartName="/ppt/media/image19.wmf" ContentType="image/x-wmf"/>
  <Override PartName="/ppt/media/image9.jpeg" ContentType="image/jpeg"/>
  <Override PartName="/ppt/media/image4.jpeg" ContentType="image/jpeg"/>
  <Override PartName="/ppt/media/image2.png" ContentType="image/png"/>
  <Override PartName="/ppt/media/image17.wmf" ContentType="image/x-wmf"/>
  <Override PartName="/ppt/media/image14.jpeg" ContentType="image/jpeg"/>
  <Override PartName="/ppt/media/image16.wmf" ContentType="image/x-wmf"/>
  <Override PartName="/ppt/media/image13.jpeg" ContentType="image/jpeg"/>
  <Override PartName="/ppt/media/image3.wmf" ContentType="image/x-wmf"/>
  <Override PartName="/ppt/media/image15.wmf" ContentType="image/x-wmf"/>
  <Override PartName="/ppt/media/image1.jpeg" ContentType="image/jpeg"/>
  <Override PartName="/ppt/media/j0214098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D98C-DE5F-4C56-8A60-9222C0272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FA32-64DF-44D7-BDDC-14095AA7D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EBFF-B008-4BCB-94FC-726F52B04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83DC-C453-48FA-AFA0-AA92B69C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0CB-9EBA-4C70-8CFD-1909AE28F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B05C-1D4D-4787-B697-3DF57AC7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EFD8-ECE4-4592-A32B-6D98C1972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7A62-5F08-4075-9DC0-EC85796B88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DAEB-5E60-4A07-BBE7-77E56A411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FBBA-9102-434E-B7F0-F9AB716EF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0855A-744E-4D14-B168-F2BE29B3F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1002-AD86-4545-AFA9-86D12D15AA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B088-FE74-400F-8F39-ABF5A2EF2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7726-4F37-4E9E-ACB8-7E0ADF54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8E4-41A5-410E-B4DB-6D38E60F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E692-401A-4BDD-9ABF-C06A1B7C5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4F98-A736-4DC0-B89E-A0EEAEE0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4B8C-C87E-4491-A571-0A066C1E4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9497-DA3A-495F-95EC-8C99D330B2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7644-5254-49E3-8921-C32D604FF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D663-6D14-47B9-8C8C-9629948F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E3106-840C-4E32-8C75-A7E7542D5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65C3-1396-4EC7-B046-F0EF2B0A2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A5FB-4AD8-4821-B768-2C66C1D1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3448F-5C21-46A4-AFB9-19F3C3C68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EEF9-3D27-4649-B69E-1FDF077E4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B2D7-42D1-404F-9944-62A580E97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77EF-8216-42E8-A195-D29689F6D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2FAF-44A6-4D28-90E6-11AC1410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B0A8-FEBE-47D8-81A1-50D0FB01D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B43B-91B1-471B-80C8-30460FBCD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6F141-732C-4CBC-B169-E48B529F4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B4A5A-B3D4-40AF-82C6-4AD87EA7B7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896B-C1DC-4FF0-8AEB-E1D48C1D4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9B0E-D52E-4061-92C2-49472EA5A4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C6E7-DAD9-4290-ABBC-249294905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8D84-B6F4-42DE-A347-D02829551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777CD-CE2E-4348-9731-B9FF82504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780-2770-405D-9B44-B72E4640F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302E-66B0-4A68-85D6-E1A474C98B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5617-EA6F-41F1-80E6-29E643628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FA0-D855-4840-9694-B3B9BC280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289CF-720B-45CB-B69A-24092D92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91C27-9E1F-4514-8BCE-E78F384D3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2CB55-BB34-4E52-8AEE-91601B0701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593C-3E43-4C1C-9325-16762B8F0B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16CA4-11DF-4131-917F-0BD2E800B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F9A58-1CD5-4C21-9CDE-B396F5808A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FC58A-57BF-4B13-9F73-D02DED4C82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8BA17-AE69-44AB-BF7B-F43A8F880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06A78-171F-425F-8FFD-96A64FE8D5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37B58-E5D2-4BF2-B54D-DABD42220D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C7843-DC02-417A-8C60-ABAF06A63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42640" y="-360"/>
            <a:ext cx="779292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9CDB-4719-4CFC-8675-453BD9CDD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1E9C-FF57-4B92-ABA6-5BFF4B976C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B9552-775E-45F8-9265-E3848932DE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4F371-4478-40BE-9149-C550C95A4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7200" y="914400"/>
            <a:ext cx="438120" cy="474840"/>
          </a:xfrm>
          <a:prstGeom prst="rect">
            <a:avLst/>
          </a:prstGeom>
          <a:solidFill>
            <a:srgbClr val="ffd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38080" y="914400"/>
            <a:ext cx="328680" cy="4748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129528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38080" y="1295280"/>
            <a:ext cx="368280" cy="47484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228600" y="1219320"/>
            <a:ext cx="560520" cy="422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7621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57200" y="1523880"/>
            <a:ext cx="8226360" cy="3204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6A858F-0634-4068-AEED-DEAFE89022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4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" name="Text Box 17"/>
          <p:cNvSpPr/>
          <p:nvPr/>
        </p:nvSpPr>
        <p:spPr>
          <a:xfrm>
            <a:off x="0" y="65833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da3b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j0214098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audio" Target="../media/j0214098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9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1</a:t>
            </a:r>
            <a:endParaRPr b="1" lang="en-US" sz="40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ext Box 22"/>
          <p:cNvSpPr/>
          <p:nvPr/>
        </p:nvSpPr>
        <p:spPr>
          <a:xfrm>
            <a:off x="533520" y="2438280"/>
            <a:ext cx="8305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The Profession of Medical Assisting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5"/>
          <p:cNvSpPr/>
          <p:nvPr/>
        </p:nvSpPr>
        <p:spPr>
          <a:xfrm>
            <a:off x="8229600" y="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-1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EC5CF47-9585-42C7-A3B8-92BE66990B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islative monitor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2784240"/>
            <a:ext cx="403848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discou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oup insur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ual national conven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ing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7467480" y="914400"/>
            <a:ext cx="1295640" cy="1295280"/>
          </a:xfrm>
          <a:prstGeom prst="plus">
            <a:avLst>
              <a:gd name="adj" fmla="val 25000"/>
            </a:avLst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762120" y="1752480"/>
            <a:ext cx="67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rves the needs of medical assistants by provi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3C87225-F3F0-4B11-B975-A4CBD5416F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2"/>
          <p:cNvSpPr/>
          <p:nvPr/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762120" y="1828800"/>
            <a:ext cx="8001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Code of Ethic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9246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de of Ethics of AAMA sets forth principles of ethical and moral conduct as they relate to the medical profession and the particular practice of Medical Assis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of AAMA are dedicated to the conscientious pursuit of their profes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07BDEF5-91D8-4FC3-971F-866D15BB16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698040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four ways the AAMA serves the needs of the medical assista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609480" y="3048120"/>
            <a:ext cx="8229600" cy="33199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AAMA serves the needs of the medical assistant by providing the following servic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cation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ccredi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ertifi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er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tinuing Educa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gislative Monito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ember Discount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roup Insuran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ual National Conventio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etworking Opportuniti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6934320" y="3352680"/>
            <a:ext cx="1904760" cy="1600200"/>
          </a:xfrm>
          <a:prstGeom prst="pie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391520" y="3886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ood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2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j0299125"/>
          <p:cNvPicPr/>
          <p:nvPr/>
        </p:nvPicPr>
        <p:blipFill>
          <a:blip r:embed="rId2"/>
          <a:stretch/>
        </p:blipFill>
        <p:spPr>
          <a:xfrm>
            <a:off x="7543800" y="0"/>
            <a:ext cx="974880" cy="16002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4716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9C0553A-9396-4329-A5FD-432A727316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Credential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l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ing credentialed personnel or staff will lessen the likelihood of legal challenges of the quality of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d Care Organizations (M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 great importance in credentials for employe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15DAC1A-3C41-4E20-8DED-32284DFBCB1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ertifi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4462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MA credential is awarded by the Certifying Board of the A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ination evaluates mastery of medical assisting competenc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47" descr="chap01_namepin"/>
          <p:cNvPicPr/>
          <p:nvPr/>
        </p:nvPicPr>
        <p:blipFill>
          <a:blip r:embed="rId1">
            <a:lum bright="20000"/>
          </a:blip>
          <a:srcRect l="10819" t="16036" r="52398" b="15324"/>
          <a:stretch/>
        </p:blipFill>
        <p:spPr>
          <a:xfrm>
            <a:off x="6553080" y="1828800"/>
            <a:ext cx="1752840" cy="22068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1120" y="4343040"/>
            <a:ext cx="381492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rtify ever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D51836B-2F69-49F9-8A53-157438D944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egistered Medical Assistan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ential is given b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n Medic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ists (AM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ification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74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ducational and experiential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school graduate or acceptable equival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uate from accredited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ss the AMT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47" descr="chap01_namepin"/>
          <p:cNvPicPr/>
          <p:nvPr/>
        </p:nvPicPr>
        <p:blipFill>
          <a:blip r:embed="rId1">
            <a:lum bright="20000"/>
          </a:blip>
          <a:srcRect l="41119" t="0" r="9111" b="7011"/>
          <a:stretch/>
        </p:blipFill>
        <p:spPr>
          <a:xfrm>
            <a:off x="6705720" y="182880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4544B0-A035-480D-BF7C-15C8C24B3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968120"/>
            <a:ext cx="381492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med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tomy and physi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al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12"/>
          <p:cNvSpPr txBox="1"/>
          <p:nvPr/>
        </p:nvSpPr>
        <p:spPr>
          <a:xfrm>
            <a:off x="5486400" y="2590920"/>
            <a:ext cx="19335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hematolog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0" name="WordArt 13"/>
          <p:cNvSpPr txBox="1"/>
          <p:nvPr/>
        </p:nvSpPr>
        <p:spPr>
          <a:xfrm rot="20258400">
            <a:off x="4782600" y="3654000"/>
            <a:ext cx="971640" cy="83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806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CBC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806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1" name="WordArt 14"/>
          <p:cNvSpPr txBox="1"/>
          <p:nvPr/>
        </p:nvSpPr>
        <p:spPr>
          <a:xfrm>
            <a:off x="5334120" y="5486400"/>
            <a:ext cx="2152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ypertension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" name="WordArt 15"/>
          <p:cNvSpPr txBox="1"/>
          <p:nvPr/>
        </p:nvSpPr>
        <p:spPr>
          <a:xfrm>
            <a:off x="6095880" y="4114800"/>
            <a:ext cx="22384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e4a8"/>
                    </a:gs>
                    <a:gs pos="100000">
                      <a:srgbClr val="ffcf01"/>
                    </a:gs>
                  </a:gsLst>
                  <a:lin ang="5400000"/>
                </a:gradFill>
                <a:latin typeface="Impact"/>
              </a:rPr>
              <a:t>intraderm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e4a8"/>
                  </a:gs>
                  <a:gs pos="100000">
                    <a:srgbClr val="ffcf01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7238880" y="3124080"/>
            <a:ext cx="1247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R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wipe dir="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50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500" autoRev="1" fill="hold"/>
                                        <p:tgtEl>
                                          <p:spTgt spid="1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5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500"/>
                            </p:stCondLst>
                            <p:childTnLst>
                              <p:par>
                                <p:cTn id="172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500" autoRev="1" fill="hold"/>
                                        <p:tgtEl>
                                          <p:spTgt spid="1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6000"/>
                            </p:stCondLst>
                            <p:childTnLst>
                              <p:par>
                                <p:cTn id="176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500" autoRev="1" fill="hold"/>
                                        <p:tgtEl>
                                          <p:spTgt spid="1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B5AAF9-6F93-44E3-900A-85B0C40F35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dical Assistant Associ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standards for quality and performanc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rof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 tasks and functions for an occup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opportunities for member networ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rther the profession and assist members to achieve career go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79A2E2B-8723-453D-96F4-2112181BD3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ember Benefit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(C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islative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T (R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pub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T Institute for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al opportu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up insu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 memb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B7B9436-3488-423E-A7E6-5BB2AFF27A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RMA/CMA Examin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record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PA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3733920"/>
            <a:ext cx="403848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room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paration and adminis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men colle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MCj02902720000[1]"/>
          <p:cNvPicPr/>
          <p:nvPr/>
        </p:nvPicPr>
        <p:blipFill>
          <a:blip r:embed="rId1"/>
          <a:stretch/>
        </p:blipFill>
        <p:spPr>
          <a:xfrm>
            <a:off x="5816520" y="1749600"/>
            <a:ext cx="1649520" cy="1660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1" descr="j0404233"/>
          <p:cNvPicPr/>
          <p:nvPr/>
        </p:nvPicPr>
        <p:blipFill>
          <a:blip r:embed="rId2"/>
          <a:stretch/>
        </p:blipFill>
        <p:spPr>
          <a:xfrm>
            <a:off x="2514600" y="4267080"/>
            <a:ext cx="1593720" cy="1905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06EFACE-F84A-446A-9188-5F450799FD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762120" y="1981080"/>
            <a:ext cx="8001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1  Describe the job responsibilities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  Discuss the professional training of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3  Identify the personal characteristics a medica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sistant nee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4  Define multiskilled health profession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14440" indent="-5144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9DDBCF-041C-47F3-9B4C-365839EB6F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066680" y="1895400"/>
            <a:ext cx="719640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two reasons why credentialing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mporta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57200" y="3352680"/>
            <a:ext cx="8229600" cy="155700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likelihood of a legal challenge to quality of care decreases when employees are certified, and Managed Care Organizations place importance on credentials for employe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AutoShape 7"/>
          <p:cNvSpPr/>
          <p:nvPr/>
        </p:nvSpPr>
        <p:spPr>
          <a:xfrm>
            <a:off x="5943600" y="5029200"/>
            <a:ext cx="2438280" cy="1219320"/>
          </a:xfrm>
          <a:custGeom>
            <a:avLst/>
            <a:gdLst>
              <a:gd name="textAreaLeft" fmla="*/ 0 w 2438280"/>
              <a:gd name="textAreaRight" fmla="*/ 2438640 w 2438280"/>
              <a:gd name="textAreaTop" fmla="*/ 158040 h 1219320"/>
              <a:gd name="textAreaBottom" fmla="*/ 10612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095880" y="53341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RAVO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j0074662.wav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j0299125"/>
          <p:cNvPicPr/>
          <p:nvPr/>
        </p:nvPicPr>
        <p:blipFill>
          <a:blip r:embed="rId2"/>
          <a:stretch/>
        </p:blipFill>
        <p:spPr>
          <a:xfrm>
            <a:off x="7391520" y="22860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" dur="28938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B4D2A77-74FB-445B-926C-8A5ADC8C20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895400"/>
            <a:ext cx="8229600" cy="12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hree things professional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assistant associations do or prov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j0299125"/>
          <p:cNvPicPr/>
          <p:nvPr/>
        </p:nvPicPr>
        <p:blipFill>
          <a:blip r:embed="rId1"/>
          <a:stretch/>
        </p:blipFill>
        <p:spPr>
          <a:xfrm>
            <a:off x="6705720" y="228600"/>
            <a:ext cx="774720" cy="12715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2"/>
          <p:cNvSpPr/>
          <p:nvPr/>
        </p:nvSpPr>
        <p:spPr>
          <a:xfrm>
            <a:off x="609480" y="3352680"/>
            <a:ext cx="8229600" cy="25012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Medical Assistant Association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t standards for quality and performance for th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prof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fine tasks and functions for an occu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vide opportunities for member networ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ssist members to achieve career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AutoShape 13"/>
          <p:cNvSpPr/>
          <p:nvPr/>
        </p:nvSpPr>
        <p:spPr>
          <a:xfrm>
            <a:off x="7543800" y="1676520"/>
            <a:ext cx="1600200" cy="533160"/>
          </a:xfrm>
          <a:prstGeom prst="wedgeRoundRectCallout">
            <a:avLst>
              <a:gd name="adj1" fmla="val -67856"/>
              <a:gd name="adj2" fmla="val -122620"/>
              <a:gd name="adj3" fmla="val 16667"/>
            </a:avLst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14"/>
          <p:cNvSpPr/>
          <p:nvPr/>
        </p:nvSpPr>
        <p:spPr>
          <a:xfrm>
            <a:off x="7696080" y="1676520"/>
            <a:ext cx="1219320" cy="4597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7EC59B6-003D-45E6-9F65-D756105FF3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a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 by which program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officially authoriz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recognized entities f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ing MA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AHE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editation ensures that the program meets nationally accepted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9" descr="chap01_lookatmagazine"/>
          <p:cNvPicPr/>
          <p:nvPr/>
        </p:nvPicPr>
        <p:blipFill>
          <a:blip r:embed="rId1"/>
          <a:stretch/>
        </p:blipFill>
        <p:spPr>
          <a:xfrm>
            <a:off x="5257800" y="198108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9CE24A4-B85E-4F93-A2FC-B2F13B750A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ccredited Program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eater career o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ion of a program tha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s national standard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recognition of your edu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y professional pe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s you eligible for reg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5" descr="MPj04011210000[1]"/>
          <p:cNvPicPr/>
          <p:nvPr/>
        </p:nvPicPr>
        <p:blipFill>
          <a:blip r:embed="rId1"/>
          <a:stretch/>
        </p:blipFill>
        <p:spPr>
          <a:xfrm>
            <a:off x="7256520" y="1749600"/>
            <a:ext cx="1552680" cy="1966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B29AFCB-84EE-45E6-A1E0-C9EE1F0346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Externship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tain practical work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uties will be plann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eet your program’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ers you the opportunity to acquire a good re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066680" y="4300200"/>
            <a:ext cx="770112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7" descr="computer"/>
          <p:cNvPicPr/>
          <p:nvPr/>
        </p:nvPicPr>
        <p:blipFill>
          <a:blip r:embed="rId1"/>
          <a:stretch/>
        </p:blipFill>
        <p:spPr>
          <a:xfrm>
            <a:off x="5943600" y="2514600"/>
            <a:ext cx="2651040" cy="1752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BB8CF3F-45FF-46E3-A5A4-6CAE39AE29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National Healthcare Associa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rtification exams for other health-care occupations, such as phlebotomy and ECG technic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, career advancement, and networking services for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5444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ry of certified profess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76C885E-CBF8-41FE-AC64-3F78805B85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Volunteer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6405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 in a variety of se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ctical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lp you make caree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lude on résum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12" descr="MCj02975830000[1]"/>
          <p:cNvPicPr/>
          <p:nvPr/>
        </p:nvPicPr>
        <p:blipFill>
          <a:blip r:embed="rId1"/>
          <a:stretch/>
        </p:blipFill>
        <p:spPr>
          <a:xfrm>
            <a:off x="6019920" y="2819520"/>
            <a:ext cx="1890720" cy="259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53C3F02-EECE-41E2-BFD1-BF610011BF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Multiskill Train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health care co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nel are cross-trained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 one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ands your career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fice 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tified Office Laboratory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lab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G technic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bi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pital admission coord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24" descr="MCj03980190000[1]"/>
          <p:cNvPicPr/>
          <p:nvPr/>
        </p:nvPicPr>
        <p:blipFill>
          <a:blip r:embed="rId1"/>
          <a:stretch/>
        </p:blipFill>
        <p:spPr>
          <a:xfrm>
            <a:off x="6708600" y="1749600"/>
            <a:ext cx="1711440" cy="17492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1286A03-01D6-4637-A111-7E6B0DC938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38088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urpose of accreditation for medical assistant progra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 two advantages of multiskill train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9" name="Picture 8" descr="j0299125"/>
          <p:cNvPicPr/>
          <p:nvPr/>
        </p:nvPicPr>
        <p:blipFill>
          <a:blip r:embed="rId1"/>
          <a:stretch/>
        </p:blipFill>
        <p:spPr>
          <a:xfrm>
            <a:off x="7586640" y="22860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9"/>
          <p:cNvSpPr/>
          <p:nvPr/>
        </p:nvSpPr>
        <p:spPr>
          <a:xfrm>
            <a:off x="457200" y="3048120"/>
            <a:ext cx="800100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Accreditation ensures that the program meets nationally accepted standard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Text Box 10"/>
          <p:cNvSpPr/>
          <p:nvPr/>
        </p:nvSpPr>
        <p:spPr>
          <a:xfrm>
            <a:off x="457200" y="4876920"/>
            <a:ext cx="7924680" cy="947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Multiskill training reduces healthcare costs and expands your career opportuniti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6705720" y="5410080"/>
            <a:ext cx="1600200" cy="1219320"/>
          </a:xfrm>
          <a:prstGeom prst="irregularSeal1">
            <a:avLst/>
          </a:prstGeom>
          <a:solidFill>
            <a:srgbClr val="ffda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6934320" y="57150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000"/>
                            </p:stCondLst>
                            <p:childTnLst>
                              <p:par>
                                <p:cTn id="40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8847D8-BE08-44A2-9A77-379C5D9B2D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 – 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54380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, laboratory, and clinical duties are all part of the duties of a medical assis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t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ing correspo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appoint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swering tele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ng and maintaining patient medica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0BE5B3D-3F17-45D7-B4B3-D5321CB558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819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5  Explain the importance of continuing education for a medical 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6  Describe the process and benefits of certification and registr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  List the benefits of becoming a member of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 associ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40D5C6C-5BB0-46D4-9840-1FFFD2E05F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aily Duties of MAs: </a:t>
            </a:r>
            <a:r>
              <a:rPr b="0" i="1" lang="en-US" sz="3200" spc="-1" strike="noStrike">
                <a:solidFill>
                  <a:srgbClr val="333399"/>
                </a:solidFill>
                <a:latin typeface="Times New Roman"/>
              </a:rPr>
              <a:t>Entry Level</a:t>
            </a: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30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tests such as a urine pregnancy test on the prem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ng, preparing, and transmitting laboratory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 patients to collect speci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024520" y="19051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isting the doctor during exa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epsis and infection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ing med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EC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treatments to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8580863-D2D6-493C-91A3-39245FEB78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Duti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ting an IV and administering med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orting tes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ng as a patient advoc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as an OSHA compliance offic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ing more complex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0">
              <a:lnSpc>
                <a:spcPts val="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CDB95DC-E1C1-4DAC-88AB-5B125B58504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ersonal Qualification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ical thinking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tention to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ath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ingness to lea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lf-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2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al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2060" descr="chap01_professional"/>
          <p:cNvPicPr/>
          <p:nvPr/>
        </p:nvPicPr>
        <p:blipFill>
          <a:blip r:embed="rId1"/>
          <a:stretch/>
        </p:blipFill>
        <p:spPr>
          <a:xfrm>
            <a:off x="5029200" y="1981080"/>
            <a:ext cx="3759120" cy="2819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C991BDB-1134-41E5-909C-ED6CBD0511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earance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67652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 clean and 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s comfortable, clean, and wh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irstyle clean and pulled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ils short, pale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 acrylic nai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24520" y="167652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um of jewel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337200" cy="3429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D0308A1-AA27-4131-B8CB-44C3938FA0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0010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tive and ca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d to criticism as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exper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direction from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hority without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tion as a vital member of a medical t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9" descr="MCj02975230000[1]"/>
          <p:cNvPicPr/>
          <p:nvPr/>
        </p:nvPicPr>
        <p:blipFill>
          <a:blip r:embed="rId1"/>
          <a:stretch/>
        </p:blipFill>
        <p:spPr>
          <a:xfrm>
            <a:off x="6153120" y="1968480"/>
            <a:ext cx="2644920" cy="2841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6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0A3B327-6912-4A96-BCFD-C4EC474D6C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hange Your Attitud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32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 can answer “yes” to an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se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repeated conflicts with peop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I had a conflict at work that has resulted in termin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I have conflicts with authority figu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people make comments about my attitu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7" descr="MCj02934900000[1]"/>
          <p:cNvPicPr/>
          <p:nvPr/>
        </p:nvPicPr>
        <p:blipFill>
          <a:blip r:embed="rId1"/>
          <a:stretch/>
        </p:blipFill>
        <p:spPr>
          <a:xfrm>
            <a:off x="6477120" y="457200"/>
            <a:ext cx="2441520" cy="1504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3F8B2A0-163D-4E21-9C06-59C971791E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egrity and Honest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1532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you do and every task you complete should be performed with a goal of excel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grity and honesty are key in providing superior customer service to your pati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office staff and physician must be able to trust you and the decisions you mak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9F74734-262D-4E55-992E-66DA680523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Other Attribut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41907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plom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 ju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unication ski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aining calm in a cr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ical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bd05503_"/>
          <p:cNvPicPr/>
          <p:nvPr/>
        </p:nvPicPr>
        <p:blipFill>
          <a:blip r:embed="rId1"/>
          <a:stretch/>
        </p:blipFill>
        <p:spPr>
          <a:xfrm>
            <a:off x="5029200" y="2590920"/>
            <a:ext cx="3568680" cy="3403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D85AA0-8C07-43C4-81A6-D84BF898E9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Working As a Team Member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am dynam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st each other with required du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interpersonal conflict with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 extra responsibilities without questioning or compl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9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considerate of other team members’ duties and responsib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0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DAB0EC5-347A-40BA-B59C-B88B8853B7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AMA Role Delineation Stud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657240" y="1828800"/>
            <a:ext cx="5181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competence for entry-level medical assist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s Delineation Chart found in Appendix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the basis for medical assisting education and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are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inist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1" descr="bd20072_"/>
          <p:cNvPicPr/>
          <p:nvPr/>
        </p:nvPicPr>
        <p:blipFill>
          <a:blip r:embed="rId1"/>
          <a:stretch/>
        </p:blipFill>
        <p:spPr>
          <a:xfrm>
            <a:off x="533520" y="2133720"/>
            <a:ext cx="3136680" cy="3497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5107FBE-2065-48C0-9399-A1FEBE73F5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 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-growing occu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one trained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departments of the fac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4246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uate of accredited instit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tasking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33520" y="5181480"/>
            <a:ext cx="8305560" cy="825480"/>
          </a:xfrm>
          <a:prstGeom prst="rect">
            <a:avLst/>
          </a:prstGeom>
          <a:solidFill>
            <a:srgbClr val="ffd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ultitasking professional is someone who is able to work in the administrative area, the clinical areas, and the financial are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5707FEB-4B84-4349-8B42-45049BA1F6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Scope of Practic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0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t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ion’s scope of practice (AA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r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of pract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licies of the organization or facility where you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4" descr="MCj03269600000[1]"/>
          <p:cNvPicPr/>
          <p:nvPr/>
        </p:nvPicPr>
        <p:blipFill>
          <a:blip r:embed="rId1"/>
          <a:stretch/>
        </p:blipFill>
        <p:spPr>
          <a:xfrm>
            <a:off x="6019920" y="380880"/>
            <a:ext cx="2666880" cy="177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A5302A-A904-4360-8262-F68FB38262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7628040" cy="102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any four personal qualifications you shoul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to be an effective medical assi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j0299125"/>
          <p:cNvPicPr/>
          <p:nvPr/>
        </p:nvPicPr>
        <p:blipFill>
          <a:blip r:embed="rId1"/>
          <a:stretch/>
        </p:blipFill>
        <p:spPr>
          <a:xfrm>
            <a:off x="7696080" y="228600"/>
            <a:ext cx="820800" cy="134784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6"/>
          <p:cNvSpPr/>
          <p:nvPr/>
        </p:nvSpPr>
        <p:spPr>
          <a:xfrm>
            <a:off x="533520" y="2895480"/>
            <a:ext cx="8153280" cy="22885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List any four of these personal qualifications that medical assistants should displa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itical thinking skills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mpath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illingness to lea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exibil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lf motiv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fessional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AutoShape 7"/>
          <p:cNvSpPr/>
          <p:nvPr/>
        </p:nvSpPr>
        <p:spPr>
          <a:xfrm>
            <a:off x="5562720" y="5334120"/>
            <a:ext cx="2514600" cy="761760"/>
          </a:xfrm>
          <a:prstGeom prst="flowChartPreparation">
            <a:avLst/>
          </a:prstGeom>
          <a:solidFill>
            <a:srgbClr val="5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ood Answer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6" name="Picture 8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j021409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612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52C0870-42A6-49EF-800D-3CB33C908E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01120" cy="87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should you take action to chang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our attitu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32"/>
          <p:cNvSpPr/>
          <p:nvPr/>
        </p:nvSpPr>
        <p:spPr>
          <a:xfrm>
            <a:off x="685800" y="2895480"/>
            <a:ext cx="7696080" cy="26906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you can answer “yes” to any of the following ques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repeated conflicts with peop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I had a conflict at work that has resulted i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ermina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I have conflicts with authority figure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 people make comments about my attitud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AutoShape 1035"/>
          <p:cNvSpPr/>
          <p:nvPr/>
        </p:nvSpPr>
        <p:spPr>
          <a:xfrm>
            <a:off x="2057400" y="5638680"/>
            <a:ext cx="1371600" cy="990720"/>
          </a:xfrm>
          <a:prstGeom prst="flowChartPunchedTap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2" name="Picture 1041" descr="j0299125"/>
          <p:cNvPicPr/>
          <p:nvPr/>
        </p:nvPicPr>
        <p:blipFill>
          <a:blip r:embed="rId1"/>
          <a:stretch/>
        </p:blipFill>
        <p:spPr>
          <a:xfrm>
            <a:off x="7315200" y="228600"/>
            <a:ext cx="696960" cy="11430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42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3584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1FB5E0-5387-4E78-A1D4-B085EB6A54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95280" y="762120"/>
            <a:ext cx="731520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6" name="Text Box 2051"/>
          <p:cNvSpPr/>
          <p:nvPr/>
        </p:nvSpPr>
        <p:spPr>
          <a:xfrm>
            <a:off x="1676520" y="1981080"/>
            <a:ext cx="5562360" cy="764280"/>
          </a:xfrm>
          <a:prstGeom prst="rect">
            <a:avLst/>
          </a:prstGeom>
          <a:noFill/>
          <a:ln cap="rnd" w="57240">
            <a:solidFill>
              <a:srgbClr val="1c1c1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al Assistan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2052"/>
          <p:cNvSpPr/>
          <p:nvPr/>
        </p:nvSpPr>
        <p:spPr>
          <a:xfrm flipH="1">
            <a:off x="3962160" y="35053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2053"/>
          <p:cNvSpPr/>
          <p:nvPr/>
        </p:nvSpPr>
        <p:spPr>
          <a:xfrm>
            <a:off x="609480" y="4419720"/>
            <a:ext cx="365760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kills and duties according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AMA Role Delineation Ch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Line 2055"/>
          <p:cNvSpPr/>
          <p:nvPr/>
        </p:nvSpPr>
        <p:spPr>
          <a:xfrm>
            <a:off x="4572000" y="3581280"/>
            <a:ext cx="83808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Text Box 2056"/>
          <p:cNvSpPr/>
          <p:nvPr/>
        </p:nvSpPr>
        <p:spPr>
          <a:xfrm>
            <a:off x="4800600" y="4419720"/>
            <a:ext cx="3809880" cy="18003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y abreast of changes in technology, procedures, and regu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Text Box 2058"/>
          <p:cNvSpPr/>
          <p:nvPr/>
        </p:nvSpPr>
        <p:spPr>
          <a:xfrm>
            <a:off x="838080" y="3124080"/>
            <a:ext cx="7543800" cy="52056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 on-the-job versus training progra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A7A05C-6116-40AA-8CA9-6D76CE57C8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WordArt 2"/>
          <p:cNvSpPr txBox="1"/>
          <p:nvPr/>
        </p:nvSpPr>
        <p:spPr>
          <a:xfrm>
            <a:off x="2666880" y="685800"/>
            <a:ext cx="3962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1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End of Chapter</a:t>
            </a:r>
            <a:br>
              <a:rPr sz="800"/>
            </a:br>
            <a:endParaRPr b="0" lang="en-US" sz="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305" name="Picture 4" descr="chap01_end"/>
          <p:cNvPicPr/>
          <p:nvPr/>
        </p:nvPicPr>
        <p:blipFill>
          <a:blip r:embed="rId1"/>
          <a:stretch/>
        </p:blipFill>
        <p:spPr>
          <a:xfrm>
            <a:off x="533520" y="2057400"/>
            <a:ext cx="2206440" cy="331632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971800" y="2514600"/>
            <a:ext cx="5715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cipating in any aspect of healing is an awe-inspiring experi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ol Jackson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The Healer’s 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4E45DC-19E1-446A-B8A7-7D9E3AE20B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Growth of the MA Profess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8702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ording to U.S. Department of Labor - Bureau of Statistics, medical assistants held 365,000 jobs in 200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 in physicians’ off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 % in hospi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in nursing homes and offices of other health-care practitio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2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inder in outpatient care centers, laboratories, and other health-care-rela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4C64E19-26CF-4DBE-8CB6-C517E27C6B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784836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ministrative and clinical skil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insurance product 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iance (OSHA, CLIA and HIPA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7B8E942-3F5A-4C83-9CB9-C8A9D36E60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SH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Safety and Health Administ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nical Laboratory Improvements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PA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 Insurance Portability and Accountability 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4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D46B2FE-A828-4E96-8EDC-69E80E111C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2640" y="61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Knowledge Base Needed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ing exceptional customer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patient treatments and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556FD6A-AFF5-41B3-B393-17A4EC0CE8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merican Association of Medical Assistants (AAMA)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648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tional Organ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pose: To raise the standard of medical assisting to a more profess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ERICAN ASSOCI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MEDICAL ASSISTAN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N. WACKER DR., Ste. 1575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CAGO, IL 60606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12) 899-15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aama-ntl.org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9" descr="chap01_attable"/>
          <p:cNvPicPr/>
          <p:nvPr/>
        </p:nvPicPr>
        <p:blipFill>
          <a:blip r:embed="rId1"/>
          <a:stretch/>
        </p:blipFill>
        <p:spPr>
          <a:xfrm>
            <a:off x="5181480" y="2743200"/>
            <a:ext cx="3633840" cy="2465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4:34Z</dcterms:modified>
  <cp:revision>203</cp:revision>
  <dc:subject>Medical Assisting 3e</dc:subject>
  <dc:title>The Profession of Medical Assisting</dc:title>
</cp:coreProperties>
</file>