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jpeg" ContentType="image/jpeg"/>
  <Override PartName="/ppt/media/image8.jpeg" ContentType="image/jpeg"/>
  <Override PartName="/ppt/media/image5.jpeg" ContentType="image/jpeg"/>
  <Override PartName="/ppt/media/image18.wmf" ContentType="image/x-wmf"/>
  <Override PartName="/ppt/media/image21.jpeg" ContentType="image/jpeg"/>
  <Override PartName="/ppt/media/image20.png" ContentType="image/png"/>
  <Override PartName="/ppt/media/image19.wmf" ContentType="image/x-wmf"/>
  <Override PartName="/ppt/media/image9.jpeg" ContentType="image/jpeg"/>
  <Override PartName="/ppt/media/image4.jpeg" ContentType="image/jpeg"/>
  <Override PartName="/ppt/media/image2.png" ContentType="image/png"/>
  <Override PartName="/ppt/media/image17.wmf" ContentType="image/x-wmf"/>
  <Override PartName="/ppt/media/image14.jpeg" ContentType="image/jpeg"/>
  <Override PartName="/ppt/media/image16.wmf" ContentType="image/x-wmf"/>
  <Override PartName="/ppt/media/image13.jpeg" ContentType="image/jpeg"/>
  <Override PartName="/ppt/media/image3.wmf" ContentType="image/x-wmf"/>
  <Override PartName="/ppt/media/image15.wmf" ContentType="image/x-wmf"/>
  <Override PartName="/ppt/media/image1.jpeg" ContentType="image/jpeg"/>
  <Override PartName="/ppt/media/j0214098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39A4-8B6B-4FAA-A31B-95B9EE65B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7034-E5C7-4097-B5C4-A324AA4C4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EDBE-6FE8-42C7-A956-482DC7E9E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D3F3-E109-4A75-AA76-5A03AFE55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639C-FC13-418A-AB94-1CD79B4AA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184C-BA32-47DE-BCB9-FEEB3B1F5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C553-9497-402E-BE25-F3813093B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2238-2B7B-4D14-978E-287FD4D4D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A44C-17B8-40E8-AD0F-91AD98A46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AD3A-F18F-4148-8DBF-4C63FDFEE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8370-7B08-48AA-95C8-23E5137FF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9269-A645-4845-BDDC-704D7D2EB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70C4-323E-48CC-B931-A7E9CA44B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9182-7852-4F43-B18C-0938E8D68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6EAE-9A77-4C41-B06C-102692166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804D-964C-4075-96D8-CB868114E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6F2B-A786-45EF-AAC8-2370CE359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8B02-9F2C-46E5-AC21-B0F7A248A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8CD1-1664-40E4-832C-5C1FB1E19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FBE9-C3C0-43A0-8304-3029A98AD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A74F-1C5D-4058-A290-0A0C8BDE4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B488-0882-434F-B7CA-90E8EB634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4D6F-AECE-4161-A32F-89946F7F0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C210-A950-4E52-B82B-3F2CCA307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8DE4-9DD4-4E7F-9181-D5D39D1E3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D8F6-3D36-46BA-9D81-57358B510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987B-963C-4951-B2D3-B9C0054BE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25E7-4F51-47DB-81C0-614713A65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7982-4A60-4268-A8B3-DE52DDBC8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1EB3-EC5E-4247-8DA2-460BD8449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4BF4-1F36-444F-A24B-863A60EF0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4960-8866-4059-8149-4EBDD244F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E04C-3B2D-47CF-9272-A362CB917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BEFE-DFEA-46ED-A480-E15479B07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D4A4-AD62-4B0E-893B-63B14D65F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FF46-5B2B-4CBC-BA54-D933B4D98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39D5-84C2-4E20-8ADA-ED6608902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C880-0617-4AE1-9A10-0096BCCF2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89D3-2960-4A63-9989-80FB9098E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8866-C29E-4437-BAB7-A9F072076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1B79-E8B1-4D73-B52A-87BC44BA8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FE67-B81F-4728-B455-32F5DB98D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F890-8E78-4D7C-951B-E60E43D1F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CEF6-471C-41E6-97F5-DDBD3FBE9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2729-B3AD-4280-9B35-6FF782CFB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29C1-9DC1-4B54-9151-CFC69A380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80BA-1B8E-4435-A9AA-2C5D7B4B5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8779-CE70-4E4B-9D99-DE9C2CCAC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97B0-DE31-42AB-88F8-297D5D21B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80DB-CD33-4402-897B-3F7E5E142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6D4E-8350-4BAD-842C-AC4376C21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52FD-05BE-4742-A628-8F00F4F39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969B-27AB-4511-93ED-9571D4FEF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DE33-2557-456A-80AB-9CB5799F2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C060-C7B1-4E46-8FB7-AF9B3FF38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651E-CBC4-4B01-87DE-CC890F048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A8F2-59C1-453A-A19C-8BACC5AA2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7200" y="914400"/>
            <a:ext cx="438120" cy="474840"/>
          </a:xfrm>
          <a:prstGeom prst="rect">
            <a:avLst/>
          </a:prstGeom>
          <a:solidFill>
            <a:srgbClr val="ffd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38080" y="91440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12952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38080" y="129528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28600" y="1219320"/>
            <a:ext cx="560520" cy="422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7621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152388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da3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92D05BD-9A2B-4475-BF12-463385C609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4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Text Box 17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da3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j021409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j021409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0.png"/><Relationship Id="rId3" Type="http://schemas.openxmlformats.org/officeDocument/2006/relationships/audio" Target="../media/j0214098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9"/>
          <p:cNvSpPr txBox="1"/>
          <p:nvPr/>
        </p:nvSpPr>
        <p:spPr>
          <a:xfrm>
            <a:off x="2971800" y="12952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1</a:t>
            </a:r>
            <a:endParaRPr b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533520" y="2438280"/>
            <a:ext cx="83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rofession of Medical Assist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® presentation to accompan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cal Assi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h, Whicker, Wyman, Pugh, Thom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822960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-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76444E0-02D9-43CA-9515-55DD81F665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islative monito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5520" y="2784240"/>
            <a:ext cx="403848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discou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national conven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ing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467480" y="914400"/>
            <a:ext cx="1295640" cy="1295280"/>
          </a:xfrm>
          <a:prstGeom prst="plus">
            <a:avLst>
              <a:gd name="adj" fmla="val 25000"/>
            </a:avLst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762120" y="17524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s the needs of medical assistants by provi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D47F438-D937-4801-835F-5FAE1F765A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62120" y="18288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 Code of Ethic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of Ethics of AAMA sets forth principles of ethical and moral conduct as they relate to the medical profession and the particular practice of Medical Assis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of AAMA are dedicated to the conscientious pursuit of their prof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FEE555A-7303-4701-B9C2-5081849DF2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69804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four ways the AAMA serves the needs of the medical assi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09480" y="3048120"/>
            <a:ext cx="8229600" cy="3319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AAMA serves the needs of the medical assistant by providing the following servi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ca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redi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rtific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er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ing Educ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gislative Monito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mber Discount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Insuran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nual National Conven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working Opportun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6934320" y="3352680"/>
            <a:ext cx="1904760" cy="1600200"/>
          </a:xfrm>
          <a:prstGeom prst="pie">
            <a:avLst/>
          </a:pr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7391520" y="3886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j0299125"/>
          <p:cNvPicPr/>
          <p:nvPr/>
        </p:nvPicPr>
        <p:blipFill>
          <a:blip r:embed="rId2"/>
          <a:stretch/>
        </p:blipFill>
        <p:spPr>
          <a:xfrm>
            <a:off x="7543800" y="0"/>
            <a:ext cx="97488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71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8E23BC3-9778-479B-AFCB-2EADB037E8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Credential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ing credentialed personnel or staff will lessen the likelihood of legal challenges of the quality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d Care Organizations (M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great importance in credentials for employe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6C4D87E-DAB3-4166-95DB-5A03636748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rtified Medical Assistan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4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A credential is awarded by the Certifying Board of the A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examination evaluates mastery of medical assisting competen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7" descr="chap01_namepin"/>
          <p:cNvPicPr/>
          <p:nvPr/>
        </p:nvPicPr>
        <p:blipFill>
          <a:blip r:embed="rId1">
            <a:lum bright="20000"/>
          </a:blip>
          <a:srcRect l="10819" t="16036" r="52398" b="15324"/>
          <a:stretch/>
        </p:blipFill>
        <p:spPr>
          <a:xfrm>
            <a:off x="6553080" y="1828800"/>
            <a:ext cx="1752840" cy="2206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81120" y="4343040"/>
            <a:ext cx="381492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rtify ever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0CDF129-878E-43BA-BE2F-11C717277A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gistered Medical Assistan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ential is given b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 Med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ists (AM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ification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al and experienti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chool graduate or acceptable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uate from accredited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the AMT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7" descr="chap01_namepin"/>
          <p:cNvPicPr/>
          <p:nvPr/>
        </p:nvPicPr>
        <p:blipFill>
          <a:blip r:embed="rId1">
            <a:lum bright="20000"/>
          </a:blip>
          <a:srcRect l="41119" t="0" r="9111" b="7011"/>
          <a:stretch/>
        </p:blipFill>
        <p:spPr>
          <a:xfrm>
            <a:off x="6705720" y="182880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C30785D-9141-4905-833F-2E1A85DB37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MA/CMA Examin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68120"/>
            <a:ext cx="381492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medical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tomy and phys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al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WordArt 12"/>
          <p:cNvSpPr txBox="1"/>
          <p:nvPr/>
        </p:nvSpPr>
        <p:spPr>
          <a:xfrm>
            <a:off x="5486400" y="2590920"/>
            <a:ext cx="19335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emato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0" name="WordArt 13"/>
          <p:cNvSpPr txBox="1"/>
          <p:nvPr/>
        </p:nvSpPr>
        <p:spPr>
          <a:xfrm rot="20258400">
            <a:off x="4782600" y="3654000"/>
            <a:ext cx="97164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806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BC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806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14"/>
          <p:cNvSpPr txBox="1"/>
          <p:nvPr/>
        </p:nvSpPr>
        <p:spPr>
          <a:xfrm>
            <a:off x="5334120" y="5486400"/>
            <a:ext cx="2152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ypertension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WordArt 15"/>
          <p:cNvSpPr txBox="1"/>
          <p:nvPr/>
        </p:nvSpPr>
        <p:spPr>
          <a:xfrm>
            <a:off x="6095880" y="4114800"/>
            <a:ext cx="2238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e4a8"/>
                    </a:gs>
                    <a:gs pos="100000">
                      <a:srgbClr val="ffcf01"/>
                    </a:gs>
                  </a:gsLst>
                  <a:lin ang="5400000"/>
                </a:gradFill>
                <a:latin typeface="Impact"/>
              </a:rPr>
              <a:t>intraderm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e4a8"/>
                  </a:gs>
                  <a:gs pos="100000">
                    <a:srgbClr val="ffcf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3" name="WordArt 16"/>
          <p:cNvSpPr txBox="1"/>
          <p:nvPr/>
        </p:nvSpPr>
        <p:spPr>
          <a:xfrm>
            <a:off x="7238880" y="3124080"/>
            <a:ext cx="1247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ER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5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50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14199E1-7B64-4926-B747-58BA42BEB9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edical Assistant Associ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standards for quality and perform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asks and functions for an 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opportunities for member net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the profession and assist members to achieve career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EBC52D2-B506-43AD-8177-1370B52C37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ember Benefit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AMA (C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islative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T (R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T Institute fo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F01276E-BA3A-40F7-BEBE-200E5D2722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MA/CMA Examin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recor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373392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 room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tion preparation and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men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MCj02902720000[1]"/>
          <p:cNvPicPr/>
          <p:nvPr/>
        </p:nvPicPr>
        <p:blipFill>
          <a:blip r:embed="rId1"/>
          <a:stretch/>
        </p:blipFill>
        <p:spPr>
          <a:xfrm>
            <a:off x="5816520" y="1749600"/>
            <a:ext cx="1649520" cy="1660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j0404233"/>
          <p:cNvPicPr/>
          <p:nvPr/>
        </p:nvPicPr>
        <p:blipFill>
          <a:blip r:embed="rId2"/>
          <a:stretch/>
        </p:blipFill>
        <p:spPr>
          <a:xfrm>
            <a:off x="2514600" y="4267080"/>
            <a:ext cx="159372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D7957A6-3F3B-443A-9457-E6D081EFE5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762120" y="1981080"/>
            <a:ext cx="8001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  Describe the job responsibilities of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  Discuss the professional training of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  Identify the personal characteristics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 nee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4  Define multiskilled health profess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9586547-0A64-4A82-B64D-F05C1B04DC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895400"/>
            <a:ext cx="719640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wo reasons why credential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mport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57200" y="3352680"/>
            <a:ext cx="8229600" cy="155700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likelihood of a legal challenge to quality of care decreases when employees are certified, and Managed Care Organizations place importance on credentials for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943600" y="5029200"/>
            <a:ext cx="2438280" cy="1219320"/>
          </a:xfrm>
          <a:custGeom>
            <a:avLst/>
            <a:gdLst>
              <a:gd name="textAreaLeft" fmla="*/ 0 w 2438280"/>
              <a:gd name="textAreaRight" fmla="*/ 2438640 w 243828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095880" y="5334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V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j0074662.wav" descr=""/>
          <p:cNvPicPr/>
          <p:nvPr/>
        </p:nvPicPr>
        <p:blipFill>
          <a:blip r:embed="rId1"/>
          <a:stretch/>
        </p:blipFill>
        <p:spPr>
          <a:xfrm>
            <a:off x="76201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j0299125"/>
          <p:cNvPicPr/>
          <p:nvPr/>
        </p:nvPicPr>
        <p:blipFill>
          <a:blip r:embed="rId2"/>
          <a:stretch/>
        </p:blipFill>
        <p:spPr>
          <a:xfrm>
            <a:off x="7391520" y="228600"/>
            <a:ext cx="83664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28938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5C70F4A-8DB1-49F2-AEAC-82D2376ECA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895400"/>
            <a:ext cx="822960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ree things profession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assistant associations do or prov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j0299125"/>
          <p:cNvPicPr/>
          <p:nvPr/>
        </p:nvPicPr>
        <p:blipFill>
          <a:blip r:embed="rId1"/>
          <a:stretch/>
        </p:blipFill>
        <p:spPr>
          <a:xfrm>
            <a:off x="6705720" y="228600"/>
            <a:ext cx="774720" cy="12715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2"/>
          <p:cNvSpPr/>
          <p:nvPr/>
        </p:nvSpPr>
        <p:spPr>
          <a:xfrm>
            <a:off x="609480" y="3352680"/>
            <a:ext cx="8229600" cy="2501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edical Assistant Associ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standards for quality and performance for t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prof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e tasks and functions for an occu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opportunities for member networ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ist members to achieve career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AutoShape 13"/>
          <p:cNvSpPr/>
          <p:nvPr/>
        </p:nvSpPr>
        <p:spPr>
          <a:xfrm>
            <a:off x="7543800" y="1676520"/>
            <a:ext cx="1600200" cy="533160"/>
          </a:xfrm>
          <a:prstGeom prst="wedgeRoundRectCallout">
            <a:avLst>
              <a:gd name="adj1" fmla="val -67856"/>
              <a:gd name="adj2" fmla="val -122620"/>
              <a:gd name="adj3" fmla="val 16667"/>
            </a:avLst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7696080" y="1676520"/>
            <a:ext cx="1219320" cy="45972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4C24A2D-7FD4-4FAA-BA19-5387781879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ccreditat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by which progra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officially authoriz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recognized entitie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editing MA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AHE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H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editation ensures that the program meets nationally accepted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9" descr="chap01_lookatmagazine"/>
          <p:cNvPicPr/>
          <p:nvPr/>
        </p:nvPicPr>
        <p:blipFill>
          <a:blip r:embed="rId1"/>
          <a:stretch/>
        </p:blipFill>
        <p:spPr>
          <a:xfrm>
            <a:off x="5257800" y="198108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58522AB-41BB-4294-8699-E24F8C4D35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ccredited Program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areer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ion of a program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s national stand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recognition of your edu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professional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you eligible for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5" descr="MPj04011210000[1]"/>
          <p:cNvPicPr/>
          <p:nvPr/>
        </p:nvPicPr>
        <p:blipFill>
          <a:blip r:embed="rId1"/>
          <a:stretch/>
        </p:blipFill>
        <p:spPr>
          <a:xfrm>
            <a:off x="7256520" y="1749600"/>
            <a:ext cx="1552680" cy="196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0731162-3851-4B40-BC86-4CEF7F4B2C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xternship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practical wor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ties will be plann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eet your program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s you the opportunity to acquire a good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066680" y="4300200"/>
            <a:ext cx="770112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7" descr="computer"/>
          <p:cNvPicPr/>
          <p:nvPr/>
        </p:nvPicPr>
        <p:blipFill>
          <a:blip r:embed="rId1"/>
          <a:stretch/>
        </p:blipFill>
        <p:spPr>
          <a:xfrm>
            <a:off x="5943600" y="2514600"/>
            <a:ext cx="26510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2174ED6-F7F0-493D-9F3F-98CDBFF22C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ational Healthcare Association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exams for other health-care occupations, such as phlebotomy and ECG technic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, career advancement, and networking services for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y of certified profess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355E306-BE00-4DB1-99F4-E40666D8AF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Volunteer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6405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 in a variety of 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you make care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on résum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2" descr="MCj02975830000[1]"/>
          <p:cNvPicPr/>
          <p:nvPr/>
        </p:nvPicPr>
        <p:blipFill>
          <a:blip r:embed="rId1"/>
          <a:stretch/>
        </p:blipFill>
        <p:spPr>
          <a:xfrm>
            <a:off x="6019920" y="2819520"/>
            <a:ext cx="1890720" cy="259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1C2014E-165B-46F6-B8DC-91AE22D287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skill Train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health car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 are cross-trained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one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ds your career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ed Office Laboratory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lab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bi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 admission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4" descr="MCj03980190000[1]"/>
          <p:cNvPicPr/>
          <p:nvPr/>
        </p:nvPicPr>
        <p:blipFill>
          <a:blip r:embed="rId1"/>
          <a:stretch/>
        </p:blipFill>
        <p:spPr>
          <a:xfrm>
            <a:off x="6708600" y="1749600"/>
            <a:ext cx="1711440" cy="1749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F82E6B6-7F0A-48A9-B979-C04211AFDC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urpose of accreditation for medical assistant progra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wo advantages of multiskill t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9" name="Picture 8" descr="j0299125"/>
          <p:cNvPicPr/>
          <p:nvPr/>
        </p:nvPicPr>
        <p:blipFill>
          <a:blip r:embed="rId1"/>
          <a:stretch/>
        </p:blipFill>
        <p:spPr>
          <a:xfrm>
            <a:off x="7586640" y="22860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9"/>
          <p:cNvSpPr/>
          <p:nvPr/>
        </p:nvSpPr>
        <p:spPr>
          <a:xfrm>
            <a:off x="457200" y="3048120"/>
            <a:ext cx="8001000" cy="947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creditation ensures that the program meets nationally accepted stand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57200" y="4876920"/>
            <a:ext cx="7924680" cy="947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ultiskill training reduces healthcare costs and expands your career opportun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6705720" y="5410080"/>
            <a:ext cx="1600200" cy="1219320"/>
          </a:xfrm>
          <a:prstGeom prst="irregularSeal1">
            <a:avLst/>
          </a:pr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6934320" y="571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F1CFE2A-E740-432C-9593-248FAB465D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aily Duties of MAs –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ntry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5438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, laboratory, and clinical duties are all part of the duties of a medical assi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ting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ing 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 appoin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ing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nd maintaining patient medica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E064481-388D-4855-BF22-69E5813BB0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5  Explain the importance of continuing education for a medical  assi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6  Describe the process and benefits of certification and regist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  List the benefits of becoming a member of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assoc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7C517D8-C1E8-4E50-8F2D-3FA95097DD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aily Duties of MAs: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Entry Level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30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tests such as a urine pregnancy test on the pre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ng, preparing, and transmitting laboratory speci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 patients to collect speci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2452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ing the doctor during ex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epsis and infec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ing med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EC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treatments to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97CCA4A-7653-4FB9-982B-A7AEAE5BE4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Duti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ing an IV and administering med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ing tes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ng as a patient advo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as an OSHA compliance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more complex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0">
              <a:lnSpc>
                <a:spcPts val="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1F81080-9F22-4120-A0FC-216176172D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ersonal Qualific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think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tion to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ness to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2060" descr="chap01_professional"/>
          <p:cNvPicPr/>
          <p:nvPr/>
        </p:nvPicPr>
        <p:blipFill>
          <a:blip r:embed="rId1"/>
          <a:stretch/>
        </p:blipFill>
        <p:spPr>
          <a:xfrm>
            <a:off x="5029200" y="198108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B063764-48ED-4931-922C-E6C622223E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earance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clean and 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es comfortable, clean, and 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irstyle clean and pull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ils short, pale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acrylic 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jewel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3372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80B0E3A-4769-4679-8A44-302F3C897D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ttitu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and c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 to criticism as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direction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y without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as a vital member of a medical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9" descr="MCj02975230000[1]"/>
          <p:cNvPicPr/>
          <p:nvPr/>
        </p:nvPicPr>
        <p:blipFill>
          <a:blip r:embed="rId1"/>
          <a:stretch/>
        </p:blipFill>
        <p:spPr>
          <a:xfrm>
            <a:off x="6153120" y="1968480"/>
            <a:ext cx="2644920" cy="284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3E76500-B20A-4488-BC3E-F3CF848A73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hange Your Attitu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3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can answer “yes” to an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se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 have repeated conflicts with peo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I had a conflict at work that has resulted in termin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 have conflicts with authority fig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people make comments about my attitu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MCj02934900000[1]"/>
          <p:cNvPicPr/>
          <p:nvPr/>
        </p:nvPicPr>
        <p:blipFill>
          <a:blip r:embed="rId1"/>
          <a:stretch/>
        </p:blipFill>
        <p:spPr>
          <a:xfrm>
            <a:off x="6477120" y="457200"/>
            <a:ext cx="2441520" cy="150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AB30F54-75DA-4DE8-A58B-A1C7426FF3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egrity and Honest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you do and every task you complete should be performed with a goal of excel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 and honesty are key in providing superior customer service to your pat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office staff and physician must be able to trust you and the decisions you mak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B68495C-1241-4DD6-8C7F-439673264E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Attribut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907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plom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ing calm in a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ical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7" descr="bd05503_"/>
          <p:cNvPicPr/>
          <p:nvPr/>
        </p:nvPicPr>
        <p:blipFill>
          <a:blip r:embed="rId1"/>
          <a:stretch/>
        </p:blipFill>
        <p:spPr>
          <a:xfrm>
            <a:off x="5029200" y="2590920"/>
            <a:ext cx="3568680" cy="340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5FD8CAB-2FDA-48F1-B849-EBD3C6AD3D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orking As a Team Member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 each other with required 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interpersonal conflict with 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extra responsibilities without questioning or compl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onsiderate of other team members’ duties and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40989F8-76D6-4E63-A0B7-9CF03FF0E7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 Role Delineation Stud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657240" y="1828800"/>
            <a:ext cx="5181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s of competence for entry-level medical assi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Delineation Chart found in Appendix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the basis for medical assisting education and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1" descr="bd20072_"/>
          <p:cNvPicPr/>
          <p:nvPr/>
        </p:nvPicPr>
        <p:blipFill>
          <a:blip r:embed="rId1"/>
          <a:stretch/>
        </p:blipFill>
        <p:spPr>
          <a:xfrm>
            <a:off x="533520" y="2133720"/>
            <a:ext cx="3136680" cy="349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4BA2DB3-24D9-4C53-900F-C907F83434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-growing occu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one trained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epartments of the fac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424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of accredited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asking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33520" y="5181480"/>
            <a:ext cx="8305560" cy="825480"/>
          </a:xfrm>
          <a:prstGeom prst="rect">
            <a:avLst/>
          </a:prstGeom>
          <a:solidFill>
            <a:srgbClr val="ffd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ultitasking professional is someone who is able to work in the administrative area, the clinical areas, and the financial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75D228C-114D-40FD-A67A-A7765667A9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cope of Practic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’s scope of practice (AA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of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icies of the organization or facility where you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4" descr="MCj03269600000[1]"/>
          <p:cNvPicPr/>
          <p:nvPr/>
        </p:nvPicPr>
        <p:blipFill>
          <a:blip r:embed="rId1"/>
          <a:stretch/>
        </p:blipFill>
        <p:spPr>
          <a:xfrm>
            <a:off x="6019920" y="380880"/>
            <a:ext cx="2666880" cy="177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3A0C7BE-E231-4C27-AF8A-11E99E69E0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804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ny four personal qualifications you shoul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to be an effective medical assi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j0299125"/>
          <p:cNvPicPr/>
          <p:nvPr/>
        </p:nvPicPr>
        <p:blipFill>
          <a:blip r:embed="rId1"/>
          <a:stretch/>
        </p:blipFill>
        <p:spPr>
          <a:xfrm>
            <a:off x="7696080" y="228600"/>
            <a:ext cx="820800" cy="13478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533520" y="2895480"/>
            <a:ext cx="8153280" cy="2288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List any four of these personal qualifications that medical assistants should displ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 thinking skills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tention to det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lingness to lea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f mot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fessiona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5562720" y="5334120"/>
            <a:ext cx="2514600" cy="761760"/>
          </a:xfrm>
          <a:prstGeom prst="flowChartPreparation">
            <a:avLst/>
          </a:prstGeom>
          <a:solidFill>
            <a:srgbClr val="5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od Answer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2"/>
          <a:stretch/>
        </p:blipFill>
        <p:spPr>
          <a:xfrm>
            <a:off x="8153280" y="5867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6124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F7CF9EE-4BE5-4261-92EE-B7BA96F68C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01120" cy="87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hould you take action to chan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our attitu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32"/>
          <p:cNvSpPr/>
          <p:nvPr/>
        </p:nvSpPr>
        <p:spPr>
          <a:xfrm>
            <a:off x="685800" y="2895480"/>
            <a:ext cx="7696080" cy="269064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n you can answer “yes” to any of the following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I have repeated conflicts with peop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I had a conflict at work that has resulted i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ermin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I have conflicts with authority figu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people make comments about my attitu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AutoShape 1035"/>
          <p:cNvSpPr/>
          <p:nvPr/>
        </p:nvSpPr>
        <p:spPr>
          <a:xfrm>
            <a:off x="2057400" y="5638680"/>
            <a:ext cx="1371600" cy="990720"/>
          </a:xfrm>
          <a:prstGeom prst="flowChartPunchedTap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Picture 1041" descr="j0299125"/>
          <p:cNvPicPr/>
          <p:nvPr/>
        </p:nvPicPr>
        <p:blipFill>
          <a:blip r:embed="rId1"/>
          <a:stretch/>
        </p:blipFill>
        <p:spPr>
          <a:xfrm>
            <a:off x="7315200" y="228600"/>
            <a:ext cx="696960" cy="1143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42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3584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A2EBCC3-1342-44E7-8F99-D791CBCED7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95280" y="7621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Text Box 2051"/>
          <p:cNvSpPr/>
          <p:nvPr/>
        </p:nvSpPr>
        <p:spPr>
          <a:xfrm>
            <a:off x="1676520" y="1981080"/>
            <a:ext cx="5562360" cy="764280"/>
          </a:xfrm>
          <a:prstGeom prst="rect">
            <a:avLst/>
          </a:prstGeom>
          <a:noFill/>
          <a:ln cap="rnd" w="5724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l Assista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2052"/>
          <p:cNvSpPr/>
          <p:nvPr/>
        </p:nvSpPr>
        <p:spPr>
          <a:xfrm flipH="1">
            <a:off x="3962160" y="35053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2053"/>
          <p:cNvSpPr/>
          <p:nvPr/>
        </p:nvSpPr>
        <p:spPr>
          <a:xfrm>
            <a:off x="609480" y="4419720"/>
            <a:ext cx="3657600" cy="180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lls and duties according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AMA Role Delineation Ch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2055"/>
          <p:cNvSpPr/>
          <p:nvPr/>
        </p:nvSpPr>
        <p:spPr>
          <a:xfrm>
            <a:off x="4572000" y="3581280"/>
            <a:ext cx="83808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2056"/>
          <p:cNvSpPr/>
          <p:nvPr/>
        </p:nvSpPr>
        <p:spPr>
          <a:xfrm>
            <a:off x="4800600" y="4419720"/>
            <a:ext cx="3809880" cy="180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y abreast of changes in technology, procedures, and reg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58"/>
          <p:cNvSpPr/>
          <p:nvPr/>
        </p:nvSpPr>
        <p:spPr>
          <a:xfrm>
            <a:off x="838080" y="3124080"/>
            <a:ext cx="7543800" cy="5205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on-the-job versus training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54DB57A-698F-4CA1-A977-E8B447F2A9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WordArt 2"/>
          <p:cNvSpPr txBox="1"/>
          <p:nvPr/>
        </p:nvSpPr>
        <p:spPr>
          <a:xfrm>
            <a:off x="2666880" y="685800"/>
            <a:ext cx="3962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1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End of Chapter</a:t>
            </a:r>
            <a:br>
              <a:rPr sz="800"/>
            </a:br>
            <a:endParaRPr b="0" lang="en-US" sz="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5" name="Picture 4" descr="chap01_end"/>
          <p:cNvPicPr/>
          <p:nvPr/>
        </p:nvPicPr>
        <p:blipFill>
          <a:blip r:embed="rId1"/>
          <a:stretch/>
        </p:blipFill>
        <p:spPr>
          <a:xfrm>
            <a:off x="533520" y="2057400"/>
            <a:ext cx="2206440" cy="33163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971800" y="2514600"/>
            <a:ext cx="5715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ing in any aspect of healing is an awe-inspiring exper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ol Jackson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Healer’s 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6DAE740-ED36-43DF-B9D0-C02D4E25F7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wth of the MA Profess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8702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U.S. Department of Labor - Bureau of Statistics, medical assistants held 365,000 jobs in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 in physicians’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% in 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in nursing homes and offices of other health-care practitio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der in outpatient care centers, laboratories, and other health-care-rel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B767300-942C-4CD7-B972-57191F47AF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ve and clinic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nsurance product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ance (OSHA, CLIA and HIPA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99D4E78-7C68-497F-A83D-F05B8E3179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H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al Safety and Health 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Laboratory Improvement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PA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lth Insurance Portability and Accountability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1D1FF5F-8294-4773-B39E-2E0C221235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exceptional customer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patient treatments and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FACB89C-DB08-4203-89E4-4A07D16E8D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merican Association of Medical Assistants (AAMA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To raise the standard of medical assisting to a more profess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 ASSOCI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MEDICAL ASSIST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N. WACKER DR., Ste. 157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AGO, IL 606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12) 899-15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aama-ntl.org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9" descr="chap01_attable"/>
          <p:cNvPicPr/>
          <p:nvPr/>
        </p:nvPicPr>
        <p:blipFill>
          <a:blip r:embed="rId1"/>
          <a:stretch/>
        </p:blipFill>
        <p:spPr>
          <a:xfrm>
            <a:off x="5181480" y="2743200"/>
            <a:ext cx="3633840" cy="246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 RN-BSN, MS, RMA, RPT</dc:creator>
  <dc:description/>
  <dc:language>en-US</dc:language>
  <cp:lastModifiedBy>Kathryn Booth</cp:lastModifiedBy>
  <dcterms:modified xsi:type="dcterms:W3CDTF">2008-03-27T20:14:34Z</dcterms:modified>
  <cp:revision>203</cp:revision>
  <dc:subject>Medical Assisting 3e</dc:subject>
  <dc:title>The Profession of Medical Assisting</dc:title>
</cp:coreProperties>
</file>